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0C5-2EA4-41EF-80AF-5CB979F0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C87-F952-4B96-A8DA-14007825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343-97CE-46D6-B6FC-2FB144CE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38F-A8DB-4900-946F-CE67A3DB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7E1B-FA5F-4ADF-9BBB-7EF0BA61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FD9B-CF05-46DA-A5E9-67E742DE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AAAD-406D-45B3-BAC9-2951CB17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1591-CBFA-4004-BFE5-59C68D87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8B95-923E-4CC0-BFD2-26B0A827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C87A-426F-4C61-A798-94DD0222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9429-9545-499F-BF48-B92F567E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984F-7A8F-4D49-8FC3-BFE67686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55E6-A269-4A69-9128-21969512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FA21-A442-4491-BA89-76BCD137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16BD-007F-4154-A454-6CF95C55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2981-DF49-45D1-A2DE-DC3B3C18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05AD-3915-4C8E-AEA4-C2228398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3EB-664B-47D7-BBE6-95D86E98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967-8EF7-4E3C-A57E-E65452BE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FC9-C938-426D-9197-EF3C063E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425-8AFB-4D2E-8956-28C63008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B30-0930-418B-AAEF-E3FDFC64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23F-6E4C-4C7B-BD07-CDC2F2B3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F12F-9C33-4BBE-91F3-E4F0C041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D3B4-B96D-4A8D-A5EB-5E26AC9404D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C7A2-4490-488E-9B3E-A016562F951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747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Нейролингвистическая и нейропсихологическая диагностика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высших психических функций  младших школьников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Составитель: 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учитель-логопед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Гроздова И. Н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7459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Осуществление целенаправленного психолого-медико –педагогического сопровождения дете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ctr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Индивидуальный маршрут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бучения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ребен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ctr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Проводить коррекционную работу с учетом сохранных анализато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ctr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Рекомендации родителям  и учителя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.  Астахова Т. В. Коррекция оптических и моторных нарушений письма у младших школьников с использованием изобразительных средств. М., 2006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   Забрамная С. Д., Костенкова Ю. А. Развивающие занятия с детьми. М., 2001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урия А. Р. Высшие корковые функции человека и их нарушения при локальных  поражениях мозга. М. 200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2f1311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Фотекова Т. А. Ахутина Т. В. Диагностика речевых нарушений школьников с использованием нейропсихологических методов. М., 200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2f1311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Добровольская Н.А., учитель - логопед школы  №143 Нейролингвистическая и нейропсихологическая  диагностика трудностей развития речи и обучения младших школьников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61912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Нейролингвистика, часть</a:t>
            </a:r>
            <a:br>
              <a:rPr sz="2400"/>
            </a:b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 нейропсихологии занимающаяся изучением и восстановлением нарушенных языковых навыков и умений, т. е. изучающая психолингвистические аспекты афази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3357360"/>
            <a:ext cx="603108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Нейропсихология, отрасль психологии, изучающая мозговую основу психических процессов и их связь с отдельными системами головного мозг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ейролингвистическое обследовани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 Исследование слухоречевой памя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 Исследование зрительной памя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 Исследование двигательной памя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 Исследование мыслительных способносте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5 Исследование способностей восприят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6 Исследование реч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сследование слухоречевой памя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-  слова в группах сходны по звучанию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слова в группах относятся к одному родовому понятию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заучивание серии слов с последующим выполнением задания по объединению их в рассказ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сследование зрительной памяти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77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Запоминание серии фигур в заданном порядке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7650000" cy="10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70563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Запоминание двух групп по три фигуры с последующим воспроизведением каждой тройки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Фигуры в группах имеют общий признак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50920" y="4508640"/>
            <a:ext cx="7200720" cy="2097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50920" y="2565360"/>
            <a:ext cx="7200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сследование двигательной памя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ключает тесты на показ направления стрелок в сопровождении с речью и без не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400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4005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364500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5280" y="3789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59640" y="407664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37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4005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3716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400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72072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Исследование мыслительных способносте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 Воспроизведение цепочек цифр в прямом и обратном порядке, а также воспроизведение слов по звукам в обратном порядк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 Повторение серии ритмических рисун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//, ///, ////, // //, // // // //, /// ///. //// ////. /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///, /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//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/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/ , //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//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//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//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/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/. /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//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сследование способностей восприятия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пределяет ведущее полушарие мозга, межполушарные особенности запоминания  и воспроизведения графического материал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6:14:25Z</dcterms:created>
  <dc:creator>Main</dc:creator>
  <dc:description/>
  <dc:language>en-US</dc:language>
  <cp:lastModifiedBy>Main</cp:lastModifiedBy>
  <dcterms:modified xsi:type="dcterms:W3CDTF">2012-12-06T18:25:58Z</dcterms:modified>
  <cp:revision>8</cp:revision>
  <dc:subject/>
  <dc:title>Нейролингвистическая и нейропсихологическая диагностика трудностей развития речи и  обучения младших школьников.</dc:title>
</cp:coreProperties>
</file>