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1.jpeg" ContentType="image/jpeg"/>
  <Override PartName="/ppt/media/image7.png" ContentType="image/png"/>
  <Override PartName="/ppt/media/image29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4.jpeg" ContentType="image/jpeg"/>
  <Override PartName="/ppt/media/image25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6F3D7-4EE7-40D6-A8CF-7FD7F154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1ED8A-4EF1-4D3F-A208-93038522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8FC06-D284-483A-8C52-33684AE5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A6A2-FC8D-4B38-B902-107E01FF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AE43-BFAE-4F37-A243-AB2B9BDE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4A3A-CCEC-4182-B823-70D6B16F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F37C-D5F2-4BAD-B631-BC755DA6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49EB-2F04-47E2-8CFA-DBAF0595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E9E0-6568-4A40-B463-7FFEA3DA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2576-8E69-4780-A9F9-5CF71975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BFB7-6BCB-4C93-8254-E123CD49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45A6D-403F-422B-A0ED-C699F15B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A647-C5B4-4F32-9D47-0A3E0D69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7336-468B-4180-BF36-208D0789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7692-1C00-44C3-A837-A8610CEA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1FAC-F33E-4FC9-995C-6F516A27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DDE4-6A51-4C00-A819-2BDDF654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909E-AEB6-4372-A630-922834AA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0239F-6EFB-4FAE-BB8C-003A3223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9A117-16F1-48CB-8473-08453B6C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69E4A-D60C-4FA0-8894-08536195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EFE3A-503A-48DD-939C-F19BC778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D5B19-2963-4B5F-BFF8-7987BE10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A0C83-B5AD-4255-87A3-29397721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98F3-E41D-4EEA-A527-0A4108B478E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0896-73CC-4374-B6F5-03302C1F339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 rot="20533200">
            <a:off x="250560" y="620640"/>
            <a:ext cx="2592360" cy="1736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635280" y="1484280"/>
            <a:ext cx="2049480" cy="244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rot="1222200">
            <a:off x="6587640" y="549360"/>
            <a:ext cx="2232000" cy="1749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826920" y="3860640"/>
            <a:ext cx="2376720" cy="1775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156360" y="371628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1116000" y="1700280"/>
            <a:ext cx="705636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сотрудничеств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 новых встреч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ahoma"/>
              </a:rPr>
              <a:t>«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Пожарным можешь ты не быть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но правила ты знать обязан</a:t>
            </a:r>
            <a:r>
              <a:rPr b="1" lang="en-US" sz="4200" spc="-1" strike="noStrike">
                <a:solidFill>
                  <a:srgbClr val="ffff00"/>
                </a:solidFill>
                <a:latin typeface="Tahoma"/>
              </a:rPr>
              <a:t>!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3800" spc="-1" strike="noStrike">
                <a:solidFill>
                  <a:srgbClr val="ffff00"/>
                </a:solidFill>
                <a:latin typeface="Tahoma"/>
              </a:rPr>
              <a:t>»</a:t>
            </a:r>
            <a:br>
              <a:rPr sz="3800"/>
            </a:br>
            <a:br>
              <a:rPr sz="38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2 класс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760280" y="589284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Воспитатель: Саложенки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Татьяна Васильевна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843280" y="573336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977080" cy="4641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971640" y="333360"/>
            <a:ext cx="727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к добывали огон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700280"/>
            <a:ext cx="378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рометей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— титан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защитник люде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от произвола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prometey04"/>
          <p:cNvPicPr/>
          <p:nvPr/>
        </p:nvPicPr>
        <p:blipFill>
          <a:blip r:embed="rId1"/>
          <a:stretch/>
        </p:blipFill>
        <p:spPr>
          <a:xfrm>
            <a:off x="324000" y="0"/>
            <a:ext cx="2952720" cy="6581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3168720" cy="211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867280" y="1413000"/>
            <a:ext cx="3024360" cy="2260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3097080" cy="2544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427640" y="3933720"/>
            <a:ext cx="3024000" cy="2266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250920" y="404640"/>
            <a:ext cx="864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нь – товарищ и помощник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473280" cy="164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440160" cy="1584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539640" y="3068640"/>
            <a:ext cx="34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4"/>
          <a:stretch/>
        </p:blipFill>
        <p:spPr>
          <a:xfrm>
            <a:off x="539640" y="4869000"/>
            <a:ext cx="3456000" cy="1511280"/>
          </a:xfrm>
          <a:prstGeom prst="rect">
            <a:avLst/>
          </a:prstGeom>
          <a:ln w="0">
            <a:noFill/>
          </a:ln>
        </p:spPr>
      </p:pic>
      <p:sp>
        <p:nvSpPr>
          <p:cNvPr id="152" name="WordArt 8"/>
          <p:cNvSpPr txBox="1"/>
          <p:nvPr/>
        </p:nvSpPr>
        <p:spPr>
          <a:xfrm>
            <a:off x="2411280" y="404640"/>
            <a:ext cx="489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 пожар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284720" y="3429000"/>
            <a:ext cx="520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Неисправность электрических прибо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Забывчив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(забыл выключит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Искра (печь, кам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900000" y="4221000"/>
            <a:ext cx="3024360" cy="2089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3"/>
          <a:stretch/>
        </p:blipFill>
        <p:spPr>
          <a:xfrm>
            <a:off x="5292720" y="1700280"/>
            <a:ext cx="2951280" cy="1871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9"/>
          <p:cNvSpPr/>
          <p:nvPr/>
        </p:nvSpPr>
        <p:spPr>
          <a:xfrm>
            <a:off x="4211640" y="4005360"/>
            <a:ext cx="46814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02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Легковоспламеняющие предме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пич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еросин, бензин, г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Но самые главные виновники пожара – люд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WordArt 10"/>
          <p:cNvSpPr txBox="1"/>
          <p:nvPr/>
        </p:nvSpPr>
        <p:spPr>
          <a:xfrm>
            <a:off x="2411280" y="404640"/>
            <a:ext cx="489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 пожар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987640" y="333360"/>
            <a:ext cx="32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скурс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 rot="20077200">
            <a:off x="394920" y="836280"/>
            <a:ext cx="2276640" cy="1706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492360" y="1197000"/>
            <a:ext cx="2276640" cy="1706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 rot="1132200">
            <a:off x="6659280" y="692280"/>
            <a:ext cx="2276280" cy="1706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516720" y="4869000"/>
            <a:ext cx="2276280" cy="1706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1187280" y="2997360"/>
            <a:ext cx="2276640" cy="1706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6012000" y="2852640"/>
            <a:ext cx="2276280" cy="1706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611280" y="4941720"/>
            <a:ext cx="2276280" cy="1706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3924360" y="4076640"/>
            <a:ext cx="1706400" cy="2276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Никогда не играйте со спичками и зажигалк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В лесу не разжигайте костёр без взрослы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Не оставляете без присмотра включенный утюг или чайни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Самостоятельно не зажигайте газовую плиту, а на даче не пытайтесь растапливать печ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Не играйте с бензином, керосином и другими жидкостями, которые могут воспламенить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00360" y="404640"/>
            <a:ext cx="403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НИ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5:37:49Z</dcterms:created>
  <dc:creator>Лариса</dc:creator>
  <dc:description/>
  <dc:language>en-US</dc:language>
  <cp:lastModifiedBy>User</cp:lastModifiedBy>
  <dcterms:modified xsi:type="dcterms:W3CDTF">2011-12-28T08:01:20Z</dcterms:modified>
  <cp:revision>19</cp:revision>
  <dc:subject/>
  <dc:title>Урок по теме: «Пожарная безопасность»  4класс</dc:title>
</cp:coreProperties>
</file>