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.jpeg" ContentType="image/jpeg"/>
  <Override PartName="/ppt/media/image7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4.jpeg" ContentType="image/jpeg"/>
  <Override PartName="/ppt/media/image25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E985-FC5F-4BB4-A300-720769C9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C3B6-2025-4924-A8C0-6E1DE43B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5BE0-9584-4C6F-9809-29AB3096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6DEA-0F6A-4FF2-BAF2-121A0E36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9AE5-F444-4138-9977-4A908157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9D0C-C0B1-4F0B-BB9F-2B1CA499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7281-72CF-4043-B187-E810A19D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A06-DCFC-4E9E-98D3-25E772C7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4D75-B6E5-4744-B2FD-2B844DFE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2443-D1B8-44B9-9391-A0B27A6C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A3F6-0CFA-4AD0-BF5D-4FF5476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DF19-C6E2-4E63-980A-271D4201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1EAE-59AD-40D8-82F6-00007162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7145-7B02-458B-A60B-876743D3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58B7-FDC8-4E11-870C-50FC7103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E6AC-3262-4B77-A74D-DB7DFD3E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5634-473B-448E-8D16-E14D2AF0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76EE-58BE-43E5-809D-A25CB186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CCAB-4B1C-48DD-8C40-E929AA96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A632-A0C2-4D84-9B3B-BC5D2348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A5086-D4AF-492F-9E93-B69808A1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3452-5BF7-4E1E-860E-27555817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D1ED-8616-449A-9616-AB6D02C4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E4B8-889C-4681-A570-A591303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E9E2-13AF-4A43-8DC7-59FD29975AB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9D39-3136-401E-935B-6204B1DB13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20533200">
            <a:off x="250560" y="620640"/>
            <a:ext cx="2592360" cy="17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204948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1222200">
            <a:off x="6587640" y="549360"/>
            <a:ext cx="2232000" cy="174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2376720" cy="177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156360" y="3716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1116000" y="1700280"/>
            <a:ext cx="705636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сотрудничеств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Пожарным можешь ты не быть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но правила ты знать обязан</a:t>
            </a:r>
            <a:r>
              <a:rPr b="1" lang="en-US" sz="4200" spc="-1" strike="noStrike">
                <a:solidFill>
                  <a:srgbClr val="ffff00"/>
                </a:solidFill>
                <a:latin typeface="Tahoma"/>
              </a:rPr>
              <a:t>!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»</a:t>
            </a:r>
            <a:br>
              <a:rPr sz="3800"/>
            </a:br>
            <a:br>
              <a:rPr sz="3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2 класс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760280" y="589284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оспитатель: Саложенки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Татьяна Васильевна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43280" y="5733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977080" cy="464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971640" y="333360"/>
            <a:ext cx="727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к добывали огон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700280"/>
            <a:ext cx="37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ометей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— тита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защитник люде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т произвола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prometey04"/>
          <p:cNvPicPr/>
          <p:nvPr/>
        </p:nvPicPr>
        <p:blipFill>
          <a:blip r:embed="rId1"/>
          <a:stretch/>
        </p:blipFill>
        <p:spPr>
          <a:xfrm>
            <a:off x="324000" y="0"/>
            <a:ext cx="2952720" cy="658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3168720" cy="211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3024360" cy="226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309708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427640" y="3933720"/>
            <a:ext cx="3024000" cy="2266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50920" y="404640"/>
            <a:ext cx="864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– товарищ и помощник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4732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44016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539640" y="3068640"/>
            <a:ext cx="34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539640" y="4869000"/>
            <a:ext cx="3456000" cy="1511280"/>
          </a:xfrm>
          <a:prstGeom prst="rect">
            <a:avLst/>
          </a:prstGeom>
          <a:ln w="0">
            <a:noFill/>
          </a:ln>
        </p:spPr>
      </p:pic>
      <p:sp>
        <p:nvSpPr>
          <p:cNvPr id="152" name="WordArt 8"/>
          <p:cNvSpPr txBox="1"/>
          <p:nvPr/>
        </p:nvSpPr>
        <p:spPr>
          <a:xfrm>
            <a:off x="2411280" y="40464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жар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284720" y="3429000"/>
            <a:ext cx="520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Неисправность электрических приб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Забывчив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забыл выключи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Искра (печь, кам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2951280" cy="1871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4211640" y="4005360"/>
            <a:ext cx="46814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02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Легковоспламеняющие предм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пич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еросин, бензин, г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о самые главные виновники пожара – лю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2411280" y="40464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жа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987640" y="333360"/>
            <a:ext cx="32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скурс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rot="20077200">
            <a:off x="394920" y="836280"/>
            <a:ext cx="2276640" cy="1706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492360" y="1197000"/>
            <a:ext cx="2276640" cy="1706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 rot="1132200">
            <a:off x="6659280" y="692280"/>
            <a:ext cx="2276280" cy="170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516720" y="4869000"/>
            <a:ext cx="2276280" cy="1706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1187280" y="2997360"/>
            <a:ext cx="2276640" cy="1706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6012000" y="2852640"/>
            <a:ext cx="2276280" cy="1706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611280" y="4941720"/>
            <a:ext cx="2276280" cy="1706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924360" y="4076640"/>
            <a:ext cx="1706400" cy="2276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икогда не играйте со спичками и зажигал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В лесу не разжигайте костёр без взрослы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е оставляете без присмотра включенный утюг или чайн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Самостоятельно не зажигайте газовую плиту, а на даче не пытайтесь растапливать печ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е играйте с бензином, керосином и другими жидкостями, которые могут воспламени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00360" y="404640"/>
            <a:ext cx="403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5:37:49Z</dcterms:created>
  <dc:creator>Лариса</dc:creator>
  <dc:description/>
  <dc:language>en-US</dc:language>
  <cp:lastModifiedBy>User</cp:lastModifiedBy>
  <dcterms:modified xsi:type="dcterms:W3CDTF">2011-12-28T08:01:20Z</dcterms:modified>
  <cp:revision>19</cp:revision>
  <dc:subject/>
  <dc:title>Урок по теме: «Пожарная безопасность»  4класс</dc:title>
</cp:coreProperties>
</file>