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3B7-D2A4-419B-9A91-9E56B593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807-706C-4F89-B780-79902110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D39-2CAD-4606-8492-109EBFC7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534-F6E0-417F-9A72-4E135E54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B226-E17B-4A17-879B-26C421FA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8DE8-65DA-4462-93FB-0DCFC091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9004-2DB8-43D6-88F2-7AA9834C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438A-EEFB-4711-93D3-A51A6A8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27CE-ABB8-49E5-BD7A-2B87DC3C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6C75-1A2A-4D12-A1D2-960B5DF8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5024-BBF6-49D5-A91B-073C2FBD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D67-562F-4876-887C-C8B16136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8E20-38F8-4E7D-BF12-78A744A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979C-4C79-497A-B372-22C9A337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E608-17D2-4E78-B1FF-8C926D8F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3B4C-74D0-4E6A-91C0-FDBA336A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C738-2366-4EAE-8F80-C3AF38C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9C92-726B-4FC3-9AEA-66368CAC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C7BF-2C33-4018-B58D-22F72FE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078F-4689-4507-B43A-9CB37850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AADF-7AC1-4B6B-8E50-ED972078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279E-2839-4EBD-8E65-14FD2FFC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F48-139E-46A7-83B0-66D636A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A5CC-EB63-4F12-9BAC-FD0EC54D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9BD9-5FD2-4E05-9BA6-11AF5A7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45ED-54F9-475E-9802-E68CC19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5245-0FF8-4830-A3C1-00AB3D36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FE59-7D32-4AAC-BD92-C2DAD4C1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80865-9C54-47C3-961A-DE388626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2BDFE-D182-4682-B689-65FE8265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F857-3A0C-43BF-9449-D9B25AB4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9023-D21A-4AC6-AF1C-AB563DD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B66B-7834-4A62-B072-C8D1BD8E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4B7-8FD1-44C5-A61C-3010531C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A0695-0DAB-4FD7-8B7E-E8D8C25D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864AE-5A27-4E3D-ACB5-170BED1F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D6D7-AD84-4D32-816A-9C884AA8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E7E7-C8D5-488F-8612-EDA1113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0602-FF69-46A1-82C4-E8D3A75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3A99-512F-4B40-B412-B37FAD48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4F4C-7914-4ABA-AEF5-C51AC2D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4CB8-DFEA-41E1-9CCC-6E3490EB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96E3-23E7-490C-9E03-B5AEF590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9A23-C1A3-4E99-9B78-D37B6860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151-C667-41C2-9D3B-DC834DE2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8D50-3C26-407E-B24D-3B3705E5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C01F-AAB5-43B0-9102-B6ECD4B4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50D6-9C28-4F50-8398-062C9DE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590E-BB50-48A2-A0FC-A66B9339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898EE-6AC2-4EC2-B7D8-885239C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33DE-B62C-4048-B4B6-834CEBF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D6FFB-886E-44C6-8325-C050B94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39089-34E4-415B-8326-4CD76CEF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6A1D-8CB8-426B-BEC8-12C60BF7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B29D-5C04-44EC-854F-DBD82804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F95-7DBA-4517-B028-5D27CF26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46EC-5B73-4685-9C14-BFAC958A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2213D-C0FD-4F6B-9FE7-3AF7794F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8E51F-EA89-49FE-95BF-1574FA5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5FA66-E790-43A5-A145-9944FFB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E633E-BFB5-4AAC-9F7C-1794426C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BF30-F762-4F86-ADCF-4DE4917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9BBA-FA5A-42B6-9172-3534B71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A29D-178C-48C7-867A-8178232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B5B5C-486C-4440-964C-B9DC6C5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8581B-3056-44E9-BF86-4F95CF8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991-BC75-4FBD-AFC1-977D7C0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E2D2-6A99-4225-B220-FE53A51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5411-40B0-4BC7-84A9-BD86ECB2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059EB-E16E-46FC-B178-A8A60FAF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D6DF5-1B47-4FD2-87A8-79D1DEFF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27F58-CDA3-4423-A805-28FC858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9AD53-D796-4D82-9D0A-25930E1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52450-2341-4365-B924-514E5B4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409B9-7F68-4F0C-B274-18A1FB31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BB1D-9418-4A0F-852A-0C5112B4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8C7D-B7E9-46DD-B425-F7AA8D9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6F3-0044-4952-9527-9FE65EB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D2C5-DD6D-4CF6-91D8-060E2E1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F75F0-3CD9-4461-9FB7-D7CBD597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6616C-76DB-4F03-B23E-D98C409F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FD690-6FF6-4085-B2B4-D5DF63C2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FA054-5F8C-4A38-873A-165D6E30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4E71E-D4A1-449B-88C5-6ABA6124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4DFA-5141-4125-8476-2F1165D1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94FBE-7401-472C-9EDC-CF886545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35C94-A2D2-4EBF-BE7E-F72F4907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2A04C-0AFF-4884-A4A8-AEF062B8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8C3-273D-447C-8399-39CDCD1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653CD-44F0-4725-871D-35A3C38A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DB9F0-6686-49F5-B745-E5D069F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DC51B-83B9-4771-821F-B38A3B8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67599-1DDB-4157-AE43-48614F5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DE771-050D-41D3-8F88-18989182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132BB-B613-4323-A374-E12AE759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09BBE-17E6-4A93-BB48-4F1B261E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0C9E-D7F9-44D9-BDB5-186CD122E0C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C96-2306-40AD-B36E-8FCD5F7E1BB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79C2-D8DA-463D-A305-6E3129AB5D06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8C0B-75D9-4F8E-84A9-75330145601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3303-B5A2-49B7-BD93-49384BDBEB0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8FAD-D262-4FE4-9932-5B170587EFF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A91-F1E7-47B4-8DFF-F2E0069C4C8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D725-535D-4C8F-97CD-6FAD4285C56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908000" y="549360"/>
            <a:ext cx="619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WordArt 5"/>
          <p:cNvSpPr txBox="1"/>
          <p:nvPr/>
        </p:nvSpPr>
        <p:spPr>
          <a:xfrm>
            <a:off x="642960" y="214200"/>
            <a:ext cx="82152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льеф д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ового океа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5556240" cy="278604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4" descr=""/>
          <p:cNvPicPr/>
          <p:nvPr/>
        </p:nvPicPr>
        <p:blipFill>
          <a:blip r:embed="rId2"/>
          <a:stretch/>
        </p:blipFill>
        <p:spPr>
          <a:xfrm>
            <a:off x="4621320" y="2109960"/>
            <a:ext cx="42415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Котловины Хреб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Желоба"/>
          <p:cNvPicPr/>
          <p:nvPr/>
        </p:nvPicPr>
        <p:blipFill>
          <a:blip r:embed="rId1"/>
          <a:stretch/>
        </p:blipFill>
        <p:spPr>
          <a:xfrm>
            <a:off x="0" y="0"/>
            <a:ext cx="9468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Карта дна Тихого океана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834160"/>
          </a:xfrm>
          <a:prstGeom prst="rect">
            <a:avLst/>
          </a:prstGeom>
          <a:ln w="0">
            <a:noFill/>
          </a:ln>
        </p:spPr>
      </p:pic>
      <p:sp>
        <p:nvSpPr>
          <p:cNvPr id="357" name="WordArt 5"/>
          <p:cNvSpPr txBox="1"/>
          <p:nvPr/>
        </p:nvSpPr>
        <p:spPr>
          <a:xfrm>
            <a:off x="684360" y="189000"/>
            <a:ext cx="777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 Тих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ndian-ocean"/>
          <p:cNvPicPr/>
          <p:nvPr/>
        </p:nvPicPr>
        <p:blipFill>
          <a:blip r:embed="rId1"/>
          <a:stretch/>
        </p:blipFill>
        <p:spPr>
          <a:xfrm>
            <a:off x="684360" y="907920"/>
            <a:ext cx="7667640" cy="5751720"/>
          </a:xfrm>
          <a:prstGeom prst="rect">
            <a:avLst/>
          </a:prstGeom>
          <a:ln w="0">
            <a:noFill/>
          </a:ln>
        </p:spPr>
      </p:pic>
      <p:sp>
        <p:nvSpPr>
          <p:cNvPr id="359" name="WordArt 5"/>
          <p:cNvSpPr txBox="1"/>
          <p:nvPr/>
        </p:nvSpPr>
        <p:spPr>
          <a:xfrm>
            <a:off x="68436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 Индийск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atlantic-ocean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 rot="18279000">
            <a:off x="-820800" y="1741320"/>
            <a:ext cx="5407200" cy="22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Атлантическ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arctic-ocean"/>
          <p:cNvPicPr/>
          <p:nvPr/>
        </p:nvPicPr>
        <p:blipFill>
          <a:blip r:embed="rId1"/>
          <a:stretch/>
        </p:blipFill>
        <p:spPr>
          <a:xfrm>
            <a:off x="611280" y="907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63" name="WordArt 5"/>
          <p:cNvSpPr txBox="1"/>
          <p:nvPr/>
        </p:nvSpPr>
        <p:spPr>
          <a:xfrm>
            <a:off x="539640" y="404640"/>
            <a:ext cx="7839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24257"/>
                  </a:solidFill>
                  <a:miter/>
                </a:ln>
                <a:solidFill>
                  <a:srgbClr val="dfeff2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Карта дна Северного Ледовитого океана</a:t>
            </a:r>
            <a:endParaRPr b="1" lang="en-US" sz="1800" spc="1" strike="noStrike">
              <a:ln w="12600">
                <a:solidFill>
                  <a:srgbClr val="424257"/>
                </a:solidFill>
                <a:miter/>
              </a:ln>
              <a:solidFill>
                <a:srgbClr val="dfeff2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Рисунок 1"/>
          <p:cNvPicPr/>
          <p:nvPr/>
        </p:nvPicPr>
        <p:blipFill>
          <a:blip r:embed="rId1"/>
          <a:stretch/>
        </p:blipFill>
        <p:spPr>
          <a:xfrm>
            <a:off x="0" y="0"/>
            <a:ext cx="430524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4500720" y="549360"/>
            <a:ext cx="439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XX в. немецкий инженер А. Бам изобрел эхолот — прибор, измеряющий глубину по времени прохождения звуковых волн от корабля до дна и обратно. Но до того как эхолот изобрел человек, он уже существовал в природе. Например, многие морские обитатели определяют расстояние до предметов, посылая сигналы и улавливая их отражение. В современных эхолотах используют ультразвук, распространяющийся в воде со скоростью 1500 м/с. Специальные приборы автоматически рисуют картину морского дна по ходу движения судна, а компьютерные программы создают объемное изображение рельефа. Эхолот позволил составить точные карты океанских глубин и представить, как выглядят подводные пейзаж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4"/>
          <p:cNvSpPr txBox="1"/>
          <p:nvPr/>
        </p:nvSpPr>
        <p:spPr>
          <a:xfrm>
            <a:off x="755640" y="549360"/>
            <a:ext cx="770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826920" y="2708280"/>
            <a:ext cx="3600720" cy="1008000"/>
          </a:xfrm>
          <a:prstGeom prst="flowChartAlternate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нутренние процес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4859280" y="2708280"/>
            <a:ext cx="3600360" cy="1008000"/>
          </a:xfrm>
          <a:prstGeom prst="flowChartAlternate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нешние процес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 flipH="1">
            <a:off x="2700000" y="1700280"/>
            <a:ext cx="1366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5578560" y="1700280"/>
            <a:ext cx="12254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900000" y="4572000"/>
            <a:ext cx="3456000" cy="1739880"/>
          </a:xfrm>
          <a:prstGeom prst="flowChart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ызывают вертикальные и горизонтальные перемещения участков земной коры, землетрясения и извержения вулканов. Они создают крупные формы рельеф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932360" y="4439520"/>
            <a:ext cx="3456000" cy="2014200"/>
          </a:xfrm>
          <a:prstGeom prst="flowChartProcess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Осадкообразование, т.е. оседание и накопление обломочных пород, приносимых с суши, а также вулканической пыли и пепла, остатков скелетов и раковин умерших животны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2556000" y="371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6659640" y="371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Прямоугольник 10" descr=""/>
          <p:cNvPicPr/>
          <p:nvPr/>
        </p:nvPicPr>
        <p:blipFill>
          <a:blip r:embed="rId1"/>
          <a:stretch/>
        </p:blipFill>
        <p:spPr>
          <a:xfrm>
            <a:off x="-328680" y="-176040"/>
            <a:ext cx="9796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Рисунок 2"/>
          <p:cNvPicPr/>
          <p:nvPr/>
        </p:nvPicPr>
        <p:blipFill>
          <a:blip r:embed="rId1"/>
          <a:stretch/>
        </p:blipFill>
        <p:spPr>
          <a:xfrm>
            <a:off x="357120" y="1643040"/>
            <a:ext cx="8515440" cy="500400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" descr=""/>
          <p:cNvPicPr/>
          <p:nvPr/>
        </p:nvPicPr>
        <p:blipFill>
          <a:blip r:embed="rId2"/>
          <a:stretch/>
        </p:blipFill>
        <p:spPr>
          <a:xfrm>
            <a:off x="4389480" y="2548080"/>
            <a:ext cx="365040" cy="17618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5" descr=""/>
          <p:cNvPicPr/>
          <p:nvPr/>
        </p:nvPicPr>
        <p:blipFill>
          <a:blip r:embed="rId3"/>
          <a:stretch/>
        </p:blipFill>
        <p:spPr>
          <a:xfrm>
            <a:off x="-1620720" y="-133200"/>
            <a:ext cx="1238544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Материковая отмель Материковый ск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6:06:19Z</dcterms:created>
  <dc:creator>xxx</dc:creator>
  <dc:description/>
  <dc:language>en-US</dc:language>
  <cp:lastModifiedBy>Наташа</cp:lastModifiedBy>
  <dcterms:modified xsi:type="dcterms:W3CDTF">2012-12-10T15:28:31Z</dcterms:modified>
  <cp:revision>8</cp:revision>
  <dc:subject/>
  <dc:title>Слайд 1</dc:title>
</cp:coreProperties>
</file>