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6.jpeg" ContentType="image/jpeg"/>
  <Override PartName="/ppt/media/image10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8132-7AFD-4C4A-B3D4-C75C3C488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8F37-A9D4-48D6-8F19-B20A6DD1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0636-106F-41F1-8540-3DA6C28BB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FADB-27DE-49A6-A7A0-EF7151BC8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7851-E85F-4EDF-8FCD-253EC9E29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6904-1F33-44A1-AFCE-757820D2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CBC4-5E03-4E53-8FEF-83ADD54A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AAA7-B804-40F3-9055-A071CC14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F01C-822C-4700-9CA9-CCED2ED6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37EA-276F-4240-8E86-8E2A2FA9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B7FA-9F37-4BC5-8FFE-E8616DC1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5D4D-F84D-44D6-93F0-16E6E6D7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B5C7-234B-4488-8422-EDE5D42D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DAB2-8117-4730-A8DA-7AC6E12A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E2BE-B83D-4AE1-A465-3418411F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959A-E435-4F57-86B2-21E2CBFB8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D441-6F49-441B-9E0A-3838BE3F6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870F6-02E3-4155-BC3C-E1FA721AB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209A0-D7E5-483E-8BA9-FE8C528F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ECF16-BE22-42ED-86F8-CEC49B84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A7DD7-AB70-428C-89FA-CCBDCE42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592B2-79F0-4FCB-B919-4B1902F3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EBD1-1659-44A1-AF44-A6BC80DC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46A21-D6AD-4320-B4CD-E4EEF771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DFBFE-7B24-4D6F-84EA-D0787DED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19A2C-B147-4BA3-9074-38156302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C1CB3-7548-4FF3-80CE-207E69B9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8D95A-FF9F-4DD7-A785-0A44CF7A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64AD0-6440-4417-A5CA-0EBAE426B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76D4F-8996-42E4-B250-232E8C77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4AD50-BD8C-49A8-A3AB-0A326182F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0E866-FCFD-4676-8B04-3D88A171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B58E7-34EA-4656-A5A5-3BBFF3FE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FDB6-5CFB-4FF1-97CE-AC9EA257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87890-B921-42E9-9569-C482A7F0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1ADF9-1D4D-4040-A30B-21009C27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F5E2B-C162-4CD5-A6D7-808BEDFE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8019F-DF0A-4357-B42F-371795CB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256C9-51F9-448E-A00C-C4F1ED93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2CFC1-E4FA-44B2-AECE-F3FA7163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1D755-6EB5-457D-8FBC-899ED7E4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E9411-C916-4A82-8FB3-335058EBB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A64D6-8AEA-4C55-93B6-56BB7C35A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F377F-828B-43E1-9F80-3F270D04B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8DC6-BE15-4E3D-AAE0-605A56E3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45C3B-8499-44AD-9E7A-50AF1619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66513-852A-4BB4-AEDF-67797976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3FFA2-BDB2-4B8E-8F1D-6C482FEA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B0D26-972B-43D5-A663-48C4EF6A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C96F8-8AA4-453B-93E7-2B252909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86EAE-1DE8-44E6-B317-89646137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76420-CDE3-45E1-8981-BF19CAB3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47235-9DD7-4148-B443-9FAB86E5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9E6EE-6805-473F-A872-225F24F4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3A7D7-D0C7-43AF-BC6A-E1738E422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861B-C97F-473E-89DF-3FFAF77A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8B75B-7D3F-4CF4-BF7A-B2B814CCE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7A095-25CA-4BE0-9D24-35F1EBB9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78A20-2C2A-43AD-9E86-5E5B7E18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ACAAD-E196-45A6-A4A2-534FE925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2A1D4-3BB3-4B44-A009-C7CA585D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A14F0-7F26-470D-8914-754E54C1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E9391-0FB9-4960-B861-2412AD14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A59AA-9B30-49B8-8C21-C016CE4E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68BDD-54A6-430E-830E-1D8AC352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4C8BE-1F3C-4AC5-B4D1-7E5B28E2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90D5-7FB1-4E16-97A1-6AA4EB99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25B45-4BC9-48E3-A9A9-9D032A9F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C9FA2-73B9-40D4-9BE5-D5D83D06D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7C55B-8D6F-4683-8F45-ECA108A74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D2C20-BDAA-4733-886D-60B2FB993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191DF-D652-4E08-843A-F104B60F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59508-F354-425D-9711-22208973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DDF45-57FB-4ED2-8609-594FA96F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BF275-349E-4D3F-9293-DE83CE22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AFEE9-B9B3-4F85-BF59-386554B5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630C8-7907-49FB-A6DC-972C59C0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4D8E-AB0B-44FA-BDB6-619DB953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E52F2-4A72-405B-A26D-C3990CD7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65089-1B56-4A60-9DCE-92B17CEB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8C1A8-AF75-423F-9E75-98D79CC3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556AA-D4C7-4E9E-B274-1B06E508A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E4831-C88D-44F9-95A2-4FF81A562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79B8A-7486-4A88-8492-BC82F1C1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78BCB-956E-45F9-AE93-C4F631F8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5151D-1369-4019-BA48-A628B0C1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CF231-60C2-4C0D-8049-27D188B4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82508-E43C-4BBA-B36B-B52E4FBB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9B8F-430E-4C1B-ADE2-7C360071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7093F-9429-47D8-B884-CFDEF1D5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C9639-3C69-4B5C-B56D-2E94CB60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76DBA-D06A-4437-BF4E-7AAD6593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C03D6-C4B2-4D38-8235-E809AFBA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44B19-F0C8-4715-AB11-065FCF3C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9A083-0897-4071-95C5-1E9D1C4DE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B5F72-3D79-4976-8020-278E6C594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7D59-5AE3-472B-8F02-B157492F3E11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FDB3-0211-4108-B716-D55637455851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0D5F-79E7-47E1-AE34-5BEB6C46A1D8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1677-3ED4-467D-8B94-4260AF745663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C243-4F6C-49AE-970A-51D3FAC910A2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2173-C53F-4C50-94A9-9CEEBF39E2B7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C711-0262-4012-9554-56A1E53E6ABA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E4B5-4191-4AAF-A223-D556F2C6CD09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WordArt 4"/>
          <p:cNvSpPr txBox="1"/>
          <p:nvPr/>
        </p:nvSpPr>
        <p:spPr>
          <a:xfrm>
            <a:off x="1908000" y="549360"/>
            <a:ext cx="6193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3" name="WordArt 5"/>
          <p:cNvSpPr txBox="1"/>
          <p:nvPr/>
        </p:nvSpPr>
        <p:spPr>
          <a:xfrm>
            <a:off x="642960" y="214200"/>
            <a:ext cx="821520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льеф дн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ирового океан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1"/>
          <a:stretch/>
        </p:blipFill>
        <p:spPr>
          <a:xfrm>
            <a:off x="428760" y="3643200"/>
            <a:ext cx="5556240" cy="2786040"/>
          </a:xfrm>
          <a:prstGeom prst="rect">
            <a:avLst/>
          </a:prstGeom>
          <a:ln w="0">
            <a:noFill/>
          </a:ln>
        </p:spPr>
      </p:pic>
      <p:pic>
        <p:nvPicPr>
          <p:cNvPr id="355" name="Прямоугольник 4" descr=""/>
          <p:cNvPicPr/>
          <p:nvPr/>
        </p:nvPicPr>
        <p:blipFill>
          <a:blip r:embed="rId2"/>
          <a:stretch/>
        </p:blipFill>
        <p:spPr>
          <a:xfrm>
            <a:off x="4621320" y="2109960"/>
            <a:ext cx="424152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4" descr="Котловины Хребт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Желоба"/>
          <p:cNvPicPr/>
          <p:nvPr/>
        </p:nvPicPr>
        <p:blipFill>
          <a:blip r:embed="rId1"/>
          <a:stretch/>
        </p:blipFill>
        <p:spPr>
          <a:xfrm>
            <a:off x="0" y="0"/>
            <a:ext cx="946800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4" descr="Карта дна Тихого океана"/>
          <p:cNvPicPr/>
          <p:nvPr/>
        </p:nvPicPr>
        <p:blipFill>
          <a:blip r:embed="rId1"/>
          <a:stretch/>
        </p:blipFill>
        <p:spPr>
          <a:xfrm>
            <a:off x="611280" y="836640"/>
            <a:ext cx="7848360" cy="5834160"/>
          </a:xfrm>
          <a:prstGeom prst="rect">
            <a:avLst/>
          </a:prstGeom>
          <a:ln w="0">
            <a:noFill/>
          </a:ln>
        </p:spPr>
      </p:pic>
      <p:sp>
        <p:nvSpPr>
          <p:cNvPr id="357" name="WordArt 5"/>
          <p:cNvSpPr txBox="1"/>
          <p:nvPr/>
        </p:nvSpPr>
        <p:spPr>
          <a:xfrm>
            <a:off x="684360" y="189000"/>
            <a:ext cx="7775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424257"/>
                  </a:solidFill>
                  <a:miter/>
                </a:ln>
                <a:solidFill>
                  <a:srgbClr val="dfeff2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Times New Roman"/>
              </a:rPr>
              <a:t>Карта дна Тихого океана</a:t>
            </a:r>
            <a:endParaRPr b="1" lang="en-US" sz="1800" spc="1" strike="noStrike">
              <a:ln w="12600">
                <a:solidFill>
                  <a:srgbClr val="424257"/>
                </a:solidFill>
                <a:miter/>
              </a:ln>
              <a:solidFill>
                <a:srgbClr val="dfeff2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indian-ocean"/>
          <p:cNvPicPr/>
          <p:nvPr/>
        </p:nvPicPr>
        <p:blipFill>
          <a:blip r:embed="rId1"/>
          <a:stretch/>
        </p:blipFill>
        <p:spPr>
          <a:xfrm>
            <a:off x="684360" y="907920"/>
            <a:ext cx="7667640" cy="5751720"/>
          </a:xfrm>
          <a:prstGeom prst="rect">
            <a:avLst/>
          </a:prstGeom>
          <a:ln w="0">
            <a:noFill/>
          </a:ln>
        </p:spPr>
      </p:pic>
      <p:sp>
        <p:nvSpPr>
          <p:cNvPr id="359" name="WordArt 5"/>
          <p:cNvSpPr txBox="1"/>
          <p:nvPr/>
        </p:nvSpPr>
        <p:spPr>
          <a:xfrm>
            <a:off x="684360" y="260280"/>
            <a:ext cx="770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424257"/>
                  </a:solidFill>
                  <a:miter/>
                </a:ln>
                <a:solidFill>
                  <a:srgbClr val="dfeff2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Times New Roman"/>
              </a:rPr>
              <a:t>Карта дна Индийского океана</a:t>
            </a:r>
            <a:endParaRPr b="1" lang="en-US" sz="1800" spc="1" strike="noStrike">
              <a:ln w="12600">
                <a:solidFill>
                  <a:srgbClr val="424257"/>
                </a:solidFill>
                <a:miter/>
              </a:ln>
              <a:solidFill>
                <a:srgbClr val="dfeff2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4" descr="atlantic-ocean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WordArt 5"/>
          <p:cNvSpPr txBox="1"/>
          <p:nvPr/>
        </p:nvSpPr>
        <p:spPr>
          <a:xfrm rot="18279000">
            <a:off x="-820800" y="1741320"/>
            <a:ext cx="5407200" cy="223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424257"/>
                  </a:solidFill>
                  <a:miter/>
                </a:ln>
                <a:solidFill>
                  <a:srgbClr val="dfeff2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Times New Roman"/>
              </a:rPr>
              <a:t>Карта дна</a:t>
            </a:r>
            <a:endParaRPr b="1" lang="en-US" sz="1800" spc="1" strike="noStrike">
              <a:ln w="12600">
                <a:solidFill>
                  <a:srgbClr val="424257"/>
                </a:solidFill>
                <a:miter/>
              </a:ln>
              <a:solidFill>
                <a:srgbClr val="dfeff2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424257"/>
                  </a:solidFill>
                  <a:miter/>
                </a:ln>
                <a:solidFill>
                  <a:srgbClr val="dfeff2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Times New Roman"/>
              </a:rPr>
              <a:t>Атлантического океана</a:t>
            </a:r>
            <a:endParaRPr b="1" lang="en-US" sz="1800" spc="1" strike="noStrike">
              <a:ln w="12600">
                <a:solidFill>
                  <a:srgbClr val="424257"/>
                </a:solidFill>
                <a:miter/>
              </a:ln>
              <a:solidFill>
                <a:srgbClr val="dfeff2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4" descr="arctic-ocean"/>
          <p:cNvPicPr/>
          <p:nvPr/>
        </p:nvPicPr>
        <p:blipFill>
          <a:blip r:embed="rId1"/>
          <a:stretch/>
        </p:blipFill>
        <p:spPr>
          <a:xfrm>
            <a:off x="611280" y="9079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63" name="WordArt 5"/>
          <p:cNvSpPr txBox="1"/>
          <p:nvPr/>
        </p:nvSpPr>
        <p:spPr>
          <a:xfrm>
            <a:off x="539640" y="404640"/>
            <a:ext cx="7839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424257"/>
                  </a:solidFill>
                  <a:miter/>
                </a:ln>
                <a:solidFill>
                  <a:srgbClr val="dfeff2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Times New Roman"/>
              </a:rPr>
              <a:t>Карта дна Северного Ледовитого океана</a:t>
            </a:r>
            <a:endParaRPr b="1" lang="en-US" sz="1800" spc="1" strike="noStrike">
              <a:ln w="12600">
                <a:solidFill>
                  <a:srgbClr val="424257"/>
                </a:solidFill>
                <a:miter/>
              </a:ln>
              <a:solidFill>
                <a:srgbClr val="dfeff2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Рисунок 1"/>
          <p:cNvPicPr/>
          <p:nvPr/>
        </p:nvPicPr>
        <p:blipFill>
          <a:blip r:embed="rId1"/>
          <a:stretch/>
        </p:blipFill>
        <p:spPr>
          <a:xfrm>
            <a:off x="0" y="0"/>
            <a:ext cx="430524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5"/>
          <p:cNvSpPr/>
          <p:nvPr/>
        </p:nvSpPr>
        <p:spPr>
          <a:xfrm>
            <a:off x="4500720" y="549360"/>
            <a:ext cx="4392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XX в. немецкий инженер А. Бам изобрел эхолот — прибор, измеряющий глубину по времени прохождения звуковых волн от корабля до дна и обратно. Но до того как эхолот изобрел человек, он уже существовал в природе. Например, многие морские обитатели определяют расстояние до предметов, посылая сигналы и улавливая их отражение. В современных эхолотах используют ультразвук, распространяющийся в воде со скоростью 1500 м/с. Специальные приборы автоматически рисуют картину морского дна по ходу движения судна, а компьютерные программы создают объемное изображение рельефа. Эхолот позволил составить точные карты океанских глубин и представить, как выглядят подводные пейзажи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WordArt 4"/>
          <p:cNvSpPr txBox="1"/>
          <p:nvPr/>
        </p:nvSpPr>
        <p:spPr>
          <a:xfrm>
            <a:off x="755640" y="549360"/>
            <a:ext cx="7704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7" name="AutoShape 5"/>
          <p:cNvSpPr/>
          <p:nvPr/>
        </p:nvSpPr>
        <p:spPr>
          <a:xfrm>
            <a:off x="826920" y="2708280"/>
            <a:ext cx="3600720" cy="1008000"/>
          </a:xfrm>
          <a:prstGeom prst="flowChartAlternateProcess">
            <a:avLst/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Внутренние процесс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AutoShape 6"/>
          <p:cNvSpPr/>
          <p:nvPr/>
        </p:nvSpPr>
        <p:spPr>
          <a:xfrm>
            <a:off x="4859280" y="2708280"/>
            <a:ext cx="3600360" cy="1008000"/>
          </a:xfrm>
          <a:prstGeom prst="flowChartAlternateProcess">
            <a:avLst/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Внешние процесс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7"/>
          <p:cNvSpPr/>
          <p:nvPr/>
        </p:nvSpPr>
        <p:spPr>
          <a:xfrm flipH="1">
            <a:off x="2700000" y="1700280"/>
            <a:ext cx="136692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8"/>
          <p:cNvSpPr/>
          <p:nvPr/>
        </p:nvSpPr>
        <p:spPr>
          <a:xfrm>
            <a:off x="5578560" y="1700280"/>
            <a:ext cx="122544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AutoShape 9"/>
          <p:cNvSpPr/>
          <p:nvPr/>
        </p:nvSpPr>
        <p:spPr>
          <a:xfrm>
            <a:off x="900000" y="4572000"/>
            <a:ext cx="3456000" cy="1739880"/>
          </a:xfrm>
          <a:prstGeom prst="flowChartProcess">
            <a:avLst/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Вызывают вертикальные и горизонтальные перемещения участков земной коры, землетрясения и извержения вулканов. Они создают крупные формы рельеф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AutoShape 10"/>
          <p:cNvSpPr/>
          <p:nvPr/>
        </p:nvSpPr>
        <p:spPr>
          <a:xfrm>
            <a:off x="4932360" y="4439520"/>
            <a:ext cx="3456000" cy="2014200"/>
          </a:xfrm>
          <a:prstGeom prst="flowChartProcess">
            <a:avLst/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Осадкообразование, т.е. оседание и накопление обломочных пород, приносимых с суши, а также вулканической пыли и пепла, остатков скелетов и раковин умерших животных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Line 11"/>
          <p:cNvSpPr/>
          <p:nvPr/>
        </p:nvSpPr>
        <p:spPr>
          <a:xfrm>
            <a:off x="2556000" y="37162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Line 12"/>
          <p:cNvSpPr/>
          <p:nvPr/>
        </p:nvSpPr>
        <p:spPr>
          <a:xfrm>
            <a:off x="6659640" y="37162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5" name="Прямоугольник 10" descr=""/>
          <p:cNvPicPr/>
          <p:nvPr/>
        </p:nvPicPr>
        <p:blipFill>
          <a:blip r:embed="rId1"/>
          <a:stretch/>
        </p:blipFill>
        <p:spPr>
          <a:xfrm>
            <a:off x="-328680" y="-176040"/>
            <a:ext cx="979668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5" descr="Рисунок 2"/>
          <p:cNvPicPr/>
          <p:nvPr/>
        </p:nvPicPr>
        <p:blipFill>
          <a:blip r:embed="rId1"/>
          <a:stretch/>
        </p:blipFill>
        <p:spPr>
          <a:xfrm>
            <a:off x="357120" y="1643040"/>
            <a:ext cx="8515440" cy="500400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4" descr=""/>
          <p:cNvPicPr/>
          <p:nvPr/>
        </p:nvPicPr>
        <p:blipFill>
          <a:blip r:embed="rId2"/>
          <a:stretch/>
        </p:blipFill>
        <p:spPr>
          <a:xfrm>
            <a:off x="4389480" y="2548080"/>
            <a:ext cx="365040" cy="176184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оугольник 5" descr=""/>
          <p:cNvPicPr/>
          <p:nvPr/>
        </p:nvPicPr>
        <p:blipFill>
          <a:blip r:embed="rId3"/>
          <a:stretch/>
        </p:blipFill>
        <p:spPr>
          <a:xfrm>
            <a:off x="-1620720" y="-133200"/>
            <a:ext cx="1238544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4" descr="Материковая отмель Материковый скл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6:06:19Z</dcterms:created>
  <dc:creator>xxx</dc:creator>
  <dc:description/>
  <dc:language>en-US</dc:language>
  <cp:lastModifiedBy>Наташа</cp:lastModifiedBy>
  <dcterms:modified xsi:type="dcterms:W3CDTF">2012-12-10T15:28:31Z</dcterms:modified>
  <cp:revision>8</cp:revision>
  <dc:subject/>
  <dc:title>Слайд 1</dc:title>
</cp:coreProperties>
</file>