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909-DD5C-47D6-8E16-7ACAC5E6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D93-A023-47BC-A9A3-BA77DDD2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912-0123-4A27-82B9-6BE46811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2BC-DCB3-42BE-937A-A949DA9E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646-4228-4023-8FAB-1A2A1AF5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007-F2C1-4320-88EF-DDF55B4A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C4B-AF14-47DB-AD96-D9E856CF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DFB-F566-400E-8585-0110F256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727-701A-4463-BB18-AC0E4729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CDF-8B86-4B81-A1DC-2A84A069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EE1-E96F-4B0E-BF83-1A4B1983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543-30E5-4796-AF80-501F3CCD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1B9D-D9EE-4A57-B141-7225F7DB3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691920"/>
            <a:ext cx="726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145"/>
                </a:solidFill>
                <a:latin typeface="Arial"/>
              </a:rPr>
              <a:t>Банковск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204640"/>
            <a:ext cx="64008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b37"/>
                </a:solidFill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4000" y="2924280"/>
            <a:ext cx="849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ричины появления и виды банков</a:t>
            </a:r>
            <a:endParaRPr b="0" lang="en-US" sz="1800" spc="1" strike="noStrike">
              <a:ln w="9360">
                <a:solidFill>
                  <a:srgbClr val="996633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248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кономба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263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тищевское отделение Центрального Банка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0852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бербан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60360" y="1284120"/>
            <a:ext cx="853272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анковская система страны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иссионный                              Коммер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73332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1440" y="2338560"/>
            <a:ext cx="9146880" cy="2133360"/>
            <a:chOff x="-1440" y="2338560"/>
            <a:chExt cx="9146880" cy="2133360"/>
          </a:xfrm>
        </p:grpSpPr>
        <p:sp>
          <p:nvSpPr>
            <p:cNvPr id="81" name=""/>
            <p:cNvSpPr/>
            <p:nvPr/>
          </p:nvSpPr>
          <p:spPr>
            <a:xfrm>
              <a:off x="-1440" y="2338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-1440" y="2338560"/>
              <a:ext cx="914688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3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066680" y="3581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6520" y="83808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83808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733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нтральный Бан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4724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личные день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6240" y="5334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сударство   Коммерческ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3809880"/>
            <a:ext cx="18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бережения граждан и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38098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едиты гражданам и фир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324120" y="2997360"/>
            <a:ext cx="1055880" cy="88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0360" y="2997360"/>
            <a:ext cx="772920" cy="88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362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зер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96216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ед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Для получения банком прибыли, необходимо, чтоб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) процент по кредитам был больше процента по вкла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Эмиссионный банк отличается от коммерческих банков тем, что обладает прав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) выпускать в обращение национальные денежные 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ибыль банк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) разница между ставками процента по кредитам и депози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Интересы предпринимателя определяются тем, что он нуждается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) денежном капит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Все ответы в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520" y="1980720"/>
            <a:ext cx="7239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и банков (банковские услуг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едит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р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бан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миссионный ба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мерческий ба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 появления ба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87640" y="4243320"/>
            <a:ext cx="1584360" cy="1181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44840" y="1916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ревний  Вави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68360" y="3429000"/>
            <a:ext cx="803520" cy="1938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651640" y="2924280"/>
            <a:ext cx="30607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кономические интересы,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которые привели к появлению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банков</a:t>
            </a:r>
            <a:br>
              <a:rPr sz="36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дприниматель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ладелец сбере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33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ет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ект прибыльного                 использования сред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уждается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денежном                            капитал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тов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делиться  доходом                                       за право использовать деньги для реализации своего прое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6360" y="162828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сбере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уждается в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оходе на сбере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тов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здержаться от потребления своих сбережений и разрешить их использовать за пла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и банк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2440" y="1700280"/>
            <a:ext cx="78372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нки выполняют в экономике 4 основные фун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расчётную – организуя взаимные расчёты продавцов и покупателей товаров и ус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депозитную – обеспечивая владельцам сбережений возможность поместить временно свободные деньги в банк и получить за счёт этого дополнительный до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кредитную – предоставляя возможность фирмам, домохозяйствам и правительствам привлечь на временной основе и за плату денежные средства,  которые им необходимы для решения тех или иных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оздание новых форм денег для ускорения и облегчения платежей за товары и услуги (например, чековые книж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уктура цены кред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3882960"/>
        </p:xfrm>
        <a:graphic>
          <a:graphicData uri="http://schemas.openxmlformats.org/drawingml/2006/table">
            <a:tbl>
              <a:tblPr/>
              <a:tblGrid>
                <a:gridCol w="1069920"/>
                <a:gridCol w="7159680"/>
              </a:tblGrid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576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5760">
                      <a:solidFill>
                        <a:srgbClr val="9966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ыль банки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нтный доход для владельца сбереж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66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576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2124000" y="3500280"/>
            <a:ext cx="64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траты банкира на ведение 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1143000" y="6095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жа – (от англ. –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-граница ) –доход ба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иды банко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мисс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4080" y="18558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мер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590560" y="114300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11430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частные                    совладелец   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                     госуд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3373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Биржев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Страхов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потечн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Земельн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Инновационн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Торг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Залогов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Конверсионны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Трастовы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дру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берегательный бан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d1f35"/>
                </a:solidFill>
                <a:latin typeface="Arial"/>
              </a:rPr>
              <a:t>Бан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финансовая организация, осуществляющая деятельность п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28195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ему депози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оставлению сс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и расче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пле и продаже ценных бум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5:45:05Z</dcterms:created>
  <dc:creator>1</dc:creator>
  <dc:description/>
  <dc:language>en-US</dc:language>
  <cp:lastModifiedBy>Главвред</cp:lastModifiedBy>
  <dcterms:modified xsi:type="dcterms:W3CDTF">2012-12-10T07:29:37Z</dcterms:modified>
  <cp:revision>35</cp:revision>
  <dc:subject/>
  <dc:title>Банковская система</dc:title>
</cp:coreProperties>
</file>