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6EFF-9D56-4B1F-AADF-3D38C7A99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72B1-6538-485B-8DA8-DDA14D18AE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19D4-B826-494A-92CB-5A638611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95F0-4881-4508-A7D4-8DD017C4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D8CE-C8F2-40EE-9515-AC49C88F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1DB-B2A9-468C-A9C0-BB3D1AAD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A5B-64D0-43C4-8270-A846E4A6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9E9-6D6F-4F07-AD1A-71AEC275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DC2-6510-4D52-819B-A3725B44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300-22BC-411E-85C5-2D58734B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C33-B995-48E8-A317-EB29AECB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3DE-2177-4E6D-9504-D813374A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EA12-8CAF-4ABB-9E69-6A25C245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E82-8B2E-450F-9B7B-2FB9BB2C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D323-3D7A-4508-8A36-4A28F5DD12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езентация урока по теме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МЯГКИЙ ЗНАК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оставила учитель-логопед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Гроздова И. Н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92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прихожая"/>
          <p:cNvPicPr/>
          <p:nvPr/>
        </p:nvPicPr>
        <p:blipFill>
          <a:blip r:embed="rId1"/>
          <a:stretch/>
        </p:blipFill>
        <p:spPr>
          <a:xfrm>
            <a:off x="2340000" y="0"/>
            <a:ext cx="4886280" cy="6480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7640" y="1483920"/>
            <a:ext cx="930924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лый день купает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ё не разувае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нь и ночь на нож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асные сапож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гусь"/>
          <p:cNvPicPr/>
          <p:nvPr/>
        </p:nvPicPr>
        <p:blipFill>
          <a:blip r:embed="rId1"/>
          <a:stretch/>
        </p:blipFill>
        <p:spPr>
          <a:xfrm>
            <a:off x="2606760" y="1628640"/>
            <a:ext cx="4308480" cy="4537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ови детёны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лисы                         У лосих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рыси                         У медвед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оленихи                    У волч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зайчихи                     У бел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барсучихи                 У бобрих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Составить предложения со словами отгадками к данной схем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971640" y="2421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971640" y="2997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1619280" y="29973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2340000" y="2997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987640" y="299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4067280" y="2924280"/>
            <a:ext cx="73080" cy="7308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 flipV="1">
            <a:off x="2340000" y="2565360"/>
            <a:ext cx="21600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2556000" y="2565360"/>
            <a:ext cx="21564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>
            <a:off x="971640" y="393372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971640" y="3284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9"/>
          <p:cNvSpPr/>
          <p:nvPr/>
        </p:nvSpPr>
        <p:spPr>
          <a:xfrm flipV="1">
            <a:off x="971640" y="3500280"/>
            <a:ext cx="28728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>
            <a:off x="1258920" y="3500280"/>
            <a:ext cx="28872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1763640" y="3933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23"/>
          <p:cNvSpPr/>
          <p:nvPr/>
        </p:nvSpPr>
        <p:spPr>
          <a:xfrm>
            <a:off x="2700360" y="3933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3780000" y="3933720"/>
            <a:ext cx="86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5"/>
          <p:cNvSpPr/>
          <p:nvPr/>
        </p:nvSpPr>
        <p:spPr>
          <a:xfrm>
            <a:off x="5003640" y="3933720"/>
            <a:ext cx="144720" cy="7164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26"/>
          <p:cNvSpPr/>
          <p:nvPr/>
        </p:nvSpPr>
        <p:spPr>
          <a:xfrm>
            <a:off x="5724360" y="1557360"/>
            <a:ext cx="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7" descr="лось"/>
          <p:cNvPicPr/>
          <p:nvPr/>
        </p:nvPicPr>
        <p:blipFill>
          <a:blip r:embed="rId1"/>
          <a:stretch/>
        </p:blipFill>
        <p:spPr>
          <a:xfrm>
            <a:off x="6300720" y="1557360"/>
            <a:ext cx="1366920" cy="1224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8" descr="гусь"/>
          <p:cNvPicPr/>
          <p:nvPr/>
        </p:nvPicPr>
        <p:blipFill>
          <a:blip r:embed="rId2"/>
          <a:stretch/>
        </p:blipFill>
        <p:spPr>
          <a:xfrm>
            <a:off x="6516720" y="2924280"/>
            <a:ext cx="1370160" cy="1441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9" descr="прихожая"/>
          <p:cNvPicPr/>
          <p:nvPr/>
        </p:nvPicPr>
        <p:blipFill>
          <a:blip r:embed="rId3"/>
          <a:stretch/>
        </p:blipFill>
        <p:spPr>
          <a:xfrm>
            <a:off x="6659640" y="4437000"/>
            <a:ext cx="1095120" cy="1452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ставить Ь туда, где он нужен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ен_, фасол_, жук_, спорт_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рен_,совет_, выс_, сосед_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трад_, урок_, гряз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показывает мягкий знак в конце сл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ягкий знак, это БУКВА  или ЗВУ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ЛОДЦ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огопедическая тем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обозначение мягкости согласных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письме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уквой -Ь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рамматическая тем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ексическая тем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звери наших лесов и их детёныш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учить детей обозначать мягкость согласных на письме буквой –Ь-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крепление навыка правописания ь знака в конце сл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витие фонематического слу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витие звуко-буквенного анали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разование им. сущ. с ум. ласкательными суффикс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витие связной ре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ОЛЕН       ЛОС       РЫ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101268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ЛЕНЬ  ЛОСЬ  РЫС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олень"/>
          <p:cNvPicPr/>
          <p:nvPr/>
        </p:nvPicPr>
        <p:blipFill>
          <a:blip r:embed="rId1"/>
          <a:stretch/>
        </p:blipFill>
        <p:spPr>
          <a:xfrm>
            <a:off x="611280" y="2060640"/>
            <a:ext cx="1941480" cy="2878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лось"/>
          <p:cNvPicPr/>
          <p:nvPr/>
        </p:nvPicPr>
        <p:blipFill>
          <a:blip r:embed="rId2"/>
          <a:stretch/>
        </p:blipFill>
        <p:spPr>
          <a:xfrm>
            <a:off x="3059280" y="2060640"/>
            <a:ext cx="2587320" cy="2881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рысь"/>
          <p:cNvPicPr/>
          <p:nvPr/>
        </p:nvPicPr>
        <p:blipFill>
          <a:blip r:embed="rId3"/>
          <a:stretch/>
        </p:blipFill>
        <p:spPr>
          <a:xfrm>
            <a:off x="5931000" y="2060640"/>
            <a:ext cx="2601720" cy="2952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Ь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ягкий знак, мягкий знак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 него нельзя никак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 него не напис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0,20,10,5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о шес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лучим шес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о ес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пишем ест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Прочитать слова парами .Сравнить по звучанию и написанию. Устно составить предлож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тал-сталь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был-бы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ес- ве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Сигнальщик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4"/>
          <p:cNvSpPr/>
          <p:nvPr/>
        </p:nvSpPr>
        <p:spPr>
          <a:xfrm>
            <a:off x="2268360" y="2924280"/>
            <a:ext cx="1706760" cy="158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5148360" y="2924280"/>
            <a:ext cx="1728720" cy="15843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Отгадай загадки.</a:t>
            </a:r>
            <a:br>
              <a:rPr sz="44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вуко-буквенный разбо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рав копытами касаяс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Ходит по лесу красаве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Ходит смело и легк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га раскинув высок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4" descr="лось"/>
          <p:cNvPicPr/>
          <p:nvPr/>
        </p:nvPicPr>
        <p:blipFill>
          <a:blip r:embed="rId1"/>
          <a:stretch/>
        </p:blipFill>
        <p:spPr>
          <a:xfrm>
            <a:off x="1619280" y="1197000"/>
            <a:ext cx="5543640" cy="4967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ой ручкой всех встреч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ругой ручкой провож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5:10:37Z</dcterms:created>
  <dc:creator>Настя</dc:creator>
  <dc:description/>
  <dc:language>en-US</dc:language>
  <cp:lastModifiedBy>Main</cp:lastModifiedBy>
  <dcterms:modified xsi:type="dcterms:W3CDTF">2012-12-10T08:37:42Z</dcterms:modified>
  <cp:revision>4</cp:revision>
  <dc:subject/>
  <dc:title> МЯГКИЙ ЗНАК </dc:title>
</cp:coreProperties>
</file>