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CC70-7227-459A-8518-71BCC631F7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3610-DA8B-4A0E-B4F0-5E590DCCE5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B0C9-5390-42B6-8905-03F8D9AE81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9F13-6ECE-4F92-8A99-57C34E2725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2D4B-F880-4A59-9DF7-766035DB2A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F479-1858-43B8-AD88-EC7ECAB0D6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9E19-317F-4347-9912-B776A8BBC3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05D0-9A6B-4AB4-B4BC-71E10D534C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17C8-0217-4D33-908E-17F09BBDF4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B6E2-5910-4D20-B961-8CBBCB294C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6B3B-C2C3-4D0B-850C-3320B29268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40C9-2767-4337-9A16-0E5EFCB29B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E95A-AC5D-4D56-86CA-1DBC167656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69EF-B7EB-4908-AF67-3AB149A1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B1A-0356-433B-9B82-B1480881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26F-C13D-44EB-A018-28EDA4C9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72D-D3D7-498C-BD48-9EB8D9FE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047A-7750-4A70-90CF-9FDBDDC3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648A-647A-46A8-A34D-04888414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EC66-05B7-415B-93DC-2FE74E67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C957-9112-4691-81BE-33F0CD7B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F900-6341-4C29-BE77-6BFF218E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1A03-1492-47BE-A4FC-ACD2B987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30B0-BE6E-4E73-8F97-B11DC78F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B9B3-D65A-451F-BC79-B06B0DDA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720A-0466-4DCE-9580-653C6B55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9589-B779-4067-8FE2-293D19A7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A351-568A-4BC5-8766-B9646D06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2DF5-6FAD-4159-ABEF-34A265E1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CCDD-482A-4092-9D2C-D16C9218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2551-DFAA-44AD-A649-39E74B79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B17-801A-4096-9A13-33BA1BAA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B9E3-7C6B-4F50-97C8-593CB9B1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8897-E7CD-439E-A7B7-BA9ECA49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B31-4BCC-4C82-AA38-50AACF4A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65B-63DE-4F54-A410-F6626F47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E51-09B3-4625-8FD4-49C5BC30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30C5-298F-4938-8F91-DFF28EC6CE6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ADCA-6296-4692-8355-B9EC823A010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42;&#1086;&#1087;&#1088;&#1086;&#1089;&#1099;%20&#1085;&#1072;%20&#1091;&#1088;&#1086;&#1082;&#1077;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43;&#1077;&#1086;&#1075;&#1088;&#1072;&#1092;&#1080;&#1103;%20&#1084;&#1080;&#1088;&#1072;.ppt" TargetMode="External"/><Relationship Id="rId3" Type="http://schemas.openxmlformats.org/officeDocument/2006/relationships/hyperlink" Target="file:///&#1043;&#1077;&#1086;&#1075;&#1088;&#1072;&#1092;&#1080;&#1103;%20&#1084;&#1080;&#1088;&#1072;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59680" y="1882080"/>
            <a:ext cx="788184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Sylfaen"/>
              </a:rPr>
              <a:t>Приемы учебной работы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Sylfaen"/>
              </a:rPr>
              <a:t>на уроках географии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3" name="Picture 6" descr="book_"/>
          <p:cNvPicPr/>
          <p:nvPr/>
        </p:nvPicPr>
        <p:blipFill>
          <a:blip r:embed="rId1"/>
          <a:stretch/>
        </p:blipFill>
        <p:spPr>
          <a:xfrm>
            <a:off x="6715080" y="569736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ПРИЕМЫ, СООТВЕТСТВУЮЩИЕ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РЕПРОДУКТИВНОМУ МЕТОДУ ОБУЧЕНИЯ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53120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учащимся на приведение собственных примеров, подтверждающих правило, свой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наводящие вопросы учащимся, побуждающие к актуализации знаний и способов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учащимся на заполнение схем, таблиц вслед за  работой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задание учащимся на воспроизведение наизусть (правила, закона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на составление  кратких пояснений к ходу решения учебной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book_"/>
          <p:cNvPicPr/>
          <p:nvPr/>
        </p:nvPicPr>
        <p:blipFill>
          <a:blip r:embed="rId1"/>
          <a:stretch/>
        </p:blipFill>
        <p:spPr>
          <a:xfrm>
            <a:off x="6970680" y="214200"/>
            <a:ext cx="217332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ПРИЕМЫ, СООТВЕТСТВУЮЩИЕ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РЕПРОДУКТИВНОМУ МЕТОДУ ОБУЧЕНИЯ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477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учащимся на индивидуальное речевое проговаривание правил, определ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задание учащимся на проговаривание “про себя” используемых правил, определ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учащимся на раскодирование алгоритма (Почему так?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задание учащимся на описание какого-либо объекта по образ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book_"/>
          <p:cNvPicPr/>
          <p:nvPr/>
        </p:nvPicPr>
        <p:blipFill>
          <a:blip r:embed="rId1"/>
          <a:stretch/>
        </p:blipFill>
        <p:spPr>
          <a:xfrm>
            <a:off x="6786720" y="285840"/>
            <a:ext cx="20588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Sylfaen"/>
              </a:rPr>
              <a:t>ПРИЕМЫ, СООТВЕТСТВУЮЩИЕ</a:t>
            </a:r>
            <a:br>
              <a:rPr sz="2800"/>
            </a:br>
            <a:r>
              <a:rPr b="1" lang="ru-RU" sz="2800" spc="-1" strike="noStrike">
                <a:solidFill>
                  <a:srgbClr val="9900cc"/>
                </a:solidFill>
                <a:latin typeface="Sylfaen"/>
              </a:rPr>
              <a:t>МЕТОДУ ПРОБЛЕМНОГО ИЗЛОЖЕНИЯ</a:t>
            </a:r>
            <a:endParaRPr b="1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рытие учителем причин и характера неудач, встречавшихся на пути решения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уждение учителем возможных последствий, сделанных из неверных предполо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book_"/>
          <p:cNvPicPr/>
          <p:nvPr/>
        </p:nvPicPr>
        <p:blipFill>
          <a:blip r:embed="rId1"/>
          <a:stretch/>
        </p:blipFill>
        <p:spPr>
          <a:xfrm>
            <a:off x="6970680" y="5500800"/>
            <a:ext cx="21733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ПРИЕМЫ, СООТВЕТСТВУЮЩИЕ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МЕТОДУ ПРОБЛЕМНОГО ИЗЛОЖЕНИЯ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ригующее описание учителем излагаемого объекта с последующей постановкой во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риторические   вопросы   учителя   в    ходе  и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ъявление  учащимся     конфликтного      при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book_"/>
          <p:cNvPicPr/>
          <p:nvPr/>
        </p:nvPicPr>
        <p:blipFill>
          <a:blip r:embed="rId1"/>
          <a:stretch/>
        </p:blipFill>
        <p:spPr>
          <a:xfrm>
            <a:off x="6500880" y="428760"/>
            <a:ext cx="228600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ПРИЕМЫ, СООТВЕТСТВУЮЩИЕ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ЧАСТИЧНО-ПОИСКОВОМУ МЕТОДУ ОБУЧЕНИЯ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15640" y="2421000"/>
            <a:ext cx="745668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ение учащихся в аргументацию выдвинутой учителем гипот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наводящие вопросы учащимся, помогающие выбору правильных путей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 учащимся на поиск ошибок в оригинальных авторских рассужд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ook_"/>
          <p:cNvPicPr/>
          <p:nvPr/>
        </p:nvPicPr>
        <p:blipFill>
          <a:blip r:embed="rId1"/>
          <a:stretch/>
        </p:blipFill>
        <p:spPr>
          <a:xfrm>
            <a:off x="6786720" y="357120"/>
            <a:ext cx="207144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ПРИЕМЫ, СООТВЕТСТВУЮЩИЕ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ЧАСТИЧНО-ПОИСКОВОМУ МЕТОДУ ОБУЧЕНИЯ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719280" y="2276640"/>
            <a:ext cx="8067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конкретных наблюдений ученика, побуждающих к формулированию пробл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задание учащимся на обобщение фактов, изложенных учителем в специальной последова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учащимся на выдвижение очередного шага рассуждения в логике, заданной учител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демонстрация объекта, явления, побуждающая к вычленению сущ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деление цветом части чертежа, схемы, записи, ориентирующее учащихся на вы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book_"/>
          <p:cNvPicPr/>
          <p:nvPr/>
        </p:nvPicPr>
        <p:blipFill>
          <a:blip r:embed="rId6"/>
          <a:stretch/>
        </p:blipFill>
        <p:spPr>
          <a:xfrm>
            <a:off x="6954840" y="285840"/>
            <a:ext cx="2189160" cy="13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ПРИЕМЫ, АДЕКВАТНЫЕ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ИССЛЕДОВАТЕЛЬСКОМУ МЕТОДУ ОБУЧЕНИЯ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учащимся на самостоятельное составление нестандартных задач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задание с избыточными данны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задание учащимся на самостоятельные обобщения на основе собственных практических наблюд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учащимся на сущностное описание какого-либо объекта без использования инстру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book_"/>
          <p:cNvPicPr/>
          <p:nvPr/>
        </p:nvPicPr>
        <p:blipFill>
          <a:blip r:embed="rId1"/>
          <a:stretch/>
        </p:blipFill>
        <p:spPr>
          <a:xfrm>
            <a:off x="7085160" y="5572080"/>
            <a:ext cx="20588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ПРИЕМЫ, АДЕКВАТНЫЕ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ИССЛЕДОВАТЕЛЬСКОМУ МЕТОДУ ОБУЧЕНИЯ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1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учащимся на определение степени достоверности полученных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задание учащимся на вычисление механизма протекания я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учащимся “на мгновенную догадку”, “на соображение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book_"/>
          <p:cNvPicPr/>
          <p:nvPr/>
        </p:nvPicPr>
        <p:blipFill>
          <a:blip r:embed="rId1"/>
          <a:stretch/>
        </p:blipFill>
        <p:spPr>
          <a:xfrm>
            <a:off x="7740720" y="5981760"/>
            <a:ext cx="14032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СРЕДСТВА АКТИВИЗАЦИИ УЧЕНИЯ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28440" y="2428560"/>
            <a:ext cx="7948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держивать, укреплять и развивать положительные эмо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пособствовать сокращению времени сообщения и объема готовых знаний и стимулированию самостоятельной учебно-профессиона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ить  самооценку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едоставить возможность для коллективного делового об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ствовать созданию внутреннего и внешнего  комф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ok_"/>
          <p:cNvPicPr/>
          <p:nvPr/>
        </p:nvPicPr>
        <p:blipFill>
          <a:blip r:embed="rId1"/>
          <a:stretch/>
        </p:blipFill>
        <p:spPr>
          <a:xfrm>
            <a:off x="6970680" y="357120"/>
            <a:ext cx="21733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480" y="834120"/>
            <a:ext cx="6737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Репродукция:</a:t>
            </a:r>
            <a:r>
              <a:rPr b="1" i="1" lang="ru-RU" sz="3600" spc="-1" strike="noStrike">
                <a:solidFill>
                  <a:srgbClr val="9900cc"/>
                </a:solidFill>
                <a:latin typeface="Arial"/>
              </a:rPr>
              <a:t> анализ текста</a:t>
            </a: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26920" y="2362320"/>
          <a:ext cx="7848720" cy="3471840"/>
        </p:xfrm>
        <a:graphic>
          <a:graphicData uri="http://schemas.openxmlformats.org/drawingml/2006/table">
            <a:tbl>
              <a:tblPr/>
              <a:tblGrid>
                <a:gridCol w="3888000"/>
                <a:gridCol w="3960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кратко - о чем речь?  (пересказ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ерия вопросов  (учителя) по содержанию  текс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9e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формулируйте вопрос   по содержанию (задание учащимся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бщий вывод к прочитанному тексту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</a:tr>
              <a:tr h="1089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аким образом, мы узнали (я узнал), что…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62" name="Picture 35" descr="book_"/>
          <p:cNvPicPr/>
          <p:nvPr/>
        </p:nvPicPr>
        <p:blipFill>
          <a:blip r:embed="rId1"/>
          <a:stretch/>
        </p:blipFill>
        <p:spPr>
          <a:xfrm>
            <a:off x="6500880" y="214200"/>
            <a:ext cx="2401920" cy="15004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4"/>
          <p:cNvSpPr/>
          <p:nvPr/>
        </p:nvSpPr>
        <p:spPr>
          <a:xfrm>
            <a:off x="1015920" y="614376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Прием «Различные типы вопрос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Sylfaen"/>
              </a:rPr>
              <a:t>Приемы деятельности  как компонент учебной работы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5" name="Схема 6" descr=""/>
          <p:cNvPicPr/>
          <p:nvPr/>
        </p:nvPicPr>
        <p:blipFill>
          <a:blip r:embed="rId1"/>
          <a:stretch/>
        </p:blipFill>
        <p:spPr>
          <a:xfrm>
            <a:off x="907920" y="2682720"/>
            <a:ext cx="7888320" cy="336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book_"/>
          <p:cNvPicPr/>
          <p:nvPr/>
        </p:nvPicPr>
        <p:blipFill>
          <a:blip r:embed="rId2"/>
          <a:stretch/>
        </p:blipFill>
        <p:spPr>
          <a:xfrm>
            <a:off x="6730920" y="285840"/>
            <a:ext cx="21733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65941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Репродукция: конспектирование текста.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38080" y="2362320"/>
          <a:ext cx="7981920" cy="4176720"/>
        </p:xfrm>
        <a:graphic>
          <a:graphicData uri="http://schemas.openxmlformats.org/drawingml/2006/table">
            <a:tbl>
              <a:tblPr/>
              <a:tblGrid>
                <a:gridCol w="3319560"/>
                <a:gridCol w="466236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выписать только ключевые предложения из тек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 сформулировать определение на основе имеющегося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d6"/>
                    </a:solidFill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 выписать ключевые сл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 сделать выборку  фак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</a:tr>
              <a:tr h="174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 выписать опреде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обрать  необходимый материал из общего текста в соответствии с поставленной задачей (зафиксировать в различных формах)- отбор содержания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f5d6"/>
                    </a:solidFill>
                  </a:tcPr>
                </a:tc>
              </a:tr>
            </a:tbl>
          </a:graphicData>
        </a:graphic>
      </p:graphicFrame>
      <p:pic>
        <p:nvPicPr>
          <p:cNvPr id="166" name="Picture 30" descr="book_"/>
          <p:cNvPicPr/>
          <p:nvPr/>
        </p:nvPicPr>
        <p:blipFill>
          <a:blip r:embed="rId1"/>
          <a:stretch/>
        </p:blipFill>
        <p:spPr>
          <a:xfrm>
            <a:off x="6615000" y="214200"/>
            <a:ext cx="2287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480" y="834120"/>
            <a:ext cx="6808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Репродукция:</a:t>
            </a: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 описание, структурирование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838080" y="2362320"/>
          <a:ext cx="7693200" cy="4093920"/>
        </p:xfrm>
        <a:graphic>
          <a:graphicData uri="http://schemas.openxmlformats.org/drawingml/2006/table">
            <a:tbl>
              <a:tblPr/>
              <a:tblGrid>
                <a:gridCol w="3013200"/>
                <a:gridCol w="468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  того, о чем шла речь в текс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 на определение  структуры текста, описания, объяснения: план текста, структура устного ответа, сообщения, доклад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d6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оциональное 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 репродукции, мелодии, фотографии, макета,  компози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ение  предложения, фра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d6"/>
                    </a:solidFill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 ситуации (предположительное развитие событий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ы на поставленные вопросы:  устно, письмен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f5d6"/>
                    </a:solidFill>
                  </a:tcPr>
                </a:tc>
              </a:tr>
            </a:tbl>
          </a:graphicData>
        </a:graphic>
      </p:graphicFrame>
      <p:pic>
        <p:nvPicPr>
          <p:cNvPr id="169" name="Picture 94" descr="book_"/>
          <p:cNvPicPr/>
          <p:nvPr/>
        </p:nvPicPr>
        <p:blipFill>
          <a:blip r:embed="rId1"/>
          <a:stretch/>
        </p:blipFill>
        <p:spPr>
          <a:xfrm>
            <a:off x="6958080" y="357120"/>
            <a:ext cx="194472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6665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Трансляция:</a:t>
            </a:r>
            <a:r>
              <a:rPr b="1" i="1" lang="ru-RU" sz="3600" spc="-1" strike="noStrike">
                <a:solidFill>
                  <a:srgbClr val="9900cc"/>
                </a:solidFill>
                <a:latin typeface="Arial"/>
              </a:rPr>
              <a:t> работа с текстом</a:t>
            </a: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38080" y="2362320"/>
          <a:ext cx="7910640" cy="4144680"/>
        </p:xfrm>
        <a:graphic>
          <a:graphicData uri="http://schemas.openxmlformats.org/drawingml/2006/table">
            <a:tbl>
              <a:tblPr/>
              <a:tblGrid>
                <a:gridCol w="3956040"/>
                <a:gridCol w="3954600"/>
              </a:tblGrid>
              <a:tr h="285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:  высказать собственное отношение к прочитанном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понравилос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запомнилос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не понравилось, вызыв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умение, сомнени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чем согласен/не согласе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му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c2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очный рассказ -  в соответствии с учебной задачей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b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каз по содержанию в соответствии с заданной формой: реклама, предостережение, письмо, доклад и т.д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f5d6"/>
                    </a:solidFill>
                  </a:tcPr>
                </a:tc>
              </a:tr>
            </a:tbl>
          </a:graphicData>
        </a:graphic>
      </p:graphicFrame>
      <p:pic>
        <p:nvPicPr>
          <p:cNvPr id="172" name="Picture 28" descr="book_"/>
          <p:cNvPicPr/>
          <p:nvPr/>
        </p:nvPicPr>
        <p:blipFill>
          <a:blip r:embed="rId1"/>
          <a:stretch/>
        </p:blipFill>
        <p:spPr>
          <a:xfrm>
            <a:off x="6729480" y="357120"/>
            <a:ext cx="217332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480" y="834120"/>
            <a:ext cx="6808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Трансляция:</a:t>
            </a:r>
            <a:r>
              <a:rPr b="1" i="1" lang="ru-RU" sz="3600" spc="-1" strike="noStrike">
                <a:solidFill>
                  <a:srgbClr val="9900cc"/>
                </a:solidFill>
                <a:latin typeface="Arial"/>
              </a:rPr>
              <a:t> работа с текстом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38080" y="2362320"/>
          <a:ext cx="8091720" cy="4462200"/>
        </p:xfrm>
        <a:graphic>
          <a:graphicData uri="http://schemas.openxmlformats.org/drawingml/2006/table">
            <a:tbl>
              <a:tblPr/>
              <a:tblGrid>
                <a:gridCol w="3294360"/>
                <a:gridCol w="4797360"/>
              </a:tblGrid>
              <a:tr h="23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казывание по вопросу, проблеме и обоснование своей точки зрения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думаю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считаю…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полагаю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е нравится / не нравится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поддерживаю / не поддержив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е кажется, что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против / я за……., так как…….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9ef"/>
                    </a:solidFill>
                  </a:tcPr>
                </a:tc>
              </a:tr>
              <a:tr h="21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отдельн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м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анру высту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письменной  работы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b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каз о…. Реклам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портаж с места соб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чное сообщение, доклад (тема,  четкая  структура,  ссылки).   Письмо издалека. Информационное сообщение (устно).  Один и тот же рассказ с разной интонацией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</a:tr>
            </a:tbl>
          </a:graphicData>
        </a:graphic>
      </p:graphicFrame>
      <p:pic>
        <p:nvPicPr>
          <p:cNvPr id="175" name="Picture 28" descr="book_"/>
          <p:cNvPicPr/>
          <p:nvPr/>
        </p:nvPicPr>
        <p:blipFill>
          <a:blip r:embed="rId1"/>
          <a:stretch/>
        </p:blipFill>
        <p:spPr>
          <a:xfrm>
            <a:off x="6970680" y="285840"/>
            <a:ext cx="21733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480" y="834120"/>
            <a:ext cx="64512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Трансформация: анализ текста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77" name="Схема 6" descr=""/>
          <p:cNvPicPr/>
          <p:nvPr/>
        </p:nvPicPr>
        <p:blipFill>
          <a:blip r:embed="rId1"/>
          <a:stretch/>
        </p:blipFill>
        <p:spPr>
          <a:xfrm>
            <a:off x="981000" y="2401920"/>
            <a:ext cx="7108920" cy="4181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book_"/>
          <p:cNvPicPr/>
          <p:nvPr/>
        </p:nvPicPr>
        <p:blipFill>
          <a:blip r:embed="rId2"/>
          <a:stretch/>
        </p:blipFill>
        <p:spPr>
          <a:xfrm>
            <a:off x="6929280" y="285840"/>
            <a:ext cx="192888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480" y="834120"/>
            <a:ext cx="6737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Трансформация: чтение по карте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еревод» фоново-графического языка (условных знаков и обозначений ) в текстовой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6" descr="normal_4832b9593455341411944a4cc589d7cb.jpg"/>
          <p:cNvPicPr/>
          <p:nvPr/>
        </p:nvPicPr>
        <p:blipFill>
          <a:blip r:embed="rId1"/>
          <a:stretch/>
        </p:blipFill>
        <p:spPr>
          <a:xfrm>
            <a:off x="4214880" y="3382920"/>
            <a:ext cx="45244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68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Целевая манипуляция 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 учебным содержанием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57160" y="2714760"/>
          <a:ext cx="7948800" cy="3495600"/>
        </p:xfrm>
        <a:graphic>
          <a:graphicData uri="http://schemas.openxmlformats.org/drawingml/2006/table">
            <a:tbl>
              <a:tblPr/>
              <a:tblGrid>
                <a:gridCol w="3259080"/>
                <a:gridCol w="4689720"/>
              </a:tblGrid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 сравнения. Вывод и объяснение причин сходства и различ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сопоставл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найти обще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найти отличительные особ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 для учителя/ученик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ить критерии сравн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9ef"/>
                    </a:solidFill>
                  </a:tcPr>
                </a:tc>
              </a:tr>
              <a:tr h="13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 ассоциации. Ключевое слово          ассоциац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фма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</a:tr>
            </a:tbl>
          </a:graphicData>
        </a:graphic>
      </p:graphicFrame>
      <p:sp>
        <p:nvSpPr>
          <p:cNvPr id="184" name="Line 22"/>
          <p:cNvSpPr/>
          <p:nvPr/>
        </p:nvSpPr>
        <p:spPr>
          <a:xfrm>
            <a:off x="334800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book_"/>
          <p:cNvPicPr/>
          <p:nvPr/>
        </p:nvPicPr>
        <p:blipFill>
          <a:blip r:embed="rId1"/>
          <a:stretch/>
        </p:blipFill>
        <p:spPr>
          <a:xfrm>
            <a:off x="6929280" y="285840"/>
            <a:ext cx="192888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Рефлексия: синквейн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819360" y="2611800"/>
            <a:ext cx="6769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.Кто? Что?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существитель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акой?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прилагательн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. Что делает?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3 глаго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4. Что автор думает о тем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5. Кто? Что?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1 существитель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Рефлексия: синквейн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0" name="Rectangle 1"/>
          <p:cNvSpPr/>
          <p:nvPr/>
        </p:nvSpPr>
        <p:spPr>
          <a:xfrm>
            <a:off x="4601520" y="40752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"/>
          <p:cNvSpPr/>
          <p:nvPr/>
        </p:nvSpPr>
        <p:spPr>
          <a:xfrm>
            <a:off x="785880" y="2365200"/>
            <a:ext cx="75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аллу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ёрная, современ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лавляет, производит, созда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ь всех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од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3143160" y="4294080"/>
            <a:ext cx="571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лестящая, нержаве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ет, лечит, стро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вный конструкцио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вёрд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Рефлексия: синквейн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811800" y="2418120"/>
            <a:ext cx="6916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вер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шевидный, технологи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плавляет, варит, выли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кономичное устройство для получения с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я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2428920" y="443664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енная п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громная, жар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т, жарит, выпл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еевая технология для получения чуг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же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13"/>
          <p:cNvPicPr/>
          <p:nvPr/>
        </p:nvPicPr>
        <p:blipFill>
          <a:blip r:embed="rId1"/>
          <a:stretch/>
        </p:blipFill>
        <p:spPr>
          <a:xfrm>
            <a:off x="857160" y="2357280"/>
            <a:ext cx="4364280" cy="3000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9" name="Picture 9" descr="image330"/>
          <p:cNvPicPr/>
          <p:nvPr/>
        </p:nvPicPr>
        <p:blipFill>
          <a:blip r:embed="rId2"/>
          <a:stretch/>
        </p:blipFill>
        <p:spPr>
          <a:xfrm>
            <a:off x="5072040" y="3659040"/>
            <a:ext cx="3522600" cy="2433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Sylfaen"/>
              </a:rPr>
              <a:t>Приемы деятельности  как компонент учебной работы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1" name="Picture 5" descr="book_"/>
          <p:cNvPicPr/>
          <p:nvPr/>
        </p:nvPicPr>
        <p:blipFill>
          <a:blip r:embed="rId3"/>
          <a:stretch/>
        </p:blipFill>
        <p:spPr>
          <a:xfrm>
            <a:off x="6730920" y="285840"/>
            <a:ext cx="21733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Рефлексия: хокку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9" name="Rectangle 1"/>
          <p:cNvSpPr/>
          <p:nvPr/>
        </p:nvSpPr>
        <p:spPr>
          <a:xfrm>
            <a:off x="785880" y="27871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. Я был кем-то или чем-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. Я видел кого-то или что-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. Место действия (где? что делал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4. Определение (как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Рефлексия: хокку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714240" y="216648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был огромным  современным паром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дел просторы Балтийского мор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юди отправились за новыми впечатлениями в путешеств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мечатель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65941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Граф-схемы при формировании   «Понятия»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362320"/>
          <a:ext cx="7693200" cy="4235400"/>
        </p:xfrm>
        <a:graphic>
          <a:graphicData uri="http://schemas.openxmlformats.org/drawingml/2006/table">
            <a:tbl>
              <a:tblPr/>
              <a:tblGrid>
                <a:gridCol w="7693200"/>
              </a:tblGrid>
              <a:tr h="42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21"/>
          <p:cNvSpPr/>
          <p:nvPr/>
        </p:nvSpPr>
        <p:spPr>
          <a:xfrm>
            <a:off x="1116000" y="2781360"/>
            <a:ext cx="1944720" cy="647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к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2"/>
          <p:cNvSpPr/>
          <p:nvPr/>
        </p:nvSpPr>
        <p:spPr>
          <a:xfrm>
            <a:off x="1042920" y="4869000"/>
            <a:ext cx="1944720" cy="647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-то ещ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6084720" y="2852640"/>
            <a:ext cx="1944720" cy="647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4"/>
          <p:cNvSpPr/>
          <p:nvPr/>
        </p:nvSpPr>
        <p:spPr>
          <a:xfrm>
            <a:off x="6156360" y="4869000"/>
            <a:ext cx="1944720" cy="647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5"/>
          <p:cNvSpPr/>
          <p:nvPr/>
        </p:nvSpPr>
        <p:spPr>
          <a:xfrm>
            <a:off x="3203640" y="3645000"/>
            <a:ext cx="2448000" cy="1150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8"/>
          <p:cNvSpPr/>
          <p:nvPr/>
        </p:nvSpPr>
        <p:spPr>
          <a:xfrm flipV="1">
            <a:off x="5148360" y="3068280"/>
            <a:ext cx="93636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9"/>
          <p:cNvSpPr/>
          <p:nvPr/>
        </p:nvSpPr>
        <p:spPr>
          <a:xfrm flipH="1" flipV="1">
            <a:off x="3058920" y="3141720"/>
            <a:ext cx="86508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0"/>
          <p:cNvSpPr/>
          <p:nvPr/>
        </p:nvSpPr>
        <p:spPr>
          <a:xfrm flipH="1">
            <a:off x="2987280" y="4724280"/>
            <a:ext cx="792360" cy="50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2"/>
          <p:cNvSpPr/>
          <p:nvPr/>
        </p:nvSpPr>
        <p:spPr>
          <a:xfrm>
            <a:off x="5651640" y="4365720"/>
            <a:ext cx="93636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480" y="834120"/>
            <a:ext cx="6737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Прием «Мышление под прямым углом»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26920" y="2636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258920" y="2565360"/>
            <a:ext cx="2305080" cy="647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5508720" y="5157720"/>
            <a:ext cx="2158920" cy="86508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2124000" y="3213000"/>
            <a:ext cx="0" cy="93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3635280" y="3141720"/>
            <a:ext cx="172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1042920" y="4149720"/>
            <a:ext cx="3024360" cy="1727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писок Б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нения и ассоциац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………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………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5435640" y="2852640"/>
            <a:ext cx="2449440" cy="1728720"/>
          </a:xfrm>
          <a:prstGeom prst="rect">
            <a:avLst/>
          </a:prstGeom>
          <a:solidFill>
            <a:srgbClr val="b37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писок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«Фак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6659640" y="472428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Прямая со стрелкой 14"/>
          <p:cNvCxnSpPr/>
          <p:nvPr/>
        </p:nvCxnSpPr>
        <p:spPr>
          <a:xfrm>
            <a:off x="4071600" y="5357880"/>
            <a:ext cx="14295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25" name="Picture 6" descr="book_"/>
          <p:cNvPicPr/>
          <p:nvPr/>
        </p:nvPicPr>
        <p:blipFill>
          <a:blip r:embed="rId1"/>
          <a:stretch/>
        </p:blipFill>
        <p:spPr>
          <a:xfrm>
            <a:off x="7072200" y="35712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65941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«Фиш-бон»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2195640" y="3645000"/>
            <a:ext cx="4176720" cy="865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т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 flipV="1">
            <a:off x="3276720" y="2997000"/>
            <a:ext cx="115092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 flipV="1">
            <a:off x="4356000" y="3141720"/>
            <a:ext cx="86364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 flipV="1">
            <a:off x="5292720" y="3068280"/>
            <a:ext cx="93492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3132000" y="4508640"/>
            <a:ext cx="648000" cy="86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4211640" y="4508640"/>
            <a:ext cx="504720" cy="79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"/>
          <p:cNvSpPr/>
          <p:nvPr/>
        </p:nvSpPr>
        <p:spPr>
          <a:xfrm>
            <a:off x="5214960" y="4500720"/>
            <a:ext cx="493560" cy="77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1619280" y="2492280"/>
            <a:ext cx="540072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е характер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285920" y="5428800"/>
            <a:ext cx="6038640" cy="490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3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00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1979640" y="2565360"/>
            <a:ext cx="4897440" cy="719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лавная ид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403280" y="4292640"/>
            <a:ext cx="604836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держивающие де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"/>
          <p:cNvSpPr/>
          <p:nvPr/>
        </p:nvSpPr>
        <p:spPr>
          <a:xfrm flipV="1">
            <a:off x="2411280" y="3357720"/>
            <a:ext cx="50508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 flipV="1">
            <a:off x="4284720" y="3357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 flipV="1">
            <a:off x="5724000" y="3357360"/>
            <a:ext cx="287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Дать определени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65941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Дать определени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7693200"/>
              </a:tblGrid>
              <a:tr h="186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стное определение …………………………………………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 хорошее предложение с данным понятием………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й вариант определения ………………………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ее определение из другого источника……………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Rectangle 14"/>
          <p:cNvSpPr/>
          <p:nvPr/>
        </p:nvSpPr>
        <p:spPr>
          <a:xfrm>
            <a:off x="1258920" y="2708280"/>
            <a:ext cx="2881440" cy="100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ючевое сло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4788000" y="2852640"/>
            <a:ext cx="3384360" cy="1008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ссоциа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мв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480" y="834120"/>
            <a:ext cx="6737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Таблица-«синтез»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55640" y="2362320"/>
          <a:ext cx="8209080" cy="4091040"/>
        </p:xfrm>
        <a:graphic>
          <a:graphicData uri="http://schemas.openxmlformats.org/drawingml/2006/table">
            <a:tbl>
              <a:tblPr/>
              <a:tblGrid>
                <a:gridCol w="2448000"/>
                <a:gridCol w="2881080"/>
                <a:gridCol w="2880000"/>
              </a:tblGrid>
              <a:tr h="12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ючевые с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ловосочетан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проч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ки из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вязанные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ючевыми словам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му эта ци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жна для  ме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ысли, рассуждени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</a:tr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………</a:t>
                      </a:r>
                      <a:r>
                        <a:rPr b="0" lang="ru-RU" sz="1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………</a:t>
                      </a:r>
                      <a:r>
                        <a:rPr b="0" lang="ru-RU" sz="1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.....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 время ч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………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………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9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</a:tr>
            </a:tbl>
          </a:graphicData>
        </a:graphic>
      </p:graphicFrame>
      <p:pic>
        <p:nvPicPr>
          <p:cNvPr id="252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480" y="834120"/>
            <a:ext cx="6094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«Кольца»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1692360" y="3141720"/>
            <a:ext cx="2950920" cy="27352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разли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"/>
          <p:cNvSpPr/>
          <p:nvPr/>
        </p:nvSpPr>
        <p:spPr>
          <a:xfrm>
            <a:off x="3492360" y="3068640"/>
            <a:ext cx="3167280" cy="2736720"/>
          </a:xfrm>
          <a:prstGeom prst="ellipse">
            <a:avLst/>
          </a:prstGeom>
          <a:solidFill>
            <a:srgbClr val="f0c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азли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3492360" y="3357720"/>
            <a:ext cx="1202040" cy="22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б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book_"/>
          <p:cNvPicPr/>
          <p:nvPr/>
        </p:nvPicPr>
        <p:blipFill>
          <a:blip r:embed="rId1"/>
          <a:stretch/>
        </p:blipFill>
        <p:spPr>
          <a:xfrm>
            <a:off x="6286680" y="357120"/>
            <a:ext cx="25160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34480" y="834120"/>
            <a:ext cx="6737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Граф-схемы для решения «Проблемы». «Карта событий»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0" name="Oval 4"/>
          <p:cNvSpPr/>
          <p:nvPr/>
        </p:nvSpPr>
        <p:spPr>
          <a:xfrm>
            <a:off x="3708360" y="4005360"/>
            <a:ext cx="2087640" cy="12952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обы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1042920" y="2637000"/>
            <a:ext cx="1657440" cy="9363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900000" y="4149720"/>
            <a:ext cx="2087640" cy="10080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 включен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и события?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включе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9"/>
          <p:cNvSpPr/>
          <p:nvPr/>
        </p:nvSpPr>
        <p:spPr>
          <a:xfrm>
            <a:off x="900000" y="5445000"/>
            <a:ext cx="1871640" cy="1123920"/>
          </a:xfrm>
          <a:prstGeom prst="ellipse">
            <a:avLst/>
          </a:prstGeom>
          <a:solidFill>
            <a:srgbClr val="f0c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3995640" y="2708280"/>
            <a:ext cx="2016360" cy="865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Что случило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1"/>
          <p:cNvSpPr/>
          <p:nvPr/>
        </p:nvSpPr>
        <p:spPr>
          <a:xfrm>
            <a:off x="6516720" y="4005360"/>
            <a:ext cx="2087640" cy="1439640"/>
          </a:xfrm>
          <a:prstGeom prst="ellipse">
            <a:avLst/>
          </a:prstGeom>
          <a:solidFill>
            <a:srgbClr val="faf1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Ког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716360" y="5877000"/>
            <a:ext cx="2303640" cy="720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Как это случило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2484360" y="3357720"/>
            <a:ext cx="1582920" cy="86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4643280" y="3500280"/>
            <a:ext cx="46080" cy="50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5"/>
          <p:cNvSpPr/>
          <p:nvPr/>
        </p:nvSpPr>
        <p:spPr>
          <a:xfrm>
            <a:off x="2916360" y="472428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6"/>
          <p:cNvSpPr/>
          <p:nvPr/>
        </p:nvSpPr>
        <p:spPr>
          <a:xfrm flipV="1">
            <a:off x="2771640" y="5084280"/>
            <a:ext cx="1152720" cy="10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7"/>
          <p:cNvSpPr/>
          <p:nvPr/>
        </p:nvSpPr>
        <p:spPr>
          <a:xfrm>
            <a:off x="5724360" y="458136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8"/>
          <p:cNvSpPr/>
          <p:nvPr/>
        </p:nvSpPr>
        <p:spPr>
          <a:xfrm>
            <a:off x="5292720" y="5229360"/>
            <a:ext cx="35892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39320" y="975240"/>
            <a:ext cx="753840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Приемы общей (внешней) организации учебной деятельности 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(приемы управления учебной деятельностью)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43020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емы слуш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матр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писы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16000" y="2491920"/>
            <a:ext cx="4103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сказ 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рисов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учебного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    домашней  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834120"/>
            <a:ext cx="6308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Таблица «Что? Где?  Когда? Почему?»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571760" y="2357280"/>
          <a:ext cx="6912000" cy="1236960"/>
        </p:xfrm>
        <a:graphic>
          <a:graphicData uri="http://schemas.openxmlformats.org/drawingml/2006/table">
            <a:tbl>
              <a:tblPr/>
              <a:tblGrid>
                <a:gridCol w="1079280"/>
                <a:gridCol w="1081080"/>
                <a:gridCol w="1150920"/>
                <a:gridCol w="1728720"/>
                <a:gridCol w="1872000"/>
              </a:tblGrid>
              <a:tr h="77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?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c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c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?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c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?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c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му?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c2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571760" y="3857760"/>
          <a:ext cx="6912000" cy="2447640"/>
        </p:xfrm>
        <a:graphic>
          <a:graphicData uri="http://schemas.openxmlformats.org/drawingml/2006/table">
            <a:tbl>
              <a:tblPr/>
              <a:tblGrid>
                <a:gridCol w="1885680"/>
                <a:gridCol w="502632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9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9e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9ef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?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9ef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9ef"/>
                    </a:solidFill>
                  </a:tcPr>
                </a:tc>
              </a:tr>
            </a:tbl>
          </a:graphicData>
        </a:graphic>
      </p:graphicFrame>
      <p:pic>
        <p:nvPicPr>
          <p:cNvPr id="277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834120" y="834120"/>
            <a:ext cx="65228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хема «Проблема - результат»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3492360" y="2781360"/>
            <a:ext cx="2592360" cy="863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Ключевое собы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1403280" y="4365720"/>
            <a:ext cx="2737080" cy="1008000"/>
          </a:xfrm>
          <a:prstGeom prst="rect">
            <a:avLst/>
          </a:prstGeom>
          <a:solidFill>
            <a:srgbClr val="adeb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роблема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4859280" y="4365720"/>
            <a:ext cx="3384720" cy="1008000"/>
          </a:xfrm>
          <a:prstGeom prst="rect">
            <a:avLst/>
          </a:prstGeom>
          <a:solidFill>
            <a:srgbClr val="cee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езультат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7"/>
          <p:cNvSpPr/>
          <p:nvPr/>
        </p:nvSpPr>
        <p:spPr>
          <a:xfrm flipH="1">
            <a:off x="3419280" y="3645000"/>
            <a:ext cx="43164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5508720" y="3716280"/>
            <a:ext cx="358560" cy="6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6665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Таблица  «Проблема - результат»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826920" y="2421000"/>
          <a:ext cx="7693200" cy="181116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(Что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, мест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лем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8" name="Рисунок 17" descr="map.gif"/>
          <p:cNvPicPr/>
          <p:nvPr/>
        </p:nvPicPr>
        <p:blipFill>
          <a:blip r:embed="rId1"/>
          <a:stretch/>
        </p:blipFill>
        <p:spPr>
          <a:xfrm>
            <a:off x="5143680" y="4286160"/>
            <a:ext cx="3762360" cy="2141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book_"/>
          <p:cNvPicPr/>
          <p:nvPr/>
        </p:nvPicPr>
        <p:blipFill>
          <a:blip r:embed="rId2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834120" y="834120"/>
            <a:ext cx="6665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хема «Проблема -факторы»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4"/>
          <p:cNvSpPr/>
          <p:nvPr/>
        </p:nvSpPr>
        <p:spPr>
          <a:xfrm>
            <a:off x="1332000" y="2997360"/>
            <a:ext cx="2232000" cy="187164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5"/>
          <p:cNvSpPr/>
          <p:nvPr/>
        </p:nvSpPr>
        <p:spPr>
          <a:xfrm>
            <a:off x="3635280" y="5300640"/>
            <a:ext cx="1728720" cy="1224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5508720" y="3284640"/>
            <a:ext cx="2376360" cy="19447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кто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причи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йству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rc 7"/>
          <p:cNvSpPr/>
          <p:nvPr/>
        </p:nvSpPr>
        <p:spPr>
          <a:xfrm rot="20369400">
            <a:off x="3564000" y="3068280"/>
            <a:ext cx="2305080" cy="914400"/>
          </a:xfrm>
          <a:custGeom>
            <a:avLst/>
            <a:gdLst>
              <a:gd name="textAreaLeft" fmla="*/ 0 w 2305080"/>
              <a:gd name="textAreaRight" fmla="*/ 2305080 w 23050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rc 8"/>
          <p:cNvSpPr/>
          <p:nvPr/>
        </p:nvSpPr>
        <p:spPr>
          <a:xfrm rot="11050800">
            <a:off x="1979280" y="4935600"/>
            <a:ext cx="1728720" cy="91440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rc 9"/>
          <p:cNvSpPr/>
          <p:nvPr/>
        </p:nvSpPr>
        <p:spPr>
          <a:xfrm rot="5005200">
            <a:off x="5292720" y="51577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786600" y="714960"/>
            <a:ext cx="66420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хема «Что? – Почему?»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2987640" y="2492280"/>
            <a:ext cx="2952720" cy="113040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1130400"/>
              <a:gd name="textAreaBottom" fmla="*/ 403560 h 1130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6"/>
          <p:cNvSpPr/>
          <p:nvPr/>
        </p:nvSpPr>
        <p:spPr>
          <a:xfrm rot="10800000">
            <a:off x="3132000" y="3716280"/>
            <a:ext cx="2735280" cy="1440000"/>
          </a:xfrm>
          <a:custGeom>
            <a:avLst/>
            <a:gdLst>
              <a:gd name="textAreaLeft" fmla="*/ 0 w 2735280"/>
              <a:gd name="textAreaRight" fmla="*/ 2735640 w 2735280"/>
              <a:gd name="textAreaTop" fmla="*/ 0 h 1440000"/>
              <a:gd name="textAreaBottom" fmla="*/ 514080 h 1440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685440" y="3427560"/>
            <a:ext cx="38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это случ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5510520" y="3272040"/>
            <a:ext cx="35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случ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ффект результат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Причинно-следственная  «цепочка»: из имеющихся блоков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857160" y="2571840"/>
          <a:ext cx="7929720" cy="3840120"/>
        </p:xfrm>
        <a:graphic>
          <a:graphicData uri="http://schemas.openxmlformats.org/drawingml/2006/table">
            <a:tbl>
              <a:tblPr/>
              <a:tblGrid>
                <a:gridCol w="3965760"/>
                <a:gridCol w="396396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ьте из звеньев причинно-следственную цепь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ьте из звеньев причинно-следственную цепь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приятные социально-экономические услов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ысокий показатель рождаемости, смертност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жение численности насел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ы Зарубежной Европы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щета и бедность насел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й уровень рождаемости и смертност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стрый рост численности насел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ы Азии, Африки, Латинской Америк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Причинно-следственная  «цепочка»: из имеющихся блоков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857160" y="2571840"/>
          <a:ext cx="7929720" cy="3535200"/>
        </p:xfrm>
        <a:graphic>
          <a:graphicData uri="http://schemas.openxmlformats.org/drawingml/2006/table">
            <a:tbl>
              <a:tblPr/>
              <a:tblGrid>
                <a:gridCol w="4357800"/>
                <a:gridCol w="35719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ьте из звеньев причинно-следственную цепь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ьте из звеньев причинно-следственную цепь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бокое аграрно-сырьевое развитие экономик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культурная специализац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ниальное прошло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о-экономическая отсталость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лургическая промышленность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ТР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обилестроени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роэлектроника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Причинно-следственная  «цепочка»: из имеющихся блоков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857160" y="2571840"/>
          <a:ext cx="7929720" cy="3597120"/>
        </p:xfrm>
        <a:graphic>
          <a:graphicData uri="http://schemas.openxmlformats.org/drawingml/2006/table">
            <a:tbl>
              <a:tblPr/>
              <a:tblGrid>
                <a:gridCol w="3965760"/>
                <a:gridCol w="396396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ьте из звеньев причинно-следственную цепь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ьте из звеньев причинно-следственную цепь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ладчатые области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вающиеся страны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ировка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ная металлурги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ный климат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ойные деревь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евообрабатывающая промышленность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да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Причинно-следственная  «цепочка»: из имеющихся блоков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857160" y="2571840"/>
          <a:ext cx="7929720" cy="3557520"/>
        </p:xfrm>
        <a:graphic>
          <a:graphicData uri="http://schemas.openxmlformats.org/drawingml/2006/table">
            <a:tbl>
              <a:tblPr/>
              <a:tblGrid>
                <a:gridCol w="3965760"/>
                <a:gridCol w="396396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ьте из звеньев причинно-следственную цепь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ьте из звеньев причинно-следственную цепь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2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опромышленный район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 концентрация городо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плотность насел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нтрация промышленных предприяти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ериканская нац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яние переселенцев из разных частей свет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миграц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ническое смешени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cd"/>
                    </a:solidFill>
                  </a:tcPr>
                </a:tc>
              </a:tr>
            </a:tbl>
          </a:graphicData>
        </a:graphic>
      </p:graphicFrame>
      <p:sp>
        <p:nvSpPr>
          <p:cNvPr id="313" name="TextBox 3"/>
          <p:cNvSpPr/>
          <p:nvPr/>
        </p:nvSpPr>
        <p:spPr>
          <a:xfrm>
            <a:off x="936360" y="60721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снов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Причинно-следственная  «цепочка»: самостоятельная работа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936360" y="60721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снов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857160" y="250020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причинно-следственную цепь с условием, чтобы первым ее звеном было: «воздействие человека на природу», а последним – «дефицит минеральных ресурсов», количество звеньев не ограничив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6"/>
          <p:cNvSpPr/>
          <p:nvPr/>
        </p:nvSpPr>
        <p:spPr>
          <a:xfrm>
            <a:off x="857160" y="378612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умайте, почему в последние годы повышается роль угля в качестве сырья для химической промышленности. Постройте цепь причин и след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7"/>
          <p:cNvSpPr/>
          <p:nvPr/>
        </p:nvSpPr>
        <p:spPr>
          <a:xfrm>
            <a:off x="785880" y="478620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умайте, почему при относительной бедности природными ресурсами страны Западной Европы достигли высочайшего уровня развития промышленности? Постройте цепь причин и след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57880" y="1000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Sylfaen"/>
              </a:rPr>
              <a:t> </a:t>
            </a:r>
            <a:r>
              <a:rPr b="1" lang="ru-RU" sz="3600" spc="-1" strike="noStrike">
                <a:solidFill>
                  <a:srgbClr val="9900cc"/>
                </a:solidFill>
                <a:latin typeface="Sylfaen"/>
              </a:rPr>
              <a:t>Приемы    познавательной  (внутренней) деятельности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02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емы вним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ирования образ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тавления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нятия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ждения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озаключен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57840" y="2358720"/>
            <a:ext cx="39290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ирование мыслитель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циями и действия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емы словесного описания, объяснения, формулировки вопросов или пробле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емы рефлекси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book_"/>
          <p:cNvPicPr/>
          <p:nvPr/>
        </p:nvPicPr>
        <p:blipFill>
          <a:blip r:embed="rId1"/>
          <a:stretch/>
        </p:blipFill>
        <p:spPr>
          <a:xfrm>
            <a:off x="6643800" y="357120"/>
            <a:ext cx="25002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Причинно-следственная  «цепочка»: самостоятельная работа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936360" y="60721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снов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8"/>
          <p:cNvSpPr/>
          <p:nvPr/>
        </p:nvSpPr>
        <p:spPr>
          <a:xfrm>
            <a:off x="1000080" y="2571840"/>
            <a:ext cx="728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причинно-следственную цепь с условием, чтобы первым ее звеном было: «Развитие сельского хозяйства», а последним звеном: – «главная зерновая культура рис». Промежуточные звенья найдите 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причинно-следственную цепь с условием, чтобы первым ее звеном было: «Природные условия зарубежной Азии», а последним звеном – «Контрастность территор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9"/>
          <p:cNvSpPr/>
          <p:nvPr/>
        </p:nvSpPr>
        <p:spPr>
          <a:xfrm>
            <a:off x="1071720" y="485784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причинно-следственную цепь с условием, чтобы первым ее звеном было: «Развивающиеся страны», а последним ее звеном было: «высокий уровень развития Латинской Амери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4480" y="834120"/>
            <a:ext cx="61653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Таблица «Знаю-хочу узнать-узнал»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071720" y="2714760"/>
          <a:ext cx="7821360" cy="3857400"/>
        </p:xfrm>
        <a:graphic>
          <a:graphicData uri="http://schemas.openxmlformats.org/drawingml/2006/table">
            <a:tbl>
              <a:tblPr/>
              <a:tblGrid>
                <a:gridCol w="1714320"/>
                <a:gridCol w="2586240"/>
                <a:gridCol w="3520800"/>
              </a:tblGrid>
              <a:tr h="38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знаем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хотим узна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екты дан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ы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узнали, и что нам осталось узна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есь указываются конкретные аспекты, освещенные на занятии и те вопросы, которые остались не выясненным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9ef"/>
                    </a:solidFill>
                  </a:tcPr>
                </a:tc>
              </a:tr>
            </a:tbl>
          </a:graphicData>
        </a:graphic>
      </p:graphicFrame>
      <p:pic>
        <p:nvPicPr>
          <p:cNvPr id="325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Arial"/>
              </a:rPr>
              <a:t>Использование опорных сигналов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27" name="Прямоугольник 4"/>
          <p:cNvSpPr/>
          <p:nvPr/>
        </p:nvSpPr>
        <p:spPr>
          <a:xfrm>
            <a:off x="928800" y="242892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орный сигнал - ассоциативный символ(схема, знак, стрелка…), заменяющий некое смысловое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5"/>
          <p:cNvSpPr/>
          <p:nvPr/>
        </p:nvSpPr>
        <p:spPr>
          <a:xfrm>
            <a:off x="1857240" y="3929040"/>
            <a:ext cx="5786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Формы опорных сигна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социативное 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орный консп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сканирование0067"/>
          <p:cNvPicPr/>
          <p:nvPr/>
        </p:nvPicPr>
        <p:blipFill>
          <a:blip r:embed="rId1"/>
          <a:stretch/>
        </p:blipFill>
        <p:spPr>
          <a:xfrm>
            <a:off x="1928880" y="2379600"/>
            <a:ext cx="5572080" cy="41101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985680" y="785880"/>
            <a:ext cx="815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порный конспект по тем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«Природный комплекс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76600" y="1519560"/>
            <a:ext cx="7886160" cy="27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              </a:t>
            </a:r>
            <a:br>
              <a:rPr sz="4000"/>
            </a:b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ВОЗДУШНАЯ МАССА –</a:t>
            </a:r>
            <a:br>
              <a:rPr sz="3200"/>
            </a:b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это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714240" y="3000240"/>
            <a:ext cx="363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30099"/>
                </a:solidFill>
                <a:latin typeface="Arial"/>
              </a:rPr>
              <a:t>Большой </a:t>
            </a:r>
            <a:r>
              <a:rPr b="0" lang="en-US" sz="2800" spc="-1" strike="noStrike">
                <a:solidFill>
                  <a:srgbClr val="730099"/>
                </a:solidFill>
                <a:latin typeface="Arial"/>
                <a:ea typeface="Arial"/>
              </a:rPr>
              <a:t>V</a:t>
            </a:r>
            <a:r>
              <a:rPr b="0" lang="ru-RU" sz="2800" spc="-1" strike="noStrike">
                <a:solidFill>
                  <a:srgbClr val="730099"/>
                </a:solidFill>
                <a:latin typeface="Arial"/>
                <a:ea typeface="Arial"/>
              </a:rPr>
              <a:t> возду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30099"/>
                </a:solidFill>
                <a:latin typeface="Arial"/>
                <a:ea typeface="Arial"/>
              </a:rPr>
              <a:t>с одинаков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30099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730099"/>
                </a:solidFill>
                <a:latin typeface="Arial"/>
                <a:ea typeface="Arial"/>
              </a:rPr>
              <a:t>свойствам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6929280" y="2286000"/>
            <a:ext cx="79236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6408720" y="32148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аж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1"/>
          <p:cNvSpPr/>
          <p:nvPr/>
        </p:nvSpPr>
        <p:spPr>
          <a:xfrm flipV="1">
            <a:off x="4357800" y="2785680"/>
            <a:ext cx="2305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2"/>
          <p:cNvSpPr/>
          <p:nvPr/>
        </p:nvSpPr>
        <p:spPr>
          <a:xfrm>
            <a:off x="4643280" y="4000680"/>
            <a:ext cx="242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3"/>
          <p:cNvSpPr/>
          <p:nvPr/>
        </p:nvSpPr>
        <p:spPr>
          <a:xfrm>
            <a:off x="4286160" y="4214880"/>
            <a:ext cx="2428920" cy="85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4"/>
          <p:cNvSpPr/>
          <p:nvPr/>
        </p:nvSpPr>
        <p:spPr>
          <a:xfrm>
            <a:off x="5775480" y="5715000"/>
            <a:ext cx="277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ылен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5"/>
          <p:cNvSpPr/>
          <p:nvPr/>
        </p:nvSpPr>
        <p:spPr>
          <a:xfrm>
            <a:off x="7643880" y="3857760"/>
            <a:ext cx="539640" cy="503280"/>
          </a:xfrm>
          <a:prstGeom prst="cloudCallout">
            <a:avLst>
              <a:gd name="adj1" fmla="val -12648"/>
              <a:gd name="adj2" fmla="val 954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7"/>
          <p:cNvSpPr/>
          <p:nvPr/>
        </p:nvSpPr>
        <p:spPr>
          <a:xfrm>
            <a:off x="3857760" y="3643200"/>
            <a:ext cx="504720" cy="792360"/>
          </a:xfrm>
          <a:custGeom>
            <a:avLst/>
            <a:gdLst>
              <a:gd name="textAreaLeft" fmla="*/ 0 w 504720"/>
              <a:gd name="textAreaRight" fmla="*/ 182160 w 5047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loud"/>
          <p:cNvSpPr/>
          <p:nvPr/>
        </p:nvSpPr>
        <p:spPr>
          <a:xfrm>
            <a:off x="7000920" y="4929120"/>
            <a:ext cx="863640" cy="579600"/>
          </a:xfrm>
          <a:custGeom>
            <a:avLst/>
            <a:gdLst>
              <a:gd name="textAreaLeft" fmla="*/ 118800 w 863640"/>
              <a:gd name="textAreaRight" fmla="*/ 683280 w 863640"/>
              <a:gd name="textAreaTop" fmla="*/ 87480 h 579600"/>
              <a:gd name="textAreaBottom" fmla="*/ 465480 h 5796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Arial"/>
              </a:rPr>
              <a:t>Городская агломерация: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3" name="Oval 3"/>
          <p:cNvSpPr/>
          <p:nvPr/>
        </p:nvSpPr>
        <p:spPr>
          <a:xfrm>
            <a:off x="4140360" y="2997360"/>
            <a:ext cx="1295280" cy="13460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6929280" y="235728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900000" y="4292640"/>
            <a:ext cx="863640" cy="865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7236000" y="48690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7"/>
          <p:cNvSpPr/>
          <p:nvPr/>
        </p:nvSpPr>
        <p:spPr>
          <a:xfrm>
            <a:off x="1857240" y="257184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8"/>
          <p:cNvSpPr/>
          <p:nvPr/>
        </p:nvSpPr>
        <p:spPr>
          <a:xfrm>
            <a:off x="3419640" y="5157720"/>
            <a:ext cx="914400" cy="1008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20"/>
          <p:cNvSpPr/>
          <p:nvPr/>
        </p:nvSpPr>
        <p:spPr>
          <a:xfrm>
            <a:off x="5143680" y="2428920"/>
            <a:ext cx="647640" cy="5763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4"/>
          <p:cNvSpPr/>
          <p:nvPr/>
        </p:nvSpPr>
        <p:spPr>
          <a:xfrm>
            <a:off x="5435640" y="3860640"/>
            <a:ext cx="1873080" cy="115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5"/>
          <p:cNvSpPr/>
          <p:nvPr/>
        </p:nvSpPr>
        <p:spPr>
          <a:xfrm flipV="1">
            <a:off x="5429160" y="278604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6"/>
          <p:cNvSpPr/>
          <p:nvPr/>
        </p:nvSpPr>
        <p:spPr>
          <a:xfrm flipH="1">
            <a:off x="5071680" y="2928960"/>
            <a:ext cx="142920" cy="13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7"/>
          <p:cNvSpPr/>
          <p:nvPr/>
        </p:nvSpPr>
        <p:spPr>
          <a:xfrm>
            <a:off x="2714760" y="3143160"/>
            <a:ext cx="1500120" cy="14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8"/>
          <p:cNvSpPr/>
          <p:nvPr/>
        </p:nvSpPr>
        <p:spPr>
          <a:xfrm flipV="1">
            <a:off x="1763640" y="3715920"/>
            <a:ext cx="244800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0"/>
          <p:cNvSpPr/>
          <p:nvPr/>
        </p:nvSpPr>
        <p:spPr>
          <a:xfrm flipV="1">
            <a:off x="3995640" y="4292280"/>
            <a:ext cx="50508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Arial"/>
              </a:rPr>
              <a:t>Мегалополис: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57" name="Oval 7"/>
          <p:cNvSpPr/>
          <p:nvPr/>
        </p:nvSpPr>
        <p:spPr>
          <a:xfrm>
            <a:off x="1258920" y="2997360"/>
            <a:ext cx="576360" cy="5540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8"/>
          <p:cNvSpPr/>
          <p:nvPr/>
        </p:nvSpPr>
        <p:spPr>
          <a:xfrm>
            <a:off x="1000080" y="2428920"/>
            <a:ext cx="360360" cy="3603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9"/>
          <p:cNvSpPr/>
          <p:nvPr/>
        </p:nvSpPr>
        <p:spPr>
          <a:xfrm>
            <a:off x="2286000" y="5357880"/>
            <a:ext cx="433440" cy="3603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3214800" y="3286080"/>
            <a:ext cx="503280" cy="504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1"/>
          <p:cNvSpPr/>
          <p:nvPr/>
        </p:nvSpPr>
        <p:spPr>
          <a:xfrm>
            <a:off x="1886040" y="2333520"/>
            <a:ext cx="431640" cy="409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2"/>
          <p:cNvSpPr/>
          <p:nvPr/>
        </p:nvSpPr>
        <p:spPr>
          <a:xfrm>
            <a:off x="928800" y="4857840"/>
            <a:ext cx="395280" cy="431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1"/>
          <p:cNvSpPr/>
          <p:nvPr/>
        </p:nvSpPr>
        <p:spPr>
          <a:xfrm>
            <a:off x="6156360" y="3789360"/>
            <a:ext cx="576360" cy="5540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2"/>
          <p:cNvSpPr/>
          <p:nvPr/>
        </p:nvSpPr>
        <p:spPr>
          <a:xfrm>
            <a:off x="7524720" y="2349360"/>
            <a:ext cx="432000" cy="409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3"/>
          <p:cNvSpPr/>
          <p:nvPr/>
        </p:nvSpPr>
        <p:spPr>
          <a:xfrm>
            <a:off x="8172360" y="5445000"/>
            <a:ext cx="432000" cy="409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4"/>
          <p:cNvSpPr/>
          <p:nvPr/>
        </p:nvSpPr>
        <p:spPr>
          <a:xfrm>
            <a:off x="6143760" y="2357280"/>
            <a:ext cx="431640" cy="409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5"/>
          <p:cNvSpPr/>
          <p:nvPr/>
        </p:nvSpPr>
        <p:spPr>
          <a:xfrm>
            <a:off x="6300720" y="5373720"/>
            <a:ext cx="503280" cy="504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6"/>
          <p:cNvSpPr/>
          <p:nvPr/>
        </p:nvSpPr>
        <p:spPr>
          <a:xfrm>
            <a:off x="7956720" y="3789360"/>
            <a:ext cx="502920" cy="503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7"/>
          <p:cNvSpPr/>
          <p:nvPr/>
        </p:nvSpPr>
        <p:spPr>
          <a:xfrm>
            <a:off x="4932360" y="4508640"/>
            <a:ext cx="503280" cy="504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8"/>
          <p:cNvSpPr/>
          <p:nvPr/>
        </p:nvSpPr>
        <p:spPr>
          <a:xfrm>
            <a:off x="3571920" y="4000680"/>
            <a:ext cx="503280" cy="5047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3"/>
          <p:cNvSpPr/>
          <p:nvPr/>
        </p:nvSpPr>
        <p:spPr>
          <a:xfrm>
            <a:off x="6357960" y="2643120"/>
            <a:ext cx="85680" cy="12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64"/>
          <p:cNvSpPr/>
          <p:nvPr/>
        </p:nvSpPr>
        <p:spPr>
          <a:xfrm flipH="1">
            <a:off x="6659640" y="270828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66"/>
          <p:cNvSpPr/>
          <p:nvPr/>
        </p:nvSpPr>
        <p:spPr>
          <a:xfrm>
            <a:off x="6732720" y="4076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67"/>
          <p:cNvSpPr/>
          <p:nvPr/>
        </p:nvSpPr>
        <p:spPr>
          <a:xfrm flipV="1">
            <a:off x="5435640" y="414972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1"/>
          <p:cNvSpPr/>
          <p:nvPr/>
        </p:nvSpPr>
        <p:spPr>
          <a:xfrm>
            <a:off x="6443640" y="4292640"/>
            <a:ext cx="73080" cy="10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2"/>
          <p:cNvSpPr/>
          <p:nvPr/>
        </p:nvSpPr>
        <p:spPr>
          <a:xfrm>
            <a:off x="6732720" y="4221000"/>
            <a:ext cx="158436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3"/>
          <p:cNvSpPr/>
          <p:nvPr/>
        </p:nvSpPr>
        <p:spPr>
          <a:xfrm flipV="1">
            <a:off x="4000680" y="4071960"/>
            <a:ext cx="2143080" cy="28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5"/>
          <p:cNvSpPr/>
          <p:nvPr/>
        </p:nvSpPr>
        <p:spPr>
          <a:xfrm flipH="1" flipV="1">
            <a:off x="1714680" y="3571560"/>
            <a:ext cx="785520" cy="178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6"/>
          <p:cNvSpPr/>
          <p:nvPr/>
        </p:nvSpPr>
        <p:spPr>
          <a:xfrm>
            <a:off x="1835280" y="3357720"/>
            <a:ext cx="1807920" cy="857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7"/>
          <p:cNvSpPr/>
          <p:nvPr/>
        </p:nvSpPr>
        <p:spPr>
          <a:xfrm flipV="1">
            <a:off x="1071720" y="3499920"/>
            <a:ext cx="330120" cy="1428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79"/>
          <p:cNvSpPr/>
          <p:nvPr/>
        </p:nvSpPr>
        <p:spPr>
          <a:xfrm>
            <a:off x="1214280" y="2714760"/>
            <a:ext cx="142920" cy="357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80"/>
          <p:cNvSpPr/>
          <p:nvPr/>
        </p:nvSpPr>
        <p:spPr>
          <a:xfrm>
            <a:off x="1763640" y="3141720"/>
            <a:ext cx="145116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81"/>
          <p:cNvSpPr/>
          <p:nvPr/>
        </p:nvSpPr>
        <p:spPr>
          <a:xfrm flipH="1">
            <a:off x="1619280" y="2643120"/>
            <a:ext cx="309600" cy="425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82"/>
          <p:cNvSpPr/>
          <p:nvPr/>
        </p:nvSpPr>
        <p:spPr>
          <a:xfrm>
            <a:off x="3714840" y="2428920"/>
            <a:ext cx="503280" cy="571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 flipH="1">
            <a:off x="1692360" y="2714760"/>
            <a:ext cx="2022480" cy="35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5"/>
          <p:cNvSpPr/>
          <p:nvPr/>
        </p:nvSpPr>
        <p:spPr>
          <a:xfrm>
            <a:off x="4214880" y="2786040"/>
            <a:ext cx="2085840" cy="107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4"/>
          <p:cNvSpPr/>
          <p:nvPr/>
        </p:nvSpPr>
        <p:spPr>
          <a:xfrm>
            <a:off x="1071720" y="1000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луострова Евразии: найти, назвать, показать, запом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Карта"/>
          <p:cNvPicPr/>
          <p:nvPr/>
        </p:nvPicPr>
        <p:blipFill>
          <a:blip r:embed="rId1"/>
          <a:stretch/>
        </p:blipFill>
        <p:spPr>
          <a:xfrm>
            <a:off x="1143000" y="2428920"/>
            <a:ext cx="6429240" cy="40719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j0431586"/>
          <p:cNvPicPr/>
          <p:nvPr/>
        </p:nvPicPr>
        <p:blipFill>
          <a:blip r:embed="rId2"/>
          <a:stretch/>
        </p:blipFill>
        <p:spPr>
          <a:xfrm>
            <a:off x="887400" y="5072040"/>
            <a:ext cx="18702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j0431586"/>
          <p:cNvPicPr/>
          <p:nvPr/>
        </p:nvPicPr>
        <p:blipFill>
          <a:blip r:embed="rId1"/>
          <a:stretch/>
        </p:blipFill>
        <p:spPr>
          <a:xfrm>
            <a:off x="2428920" y="2428920"/>
            <a:ext cx="4187880" cy="400032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5"/>
          <p:cNvSpPr/>
          <p:nvPr/>
        </p:nvSpPr>
        <p:spPr>
          <a:xfrm>
            <a:off x="2608200" y="28116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3" descr="j0431586"/>
          <p:cNvPicPr/>
          <p:nvPr/>
        </p:nvPicPr>
        <p:blipFill>
          <a:blip r:embed="rId1"/>
          <a:stretch/>
        </p:blipFill>
        <p:spPr>
          <a:xfrm>
            <a:off x="2428920" y="2357280"/>
            <a:ext cx="4303800" cy="411192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4"/>
          <p:cNvSpPr/>
          <p:nvPr/>
        </p:nvSpPr>
        <p:spPr>
          <a:xfrm>
            <a:off x="4859640" y="32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53596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502600" y="4071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59680" y="464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484236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4430880" y="5072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3859560" y="4929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350244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3216600" y="4143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3359880" y="3571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3788280" y="3214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5"/>
          <p:cNvSpPr/>
          <p:nvPr/>
        </p:nvSpPr>
        <p:spPr>
          <a:xfrm>
            <a:off x="1839240" y="1143000"/>
            <a:ext cx="55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ЕНИЕ НА ЧАСАХ –ЭТО ПОЛУОСТ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5002560" y="4929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9900cc"/>
                </a:solidFill>
                <a:latin typeface="Sylfaen"/>
              </a:rPr>
              <a:t>Методы обучения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20" name="Схема 5" descr=""/>
          <p:cNvPicPr/>
          <p:nvPr/>
        </p:nvPicPr>
        <p:blipFill>
          <a:blip r:embed="rId1"/>
          <a:stretch/>
        </p:blipFill>
        <p:spPr>
          <a:xfrm>
            <a:off x="195120" y="2206800"/>
            <a:ext cx="86806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j0431586"/>
          <p:cNvPicPr/>
          <p:nvPr/>
        </p:nvPicPr>
        <p:blipFill>
          <a:blip r:embed="rId1"/>
          <a:stretch/>
        </p:blipFill>
        <p:spPr>
          <a:xfrm>
            <a:off x="2411280" y="1557360"/>
            <a:ext cx="4032360" cy="403236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3"/>
          <p:cNvSpPr/>
          <p:nvPr/>
        </p:nvSpPr>
        <p:spPr>
          <a:xfrm>
            <a:off x="3780000" y="90792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м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ймы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5311080" y="162252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ко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950080" y="24145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мч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6017040" y="399888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5320080" y="4719600"/>
            <a:ext cx="144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окит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3419640" y="5176800"/>
            <a:ext cx="21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о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2124000" y="4745160"/>
            <a:ext cx="24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ав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684360" y="378936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ка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ая 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684360" y="2781360"/>
            <a:ext cx="194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рене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енн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826920" y="220500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ндина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1403280" y="14796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ь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4842360" y="22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5345280" y="265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548784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8"/>
          <p:cNvSpPr/>
          <p:nvPr/>
        </p:nvSpPr>
        <p:spPr>
          <a:xfrm>
            <a:off x="5418360" y="31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9"/>
          <p:cNvSpPr/>
          <p:nvPr/>
        </p:nvSpPr>
        <p:spPr>
          <a:xfrm>
            <a:off x="5274000" y="373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0"/>
          <p:cNvSpPr/>
          <p:nvPr/>
        </p:nvSpPr>
        <p:spPr>
          <a:xfrm>
            <a:off x="4842360" y="40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1"/>
          <p:cNvSpPr/>
          <p:nvPr/>
        </p:nvSpPr>
        <p:spPr>
          <a:xfrm>
            <a:off x="4337280" y="41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2"/>
          <p:cNvSpPr/>
          <p:nvPr/>
        </p:nvSpPr>
        <p:spPr>
          <a:xfrm>
            <a:off x="3761280" y="40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3"/>
          <p:cNvSpPr/>
          <p:nvPr/>
        </p:nvSpPr>
        <p:spPr>
          <a:xfrm>
            <a:off x="3329280" y="373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4"/>
          <p:cNvSpPr/>
          <p:nvPr/>
        </p:nvSpPr>
        <p:spPr>
          <a:xfrm>
            <a:off x="3402360" y="32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5"/>
          <p:cNvSpPr/>
          <p:nvPr/>
        </p:nvSpPr>
        <p:spPr>
          <a:xfrm>
            <a:off x="3402720" y="265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6"/>
          <p:cNvSpPr/>
          <p:nvPr/>
        </p:nvSpPr>
        <p:spPr>
          <a:xfrm>
            <a:off x="3834360" y="2297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j0431586"/>
          <p:cNvPicPr/>
          <p:nvPr/>
        </p:nvPicPr>
        <p:blipFill>
          <a:blip r:embed="rId1"/>
          <a:stretch/>
        </p:blipFill>
        <p:spPr>
          <a:xfrm>
            <a:off x="1908000" y="1197000"/>
            <a:ext cx="4824720" cy="46083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608200" y="28116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1277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5351760" y="128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614412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6432840" y="31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6072480" y="41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9"/>
          <p:cNvSpPr/>
          <p:nvPr/>
        </p:nvSpPr>
        <p:spPr>
          <a:xfrm>
            <a:off x="5424840" y="488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4272480" y="524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"/>
          <p:cNvSpPr/>
          <p:nvPr/>
        </p:nvSpPr>
        <p:spPr>
          <a:xfrm>
            <a:off x="3048480" y="488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2"/>
          <p:cNvSpPr/>
          <p:nvPr/>
        </p:nvSpPr>
        <p:spPr>
          <a:xfrm>
            <a:off x="218484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3"/>
          <p:cNvSpPr/>
          <p:nvPr/>
        </p:nvSpPr>
        <p:spPr>
          <a:xfrm>
            <a:off x="2040120" y="30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4"/>
          <p:cNvSpPr/>
          <p:nvPr/>
        </p:nvSpPr>
        <p:spPr>
          <a:xfrm>
            <a:off x="2400480" y="193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5"/>
          <p:cNvSpPr/>
          <p:nvPr/>
        </p:nvSpPr>
        <p:spPr>
          <a:xfrm>
            <a:off x="2916360" y="112536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1598760" y="2974680"/>
            <a:ext cx="6595920" cy="16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пасибо за внимание!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Вопросы?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445" name="Picture 8" descr="book_"/>
          <p:cNvPicPr/>
          <p:nvPr/>
        </p:nvPicPr>
        <p:blipFill>
          <a:blip r:embed="rId1"/>
          <a:stretch/>
        </p:blipFill>
        <p:spPr>
          <a:xfrm>
            <a:off x="6429240" y="5537160"/>
            <a:ext cx="2357640" cy="1320840"/>
          </a:xfrm>
          <a:prstGeom prst="rect">
            <a:avLst/>
          </a:prstGeom>
          <a:ln w="0">
            <a:noFill/>
          </a:ln>
        </p:spPr>
      </p:pic>
      <p:sp>
        <p:nvSpPr>
          <p:cNvPr id="446" name="TextBox 5">
            <a:hlinkClick r:id="rId2"/>
          </p:cNvPr>
          <p:cNvSpPr/>
          <p:nvPr/>
        </p:nvSpPr>
        <p:spPr>
          <a:xfrm>
            <a:off x="1432080" y="56437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География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0" dur="2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9900cc"/>
                </a:solidFill>
                <a:latin typeface="Sylfaen"/>
              </a:rPr>
              <a:t>ПРИЕМЫ ДЕЯТЕЛЬНОСТИ</a:t>
            </a:r>
            <a:br>
              <a:rPr sz="3200"/>
            </a:br>
            <a:r>
              <a:rPr b="1" i="1" lang="ru-RU" sz="3200" spc="-1" strike="noStrike">
                <a:solidFill>
                  <a:srgbClr val="9900cc"/>
                </a:solidFill>
                <a:latin typeface="Sylfaen"/>
              </a:rPr>
              <a:t>УЧИТЕЛЯ И УЧАЩИХСЯ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85680" y="2863800"/>
            <a:ext cx="754560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Borsyk"/>
          <p:cNvPicPr/>
          <p:nvPr/>
        </p:nvPicPr>
        <p:blipFill>
          <a:blip r:embed="rId1"/>
          <a:stretch/>
        </p:blipFill>
        <p:spPr>
          <a:xfrm>
            <a:off x="4859280" y="2276640"/>
            <a:ext cx="3889440" cy="2349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4" name="Picture 5" descr="begsch_1"/>
          <p:cNvPicPr/>
          <p:nvPr/>
        </p:nvPicPr>
        <p:blipFill>
          <a:blip r:embed="rId2"/>
          <a:stretch/>
        </p:blipFill>
        <p:spPr>
          <a:xfrm>
            <a:off x="468360" y="2276640"/>
            <a:ext cx="5222880" cy="4367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5" name="Picture 6" descr="1-grpoup_300"/>
          <p:cNvPicPr/>
          <p:nvPr/>
        </p:nvPicPr>
        <p:blipFill>
          <a:blip r:embed="rId3"/>
          <a:stretch/>
        </p:blipFill>
        <p:spPr>
          <a:xfrm>
            <a:off x="5715000" y="4581360"/>
            <a:ext cx="3033720" cy="2062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6" name="Picture 7" descr="book_"/>
          <p:cNvPicPr/>
          <p:nvPr/>
        </p:nvPicPr>
        <p:blipFill>
          <a:blip r:embed="rId4"/>
          <a:stretch/>
        </p:blipFill>
        <p:spPr>
          <a:xfrm>
            <a:off x="6856560" y="285840"/>
            <a:ext cx="2287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ПРИЕМЫ, СООТВЕТСТВУЮЩИЕ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ОБЪЯСНИТЕЛЬНО-ИЛЛЮСТРАТИВНОМУ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МЕТОДУ ОБУЧЕНИЯ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онационное выделение учителем важных моментов изло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овторное, более краткое предъявление учащимся готового зн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одробное резюмир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ОБОБЩЕНИЕ) учителем каждого отдельного   законченного    этапа   изло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опровождение выводов учителя привед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конкретных приме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нстрация учащимся натуральных объектов, схем, графиков с целью иллюстрирования отдельных выв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book_"/>
          <p:cNvPicPr/>
          <p:nvPr/>
        </p:nvPicPr>
        <p:blipFill>
          <a:blip r:embed="rId1"/>
          <a:stretch/>
        </p:blipFill>
        <p:spPr>
          <a:xfrm>
            <a:off x="6888240" y="357120"/>
            <a:ext cx="194472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ПРИЕМЫ, СООТВЕТСТВУЮЩИЕ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ОБЪЯСНИТЕЛЬНО-ИЛЛЮСТРАТИВНОМУ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МЕТОДУ ОБУЧЕНИЯ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ъявление учащимся готового плана  работы, рассказа, изложения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едъявление учащимся переформулированных вопросов, текстов заданий, облегчающих понимание их смыс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структаж учащихся ( по составлению таблиц, схем, по работе с текстом учебника и т.п.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намек-подсказка, содержащая готовую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book_"/>
          <p:cNvPicPr/>
          <p:nvPr/>
        </p:nvPicPr>
        <p:blipFill>
          <a:blip r:embed="rId1"/>
          <a:stretch/>
        </p:blipFill>
        <p:spPr>
          <a:xfrm>
            <a:off x="6786720" y="357120"/>
            <a:ext cx="211752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4:48:17Z</dcterms:created>
  <dc:creator>Татьяна</dc:creator>
  <dc:description/>
  <dc:language>en-US</dc:language>
  <cp:lastModifiedBy>Владелец</cp:lastModifiedBy>
  <dcterms:modified xsi:type="dcterms:W3CDTF">2010-06-23T18:02:42Z</dcterms:modified>
  <cp:revision>47</cp:revision>
  <dc:subject/>
  <dc:title>Слайд 1</dc:title>
</cp:coreProperties>
</file>