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5BC-5155-49BD-AD16-0CB982AF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5FD-E64F-49AE-8896-A6136B7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55C-64FE-410E-89FE-8A229A96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B06-4681-4910-8902-F6C73229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EB6-CFC9-4309-81C9-4A9BA3B5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7C5-C005-4168-BA77-DA613D6C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371-5F59-4545-B4D4-8BDD304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E767-B7E8-44B0-B127-2C09D5C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DEF-0A8D-49DD-A4FF-69BFDBBC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271-1382-4BE3-A922-6974D0F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FCC-7D9B-41C2-85A6-B053660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093-B033-4E8C-A26B-AEC0B24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595-33E0-42D2-A0CC-F965E3C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FDD-F7E9-4C53-8CD5-4B27D19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1C9-1E88-4C85-9F0E-91ED4C3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BC2-32D1-4D2B-96CA-AC3914AC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FA9B-FC72-4C84-8DF2-AE77FBE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84F-CAF9-47C9-A38B-2272646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27A-74D9-4C4D-B1CF-DBA61660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470-25A9-4CFF-AAE1-F9C9671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F75-6296-4B10-B599-FAC99C9A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E48-00D9-4F98-B5AB-D2C6BF0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903-04A8-4E75-BF18-EA31199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621-62AB-4B08-B493-A5537B7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5d5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E7DA-2F58-4599-93E5-91096C2940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5d5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634C-513D-4779-B907-1D570E58795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page?&amp;q=949083643&amp;p=11&amp;ag=ih&amp;rpt=simage&amp;qs=stype%3Dimage%26nl%3D0%26text%3D%25CD%25C1%25D4%25C5%25CD%25C1%25D4%25C9%25CB%25C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00120" y="-360"/>
            <a:ext cx="74916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втор:Бтикова Алин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ina_tuma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уководитель:Мулдашева Алия Рахметдуллаевн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ldasheva-aliya @mail.ru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оссия, Астраханская обл., Володарский р-он, с.Тумак,МБОУ «Тумакская СОШ» , ул. Рабочая д.17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(8-514-227-237)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87280" y="476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6020"/>
                </a:solidFill>
                <a:latin typeface="Arial"/>
              </a:rPr>
              <a:t>Математика владеет не только истиной, но и высшей красотой - красотой отточенной и строгой, возвышенно чистой и стремящейся к подлинному совершенству, которое свойственно лишь величайшим образцам искусст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6020"/>
                </a:solidFill>
                <a:latin typeface="Arial"/>
              </a:rPr>
              <a:t>Бертран Рассел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332000" y="429264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6020"/>
                </a:solidFill>
                <a:latin typeface="Arial"/>
              </a:rPr>
              <a:t>Математик, так же как и художник или поэт, создает узоры, и если его узоры более устойчивы, то лишь потому, что они составлены из идей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6" name="Picture 6" descr="art_3_5_clip_image018"/>
          <p:cNvPicPr/>
          <p:nvPr/>
        </p:nvPicPr>
        <p:blipFill>
          <a:blip r:embed="rId1"/>
          <a:stretch/>
        </p:blipFill>
        <p:spPr>
          <a:xfrm>
            <a:off x="1763640" y="2133720"/>
            <a:ext cx="237492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image011"/>
          <p:cNvPicPr/>
          <p:nvPr/>
        </p:nvPicPr>
        <p:blipFill>
          <a:blip r:embed="rId2"/>
          <a:stretch/>
        </p:blipFill>
        <p:spPr>
          <a:xfrm>
            <a:off x="4716360" y="2852640"/>
            <a:ext cx="4213440" cy="3657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4824360" y="65214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Times New Roman"/>
              </a:rPr>
              <a:t>Джакопо де Барбари  Портрет Луки Пачоли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3995640" y="1628640"/>
            <a:ext cx="453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Очень важно найти математические закономерности в прекрасном - «законы красоты». Попытки хотя бы приблизиться к ним предпринимались с древнейших времён: это и математические законы Пифагора в музыке, и геометрическая модель Вселенной Кеплера, это и система пропорций в скульптуре и архитектуре, и геометрические законы живописи. И сегодня энтузиазм исследователей не убывает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619280" y="189000"/>
            <a:ext cx="75247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«Математика есть прообраз красоты мира»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В.Гейзенберг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1644480" cy="4249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1476360" y="59500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Times New Roman"/>
              </a:rPr>
              <a:t>Венера Милосска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403280" y="40464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В отличие от истины красота понятна человеку даже тогда, когда её внутренние закономерности остаются непознанными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003640" y="1989000"/>
            <a:ext cx="37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6020"/>
                </a:solidFill>
                <a:latin typeface="Times New Roman"/>
              </a:rPr>
              <a:t>Каждый ясно видит разницу между правильными и неправильными чертами  человеческого лица, но до сих пор никто не может точно сформулировать закон, которому подчинена форма красивого лица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403280" y="494172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6020"/>
                </a:solidFill>
                <a:latin typeface="Times New Roman"/>
              </a:rPr>
              <a:t>Струи бьющих фонтанов привлекают правильностью и красотою своих линий, хотя не каждый знает, что это параболы, и тем более  не в состоянии написать их уравнения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8" descr="font-ess1"/>
          <p:cNvPicPr/>
          <p:nvPr/>
        </p:nvPicPr>
        <p:blipFill>
          <a:blip r:embed="rId1"/>
          <a:stretch/>
        </p:blipFill>
        <p:spPr>
          <a:xfrm>
            <a:off x="5535720" y="453708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File0098"/>
          <p:cNvPicPr/>
          <p:nvPr/>
        </p:nvPicPr>
        <p:blipFill>
          <a:blip r:embed="rId2"/>
          <a:stretch/>
        </p:blipFill>
        <p:spPr>
          <a:xfrm>
            <a:off x="3203640" y="1773360"/>
            <a:ext cx="180648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artemis"/>
          <p:cNvPicPr/>
          <p:nvPr/>
        </p:nvPicPr>
        <p:blipFill>
          <a:blip r:embed="rId3"/>
          <a:stretch/>
        </p:blipFill>
        <p:spPr>
          <a:xfrm>
            <a:off x="1547640" y="1773360"/>
            <a:ext cx="1636920" cy="2544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3132000" y="443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Мирон   Дискобо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547640" y="44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Артемид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7"/>
          <p:cNvSpPr/>
          <p:nvPr/>
        </p:nvSpPr>
        <p:spPr>
          <a:xfrm>
            <a:off x="2627280" y="260280"/>
            <a:ext cx="65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уществуют ли объективные законы прекрасного?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3238560" y="1628640"/>
            <a:ext cx="590544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33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c4b19"/>
                </a:solidFill>
                <a:latin typeface="Times New Roman"/>
              </a:rPr>
              <a:t>Нельзя отрицать заглавную роль симметрии в природе, которая обязана своим существованием вечному закону природы - закону тяготения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4c4b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c4b19"/>
                </a:solidFill>
                <a:latin typeface="Times New Roman"/>
              </a:rPr>
              <a:t>В изобразительном искусстве используется общая теория перспективы</a:t>
            </a:r>
            <a:r>
              <a:rPr b="0" lang="ru-RU" sz="2200" spc="-1" strike="noStrike">
                <a:solidFill>
                  <a:srgbClr val="4c4b19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4c4b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4c4b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c4b1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c4b19"/>
                </a:solidFill>
                <a:latin typeface="Times New Roman"/>
              </a:rPr>
              <a:t>В основе основ музыки и архитектуры- гамме и пропорции – лежит математика, в частности ряд золотого сечения и модулор Ле Корбюзье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097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8"/>
          <p:cNvSpPr/>
          <p:nvPr/>
        </p:nvSpPr>
        <p:spPr>
          <a:xfrm>
            <a:off x="0" y="3759120"/>
            <a:ext cx="2987640" cy="36828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ернецов   Вид на Волг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Picture 33" descr="TSARSKOYE_SELO-4"/>
          <p:cNvPicPr/>
          <p:nvPr/>
        </p:nvPicPr>
        <p:blipFill>
          <a:blip r:embed="rId2"/>
          <a:stretch/>
        </p:blipFill>
        <p:spPr>
          <a:xfrm>
            <a:off x="0" y="414972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4"/>
          <p:cNvSpPr/>
          <p:nvPr/>
        </p:nvSpPr>
        <p:spPr>
          <a:xfrm>
            <a:off x="0" y="6291360"/>
            <a:ext cx="2987640" cy="58068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e0f"/>
                </a:solidFill>
                <a:latin typeface="Times New Roman"/>
              </a:rPr>
              <a:t>Царское село. Екатерининский дворец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7" name="Picture 21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1844640"/>
            <a:ext cx="2987640" cy="200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547640" y="189000"/>
            <a:ext cx="7596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Times New Roman"/>
              </a:rPr>
              <a:t>Не стоит наводить «математический » порядок в искусстве. Искусство живёт своей жизнью, оно соткано из диалектически противоположных начал – материального и духовного, рационального и иррационального, сконструированного и сотворённого, рассчитанного и  угаданного. В первом случае искусство доступно точному математическому анализу, во второй не подвластно математике, да и не нужно разрушать эту волшебную часть искусства логикой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58920" y="3411360"/>
            <a:ext cx="7885080" cy="344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6804000" y="342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Врубель   Принцесса Грез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692360" y="18900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Искусство –это не только содержание , но и форма. Но не убьёт ли знание законов формообразования искусство, не превратит ли  его в процесс изготовления штампов?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835280" y="1989000"/>
            <a:ext cx="69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c4b19"/>
                </a:solidFill>
                <a:latin typeface="Times New Roman"/>
              </a:rPr>
              <a:t>Истинному искусству это не грозит. Имхотеп и Хесира, Поликлет и Пракситель, Дюрер и Леонардо да Винчи, Моцарт и Бах, Палладио и Ле Корбюзье – все они отдали дань поиску математических законов искусства, однако это не убило в них художников, а скорее наоборот, помогло стать великими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547640" y="5157720"/>
            <a:ext cx="73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Picture 8" descr="300"/>
          <p:cNvPicPr/>
          <p:nvPr/>
        </p:nvPicPr>
        <p:blipFill>
          <a:blip r:embed="rId1"/>
          <a:stretch/>
        </p:blipFill>
        <p:spPr>
          <a:xfrm>
            <a:off x="6659640" y="4805280"/>
            <a:ext cx="2484360" cy="205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254300416"/>
          <p:cNvPicPr/>
          <p:nvPr/>
        </p:nvPicPr>
        <p:blipFill>
          <a:blip r:embed="rId2"/>
          <a:stretch/>
        </p:blipFill>
        <p:spPr>
          <a:xfrm>
            <a:off x="0" y="1052640"/>
            <a:ext cx="1547640" cy="37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ldv_p01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1576440" y="4797360"/>
            <a:ext cx="1468440" cy="2060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332-1"/>
          <p:cNvPicPr/>
          <p:nvPr/>
        </p:nvPicPr>
        <p:blipFill>
          <a:blip r:embed="rId4"/>
          <a:stretch/>
        </p:blipFill>
        <p:spPr>
          <a:xfrm>
            <a:off x="3059280" y="4797360"/>
            <a:ext cx="1803240" cy="2060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bach"/>
          <p:cNvPicPr/>
          <p:nvPr/>
        </p:nvPicPr>
        <p:blipFill>
          <a:blip r:embed="rId5"/>
          <a:stretch/>
        </p:blipFill>
        <p:spPr>
          <a:xfrm>
            <a:off x="4859280" y="4797360"/>
            <a:ext cx="180036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" descr="25-1"/>
          <p:cNvPicPr/>
          <p:nvPr/>
        </p:nvPicPr>
        <p:blipFill>
          <a:blip r:embed="rId6"/>
          <a:stretch/>
        </p:blipFill>
        <p:spPr>
          <a:xfrm>
            <a:off x="0" y="0"/>
            <a:ext cx="154764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avtoportret_m"/>
          <p:cNvPicPr/>
          <p:nvPr/>
        </p:nvPicPr>
        <p:blipFill>
          <a:blip r:embed="rId7"/>
          <a:stretch/>
        </p:blipFill>
        <p:spPr>
          <a:xfrm>
            <a:off x="0" y="4797360"/>
            <a:ext cx="154764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1d09"/>
                </a:solidFill>
                <a:latin typeface="Times New Roman"/>
              </a:rPr>
              <a:t>             </a:t>
            </a:r>
            <a:r>
              <a:rPr b="0" lang="ru-RU" sz="3600" spc="-1" strike="noStrike">
                <a:solidFill>
                  <a:srgbClr val="231d09"/>
                </a:solidFill>
                <a:latin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А.Г. Гейн, А.О. Касымов «Математика и музыка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татья В.В. Липилиной из «Вестника ОмГУ» за 02. 2002г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А. И. Волошинов «Пифагор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Математика и музыка: Методические указания для руководителей кружков НПОУ «Поиск»/Сост. И.А.Круглова; Под ред. В.Н. Сергеева. Омск: Омск. Ун-т, 1991, 90 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адовский Л.Е., Садовский А.Л. Математика и спорт. – М.: Наука. Главная редакция физико-математической литературы, 1985. – 192 с. – (Библиотечка «Квант». Вып. 44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Ресурсы Интернет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d09"/>
                </a:solidFill>
                <a:latin typeface="Times New Roman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Математика и искусство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полнила учениц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9  класса МБО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«Тумакская СОШ»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тикова Алин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2400" y="333360"/>
            <a:ext cx="74912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00120" y="1268280"/>
            <a:ext cx="71755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сследовать связи математики и различных видов искусства, т.к. в </a:t>
            </a:r>
            <a:r>
              <a:rPr b="1" lang="ru-RU" sz="3200" spc="-1" strike="noStrike">
                <a:solidFill>
                  <a:srgbClr val="4c4b19"/>
                </a:solidFill>
                <a:latin typeface="Arial"/>
              </a:rPr>
              <a:t>самой сердцевине науки-математики есть элемент искусства, а всякое искусство  несёт в себе частицу научной мудрости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Например, многие и не знают, что струи фонтана похожи на параболы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зучить методическую ,научно-популярную и тематическую литературу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ыбрать комплекс наиболее интересных и увлекательных примеров связи математики и искусств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476360" y="692280"/>
            <a:ext cx="468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Наука и искусство – два основных начала в человеческой культуре, две дополняющие друг друга формы высшей творческой деятельности человека. В истории человечества были времена, когда эти начала дружно уживались, а были времена , когда они противоборствовали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1" name="Picture 5" descr="SKRIPKA"/>
          <p:cNvPicPr/>
          <p:nvPr/>
        </p:nvPicPr>
        <p:blipFill>
          <a:blip r:embed="rId1"/>
          <a:stretch/>
        </p:blipFill>
        <p:spPr>
          <a:xfrm>
            <a:off x="1763640" y="378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i?id=16182679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62064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88000" y="378936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4b19"/>
                </a:solidFill>
                <a:latin typeface="Times New Roman"/>
              </a:rPr>
              <a:t>Но видимо высшая их цель – быть взаимодополняющими гранями человеческой культуры, потому что даже в самой сердцевине науки есть элемент искусства, а всякое искусство  несёт в себе частицу научной мудрости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3780000" y="765000"/>
            <a:ext cx="4968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В природе существует много такого, что не может быть ни достаточно глубоко понято, ни достаточно убедительно доказано, ни достаточно умело и надёжно использовано на практике без помощи вмешательства математики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Ф.Бэкон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476360" y="3645000"/>
            <a:ext cx="532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Едва ли кто-нибудь из нематематиков в состоянии освоиться с мыслью, что цифры могут представлять собой культурную или эстетическую ценность или иметь какое-нибудь отношение к таким понятиям, как красота, сила, вдохновение. Я решительно протестую против этого костного представления о математике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Н.Вине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6" name="Picture 8" descr="248200029"/>
          <p:cNvPicPr/>
          <p:nvPr/>
        </p:nvPicPr>
        <p:blipFill>
          <a:blip r:embed="rId1"/>
          <a:stretch/>
        </p:blipFill>
        <p:spPr>
          <a:xfrm>
            <a:off x="1547640" y="620640"/>
            <a:ext cx="199584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2296_prev"/>
          <p:cNvPicPr/>
          <p:nvPr/>
        </p:nvPicPr>
        <p:blipFill>
          <a:blip r:embed="rId2"/>
          <a:stretch/>
        </p:blipFill>
        <p:spPr>
          <a:xfrm>
            <a:off x="7093080" y="3789360"/>
            <a:ext cx="181584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8044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Математика, Гармония, Крас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52400" y="1341000"/>
            <a:ext cx="74912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Гармония </a:t>
            </a: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означает «согласованность, соразмерность , единство частей и целого, обуславливающие внутреннюю и внешнюю формы предмета, события, явления, их совершенство». Внешне гармония может проявляться в мелодии, ритме, симметрии, пропорциональност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атематика </a:t>
            </a:r>
            <a:r>
              <a:rPr b="0" lang="ru-RU" sz="2000" spc="-1" strike="noStrike">
                <a:solidFill>
                  <a:srgbClr val="2f2e0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62602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царица всех наук, символ мудрости. Красота математики среди наук недосягаема, а красота является одним из связующих звеньев науки и искусства.  Это не только стройная система законов, теорем и задач, но и уникальное средство познания красот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расота </a:t>
            </a:r>
            <a:r>
              <a:rPr b="1" lang="ru-RU" sz="2000" spc="-1" strike="noStrike">
                <a:solidFill>
                  <a:srgbClr val="626020"/>
                </a:solidFill>
                <a:latin typeface="Times New Roman"/>
              </a:rPr>
              <a:t>многогранна и многолика. Она выражает высшую целесообразность устройства мира, подтверждает универсальность математических закономерностей, которые действуют одинаково эффективно в кристаллах и живых организмах, в атоме и во Вселенной, в произведениях искусства и в научных открытиях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-3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4481640" y="6536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332000" y="54936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6020"/>
                </a:solidFill>
                <a:latin typeface="Times New Roman"/>
              </a:rPr>
              <a:t>Конечно же все законы красоты невозможно вместить в несколько формул. Но, изучая математику мы открываем всё новые и новые слагаемые прекрасного, приближаясь к пониманию, а в дальнейшем и к созданию красоты и гармони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47640" y="3591000"/>
            <a:ext cx="3456000" cy="259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435640" y="3589200"/>
            <a:ext cx="3384360" cy="254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169236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ой Сфинкс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43564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Рим Колизе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Добро, Истина, Крас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332000" y="105264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6020"/>
                </a:solidFill>
                <a:latin typeface="Times New Roman"/>
              </a:rPr>
              <a:t>Древние утверждали триединство этих трёх ликов культуры. Со временем Истина отошла к науке, Красота к искусству, а Добро вообще повисло в воздухе. Но наука не освящённая идеалами Добра ведёт мир к катастрофе. Искусство, потерявшее луч Истины , погружается в мир декаданса. Красота в равной мере должна питать искусство и науку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9" name="Picture 7" descr="PagePic"/>
          <p:cNvPicPr/>
          <p:nvPr/>
        </p:nvPicPr>
        <p:blipFill>
          <a:blip r:embed="rId1"/>
          <a:stretch/>
        </p:blipFill>
        <p:spPr>
          <a:xfrm>
            <a:off x="4178160" y="4437000"/>
            <a:ext cx="2124360" cy="21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2035440" cy="259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1919160" cy="2498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"/>
          <p:cNvSpPr/>
          <p:nvPr/>
        </p:nvSpPr>
        <p:spPr>
          <a:xfrm>
            <a:off x="826920" y="649116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Times New Roman"/>
              </a:rPr>
              <a:t>Саврасов   Грачи прилетели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6119640" y="64911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Times New Roman"/>
              </a:rPr>
              <a:t>Богоматерь Владимирска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9:10:19Z</dcterms:created>
  <dc:creator>14pupil3</dc:creator>
  <dc:description/>
  <dc:language>en-US</dc:language>
  <cp:lastModifiedBy>user</cp:lastModifiedBy>
  <dcterms:modified xsi:type="dcterms:W3CDTF">2012-12-10T06:26:45Z</dcterms:modified>
  <cp:revision>48</cp:revision>
  <dc:subject/>
  <dc:title>Слайд 1</dc:title>
</cp:coreProperties>
</file>