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12D-5884-4768-9C62-30369CE6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DE2-C9CA-43FC-B8B2-3CDC5EB0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3F3-CA6B-4C07-B618-10D6A64F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3B8-1CB9-413A-966F-D3C634BF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EECD-FA4A-4EC7-99BC-D7886D04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2FAB-D6B1-4EAF-8EF7-228EF30B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7DE4-35FA-4AC5-8968-988A45C2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2CF8-7B8B-4061-9601-7194BEDB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4C57-E54A-4701-9BF5-B861BF60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3DA0-4F84-4EF5-8DB3-17EC1275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80F6-BAFC-4186-9F3B-A5CC797F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517-EE4A-4653-A66F-DECF167A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4369-C700-4173-88C4-49C1952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32F0-B903-44FB-9A00-DFB45908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31F4-C288-4407-8FF2-348AAB04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40E5-C83E-4165-8D3B-0EBC645E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E7E8-1868-47DB-AEFF-47DEDABF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EF8-C83D-4136-82C3-BCD41700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E9D-35CD-48CC-981F-373D4F2E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F03-16CD-4D54-9770-C851DEB5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4D3-645D-4631-9AFC-5556AAB0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0A3-BFD2-4DD4-A3E8-DE52203C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FD7-3F00-417F-96A7-12CE2BEC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A37-B33B-45CA-A4B3-0BA713BE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0EDF-3006-414C-B484-6E5022B76B0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75A4-1C80-42C3-951C-4B3F27ED4AA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«Золотой век» русской литературы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648320" y="266688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 чувствую, что мои духовные сил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остигли совершенной зрелости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 могу твори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С. Пушк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1640" y="533412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Классицизм, классическ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классик, классика, классическ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Изменение поэтики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Основные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жанр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вые жанр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вукопись (ассонанс, аллитерация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ветопис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мволические образы (море, буря, стихия и т.д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ман (эпический жанр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эма (лиро-эпический жанр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рама (драматический жанр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русского романтизм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торический оптимиз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имание к прошлому своей стра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ый герой: гражданин-патриот или гуманный человек, наделённый чувством любви и глубокого христианского сострад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ва течения русского романтиз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362320"/>
          <a:ext cx="7693200" cy="3657600"/>
        </p:xfrm>
        <a:graphic>
          <a:graphicData uri="http://schemas.openxmlformats.org/drawingml/2006/table">
            <a:tbl>
              <a:tblPr/>
              <a:tblGrid>
                <a:gridCol w="1600200"/>
                <a:gridCol w="3200400"/>
                <a:gridCol w="2892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d4d"/>
                          </a:solidFill>
                          <a:latin typeface="Arial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d4d"/>
                          </a:solidFill>
                          <a:latin typeface="Arial"/>
                        </a:rPr>
                        <a:t>Психологический романтиз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d4d"/>
                          </a:solidFill>
                          <a:latin typeface="Arial"/>
                        </a:rPr>
                        <a:t>Гражданский романтиз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4d4d"/>
                          </a:solidFill>
                          <a:latin typeface="Arial"/>
                        </a:rPr>
                        <a:t>Что есть зло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ло – в помрачённой  грехом природе современного человек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ло – в окружающих человека обстоятельствах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 победить это зло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обходимо внутреннее перерождение самого человека путём самовоспитания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обходимо бороться с несовершенным устройством современного обществ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новные представител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.А.Жуковский,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.А. Баратынский и др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.Ф. Рылеев, поэты декабристы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редставители русского романтиз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.А.Жуковский (баллад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.Ю.Лермонт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«Мцыри»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Герой нашего времени»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.В.Гоголь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«Вечера на хутор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лиз Диканьки»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жуковский"/>
          <p:cNvPicPr/>
          <p:nvPr/>
        </p:nvPicPr>
        <p:blipFill>
          <a:blip r:embed="rId1"/>
          <a:stretch/>
        </p:blipFill>
        <p:spPr>
          <a:xfrm>
            <a:off x="4572000" y="1905120"/>
            <a:ext cx="144612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lermontov"/>
          <p:cNvPicPr/>
          <p:nvPr/>
        </p:nvPicPr>
        <p:blipFill>
          <a:blip r:embed="rId2"/>
          <a:srcRect l="0" t="0" r="5620" b="7895"/>
          <a:stretch/>
        </p:blipFill>
        <p:spPr>
          <a:xfrm>
            <a:off x="6324480" y="2819520"/>
            <a:ext cx="221004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gogol001"/>
          <p:cNvPicPr/>
          <p:nvPr/>
        </p:nvPicPr>
        <p:blipFill>
          <a:blip r:embed="rId3"/>
          <a:stretch/>
        </p:blipFill>
        <p:spPr>
          <a:xfrm>
            <a:off x="4114800" y="4419720"/>
            <a:ext cx="1612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лассик , классика, классический.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лассик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дающийся, образцовый, общепризнанный деятель науки, искусства, литературы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оронник классицизма в искусств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пециалист по классической филолог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лассически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ный классиком, совершенный , признанный, образцовы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тичный и тем самым образцовый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носящийся к классицизм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лассическая литератур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канонизированная литература; образцовая, наиболее классическа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омантизм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ак литературное направл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РОМАНТИЗМ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чение (направление) в европейской и американской литературе и искусстве конца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VIII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1 половины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VIII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еке романтическим называли всё фантастическое, необычное, странное, встречающееся только в книгах, а не в действи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новные представители литературы европейского романтизма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ж. Байрон, В.Скотт (Англ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.Гюго, (Франц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. Гофман, Я. и В.Гримм (Герма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Основная идея романтизм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менно борьба добра и зла составляет основу развития всего живого, т.е. добро не может существовать без з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мантиков интересуют взаимоотнош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ду людьм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ду человеком и обществ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ду человеком и искусств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енний мир челове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Главная задача писател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аскрыть сложный и внутренне противоречивый мир, в котором живет человек, показать диалектику его душ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Романтический геро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азан в развитии, т.е. изображается диалектика его душ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тивопоставлен обществу (в этом основа романтического индивидуализма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правило, один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 находится в пу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сильная личность, человек, одержимый какой-либо страстью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.г. показывается в нестандартных, экстремальных ситуация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жет быть и положительным, и отрицательн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Черты романтизм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Недостижимость идеального ми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Идея двоемирия: чувства, желания человека и окружающая действительность находятся в глубоком разлад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Самоценность отдельной человеческой личности с её особым внутренним миром, богатство и уникальность человеческой душ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Исключительный герой романтизма помещён в особые, исключительные обстоятельст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6:29:48Z</dcterms:created>
  <dc:creator>Dovydoff</dc:creator>
  <dc:description/>
  <dc:language>en-US</dc:language>
  <cp:lastModifiedBy>Admin</cp:lastModifiedBy>
  <dcterms:modified xsi:type="dcterms:W3CDTF">2012-10-05T14:25:47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