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F42-72FC-45FC-B42C-895EE469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105-9F27-4AAB-AE45-DE66F6C4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306-9528-43C9-BAD1-5FDAEFD3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3B0-314F-462F-8F4D-D2921133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5E31-874C-4134-9320-944E3E0E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9373-2B63-41D3-8FAB-5F39D344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9CED-0DAA-4583-ABA0-211DDBF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64A1-96B0-44B8-99C2-9475BAB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DFC8-B965-49FF-B818-45CA9AD3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046A-3174-4EB3-9E3E-4EF6E227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7EAC-69F5-4FAE-936B-6C252F7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7D1-9CB7-42E3-92A4-45EB895F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1237-526E-49CD-8DE5-C8225851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80F6-8767-44FE-9CA0-88E7F2B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C6E3-68DC-4A3C-AA44-7A7C240D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F7C2-F2E5-4513-B336-0CCC12DC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C921-834B-4776-BEE6-C4B844D0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B8C-B91C-4BE4-92BC-54BE3059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354-FD00-4DEA-BE84-E80657C6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029-5575-449C-9741-3805DE3E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760-3387-4168-8F40-03B10A60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8A3-9CEF-431B-9E63-478D7D0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D15-DCAC-4A02-90E8-BBF24FA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56E-070B-4D06-B064-BB317A3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FFC7-B342-435D-8484-84208DB9265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E0C1-10BE-49DC-9A56-05318BCD086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«Золотой век» русской литературы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648320" y="26668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 чувствую, что мои духовные сил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стигли совершенной зрелости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 могу твори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С. Пушк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1640" y="533412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Классицизм, классическ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классик, классика, классическ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Изменение поэтик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Основные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жанр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вые жанр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вукопись (ассонанс, аллитерац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ветопис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мволические образы (море, буря, стихия и т.д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ман (эпический жанр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эма (лиро-эпический жанр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рама (драматический жанр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русского романтизм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торический оптимиз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имание к прошлому своей стра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ый герой: гражданин-патриот или гуманный человек, наделённый чувством любви и глубокого христианского состр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ва течения русского романтиз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3657600"/>
        </p:xfrm>
        <a:graphic>
          <a:graphicData uri="http://schemas.openxmlformats.org/drawingml/2006/table">
            <a:tbl>
              <a:tblPr/>
              <a:tblGrid>
                <a:gridCol w="1600200"/>
                <a:gridCol w="3200400"/>
                <a:gridCol w="2892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d4d"/>
                          </a:solidFill>
                          <a:latin typeface="Arial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d4d"/>
                          </a:solidFill>
                          <a:latin typeface="Arial"/>
                        </a:rPr>
                        <a:t>Психологический романтиз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d4d"/>
                          </a:solidFill>
                          <a:latin typeface="Arial"/>
                        </a:rPr>
                        <a:t>Гражданский романтиз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4d4d"/>
                          </a:solidFill>
                          <a:latin typeface="Arial"/>
                        </a:rPr>
                        <a:t>Что есть зло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ло – в помрачённой  грехом природе современного челове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ло – в окружающих человека обстоятельствах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к победить это зло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обходимо внутреннее перерождение самого человека путём самовоспитания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обходимо бороться с несовершенным устройством современного обществ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новные представител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.А.Жуковский,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.А. Баратынский и др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.Ф. Рылеев, поэты декабристы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едставители русского романтизм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.А.Жуковский (баллад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.Ю.Лермонт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«Мцыри»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Герой нашего времени»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.В.Гогол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«Вечера на хуто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лиз Диканьки»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жуковский"/>
          <p:cNvPicPr/>
          <p:nvPr/>
        </p:nvPicPr>
        <p:blipFill>
          <a:blip r:embed="rId1"/>
          <a:stretch/>
        </p:blipFill>
        <p:spPr>
          <a:xfrm>
            <a:off x="4572000" y="1905120"/>
            <a:ext cx="144612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lermontov"/>
          <p:cNvPicPr/>
          <p:nvPr/>
        </p:nvPicPr>
        <p:blipFill>
          <a:blip r:embed="rId2"/>
          <a:srcRect l="0" t="0" r="5620" b="7895"/>
          <a:stretch/>
        </p:blipFill>
        <p:spPr>
          <a:xfrm>
            <a:off x="6324480" y="2819520"/>
            <a:ext cx="221004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gogol001"/>
          <p:cNvPicPr/>
          <p:nvPr/>
        </p:nvPicPr>
        <p:blipFill>
          <a:blip r:embed="rId3"/>
          <a:stretch/>
        </p:blipFill>
        <p:spPr>
          <a:xfrm>
            <a:off x="4114800" y="4419720"/>
            <a:ext cx="1612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лассик , классика, классический.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лассик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дающийся, образцовый, общепризнанный деятель науки, искусства, литературы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оронник классицизма в искусств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пециалист по классической филолог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лассически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ный классиком, совершенный , признанный, образцовы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тичный и тем самым образцовы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ящийся к классициз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лассическая литератур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канонизированная литература; образцовая, наиболее классическ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омантизм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к литературное направ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РОМАНТИЗМ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чение (направление) в европейской и американской литературе и искусстве конц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VII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1 половины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VII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еке романтическим называли всё фантастическое, необычное, странное, встречающееся только в книгах, а не в действи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представители литературы европейского романтизма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ж. Байрон, В.Скотт (Англ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.Гюго, (Франц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. Гофман, Я. и В.Гримм (Герма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Основная идея романтизм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менно борьба добра и зла составляет основу развития всего живого, т.е. добро не может существовать без з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мантиков интересуют взаимоотнош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 людьм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 человеком и обществ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 человеком и искусств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енний мир челове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Главная задача писател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аскрыть сложный и внутренне противоречивый мир, в котором живет человек, показать диалектику его душ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Романтический геро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азан в развитии, т.е. изображается диалектика его душ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тивопоставлен обществу (в этом основа романтического индивидуализма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правило, один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 находится в пу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сильная личность, человек, одержимый какой-либо страсть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.г. показывается в нестандартных, экстремальных ситуация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жет быть и положительным, и отрицатель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Черты романтизм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Недостижимость идеального ми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Идея двоемирия: чувства, желания человека и окружающая действительность находятся в глубоком разла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Самоценность отдельной человеческой личности с её особым внутренним миром, богатство и уникальность человеческой душ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Исключительный герой романтизма помещён в особые, исключительные обстоятельст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29:48Z</dcterms:created>
  <dc:creator>Dovydoff</dc:creator>
  <dc:description/>
  <dc:language>en-US</dc:language>
  <cp:lastModifiedBy>Admin</cp:lastModifiedBy>
  <dcterms:modified xsi:type="dcterms:W3CDTF">2012-10-05T14:25:47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