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8EB-589D-40DF-B200-0181AAD9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34F-6998-43E1-99C1-F6213BFE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BA2-0D1A-4535-ADC2-C12C2016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113-1B99-42CF-80C6-245F7AC4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5EF51-609C-4029-AE25-344B8864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29157-3589-49C3-B7C4-6562751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14E9B-03FF-461E-AF4D-B67720E7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860A7-5B77-407E-9616-7DD70D1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1B5A-3313-44B2-88AA-42ADE251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1BC06-7E86-48D8-849F-967903D4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E4DFE-55EA-4974-91FD-5DB74D7D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A6E-30F6-4B28-BD49-F282F00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B284B-CF1E-4BF3-886A-CCB50BE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C10F1-8599-4D42-AC7F-0AF5DB22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D1FAB-A6E3-4927-88F7-C1948CFA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300E8-111A-4D35-9E9D-1D454714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65123-EEE3-4A48-8CA2-258C1479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7714-2E37-4D44-8533-A4547FCE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39F0-54D4-4AF6-8204-D5457B41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3CB4-6F5D-4ABB-AE7D-6F9C6EF5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61DA-E6A8-417B-AB56-0637751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1F6B-23C7-494F-A1F5-25915F05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6A6-5035-423D-A4B6-6C354E72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0A39-C02B-4E2E-A8CD-C22D490B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980D5-C9C6-4C36-8FC0-34F6B38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2BA7A-AE7E-4CFE-9A41-DC9B6B03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A2DE-F025-4194-9ECE-E07587FF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968D-95BC-420A-A2E8-116F6CAB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D3C5-75B8-4B91-A6AB-7B58E856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CFA5-DFE6-4301-92E1-E8A39114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54D-D848-45FA-8B79-84D15016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550-CA3F-4032-BE88-9F23D85D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3AD-B0B1-42CF-85CB-E085072E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369-E31E-4B96-B315-75D3613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AF6-D24C-4E4C-878D-D6B718A3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5CD-90D5-4E4F-A6FB-C3EC0DC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F24A-86D3-4137-B0C3-B55E529754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BA35-EDE8-453F-BB98-00BD545503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4D7C-59B4-4249-868A-168DE2105A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23640" y="1828800"/>
            <a:ext cx="6867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труктуры данных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деревья, сети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графы, таблиц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79280" y="620640"/>
            <a:ext cx="8713800" cy="26161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ные, на которых базируются информационные модели, представляют собой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уктурированные систе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о своим составом и назначением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х называют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уктурами данны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3645000"/>
            <a:ext cx="8713800" cy="2559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cc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 видам описания струк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данных выделяют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Граф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Иерархические структур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Таблиц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50920" y="260280"/>
            <a:ext cx="3097080" cy="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539640" y="404640"/>
            <a:ext cx="3097440" cy="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5435640" y="6380280"/>
            <a:ext cx="3097080" cy="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5724360" y="6524640"/>
            <a:ext cx="3097440" cy="0"/>
          </a:xfrm>
          <a:prstGeom prst="line">
            <a:avLst/>
          </a:prstGeom>
          <a:ln w="63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Georgia"/>
              </a:rPr>
              <a:t>Граф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79280" y="836640"/>
            <a:ext cx="8785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ображают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элементный соста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истемы и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структур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вязей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95280" y="1197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ставные ча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графа - </a:t>
            </a:r>
            <a:r>
              <a:rPr b="1" lang="ru-RU" sz="2200" spc="-1" strike="noStrike">
                <a:solidFill>
                  <a:srgbClr val="003300"/>
                </a:solidFill>
                <a:latin typeface="Arial"/>
              </a:rPr>
              <a:t>вершины и рёб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1"/>
          <p:cNvGrpSpPr/>
          <p:nvPr/>
        </p:nvGrpSpPr>
        <p:grpSpPr>
          <a:xfrm>
            <a:off x="539640" y="1773360"/>
            <a:ext cx="2160720" cy="1366200"/>
            <a:chOff x="539640" y="1773360"/>
            <a:chExt cx="2160720" cy="1366200"/>
          </a:xfrm>
        </p:grpSpPr>
        <p:sp>
          <p:nvSpPr>
            <p:cNvPr id="159" name="Line 15"/>
            <p:cNvSpPr/>
            <p:nvPr/>
          </p:nvSpPr>
          <p:spPr>
            <a:xfrm>
              <a:off x="1908000" y="2205000"/>
              <a:ext cx="0" cy="502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20"/>
            <p:cNvGrpSpPr/>
            <p:nvPr/>
          </p:nvGrpSpPr>
          <p:grpSpPr>
            <a:xfrm>
              <a:off x="539640" y="1773360"/>
              <a:ext cx="2160720" cy="1366200"/>
              <a:chOff x="539640" y="1773360"/>
              <a:chExt cx="2160720" cy="1366200"/>
            </a:xfrm>
          </p:grpSpPr>
          <p:sp>
            <p:nvSpPr>
              <p:cNvPr id="161" name="Oval 7"/>
              <p:cNvSpPr/>
              <p:nvPr/>
            </p:nvSpPr>
            <p:spPr>
              <a:xfrm>
                <a:off x="539640" y="1773360"/>
                <a:ext cx="432000" cy="43164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1692360" y="1773360"/>
                <a:ext cx="431640" cy="43164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2268360" y="2276280"/>
                <a:ext cx="432000" cy="43164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1187280" y="2205000"/>
                <a:ext cx="432000" cy="43128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1"/>
              <p:cNvSpPr/>
              <p:nvPr/>
            </p:nvSpPr>
            <p:spPr>
              <a:xfrm>
                <a:off x="1692360" y="2708280"/>
                <a:ext cx="431640" cy="431280"/>
              </a:xfrm>
              <a:prstGeom prst="ellipse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>
                <a:off x="971640" y="1915920"/>
                <a:ext cx="72072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4"/>
              <p:cNvSpPr/>
              <p:nvPr/>
            </p:nvSpPr>
            <p:spPr>
              <a:xfrm flipH="1">
                <a:off x="1476360" y="2060640"/>
                <a:ext cx="216000" cy="144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6"/>
              <p:cNvSpPr/>
              <p:nvPr/>
            </p:nvSpPr>
            <p:spPr>
              <a:xfrm>
                <a:off x="1547640" y="2565360"/>
                <a:ext cx="216000" cy="215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7"/>
              <p:cNvSpPr/>
              <p:nvPr/>
            </p:nvSpPr>
            <p:spPr>
              <a:xfrm flipV="1">
                <a:off x="2050920" y="2636280"/>
                <a:ext cx="289080" cy="144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19"/>
          <p:cNvSpPr/>
          <p:nvPr/>
        </p:nvSpPr>
        <p:spPr>
          <a:xfrm>
            <a:off x="611280" y="31417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Се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395280" y="3500280"/>
            <a:ext cx="403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ноже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личных путей перемещения по ребрам между некоторыми парами вершин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395280" y="4581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етей характерно наличие замкнутых путей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ик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395280" y="530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риент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ф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мет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50"/>
          <p:cNvGrpSpPr/>
          <p:nvPr/>
        </p:nvGrpSpPr>
        <p:grpSpPr>
          <a:xfrm>
            <a:off x="5199840" y="1700280"/>
            <a:ext cx="3278160" cy="2107800"/>
            <a:chOff x="5199840" y="1700280"/>
            <a:chExt cx="3278160" cy="2107800"/>
          </a:xfrm>
        </p:grpSpPr>
        <p:sp>
          <p:nvSpPr>
            <p:cNvPr id="175" name="Oval 26"/>
            <p:cNvSpPr/>
            <p:nvPr/>
          </p:nvSpPr>
          <p:spPr>
            <a:xfrm>
              <a:off x="6659640" y="191628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5435640" y="2492280"/>
              <a:ext cx="431640" cy="43200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7812000" y="2492280"/>
              <a:ext cx="432000" cy="43200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6659640" y="3141720"/>
              <a:ext cx="431640" cy="43164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>
              <a:off x="5651640" y="2133720"/>
              <a:ext cx="1008000" cy="358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>
              <a:off x="6877080" y="2349360"/>
              <a:ext cx="0" cy="7923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>
              <a:off x="7093080" y="2133720"/>
              <a:ext cx="863640" cy="358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5"/>
            <p:cNvSpPr/>
            <p:nvPr/>
          </p:nvSpPr>
          <p:spPr>
            <a:xfrm>
              <a:off x="5724360" y="2924280"/>
              <a:ext cx="935280" cy="433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6"/>
            <p:cNvSpPr/>
            <p:nvPr/>
          </p:nvSpPr>
          <p:spPr>
            <a:xfrm flipH="1">
              <a:off x="7092720" y="2924280"/>
              <a:ext cx="863640" cy="433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2"/>
            <p:cNvSpPr/>
            <p:nvPr/>
          </p:nvSpPr>
          <p:spPr>
            <a:xfrm flipH="1">
              <a:off x="6732720" y="1700280"/>
              <a:ext cx="287280" cy="21600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3"/>
            <p:cNvSpPr/>
            <p:nvPr/>
          </p:nvSpPr>
          <p:spPr>
            <a:xfrm flipH="1" rot="4941600">
              <a:off x="8208000" y="2601000"/>
              <a:ext cx="287280" cy="21564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4"/>
            <p:cNvSpPr/>
            <p:nvPr/>
          </p:nvSpPr>
          <p:spPr>
            <a:xfrm flipH="1" rot="16707000">
              <a:off x="5183640" y="2527560"/>
              <a:ext cx="287280" cy="21600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5"/>
            <p:cNvSpPr/>
            <p:nvPr/>
          </p:nvSpPr>
          <p:spPr>
            <a:xfrm flipH="1" rot="10328400">
              <a:off x="6732360" y="3573360"/>
              <a:ext cx="287280" cy="21600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46"/>
          <p:cNvSpPr/>
          <p:nvPr/>
        </p:nvSpPr>
        <p:spPr>
          <a:xfrm>
            <a:off x="4859280" y="4005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иент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ф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иммет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7"/>
          <p:cNvSpPr/>
          <p:nvPr/>
        </p:nvSpPr>
        <p:spPr>
          <a:xfrm>
            <a:off x="4859280" y="4869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ёбра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8"/>
          <p:cNvSpPr/>
          <p:nvPr/>
        </p:nvSpPr>
        <p:spPr>
          <a:xfrm>
            <a:off x="579600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9"/>
          <p:cNvSpPr/>
          <p:nvPr/>
        </p:nvSpPr>
        <p:spPr>
          <a:xfrm>
            <a:off x="4859280" y="5445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т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линия, выходящая и входящая в одну и ту же вершин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5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Иерархические структуры – </a:t>
            </a: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деревь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50920" y="836640"/>
            <a:ext cx="8569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ное свой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между любыми двумя вершинами существуе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единственн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уть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ревья не содержат циклов и петель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0"/>
          <p:cNvGrpSpPr/>
          <p:nvPr/>
        </p:nvGrpSpPr>
        <p:grpSpPr>
          <a:xfrm>
            <a:off x="468360" y="2349360"/>
            <a:ext cx="3959280" cy="3744360"/>
            <a:chOff x="468360" y="2349360"/>
            <a:chExt cx="3959280" cy="3744360"/>
          </a:xfrm>
        </p:grpSpPr>
        <p:sp>
          <p:nvSpPr>
            <p:cNvPr id="195" name="Oval 5"/>
            <p:cNvSpPr/>
            <p:nvPr/>
          </p:nvSpPr>
          <p:spPr>
            <a:xfrm>
              <a:off x="1981440" y="2349360"/>
              <a:ext cx="93492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чител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468360" y="3308040"/>
              <a:ext cx="935280" cy="76860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.кл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76360" y="3308040"/>
              <a:ext cx="935280" cy="76860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ст-ма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2484720" y="3308040"/>
              <a:ext cx="934920" cy="76860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уман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492720" y="3308040"/>
              <a:ext cx="934920" cy="76860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«СТЭП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/>
            <p:cNvSpPr/>
            <p:nvPr/>
          </p:nvSpPr>
          <p:spPr>
            <a:xfrm>
              <a:off x="1044720" y="4364640"/>
              <a:ext cx="93492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лол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2052720" y="4364640"/>
              <a:ext cx="93528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стор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/>
            <p:cNvSpPr/>
            <p:nvPr/>
          </p:nvSpPr>
          <p:spPr>
            <a:xfrm>
              <a:off x="3060720" y="4364640"/>
              <a:ext cx="93528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.яз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"/>
            <p:cNvSpPr/>
            <p:nvPr/>
          </p:nvSpPr>
          <p:spPr>
            <a:xfrm>
              <a:off x="973440" y="5325840"/>
              <a:ext cx="150948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зьмин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8"/>
            <p:cNvSpPr/>
            <p:nvPr/>
          </p:nvSpPr>
          <p:spPr>
            <a:xfrm>
              <a:off x="2629080" y="5325840"/>
              <a:ext cx="1509840" cy="767880"/>
            </a:xfrm>
            <a:prstGeom prst="ellipse">
              <a:avLst/>
            </a:prstGeom>
            <a:gradFill rotWithShape="0">
              <a:gsLst>
                <a:gs pos="0">
                  <a:srgbClr val="f4fb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орелов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 flipH="1">
              <a:off x="900000" y="2732400"/>
              <a:ext cx="1081080" cy="575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 flipH="1">
              <a:off x="1908360" y="3020400"/>
              <a:ext cx="216000" cy="2872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773440" y="3020400"/>
              <a:ext cx="142920" cy="2872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2916360" y="2732400"/>
              <a:ext cx="1008000" cy="575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5"/>
            <p:cNvSpPr/>
            <p:nvPr/>
          </p:nvSpPr>
          <p:spPr>
            <a:xfrm flipH="1">
              <a:off x="1620720" y="3884040"/>
              <a:ext cx="936360" cy="480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6"/>
            <p:cNvSpPr/>
            <p:nvPr/>
          </p:nvSpPr>
          <p:spPr>
            <a:xfrm flipH="1">
              <a:off x="2557080" y="4076640"/>
              <a:ext cx="287640" cy="288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9"/>
            <p:cNvSpPr/>
            <p:nvPr/>
          </p:nvSpPr>
          <p:spPr>
            <a:xfrm>
              <a:off x="3060720" y="4076640"/>
              <a:ext cx="576360" cy="288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2"/>
            <p:cNvSpPr/>
            <p:nvPr/>
          </p:nvSpPr>
          <p:spPr>
            <a:xfrm flipH="1">
              <a:off x="1692360" y="5037840"/>
              <a:ext cx="504720" cy="288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>
              <a:off x="2773440" y="5037840"/>
              <a:ext cx="358920" cy="288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34"/>
          <p:cNvSpPr/>
          <p:nvPr/>
        </p:nvSpPr>
        <p:spPr>
          <a:xfrm>
            <a:off x="5796000" y="2349360"/>
            <a:ext cx="237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орень дерева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012000" y="2852640"/>
            <a:ext cx="19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етв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6"/>
          <p:cNvSpPr/>
          <p:nvPr/>
        </p:nvSpPr>
        <p:spPr>
          <a:xfrm>
            <a:off x="5364000" y="3933720"/>
            <a:ext cx="3383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Исходные вершины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5003640" y="4365720"/>
            <a:ext cx="403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Порождённые вершины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6012000" y="5516640"/>
            <a:ext cx="19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Листья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5867280" y="5950080"/>
            <a:ext cx="2305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ддерево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042920" y="98100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Стро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492360" y="981000"/>
            <a:ext cx="20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Столбц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516720" y="98100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Ячей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24000" y="1916280"/>
            <a:ext cx="4968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авило оформления таблицы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Arial"/>
              </a:rPr>
              <a:t>Таблица 1.4.</a:t>
            </a: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 Каникул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31"/>
          <p:cNvGrpSpPr/>
          <p:nvPr/>
        </p:nvGrpSpPr>
        <p:grpSpPr>
          <a:xfrm>
            <a:off x="468360" y="2997360"/>
            <a:ext cx="3095640" cy="792000"/>
            <a:chOff x="468360" y="2997360"/>
            <a:chExt cx="3095640" cy="792000"/>
          </a:xfrm>
        </p:grpSpPr>
        <p:sp>
          <p:nvSpPr>
            <p:cNvPr id="226" name="Rectangle 21"/>
            <p:cNvSpPr/>
            <p:nvPr/>
          </p:nvSpPr>
          <p:spPr>
            <a:xfrm>
              <a:off x="468360" y="2997360"/>
              <a:ext cx="3095640" cy="792000"/>
            </a:xfrm>
            <a:prstGeom prst="rect">
              <a:avLst/>
            </a:prstGeom>
            <a:noFill/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>
              <a:off x="468360" y="3429000"/>
              <a:ext cx="309564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3"/>
            <p:cNvSpPr/>
            <p:nvPr/>
          </p:nvSpPr>
          <p:spPr>
            <a:xfrm>
              <a:off x="1692360" y="2997360"/>
              <a:ext cx="0" cy="792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1044720" y="2997360"/>
              <a:ext cx="0" cy="792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5"/>
            <p:cNvSpPr/>
            <p:nvPr/>
          </p:nvSpPr>
          <p:spPr>
            <a:xfrm>
              <a:off x="2340000" y="2997360"/>
              <a:ext cx="0" cy="792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2916360" y="2997360"/>
              <a:ext cx="0" cy="79200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27"/>
          <p:cNvSpPr/>
          <p:nvPr/>
        </p:nvSpPr>
        <p:spPr>
          <a:xfrm>
            <a:off x="324000" y="4365720"/>
            <a:ext cx="40320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ы тип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«объект – свойство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ая строка относится к конкретному объек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4643280" y="2781360"/>
            <a:ext cx="41767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ы тип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«объект – объект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аются взаимосвязи между различными объект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73272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4788000" y="5157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ичная матр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отображает качественную связь между объектами: есть связь или нет связ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34"/>
          <p:cNvCxnSpPr/>
          <p:nvPr/>
        </p:nvCxnSpPr>
        <p:spPr>
          <a:xfrm flipV="1" rot="10800000">
            <a:off x="1475640" y="3932640"/>
            <a:ext cx="1151640" cy="35964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35"/>
          <p:cNvCxnSpPr/>
          <p:nvPr/>
        </p:nvCxnSpPr>
        <p:spPr>
          <a:xfrm flipV="1">
            <a:off x="3708000" y="3141360"/>
            <a:ext cx="793080" cy="575280"/>
          </a:xfrm>
          <a:prstGeom prst="bentConnector3">
            <a:avLst>
              <a:gd name="adj1" fmla="val 4986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32:18Z</dcterms:created>
  <dc:creator>ГОТ</dc:creator>
  <dc:description/>
  <dc:language>en-US</dc:language>
  <cp:lastModifiedBy>евгений</cp:lastModifiedBy>
  <dcterms:modified xsi:type="dcterms:W3CDTF">2012-09-17T18:01:15Z</dcterms:modified>
  <cp:revision>12</cp:revision>
  <dc:subject/>
  <dc:title>Структуры данных:</dc:title>
</cp:coreProperties>
</file>