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A23-A930-4459-9B8D-A677FF45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9A5-A36A-41FE-88C0-E15746A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819-8060-4FD0-A53F-96E529E8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568-D1A4-41A0-B6CD-8EC400FB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F8863-61E1-438B-B536-924DE180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0C2F-614D-4F00-9481-6BD9ED5B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BD7D-CEFF-47E2-815E-A9D86FA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DCDF-7CF5-4D3D-B793-DA09C29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B59B8-407A-4B6D-B5D9-A827B390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ACB7-B235-4217-B0EC-D250325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85F5F-7872-4806-818E-FC3AD6A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A1-3A6F-48A2-B763-F23003DB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95341-A712-481D-BDBC-3A91562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FD3B-F04B-4195-AC73-3A18D34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4E2C-8CDE-4628-950C-901F652C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94DA4-8DBB-4A99-82A5-AB71FCC8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3EEB-5439-4384-A43C-146A00FA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DA5A-38FD-4C49-B089-4BF869D2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A604-2B8E-4FA7-B1A8-79DF360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501A-EDC6-42B7-88ED-554647F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6290-9FC6-4101-BA28-62740456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C90B-F94B-424B-B890-F6633D57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A67-84F4-4F24-B6C4-101A718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17C2-FCE0-466E-B37F-2A1CF200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C127-B32E-4262-9FAE-F2F819F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C6F3-534F-4382-8BF7-B377BA1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3338-9CC7-4E1E-AB6D-F7F5863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F672-10A6-43BE-8B14-9D350B8A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8817-F650-415E-B420-2B110305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2B89-DC35-47AB-AE9F-E2EF90FC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DD9-55B4-4B7A-BE10-4ECA55D2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A1B-0A52-4C69-A5FD-4C59FF1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B8C-350A-409F-AB32-1D773474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80D-F4F9-433A-A401-2809810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AAC-6B2F-44EA-8FD8-5FF9CAC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317-04F1-4BC4-96EE-87BCD6F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CAB-2090-483D-AE61-6F654D24B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97F0-6090-416B-9843-2550511F21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54A-D9D4-4CE7-9BE9-7AA5744AC0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23640" y="1828800"/>
            <a:ext cx="6867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труктуры данных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деревья, сети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графы, таблиц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620640"/>
            <a:ext cx="8713800" cy="26161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ные, на которых базируются информационные модели, представляют собо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ированные сист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 своим составом и назначением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называют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ами данны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3645000"/>
            <a:ext cx="8713800" cy="255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видам описания струк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данных выделяют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Граф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Иерархические структур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Таблиц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50920" y="260280"/>
            <a:ext cx="309708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539640" y="404640"/>
            <a:ext cx="309744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5435640" y="6380280"/>
            <a:ext cx="309708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5724360" y="6524640"/>
            <a:ext cx="309744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Georgia"/>
              </a:rPr>
              <a:t>Граф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836640"/>
            <a:ext cx="878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ображают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элементный соста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истемы и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вязей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95280" y="1197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ставные ча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рафа - </a:t>
            </a:r>
            <a:r>
              <a:rPr b="1" lang="ru-RU" sz="2200" spc="-1" strike="noStrike">
                <a:solidFill>
                  <a:srgbClr val="003300"/>
                </a:solidFill>
                <a:latin typeface="Arial"/>
              </a:rPr>
              <a:t>вершины и рёб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1"/>
          <p:cNvGrpSpPr/>
          <p:nvPr/>
        </p:nvGrpSpPr>
        <p:grpSpPr>
          <a:xfrm>
            <a:off x="539640" y="1773360"/>
            <a:ext cx="2160720" cy="1366200"/>
            <a:chOff x="539640" y="1773360"/>
            <a:chExt cx="2160720" cy="1366200"/>
          </a:xfrm>
        </p:grpSpPr>
        <p:sp>
          <p:nvSpPr>
            <p:cNvPr id="159" name="Line 15"/>
            <p:cNvSpPr/>
            <p:nvPr/>
          </p:nvSpPr>
          <p:spPr>
            <a:xfrm>
              <a:off x="1908000" y="2205000"/>
              <a:ext cx="0" cy="502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0"/>
            <p:cNvGrpSpPr/>
            <p:nvPr/>
          </p:nvGrpSpPr>
          <p:grpSpPr>
            <a:xfrm>
              <a:off x="539640" y="1773360"/>
              <a:ext cx="2160720" cy="1366200"/>
              <a:chOff x="539640" y="1773360"/>
              <a:chExt cx="2160720" cy="1366200"/>
            </a:xfrm>
          </p:grpSpPr>
          <p:sp>
            <p:nvSpPr>
              <p:cNvPr id="161" name="Oval 7"/>
              <p:cNvSpPr/>
              <p:nvPr/>
            </p:nvSpPr>
            <p:spPr>
              <a:xfrm>
                <a:off x="539640" y="1773360"/>
                <a:ext cx="43200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1692360" y="177336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2268360" y="2276280"/>
                <a:ext cx="43200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1187280" y="2205000"/>
                <a:ext cx="432000" cy="4312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1"/>
              <p:cNvSpPr/>
              <p:nvPr/>
            </p:nvSpPr>
            <p:spPr>
              <a:xfrm>
                <a:off x="1692360" y="2708280"/>
                <a:ext cx="431640" cy="4312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>
                <a:off x="971640" y="1915920"/>
                <a:ext cx="7207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4"/>
              <p:cNvSpPr/>
              <p:nvPr/>
            </p:nvSpPr>
            <p:spPr>
              <a:xfrm flipH="1">
                <a:off x="1476360" y="2060640"/>
                <a:ext cx="216000" cy="144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6"/>
              <p:cNvSpPr/>
              <p:nvPr/>
            </p:nvSpPr>
            <p:spPr>
              <a:xfrm>
                <a:off x="1547640" y="2565360"/>
                <a:ext cx="216000" cy="215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V="1">
                <a:off x="2050920" y="2636280"/>
                <a:ext cx="289080" cy="144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19"/>
          <p:cNvSpPr/>
          <p:nvPr/>
        </p:nvSpPr>
        <p:spPr>
          <a:xfrm>
            <a:off x="611280" y="3141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е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395280" y="3500280"/>
            <a:ext cx="403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ичных путей перемещения по ребрам между некоторыми парами верши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95280" y="4581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етей характерно наличие замкнутых путей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к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395280" y="530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риент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ф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мет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0"/>
          <p:cNvGrpSpPr/>
          <p:nvPr/>
        </p:nvGrpSpPr>
        <p:grpSpPr>
          <a:xfrm>
            <a:off x="5199840" y="1700280"/>
            <a:ext cx="3278160" cy="2107800"/>
            <a:chOff x="5199840" y="1700280"/>
            <a:chExt cx="3278160" cy="2107800"/>
          </a:xfrm>
        </p:grpSpPr>
        <p:sp>
          <p:nvSpPr>
            <p:cNvPr id="175" name="Oval 26"/>
            <p:cNvSpPr/>
            <p:nvPr/>
          </p:nvSpPr>
          <p:spPr>
            <a:xfrm>
              <a:off x="6659640" y="19162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5435640" y="2492280"/>
              <a:ext cx="431640" cy="43200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7812000" y="2492280"/>
              <a:ext cx="432000" cy="43200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6659640" y="314172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>
              <a:off x="5651640" y="2133720"/>
              <a:ext cx="1008000" cy="358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>
              <a:off x="6877080" y="2349360"/>
              <a:ext cx="0" cy="7923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7093080" y="2133720"/>
              <a:ext cx="863640" cy="358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>
              <a:off x="5724360" y="2924280"/>
              <a:ext cx="935280" cy="433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 flipH="1">
              <a:off x="7092720" y="2924280"/>
              <a:ext cx="863640" cy="433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2"/>
            <p:cNvSpPr/>
            <p:nvPr/>
          </p:nvSpPr>
          <p:spPr>
            <a:xfrm flipH="1">
              <a:off x="6732720" y="170028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3"/>
            <p:cNvSpPr/>
            <p:nvPr/>
          </p:nvSpPr>
          <p:spPr>
            <a:xfrm flipH="1" rot="4941600">
              <a:off x="8208000" y="2601000"/>
              <a:ext cx="287280" cy="21564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4"/>
            <p:cNvSpPr/>
            <p:nvPr/>
          </p:nvSpPr>
          <p:spPr>
            <a:xfrm flipH="1" rot="16707000">
              <a:off x="5183640" y="252756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5"/>
            <p:cNvSpPr/>
            <p:nvPr/>
          </p:nvSpPr>
          <p:spPr>
            <a:xfrm flipH="1" rot="10328400">
              <a:off x="6732360" y="357336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6"/>
          <p:cNvSpPr/>
          <p:nvPr/>
        </p:nvSpPr>
        <p:spPr>
          <a:xfrm>
            <a:off x="4859280" y="4005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иент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ф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иммет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7"/>
          <p:cNvSpPr/>
          <p:nvPr/>
        </p:nvSpPr>
        <p:spPr>
          <a:xfrm>
            <a:off x="4859280" y="4869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ёбра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5796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9"/>
          <p:cNvSpPr/>
          <p:nvPr/>
        </p:nvSpPr>
        <p:spPr>
          <a:xfrm>
            <a:off x="4859280" y="5445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иния, выходящая и входящая в одну и ту же вершин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5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Иерархические структуры – </a:t>
            </a: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деревь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0920" y="836640"/>
            <a:ext cx="8569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ое свой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ежду любыми двумя вершинами существуе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единствен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ть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ревья не содержат циклов и петел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0"/>
          <p:cNvGrpSpPr/>
          <p:nvPr/>
        </p:nvGrpSpPr>
        <p:grpSpPr>
          <a:xfrm>
            <a:off x="468360" y="2349360"/>
            <a:ext cx="3959280" cy="3744360"/>
            <a:chOff x="468360" y="2349360"/>
            <a:chExt cx="3959280" cy="3744360"/>
          </a:xfrm>
        </p:grpSpPr>
        <p:sp>
          <p:nvSpPr>
            <p:cNvPr id="195" name="Oval 5"/>
            <p:cNvSpPr/>
            <p:nvPr/>
          </p:nvSpPr>
          <p:spPr>
            <a:xfrm>
              <a:off x="1981440" y="2349360"/>
              <a:ext cx="93492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468360" y="3308040"/>
              <a:ext cx="93528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.кл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76360" y="3308040"/>
              <a:ext cx="93528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ст-ма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2484720" y="3308040"/>
              <a:ext cx="93492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уман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492720" y="3308040"/>
              <a:ext cx="93492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«СТЭП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/>
            <p:cNvSpPr/>
            <p:nvPr/>
          </p:nvSpPr>
          <p:spPr>
            <a:xfrm>
              <a:off x="1044720" y="4364640"/>
              <a:ext cx="93492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лол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2052720" y="4364640"/>
              <a:ext cx="9352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стор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3060720" y="4364640"/>
              <a:ext cx="9352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.яз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973440" y="5325840"/>
              <a:ext cx="15094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зьми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2629080" y="5325840"/>
              <a:ext cx="150984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орелов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 flipH="1">
              <a:off x="900000" y="2732400"/>
              <a:ext cx="1081080" cy="575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 flipH="1">
              <a:off x="1908360" y="3020400"/>
              <a:ext cx="216000" cy="287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773440" y="3020400"/>
              <a:ext cx="142920" cy="287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2916360" y="2732400"/>
              <a:ext cx="1008000" cy="575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5"/>
            <p:cNvSpPr/>
            <p:nvPr/>
          </p:nvSpPr>
          <p:spPr>
            <a:xfrm flipH="1">
              <a:off x="1620720" y="3884040"/>
              <a:ext cx="936360" cy="480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6"/>
            <p:cNvSpPr/>
            <p:nvPr/>
          </p:nvSpPr>
          <p:spPr>
            <a:xfrm flipH="1">
              <a:off x="2557080" y="4076640"/>
              <a:ext cx="28764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9"/>
            <p:cNvSpPr/>
            <p:nvPr/>
          </p:nvSpPr>
          <p:spPr>
            <a:xfrm>
              <a:off x="3060720" y="4076640"/>
              <a:ext cx="57636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2"/>
            <p:cNvSpPr/>
            <p:nvPr/>
          </p:nvSpPr>
          <p:spPr>
            <a:xfrm flipH="1">
              <a:off x="1692360" y="5037840"/>
              <a:ext cx="50472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2773440" y="5037840"/>
              <a:ext cx="35892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34"/>
          <p:cNvSpPr/>
          <p:nvPr/>
        </p:nvSpPr>
        <p:spPr>
          <a:xfrm>
            <a:off x="5796000" y="2349360"/>
            <a:ext cx="237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рень дерев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012000" y="2852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етв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5364000" y="3933720"/>
            <a:ext cx="338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Исходные вершины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5003640" y="4365720"/>
            <a:ext cx="40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Порождённые вершины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012000" y="5516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5867280" y="5950080"/>
            <a:ext cx="23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ддерево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042920" y="981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Стро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492360" y="981000"/>
            <a:ext cx="20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Столбц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516720" y="98100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Ячей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24000" y="1916280"/>
            <a:ext cx="496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оформления таблицы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Arial"/>
              </a:rPr>
              <a:t>Таблица 1.4.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 Канику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31"/>
          <p:cNvGrpSpPr/>
          <p:nvPr/>
        </p:nvGrpSpPr>
        <p:grpSpPr>
          <a:xfrm>
            <a:off x="468360" y="2997360"/>
            <a:ext cx="3095640" cy="792000"/>
            <a:chOff x="468360" y="2997360"/>
            <a:chExt cx="3095640" cy="792000"/>
          </a:xfrm>
        </p:grpSpPr>
        <p:sp>
          <p:nvSpPr>
            <p:cNvPr id="226" name="Rectangle 21"/>
            <p:cNvSpPr/>
            <p:nvPr/>
          </p:nvSpPr>
          <p:spPr>
            <a:xfrm>
              <a:off x="468360" y="2997360"/>
              <a:ext cx="3095640" cy="792000"/>
            </a:xfrm>
            <a:prstGeom prst="rect">
              <a:avLst/>
            </a:prstGeom>
            <a:noFill/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468360" y="3429000"/>
              <a:ext cx="309564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169236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104472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234000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91636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7"/>
          <p:cNvSpPr/>
          <p:nvPr/>
        </p:nvSpPr>
        <p:spPr>
          <a:xfrm>
            <a:off x="324000" y="4365720"/>
            <a:ext cx="40320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 тип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«объект – свойство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ая строка относится к конкретному объек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4643280" y="2781360"/>
            <a:ext cx="41767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 тип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«объект – объект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ются взаимосвязи между различными объект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73272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4788000" y="5157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ичная матр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отображает качественную связь между объектами: есть связь или нет связ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34"/>
          <p:cNvCxnSpPr/>
          <p:nvPr/>
        </p:nvCxnSpPr>
        <p:spPr>
          <a:xfrm flipV="1" rot="10800000">
            <a:off x="1475640" y="3932640"/>
            <a:ext cx="1151640" cy="35964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35"/>
          <p:cNvCxnSpPr/>
          <p:nvPr/>
        </p:nvCxnSpPr>
        <p:spPr>
          <a:xfrm flipV="1">
            <a:off x="3708000" y="3141360"/>
            <a:ext cx="793080" cy="575280"/>
          </a:xfrm>
          <a:prstGeom prst="bentConnector3">
            <a:avLst>
              <a:gd name="adj1" fmla="val 4986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32:18Z</dcterms:created>
  <dc:creator>ГОТ</dc:creator>
  <dc:description/>
  <dc:language>en-US</dc:language>
  <cp:lastModifiedBy>евгений</cp:lastModifiedBy>
  <dcterms:modified xsi:type="dcterms:W3CDTF">2012-09-17T18:01:15Z</dcterms:modified>
  <cp:revision>12</cp:revision>
  <dc:subject/>
  <dc:title>Структуры данных:</dc:title>
</cp:coreProperties>
</file>