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45B8-EE3A-4479-9326-56C7D3B4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C0E4-672F-4ADB-9213-595F0A9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A1EA-45F3-4AA8-B98C-358D5AB2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2D56-FA13-4B4D-94EE-3C9F82E6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CA11-B618-4DFF-B92E-1AF056E1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8E88-F57D-4B5F-8DF4-5F0C71DD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8DCC-AB8F-4FB0-AD15-0953D999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0D84-EECE-4520-8B41-C056D120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AC12-68E5-48E8-9245-F969B6DD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AE2B-6E47-4198-B360-755B402E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7BA7-1CA3-4E80-9E8C-17EA5070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817C-1103-43C7-9326-4FABAFD9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2D2A-CB6E-40E0-8102-9A859B81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0BEA-9CC9-4644-867D-2B35B713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B71E-FE86-4053-9ECE-E40944A2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07F8-B633-4E7D-8CC5-9B49D345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15F5-66B1-4821-85DD-B7145C67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CD58-1CB7-4823-A5DE-C5F1B651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11CB-D571-4FA5-BFD9-370B3029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D229-280F-4D78-9604-EF8F17F7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C51F-B4EC-4468-A97E-798DA824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276B-50B1-46B1-959B-05D7F07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B2A3-15FF-4FE7-A77B-8DE93DA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C5DF-CC0D-4378-AC4B-C188B52D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CFBA-CD06-464C-B8EC-C6A25CD4A6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323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232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232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23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232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23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23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232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232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323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23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23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23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23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23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23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23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23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816C-641F-4201-A912-4AC4D2BACD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23266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595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13.11.07</a:t>
            </a:r>
            <a:br>
              <a:rPr sz="55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еревод чисел из одной с.с. в другую   и арифметические операции в 2-ой с.с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«Сбор информации»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Georgia"/>
              </a:rPr>
              <a:t>3 груп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C4   1A   3F   E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33"/>
                </a:solidFill>
                <a:latin typeface="Arial"/>
              </a:rPr>
              <a:t>C A F 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Georgia"/>
              </a:rPr>
              <a:t>«Внимание, розыск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ыполнить сложение в 2-ой с.с. и узнать, какое число «спряталось» в каждой групп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 гр.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000011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+ 101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2 гр.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001100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+ 101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3 гр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1101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+ 101</a:t>
            </a:r>
            <a:r>
              <a:rPr b="1" lang="ru-RU" sz="3200" spc="-1" strike="noStrike" baseline="-25000">
                <a:solidFill>
                  <a:srgbClr val="660033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Georgia"/>
              </a:rPr>
              <a:t>«Внимание, розыск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72 –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81 –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6400" spc="-1" strike="noStrike">
                <a:solidFill>
                  <a:srgbClr val="ff0000"/>
                </a:solidFill>
                <a:latin typeface="Arial"/>
              </a:rPr>
              <a:t>34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0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660033"/>
                </a:solidFill>
                <a:latin typeface="Arial"/>
              </a:rPr>
              <a:t>Спасибо  </a:t>
            </a:r>
            <a:br>
              <a:rPr sz="7000"/>
            </a:br>
            <a:r>
              <a:rPr b="1" i="1" lang="ru-RU" sz="7000" spc="-1" strike="noStrike">
                <a:solidFill>
                  <a:srgbClr val="660033"/>
                </a:solidFill>
                <a:latin typeface="Arial"/>
              </a:rPr>
              <a:t>за  урок !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8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38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1 групп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вести в 10-ую с.с. из 2-ой с.с. следующие числа: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001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1000001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11101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1110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вести из 10-ой с.с.  в 8-ую с.с. следующие числа: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67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76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29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3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вести из 10-ой с.с. в 16-ую с.с. следующие числа: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96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26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63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231</a:t>
            </a:r>
            <a:r>
              <a:rPr b="1" lang="ru-RU" sz="2800" spc="-1" strike="noStrike" baseline="-25000">
                <a:solidFill>
                  <a:srgbClr val="8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«Сбор информ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«Сбор информации»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Georgia"/>
              </a:rPr>
              <a:t>1 груп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000" spc="-1" strike="noStrike" u="sng">
                <a:solidFill>
                  <a:srgbClr val="000066"/>
                </a:solidFill>
                <a:uFillTx/>
                <a:latin typeface="Arial"/>
                <a:hlinkClick r:id="rId1" action="ppaction://hlinksldjump"/>
              </a:rPr>
              <a:t>14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000" spc="-1" strike="noStrike" u="sng">
                <a:solidFill>
                  <a:srgbClr val="000066"/>
                </a:solidFill>
                <a:uFillTx/>
                <a:latin typeface="Arial"/>
                <a:hlinkClick r:id="rId2" action="ppaction://hlinksldjump"/>
              </a:rPr>
              <a:t>65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0" spc="-1" strike="noStrike" u="sng">
                <a:solidFill>
                  <a:srgbClr val="000066"/>
                </a:solidFill>
                <a:uFillTx/>
                <a:latin typeface="Arial"/>
                <a:hlinkClick r:id="rId3" action="ppaction://hlinksldjump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000" spc="-1" strike="noStrike" u="sng">
                <a:solidFill>
                  <a:srgbClr val="000066"/>
                </a:solidFill>
                <a:uFillTx/>
                <a:latin typeface="Arial"/>
                <a:hlinkClick r:id="rId4" action="ppaction://hlinksldjump"/>
              </a:rPr>
              <a:t>29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660033"/>
                </a:solidFill>
                <a:latin typeface="Wingdings"/>
                <a:ea typeface="Wingdings"/>
              </a:rPr>
              <a:t>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66"/>
                </a:solidFill>
                <a:latin typeface="Georgia"/>
              </a:rPr>
              <a:t>Кто хоч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66"/>
                </a:solidFill>
                <a:latin typeface="Georgia"/>
              </a:rPr>
              <a:t>Кто хочет съесть ядро ореха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66"/>
                </a:solidFill>
                <a:latin typeface="Georgia"/>
              </a:rPr>
              <a:t>Кто хочет съесть ядро ореха, должен расколот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66"/>
                </a:solidFill>
                <a:latin typeface="Georgia"/>
              </a:rPr>
              <a:t>Кто хочет съесть ядро ореха, должен расколоть  его скорлупу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«Сбор информации»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Georgia"/>
              </a:rPr>
              <a:t>2 груп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Arial"/>
              </a:rPr>
              <a:t>103 + 114 + 35 = 25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Arial"/>
              </a:rPr>
              <a:t>2 + 5 + 2 =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Т</cp:lastModifiedBy>
  <dcterms:modified xsi:type="dcterms:W3CDTF">2007-11-12T17:32:51Z</dcterms:modified>
  <cp:revision>88</cp:revision>
  <dc:subject/>
  <dc:title>PowerPoint Presentation</dc:title>
</cp:coreProperties>
</file>