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5237-CD0F-4C41-9B7C-2DF0C6EC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1336-FB2B-4CF6-B569-63096A99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5C2A4-952C-46A0-B392-78A90ED2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956F-A653-417A-8777-4158026D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0938-59D0-4E5E-B353-52EC1D16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6460-4146-4128-ABAF-34D3B4B2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9B1B-42C2-4474-A059-EA660ECB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0C3B-A847-4E2D-842D-732CB0B6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9CDC-5CDE-4793-8472-0E06EC10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E932-0AA5-4752-A56D-ED1E3903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7349-C1AA-44C0-8A41-56BC5DE0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25AF7-21B2-47DE-96F8-C1B62A28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8401-FD32-44AE-A673-7FE770DD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9B10-6495-42A6-A3C9-C29B23B0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A34E-25C3-43C7-A06D-42316F17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2BD0-A2A9-4EC0-9D66-7C5305C3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5110-E2AA-4596-9AC9-797198D3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34CA-52C7-4A3F-9189-6AEE57A0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6C99-47C1-42AE-9153-C6A1F80A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6DF3-6800-4CA4-8FDA-85C56136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2477-6055-48AA-846B-3C760A3A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726BB-BA56-4342-9C1C-69DE99C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DB265-E43A-4442-98DA-6427C525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509F-880A-408A-B96F-960B5D73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3CDD-CDE9-46B9-AD89-8C6AC1C348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323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232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232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23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232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23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23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232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232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323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23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23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23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23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23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23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23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23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CD07-2A11-4C3F-ADF0-56F8C0624C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23266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595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13.11.07</a:t>
            </a:r>
            <a:br>
              <a:rPr sz="55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еревод чисел из одной с.с. в другую   и арифметические операции в 2-ой с.с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Georgia"/>
              </a:rPr>
              <a:t>«Сбор информации»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Georgia"/>
              </a:rPr>
              <a:t>3 груп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C4   1A   3F   E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33"/>
                </a:solidFill>
                <a:latin typeface="Arial"/>
              </a:rPr>
              <a:t>C A F 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Georgia"/>
              </a:rPr>
              <a:t>«Внимание, розыск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ыполнить сложение в 2-ой с.с. и узнать, какое число «спряталось» в каждой групп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 гр.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000011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 + 101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2 гр.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001100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 + 101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3 гр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1101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 + 101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Georgia"/>
              </a:rPr>
              <a:t>«Внимание, розыск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72 – 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81 – 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34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0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0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0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0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0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0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660033"/>
                </a:solidFill>
                <a:latin typeface="Arial"/>
              </a:rPr>
              <a:t>Спасибо  </a:t>
            </a:r>
            <a:br>
              <a:rPr sz="7000"/>
            </a:br>
            <a:r>
              <a:rPr b="1" i="1" lang="ru-RU" sz="7000" spc="-1" strike="noStrike">
                <a:solidFill>
                  <a:srgbClr val="660033"/>
                </a:solidFill>
                <a:latin typeface="Arial"/>
              </a:rPr>
              <a:t>за  урок !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8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38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1 группа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евести в 10-ую с.с. из 2-ой с.с. следующие числа: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001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1000001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 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11101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1110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2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евести из 10-ой с.с.  в 8-ую с.с. следующие числа: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67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76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29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1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3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евести из 10-ой с.с. в 16-ую с.с. следующие числа: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96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26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63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231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Georgia"/>
              </a:rPr>
              <a:t>«Сбор информа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Georgia"/>
              </a:rPr>
              <a:t>«Сбор информации»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Georgia"/>
              </a:rPr>
              <a:t>1 груп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000" spc="-1" strike="noStrike" u="sng">
                <a:solidFill>
                  <a:srgbClr val="000066"/>
                </a:solidFill>
                <a:uFillTx/>
                <a:latin typeface="Arial"/>
                <a:hlinkClick r:id="rId1" action="ppaction://hlinksldjump"/>
              </a:rPr>
              <a:t>14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000" spc="-1" strike="noStrike" u="sng">
                <a:solidFill>
                  <a:srgbClr val="000066"/>
                </a:solidFill>
                <a:uFillTx/>
                <a:latin typeface="Arial"/>
                <a:hlinkClick r:id="rId2" action="ppaction://hlinksldjump"/>
              </a:rPr>
              <a:t>65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000" spc="-1" strike="noStrike" u="sng">
                <a:solidFill>
                  <a:srgbClr val="000066"/>
                </a:solidFill>
                <a:uFillTx/>
                <a:latin typeface="Arial"/>
                <a:hlinkClick r:id="rId3" action="ppaction://hlinksldjump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000" spc="-1" strike="noStrike" u="sng">
                <a:solidFill>
                  <a:srgbClr val="000066"/>
                </a:solidFill>
                <a:uFillTx/>
                <a:latin typeface="Arial"/>
                <a:hlinkClick r:id="rId4" action="ppaction://hlinksldjump"/>
              </a:rPr>
              <a:t>29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0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660033"/>
                </a:solidFill>
                <a:latin typeface="Wingdings"/>
                <a:ea typeface="Wingdings"/>
              </a:rPr>
              <a:t>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66"/>
                </a:solidFill>
                <a:latin typeface="Georgia"/>
              </a:rPr>
              <a:t>Кто хоч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66"/>
                </a:solidFill>
                <a:latin typeface="Georgia"/>
              </a:rPr>
              <a:t>Кто хочет съесть ядро ореха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66"/>
                </a:solidFill>
                <a:latin typeface="Georgia"/>
              </a:rPr>
              <a:t>Кто хочет съесть ядро ореха, должен расколот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66"/>
                </a:solidFill>
                <a:latin typeface="Georgia"/>
              </a:rPr>
              <a:t>Кто хочет съесть ядро ореха, должен расколоть  его скорлупу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Georgia"/>
              </a:rPr>
              <a:t>«Сбор информации»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Georgia"/>
              </a:rPr>
              <a:t>2 груп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Arial"/>
              </a:rPr>
              <a:t>103 + 114 + 35 = 25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Arial"/>
              </a:rPr>
              <a:t>2 + 5 + 2 = </a:t>
            </a:r>
            <a:r>
              <a:rPr b="1" lang="ru-RU" sz="8000" spc="-1" strike="noStrike">
                <a:solidFill>
                  <a:srgbClr val="660033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Т</cp:lastModifiedBy>
  <dcterms:modified xsi:type="dcterms:W3CDTF">2007-11-12T17:32:51Z</dcterms:modified>
  <cp:revision>88</cp:revision>
  <dc:subject/>
  <dc:title>PowerPoint Presentation</dc:title>
</cp:coreProperties>
</file>