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2.jpeg" ContentType="image/jpeg"/>
  <Override PartName="/ppt/media/image7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8EE4-8218-44C9-87BA-0706F56D4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внение дробей с одинаковыми числ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717-587A-43E5-9F9D-C8A70C8A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787-370C-44F1-912D-71F881CB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F99-DD5D-4771-BFE0-663ABD66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4EC-E3EA-43AC-89E2-DF39D598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A94-EF10-4615-B0FB-8CA8135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16A-512E-42CC-AA8E-C00BAFE1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020-0BED-4827-8748-DE1781A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D03-27BD-4067-AFB4-835E0CED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02F-87D0-408F-B1F0-0BB5AE4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98D-C275-4520-B895-EB5C7C7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7FA-E77E-4B94-8BB3-024059C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F04-94E1-49B8-901F-4110014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985F-49E8-4516-84A6-839374701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91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Урок математики</a:t>
            </a:r>
            <a:br>
              <a:rPr sz="6600"/>
            </a:b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27 январ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24000" y="1380960"/>
            <a:ext cx="4322520" cy="408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771480" y="1371600"/>
            <a:ext cx="3467160" cy="4111200"/>
            <a:chOff x="771480" y="1371600"/>
            <a:chExt cx="3467160" cy="4111200"/>
          </a:xfrm>
        </p:grpSpPr>
        <p:sp>
          <p:nvSpPr>
            <p:cNvPr id="726" name=""/>
            <p:cNvSpPr/>
            <p:nvPr/>
          </p:nvSpPr>
          <p:spPr>
            <a:xfrm>
              <a:off x="2476800" y="1385640"/>
              <a:ext cx="17280" cy="4078080"/>
            </a:xfrm>
            <a:custGeom>
              <a:avLst/>
              <a:gdLst/>
              <a:ahLst/>
              <a:rect l="l" t="t" r="r" b="b"/>
              <a:pathLst>
                <a:path w="8" h="1720">
                  <a:moveTo>
                    <a:pt x="8" y="0"/>
                  </a:moveTo>
                  <a:lnTo>
                    <a:pt x="0" y="1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33960" y="1380960"/>
              <a:ext cx="4680" cy="4101840"/>
            </a:xfrm>
            <a:custGeom>
              <a:avLst/>
              <a:gdLst/>
              <a:ahLst/>
              <a:rect l="l" t="t" r="r" b="b"/>
              <a:pathLst>
                <a:path w="3" h="2584">
                  <a:moveTo>
                    <a:pt x="3" y="0"/>
                  </a:moveTo>
                  <a:lnTo>
                    <a:pt x="0" y="25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05200" y="1380960"/>
              <a:ext cx="3240" cy="4082760"/>
            </a:xfrm>
            <a:custGeom>
              <a:avLst/>
              <a:gdLst/>
              <a:ahLst/>
              <a:rect l="l" t="t" r="r" b="b"/>
              <a:pathLst>
                <a:path w="2" h="2572">
                  <a:moveTo>
                    <a:pt x="0" y="0"/>
                  </a:moveTo>
                  <a:lnTo>
                    <a:pt x="2" y="25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14880" y="1371600"/>
              <a:ext cx="6480" cy="4092480"/>
            </a:xfrm>
            <a:custGeom>
              <a:avLst/>
              <a:gdLst/>
              <a:ahLst/>
              <a:rect l="l" t="t" r="r" b="b"/>
              <a:pathLst>
                <a:path w="4" h="2578">
                  <a:moveTo>
                    <a:pt x="0" y="0"/>
                  </a:moveTo>
                  <a:lnTo>
                    <a:pt x="4" y="25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62360" y="1380960"/>
              <a:ext cx="6480" cy="4082760"/>
            </a:xfrm>
            <a:custGeom>
              <a:avLst/>
              <a:gdLst/>
              <a:ahLst/>
              <a:rect l="l" t="t" r="r" b="b"/>
              <a:pathLst>
                <a:path w="4" h="2572">
                  <a:moveTo>
                    <a:pt x="0" y="0"/>
                  </a:moveTo>
                  <a:lnTo>
                    <a:pt x="4" y="25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1480" y="1385640"/>
              <a:ext cx="3240" cy="4059000"/>
            </a:xfrm>
            <a:custGeom>
              <a:avLst/>
              <a:gdLst/>
              <a:ahLst/>
              <a:rect l="l" t="t" r="r" b="b"/>
              <a:pathLst>
                <a:path w="1" h="1712">
                  <a:moveTo>
                    <a:pt x="0" y="0"/>
                  </a:moveTo>
                  <a:lnTo>
                    <a:pt x="0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02040" y="1385640"/>
              <a:ext cx="2880" cy="4097160"/>
            </a:xfrm>
            <a:custGeom>
              <a:avLst/>
              <a:gdLst/>
              <a:ahLst/>
              <a:rect l="l" t="t" r="r" b="b"/>
              <a:pathLst>
                <a:path w="1" h="1728">
                  <a:moveTo>
                    <a:pt x="0" y="0"/>
                  </a:moveTo>
                  <a:lnTo>
                    <a:pt x="0" y="17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16040" y="1385640"/>
              <a:ext cx="16200" cy="4059000"/>
            </a:xfrm>
            <a:custGeom>
              <a:avLst/>
              <a:gdLst/>
              <a:ahLst/>
              <a:rect l="l" t="t" r="r" b="b"/>
              <a:pathLst>
                <a:path w="8" h="1712">
                  <a:moveTo>
                    <a:pt x="0" y="0"/>
                  </a:moveTo>
                  <a:lnTo>
                    <a:pt x="8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46600" y="1385640"/>
              <a:ext cx="1440" cy="4078080"/>
            </a:xfrm>
            <a:custGeom>
              <a:avLst/>
              <a:gdLst/>
              <a:ahLst/>
              <a:rect l="l" t="t" r="r" b="b"/>
              <a:pathLst>
                <a:path w="1" h="1720">
                  <a:moveTo>
                    <a:pt x="0" y="0"/>
                  </a:moveTo>
                  <a:lnTo>
                    <a:pt x="0" y="1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04560" y="1790640"/>
            <a:ext cx="4356000" cy="3274920"/>
            <a:chOff x="304560" y="1790640"/>
            <a:chExt cx="4356000" cy="3274920"/>
          </a:xfrm>
        </p:grpSpPr>
        <p:sp>
          <p:nvSpPr>
            <p:cNvPr id="736" name=""/>
            <p:cNvSpPr/>
            <p:nvPr/>
          </p:nvSpPr>
          <p:spPr>
            <a:xfrm>
              <a:off x="324000" y="3406680"/>
              <a:ext cx="4324320" cy="12240"/>
            </a:xfrm>
            <a:custGeom>
              <a:avLst/>
              <a:gdLst/>
              <a:ahLst/>
              <a:rect l="l" t="t" r="r" b="b"/>
              <a:pathLst>
                <a:path w="2724" h="8">
                  <a:moveTo>
                    <a:pt x="2724" y="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4560" y="506556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23640" y="381276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23640" y="420516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323640" y="462564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7760" y="1790640"/>
              <a:ext cx="4309920" cy="6120"/>
            </a:xfrm>
            <a:custGeom>
              <a:avLst/>
              <a:gdLst/>
              <a:ahLst/>
              <a:rect l="l" t="t" r="r" b="b"/>
              <a:pathLst>
                <a:path w="2715" h="4">
                  <a:moveTo>
                    <a:pt x="2715" y="0"/>
                  </a:moveTo>
                  <a:lnTo>
                    <a:pt x="0" y="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6360" y="2199960"/>
              <a:ext cx="4341960" cy="2880"/>
            </a:xfrm>
            <a:custGeom>
              <a:avLst/>
              <a:gdLst/>
              <a:ahLst/>
              <a:rect l="l" t="t" r="r" b="b"/>
              <a:pathLst>
                <a:path w="2735" h="2">
                  <a:moveTo>
                    <a:pt x="2735" y="0"/>
                  </a:moveTo>
                  <a:lnTo>
                    <a:pt x="0" y="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7760" y="2590560"/>
              <a:ext cx="4300560" cy="18720"/>
            </a:xfrm>
            <a:custGeom>
              <a:avLst/>
              <a:gdLst/>
              <a:ahLst/>
              <a:rect l="l" t="t" r="r" b="b"/>
              <a:pathLst>
                <a:path w="2709" h="12">
                  <a:moveTo>
                    <a:pt x="2709" y="0"/>
                  </a:moveTo>
                  <a:lnTo>
                    <a:pt x="0" y="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4000" y="3000240"/>
              <a:ext cx="4333680" cy="1080"/>
            </a:xfrm>
            <a:custGeom>
              <a:avLst/>
              <a:gdLst/>
              <a:ahLst/>
              <a:rect l="l" t="t" r="r" b="b"/>
              <a:pathLst>
                <a:path w="2730" h="1">
                  <a:moveTo>
                    <a:pt x="2730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235400" y="5062680"/>
            <a:ext cx="412920" cy="404640"/>
          </a:xfrm>
          <a:custGeom>
            <a:avLst/>
            <a:gdLst/>
            <a:ahLst/>
            <a:rect l="l" t="t" r="r" b="b"/>
            <a:pathLst>
              <a:path w="260" h="255">
                <a:moveTo>
                  <a:pt x="0" y="0"/>
                </a:moveTo>
                <a:lnTo>
                  <a:pt x="260" y="3"/>
                </a:lnTo>
                <a:lnTo>
                  <a:pt x="260" y="249"/>
                </a:lnTo>
                <a:lnTo>
                  <a:pt x="4" y="255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257800" y="152280"/>
                <a:ext cx="806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5334120" y="1676520"/>
                <a:ext cx="660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320760" y="2181240"/>
            <a:ext cx="4354200" cy="2425680"/>
            <a:chOff x="320760" y="2181240"/>
            <a:chExt cx="4354200" cy="2425680"/>
          </a:xfrm>
        </p:grpSpPr>
        <p:sp>
          <p:nvSpPr>
            <p:cNvPr id="749" name=""/>
            <p:cNvSpPr/>
            <p:nvPr/>
          </p:nvSpPr>
          <p:spPr>
            <a:xfrm flipH="1">
              <a:off x="338040" y="3794400"/>
              <a:ext cx="4336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338040" y="4606920"/>
              <a:ext cx="4336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0760" y="2181240"/>
              <a:ext cx="4341960" cy="3240"/>
            </a:xfrm>
            <a:custGeom>
              <a:avLst/>
              <a:gdLst/>
              <a:ahLst/>
              <a:rect l="l" t="t" r="r" b="b"/>
              <a:pathLst>
                <a:path w="2735" h="2">
                  <a:moveTo>
                    <a:pt x="2735" y="0"/>
                  </a:moveTo>
                  <a:lnTo>
                    <a:pt x="0" y="2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8400" y="2981520"/>
              <a:ext cx="4333680" cy="1440"/>
            </a:xfrm>
            <a:custGeom>
              <a:avLst/>
              <a:gdLst/>
              <a:ahLst/>
              <a:rect l="l" t="t" r="r" b="b"/>
              <a:pathLst>
                <a:path w="2730" h="1">
                  <a:moveTo>
                    <a:pt x="2730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170000" y="1395360"/>
            <a:ext cx="2590560" cy="4048920"/>
            <a:chOff x="1170000" y="1395360"/>
            <a:chExt cx="2590560" cy="4048920"/>
          </a:xfrm>
        </p:grpSpPr>
        <p:sp>
          <p:nvSpPr>
            <p:cNvPr id="754" name=""/>
            <p:cNvSpPr/>
            <p:nvPr/>
          </p:nvSpPr>
          <p:spPr>
            <a:xfrm flipV="1">
              <a:off x="2037600" y="1411200"/>
              <a:ext cx="0" cy="4033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1170000" y="1411200"/>
              <a:ext cx="0" cy="4033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1739880" y="3412440"/>
              <a:ext cx="4037760" cy="3240"/>
            </a:xfrm>
            <a:custGeom>
              <a:avLst/>
              <a:gdLst/>
              <a:ahLst/>
              <a:rect l="l" t="t" r="r" b="b"/>
              <a:pathLst>
                <a:path w="2735" h="2">
                  <a:moveTo>
                    <a:pt x="2735" y="0"/>
                  </a:moveTo>
                  <a:lnTo>
                    <a:pt x="0" y="2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5400000">
              <a:off x="889920" y="3425760"/>
              <a:ext cx="4030200" cy="1440"/>
            </a:xfrm>
            <a:custGeom>
              <a:avLst/>
              <a:gdLst/>
              <a:ahLst/>
              <a:rect l="l" t="t" r="r" b="b"/>
              <a:pathLst>
                <a:path w="2730" h="1">
                  <a:moveTo>
                    <a:pt x="2730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326880" y="1387440"/>
            <a:ext cx="838440" cy="804960"/>
          </a:xfrm>
          <a:custGeom>
            <a:avLst/>
            <a:gdLst/>
            <a:ahLst/>
            <a:rect l="l" t="t" r="r" b="b"/>
            <a:pathLst>
              <a:path w="528" h="507">
                <a:moveTo>
                  <a:pt x="0" y="0"/>
                </a:moveTo>
                <a:lnTo>
                  <a:pt x="525" y="0"/>
                </a:lnTo>
                <a:lnTo>
                  <a:pt x="528" y="507"/>
                </a:lnTo>
                <a:lnTo>
                  <a:pt x="0" y="501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31920" y="3429000"/>
            <a:ext cx="4343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5486400" y="3352680"/>
                <a:ext cx="44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2489040" y="1384200"/>
            <a:ext cx="1800" cy="4102200"/>
          </a:xfrm>
          <a:custGeom>
            <a:avLst/>
            <a:gdLst/>
            <a:ahLst/>
            <a:rect l="l" t="t" r="r" b="b"/>
            <a:pathLst>
              <a:path w="1" h="2584">
                <a:moveTo>
                  <a:pt x="0" y="25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5427720" y="5181480"/>
                <a:ext cx="403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228600" y="476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доля самая малень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751040" y="1371600"/>
            <a:ext cx="1527120" cy="4102200"/>
            <a:chOff x="1751040" y="1371600"/>
            <a:chExt cx="1527120" cy="4102200"/>
          </a:xfrm>
        </p:grpSpPr>
        <p:sp>
          <p:nvSpPr>
            <p:cNvPr id="765" name=""/>
            <p:cNvSpPr/>
            <p:nvPr/>
          </p:nvSpPr>
          <p:spPr>
            <a:xfrm>
              <a:off x="1751040" y="1371600"/>
              <a:ext cx="1440" cy="4102200"/>
            </a:xfrm>
            <a:custGeom>
              <a:avLst/>
              <a:gdLst/>
              <a:ahLst/>
              <a:rect l="l" t="t" r="r" b="b"/>
              <a:pathLst>
                <a:path w="1" h="2584">
                  <a:moveTo>
                    <a:pt x="0" y="25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76720" y="1371600"/>
              <a:ext cx="1440" cy="4102200"/>
            </a:xfrm>
            <a:custGeom>
              <a:avLst/>
              <a:gdLst/>
              <a:ahLst/>
              <a:rect l="l" t="t" r="r" b="b"/>
              <a:pathLst>
                <a:path w="1" h="2584">
                  <a:moveTo>
                    <a:pt x="0" y="25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04920" y="2666880"/>
            <a:ext cx="4343400" cy="1454400"/>
            <a:chOff x="304920" y="2666880"/>
            <a:chExt cx="4343400" cy="1454400"/>
          </a:xfrm>
        </p:grpSpPr>
        <p:sp>
          <p:nvSpPr>
            <p:cNvPr id="768" name=""/>
            <p:cNvSpPr/>
            <p:nvPr/>
          </p:nvSpPr>
          <p:spPr>
            <a:xfrm>
              <a:off x="304920" y="2666880"/>
              <a:ext cx="4343400" cy="5040"/>
            </a:xfrm>
            <a:custGeom>
              <a:avLst/>
              <a:gdLst/>
              <a:ahLst/>
              <a:rect l="l" t="t" r="r" b="b"/>
              <a:pathLst>
                <a:path w="2736" h="3">
                  <a:moveTo>
                    <a:pt x="0" y="3"/>
                  </a:moveTo>
                  <a:lnTo>
                    <a:pt x="273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4114800"/>
              <a:ext cx="4305240" cy="6480"/>
            </a:xfrm>
            <a:custGeom>
              <a:avLst/>
              <a:gdLst/>
              <a:ahLst/>
              <a:rect l="l" t="t" r="r" b="b"/>
              <a:pathLst>
                <a:path w="2712" h="4">
                  <a:moveTo>
                    <a:pt x="0" y="0"/>
                  </a:moveTo>
                  <a:lnTo>
                    <a:pt x="2712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282840" y="4127400"/>
            <a:ext cx="1355760" cy="1333440"/>
          </a:xfrm>
          <a:custGeom>
            <a:avLst/>
            <a:gdLst/>
            <a:ahLst/>
            <a:rect l="l" t="t" r="r" b="b"/>
            <a:pathLst>
              <a:path w="854" h="840">
                <a:moveTo>
                  <a:pt x="4" y="2"/>
                </a:moveTo>
                <a:lnTo>
                  <a:pt x="854" y="0"/>
                </a:lnTo>
                <a:lnTo>
                  <a:pt x="852" y="840"/>
                </a:lnTo>
                <a:lnTo>
                  <a:pt x="0" y="840"/>
                </a:lnTo>
                <a:lnTo>
                  <a:pt x="4" y="2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 flipH="1">
            <a:off x="1523520" y="3962520"/>
            <a:ext cx="2538360" cy="23731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328680" y="1371600"/>
            <a:ext cx="2152440" cy="2048040"/>
          </a:xfrm>
          <a:custGeom>
            <a:avLst/>
            <a:gdLst/>
            <a:ahLst/>
            <a:rect l="l" t="t" r="r" b="b"/>
            <a:pathLst>
              <a:path w="1356" h="1290">
                <a:moveTo>
                  <a:pt x="2" y="0"/>
                </a:moveTo>
                <a:lnTo>
                  <a:pt x="1353" y="8"/>
                </a:lnTo>
                <a:lnTo>
                  <a:pt x="1356" y="1290"/>
                </a:lnTo>
                <a:lnTo>
                  <a:pt x="0" y="1290"/>
                </a:lnTo>
                <a:lnTo>
                  <a:pt x="2" y="0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74560" y="60948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28600" y="6156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делай клик мышкой по другим дроб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-2.59259E-006 L 0.24757 -0.66759 E">
                                      <p:cBhvr>
                                        <p:cTn id="667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3.7037E-007 L 0.6934 0.05023 E">
                                      <p:cBhvr>
                                        <p:cTn id="701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85185E-006 L 0.62986 0.22963 E">
                                      <p:cBhvr>
                                        <p:cTn id="728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4.07407E-006 L 0.36684 0.14537 E">
                                      <p:cBhvr>
                                        <p:cTn id="755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10960" y="990720"/>
            <a:ext cx="622008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0960" y="3543480"/>
            <a:ext cx="622008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889520" y="3549600"/>
            <a:ext cx="1574640" cy="2463840"/>
          </a:xfrm>
          <a:custGeom>
            <a:avLst/>
            <a:gdLst/>
            <a:ahLst/>
            <a:rect l="l" t="t" r="r" b="b"/>
            <a:pathLst>
              <a:path w="992" h="1552">
                <a:moveTo>
                  <a:pt x="0" y="0"/>
                </a:moveTo>
                <a:lnTo>
                  <a:pt x="960" y="0"/>
                </a:lnTo>
                <a:lnTo>
                  <a:pt x="960" y="1536"/>
                </a:lnTo>
                <a:lnTo>
                  <a:pt x="992" y="1552"/>
                </a:lnTo>
                <a:lnTo>
                  <a:pt x="784" y="1552"/>
                </a:lnTo>
                <a:lnTo>
                  <a:pt x="784" y="1552"/>
                </a:lnTo>
                <a:lnTo>
                  <a:pt x="0" y="155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4320" y="990720"/>
            <a:ext cx="1039680" cy="2466720"/>
          </a:xfrm>
          <a:custGeom>
            <a:avLst/>
            <a:gdLst/>
            <a:ahLst/>
            <a:rect l="l" t="t" r="r" b="b"/>
            <a:pathLst>
              <a:path w="655" h="1554">
                <a:moveTo>
                  <a:pt x="0" y="0"/>
                </a:moveTo>
                <a:lnTo>
                  <a:pt x="652" y="0"/>
                </a:lnTo>
                <a:lnTo>
                  <a:pt x="655" y="1554"/>
                </a:lnTo>
                <a:lnTo>
                  <a:pt x="1" y="15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206360" y="990720"/>
            <a:ext cx="4191120" cy="2463840"/>
            <a:chOff x="1206360" y="990720"/>
            <a:chExt cx="4191120" cy="2463840"/>
          </a:xfrm>
        </p:grpSpPr>
        <p:sp>
          <p:nvSpPr>
            <p:cNvPr id="781" name=""/>
            <p:cNvSpPr/>
            <p:nvPr/>
          </p:nvSpPr>
          <p:spPr>
            <a:xfrm>
              <a:off x="4368600" y="100332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06360" y="100332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97480" y="99072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8600" y="101592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27120" y="101592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1676520" y="3562200"/>
            <a:ext cx="4762080" cy="2451240"/>
            <a:chOff x="1676520" y="3562200"/>
            <a:chExt cx="4762080" cy="2451240"/>
          </a:xfrm>
        </p:grpSpPr>
        <p:sp>
          <p:nvSpPr>
            <p:cNvPr id="787" name=""/>
            <p:cNvSpPr/>
            <p:nvPr/>
          </p:nvSpPr>
          <p:spPr>
            <a:xfrm>
              <a:off x="1676520" y="3562200"/>
              <a:ext cx="0" cy="243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63760" y="3562200"/>
              <a:ext cx="0" cy="243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4480" y="3574800"/>
              <a:ext cx="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38600" y="3562200"/>
              <a:ext cx="0" cy="243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6934320" y="1981080"/>
                <a:ext cx="55692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8229600" y="1981080"/>
                <a:ext cx="5572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655308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равни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52280" y="3049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трактор вспахал      часть поля, а второй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809880" y="0"/>
                <a:ext cx="3654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7315200" y="76320"/>
                <a:ext cx="357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6783840" y="4267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469640" y="4267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08080" y="4267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81680" y="5410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ить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8420040" y="6172200"/>
            <a:ext cx="507960" cy="507960"/>
          </a:xfrm>
          <a:custGeom>
            <a:avLst/>
            <a:gdLst>
              <a:gd name="textAreaLeft" fmla="*/ 32760 w 507960"/>
              <a:gd name="textAreaRight" fmla="*/ 475200 w 5079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30200" y="1392120"/>
                <a:ext cx="5572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5446800" y="4038480"/>
                <a:ext cx="5572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4" name=""/>
          <p:cNvGrpSpPr/>
          <p:nvPr/>
        </p:nvGrpSpPr>
        <p:grpSpPr>
          <a:xfrm>
            <a:off x="0" y="1514520"/>
            <a:ext cx="973080" cy="1399680"/>
            <a:chOff x="0" y="1514520"/>
            <a:chExt cx="973080" cy="1399680"/>
          </a:xfrm>
        </p:grpSpPr>
        <p:pic>
          <p:nvPicPr>
            <p:cNvPr id="805" name="" descr=""/>
            <p:cNvPicPr/>
            <p:nvPr/>
          </p:nvPicPr>
          <p:blipFill>
            <a:blip r:embed="rId1"/>
            <a:stretch/>
          </p:blipFill>
          <p:spPr>
            <a:xfrm>
              <a:off x="0" y="2192040"/>
              <a:ext cx="97308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8280" y="15145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638320" y="4148280"/>
            <a:ext cx="973080" cy="1399680"/>
            <a:chOff x="5638320" y="4148280"/>
            <a:chExt cx="973080" cy="1399680"/>
          </a:xfrm>
        </p:grpSpPr>
        <p:pic>
          <p:nvPicPr>
            <p:cNvPr id="808" name="" descr=""/>
            <p:cNvPicPr/>
            <p:nvPr/>
          </p:nvPicPr>
          <p:blipFill>
            <a:blip r:embed="rId2"/>
            <a:stretch/>
          </p:blipFill>
          <p:spPr>
            <a:xfrm flipH="1">
              <a:off x="5638320" y="4825800"/>
              <a:ext cx="97308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>
              <a:off x="5755680" y="4148280"/>
              <a:ext cx="57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3" dur="indefinite" restart="never" nodeType="tmRoot">
          <p:childTnLst>
            <p:seq>
              <p:cTn id="764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08299 -0.27014 E">
                                      <p:cBhvr>
                                        <p:cTn id="778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09722 -0.00371 E">
                                      <p:cBhvr>
                                        <p:cTn id="796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13333 0.0037 E">
                                      <p:cBhvr>
                                        <p:cTn id="818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1989000"/>
            <a:ext cx="9144000" cy="4176720"/>
          </a:xfrm>
          <a:prstGeom prst="ellipse">
            <a:avLst/>
          </a:prstGeom>
          <a:blipFill rotWithShape="0">
            <a:blip r:embed="rId1">
              <a:alphaModFix amt="25000"/>
            </a:blip>
            <a:srcRect/>
            <a:stretch/>
          </a:blipFill>
          <a:ln w="7632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4716360" y="1125360"/>
            <a:ext cx="2703600" cy="2692440"/>
            <a:chOff x="4716360" y="1125360"/>
            <a:chExt cx="2703600" cy="2692440"/>
          </a:xfrm>
        </p:grpSpPr>
        <p:sp>
          <p:nvSpPr>
            <p:cNvPr id="812" name=""/>
            <p:cNvSpPr/>
            <p:nvPr/>
          </p:nvSpPr>
          <p:spPr>
            <a:xfrm>
              <a:off x="4716360" y="2379600"/>
              <a:ext cx="2703600" cy="1438200"/>
            </a:xfrm>
            <a:custGeom>
              <a:avLst/>
              <a:gdLst/>
              <a:ahLst/>
              <a:rect l="l" t="t" r="r" b="b"/>
              <a:pathLst>
                <a:path w="1703" h="906">
                  <a:moveTo>
                    <a:pt x="0" y="325"/>
                  </a:moveTo>
                  <a:lnTo>
                    <a:pt x="1703" y="0"/>
                  </a:lnTo>
                  <a:lnTo>
                    <a:pt x="1703" y="581"/>
                  </a:lnTo>
                  <a:lnTo>
                    <a:pt x="0" y="906"/>
                  </a:lnTo>
                  <a:lnTo>
                    <a:pt x="0" y="32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716360" y="2036520"/>
              <a:ext cx="2703600" cy="858960"/>
            </a:xfrm>
            <a:custGeom>
              <a:avLst/>
              <a:gdLst/>
              <a:ahLst/>
              <a:rect l="l" t="t" r="r" b="b"/>
              <a:pathLst>
                <a:path w="1703" h="541">
                  <a:moveTo>
                    <a:pt x="0" y="0"/>
                  </a:moveTo>
                  <a:lnTo>
                    <a:pt x="81" y="0"/>
                  </a:lnTo>
                  <a:lnTo>
                    <a:pt x="108" y="0"/>
                  </a:lnTo>
                  <a:lnTo>
                    <a:pt x="189" y="0"/>
                  </a:lnTo>
                  <a:lnTo>
                    <a:pt x="257" y="0"/>
                  </a:lnTo>
                  <a:lnTo>
                    <a:pt x="297" y="0"/>
                  </a:lnTo>
                  <a:lnTo>
                    <a:pt x="365" y="0"/>
                  </a:lnTo>
                  <a:lnTo>
                    <a:pt x="406" y="0"/>
                  </a:lnTo>
                  <a:lnTo>
                    <a:pt x="473" y="13"/>
                  </a:lnTo>
                  <a:lnTo>
                    <a:pt x="541" y="13"/>
                  </a:lnTo>
                  <a:lnTo>
                    <a:pt x="581" y="13"/>
                  </a:lnTo>
                  <a:lnTo>
                    <a:pt x="649" y="27"/>
                  </a:lnTo>
                  <a:lnTo>
                    <a:pt x="716" y="27"/>
                  </a:lnTo>
                  <a:lnTo>
                    <a:pt x="757" y="27"/>
                  </a:lnTo>
                  <a:lnTo>
                    <a:pt x="825" y="40"/>
                  </a:lnTo>
                  <a:lnTo>
                    <a:pt x="892" y="54"/>
                  </a:lnTo>
                  <a:lnTo>
                    <a:pt x="919" y="54"/>
                  </a:lnTo>
                  <a:lnTo>
                    <a:pt x="987" y="54"/>
                  </a:lnTo>
                  <a:lnTo>
                    <a:pt x="1027" y="67"/>
                  </a:lnTo>
                  <a:lnTo>
                    <a:pt x="1081" y="81"/>
                  </a:lnTo>
                  <a:lnTo>
                    <a:pt x="1149" y="81"/>
                  </a:lnTo>
                  <a:lnTo>
                    <a:pt x="1176" y="94"/>
                  </a:lnTo>
                  <a:lnTo>
                    <a:pt x="1244" y="94"/>
                  </a:lnTo>
                  <a:lnTo>
                    <a:pt x="1298" y="108"/>
                  </a:lnTo>
                  <a:lnTo>
                    <a:pt x="1325" y="122"/>
                  </a:lnTo>
                  <a:lnTo>
                    <a:pt x="1379" y="135"/>
                  </a:lnTo>
                  <a:lnTo>
                    <a:pt x="1433" y="149"/>
                  </a:lnTo>
                  <a:lnTo>
                    <a:pt x="1460" y="149"/>
                  </a:lnTo>
                  <a:lnTo>
                    <a:pt x="1514" y="162"/>
                  </a:lnTo>
                  <a:lnTo>
                    <a:pt x="1541" y="176"/>
                  </a:lnTo>
                  <a:lnTo>
                    <a:pt x="1595" y="189"/>
                  </a:lnTo>
                  <a:lnTo>
                    <a:pt x="1636" y="203"/>
                  </a:lnTo>
                  <a:lnTo>
                    <a:pt x="1663" y="203"/>
                  </a:lnTo>
                  <a:lnTo>
                    <a:pt x="1703" y="216"/>
                  </a:lnTo>
                  <a:lnTo>
                    <a:pt x="0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646600" y="1125360"/>
              <a:ext cx="287280" cy="1368000"/>
              <a:chOff x="5646600" y="1125360"/>
              <a:chExt cx="287280" cy="1368000"/>
            </a:xfrm>
          </p:grpSpPr>
          <p:sp>
            <p:nvSpPr>
              <p:cNvPr id="815" name=""/>
              <p:cNvSpPr/>
              <p:nvPr/>
            </p:nvSpPr>
            <p:spPr>
              <a:xfrm>
                <a:off x="5705280" y="1541160"/>
                <a:ext cx="178200" cy="95220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646600" y="1125360"/>
                <a:ext cx="287280" cy="52452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3886560" y="2960640"/>
            <a:ext cx="4086720" cy="1370520"/>
            <a:chOff x="3886560" y="2960640"/>
            <a:chExt cx="4086720" cy="1370520"/>
          </a:xfrm>
        </p:grpSpPr>
        <p:sp>
          <p:nvSpPr>
            <p:cNvPr id="818" name=""/>
            <p:cNvSpPr/>
            <p:nvPr/>
          </p:nvSpPr>
          <p:spPr>
            <a:xfrm flipH="1" flipV="1" rot="10485600">
              <a:off x="3924000" y="3141720"/>
              <a:ext cx="4011480" cy="100836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 rot="10485600">
              <a:off x="6545880" y="3484080"/>
              <a:ext cx="1404720" cy="54396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 rot="10485600">
              <a:off x="6669720" y="3635280"/>
              <a:ext cx="29880" cy="5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 rot="10485600">
              <a:off x="6785640" y="3624480"/>
              <a:ext cx="29880" cy="5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 rot="10485600">
              <a:off x="6892920" y="3614760"/>
              <a:ext cx="29880" cy="5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 rot="10485600">
              <a:off x="7017840" y="3614760"/>
              <a:ext cx="298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 rot="10485600">
              <a:off x="6499080" y="3639960"/>
              <a:ext cx="298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1547640" y="907920"/>
            <a:ext cx="3174840" cy="2908440"/>
            <a:chOff x="1547640" y="907920"/>
            <a:chExt cx="3174840" cy="2908440"/>
          </a:xfrm>
        </p:grpSpPr>
        <p:sp>
          <p:nvSpPr>
            <p:cNvPr id="826" name=""/>
            <p:cNvSpPr/>
            <p:nvPr/>
          </p:nvSpPr>
          <p:spPr>
            <a:xfrm>
              <a:off x="1547640" y="2635200"/>
              <a:ext cx="3174840" cy="1181160"/>
            </a:xfrm>
            <a:custGeom>
              <a:avLst/>
              <a:gdLst/>
              <a:ahLst/>
              <a:rect l="l" t="t" r="r" b="b"/>
              <a:pathLst>
                <a:path w="2000" h="744">
                  <a:moveTo>
                    <a:pt x="2000" y="163"/>
                  </a:moveTo>
                  <a:lnTo>
                    <a:pt x="0" y="0"/>
                  </a:lnTo>
                  <a:lnTo>
                    <a:pt x="0" y="582"/>
                  </a:lnTo>
                  <a:lnTo>
                    <a:pt x="2000" y="744"/>
                  </a:lnTo>
                  <a:lnTo>
                    <a:pt x="2000" y="16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47640" y="2035080"/>
              <a:ext cx="3174840" cy="858960"/>
            </a:xfrm>
            <a:custGeom>
              <a:avLst/>
              <a:gdLst/>
              <a:ahLst/>
              <a:rect l="l" t="t" r="r" b="b"/>
              <a:pathLst>
                <a:path w="2000" h="541">
                  <a:moveTo>
                    <a:pt x="0" y="378"/>
                  </a:moveTo>
                  <a:lnTo>
                    <a:pt x="27" y="351"/>
                  </a:lnTo>
                  <a:lnTo>
                    <a:pt x="40" y="351"/>
                  </a:lnTo>
                  <a:lnTo>
                    <a:pt x="67" y="324"/>
                  </a:lnTo>
                  <a:lnTo>
                    <a:pt x="81" y="324"/>
                  </a:lnTo>
                  <a:lnTo>
                    <a:pt x="108" y="297"/>
                  </a:lnTo>
                  <a:lnTo>
                    <a:pt x="148" y="284"/>
                  </a:lnTo>
                  <a:lnTo>
                    <a:pt x="162" y="284"/>
                  </a:lnTo>
                  <a:lnTo>
                    <a:pt x="202" y="257"/>
                  </a:lnTo>
                  <a:lnTo>
                    <a:pt x="216" y="257"/>
                  </a:lnTo>
                  <a:lnTo>
                    <a:pt x="257" y="243"/>
                  </a:lnTo>
                  <a:lnTo>
                    <a:pt x="297" y="216"/>
                  </a:lnTo>
                  <a:lnTo>
                    <a:pt x="324" y="216"/>
                  </a:lnTo>
                  <a:lnTo>
                    <a:pt x="365" y="203"/>
                  </a:lnTo>
                  <a:lnTo>
                    <a:pt x="392" y="189"/>
                  </a:lnTo>
                  <a:lnTo>
                    <a:pt x="446" y="176"/>
                  </a:lnTo>
                  <a:lnTo>
                    <a:pt x="486" y="162"/>
                  </a:lnTo>
                  <a:lnTo>
                    <a:pt x="513" y="162"/>
                  </a:lnTo>
                  <a:lnTo>
                    <a:pt x="567" y="149"/>
                  </a:lnTo>
                  <a:lnTo>
                    <a:pt x="594" y="135"/>
                  </a:lnTo>
                  <a:lnTo>
                    <a:pt x="648" y="122"/>
                  </a:lnTo>
                  <a:lnTo>
                    <a:pt x="716" y="108"/>
                  </a:lnTo>
                  <a:lnTo>
                    <a:pt x="743" y="108"/>
                  </a:lnTo>
                  <a:lnTo>
                    <a:pt x="797" y="94"/>
                  </a:lnTo>
                  <a:lnTo>
                    <a:pt x="824" y="94"/>
                  </a:lnTo>
                  <a:lnTo>
                    <a:pt x="892" y="81"/>
                  </a:lnTo>
                  <a:lnTo>
                    <a:pt x="946" y="67"/>
                  </a:lnTo>
                  <a:lnTo>
                    <a:pt x="986" y="67"/>
                  </a:lnTo>
                  <a:lnTo>
                    <a:pt x="1054" y="54"/>
                  </a:lnTo>
                  <a:lnTo>
                    <a:pt x="1081" y="54"/>
                  </a:lnTo>
                  <a:lnTo>
                    <a:pt x="1149" y="40"/>
                  </a:lnTo>
                  <a:lnTo>
                    <a:pt x="1216" y="40"/>
                  </a:lnTo>
                  <a:lnTo>
                    <a:pt x="1257" y="27"/>
                  </a:lnTo>
                  <a:lnTo>
                    <a:pt x="1324" y="27"/>
                  </a:lnTo>
                  <a:lnTo>
                    <a:pt x="1351" y="27"/>
                  </a:lnTo>
                  <a:lnTo>
                    <a:pt x="1419" y="13"/>
                  </a:lnTo>
                  <a:lnTo>
                    <a:pt x="1500" y="13"/>
                  </a:lnTo>
                  <a:lnTo>
                    <a:pt x="1527" y="13"/>
                  </a:lnTo>
                  <a:lnTo>
                    <a:pt x="1608" y="0"/>
                  </a:lnTo>
                  <a:lnTo>
                    <a:pt x="1635" y="0"/>
                  </a:lnTo>
                  <a:lnTo>
                    <a:pt x="1716" y="0"/>
                  </a:lnTo>
                  <a:lnTo>
                    <a:pt x="1784" y="0"/>
                  </a:lnTo>
                  <a:lnTo>
                    <a:pt x="1824" y="0"/>
                  </a:lnTo>
                  <a:lnTo>
                    <a:pt x="1892" y="0"/>
                  </a:lnTo>
                  <a:lnTo>
                    <a:pt x="1932" y="0"/>
                  </a:lnTo>
                  <a:lnTo>
                    <a:pt x="2000" y="0"/>
                  </a:lnTo>
                  <a:lnTo>
                    <a:pt x="2000" y="541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357440" y="907920"/>
              <a:ext cx="287280" cy="1368000"/>
              <a:chOff x="4357440" y="907920"/>
              <a:chExt cx="287280" cy="1368000"/>
            </a:xfrm>
          </p:grpSpPr>
          <p:sp>
            <p:nvSpPr>
              <p:cNvPr id="829" name=""/>
              <p:cNvSpPr/>
              <p:nvPr/>
            </p:nvSpPr>
            <p:spPr>
              <a:xfrm>
                <a:off x="4416120" y="1323720"/>
                <a:ext cx="178200" cy="95220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357440" y="907920"/>
                <a:ext cx="287280" cy="52452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989080" y="1052280"/>
              <a:ext cx="287280" cy="1368360"/>
              <a:chOff x="2989080" y="1052280"/>
              <a:chExt cx="287280" cy="1368360"/>
            </a:xfrm>
          </p:grpSpPr>
          <p:sp>
            <p:nvSpPr>
              <p:cNvPr id="832" name=""/>
              <p:cNvSpPr/>
              <p:nvPr/>
            </p:nvSpPr>
            <p:spPr>
              <a:xfrm>
                <a:off x="3047760" y="1468080"/>
                <a:ext cx="178200" cy="9525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989080" y="1052280"/>
                <a:ext cx="287280" cy="52488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-67320" y="-592200"/>
            <a:ext cx="3666600" cy="4717080"/>
            <a:chOff x="-67320" y="-592200"/>
            <a:chExt cx="3666600" cy="4717080"/>
          </a:xfrm>
        </p:grpSpPr>
        <p:sp>
          <p:nvSpPr>
            <p:cNvPr id="835" name=""/>
            <p:cNvSpPr/>
            <p:nvPr/>
          </p:nvSpPr>
          <p:spPr>
            <a:xfrm rot="18213600">
              <a:off x="-682560" y="1190880"/>
              <a:ext cx="489744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8213600">
              <a:off x="2008080" y="275400"/>
              <a:ext cx="1715040" cy="62208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8213600">
              <a:off x="2336040" y="1026000"/>
              <a:ext cx="36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8213600">
              <a:off x="2414880" y="907560"/>
              <a:ext cx="36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8213600">
              <a:off x="2487240" y="798480"/>
              <a:ext cx="36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8213600">
              <a:off x="2582640" y="678600"/>
              <a:ext cx="36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8213600">
              <a:off x="2211120" y="1192320"/>
              <a:ext cx="36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476360" y="1268280"/>
            <a:ext cx="6673680" cy="3397320"/>
            <a:chOff x="1476360" y="1268280"/>
            <a:chExt cx="6673680" cy="3397320"/>
          </a:xfrm>
        </p:grpSpPr>
        <p:grpSp>
          <p:nvGrpSpPr>
            <p:cNvPr id="843" name=""/>
            <p:cNvGrpSpPr/>
            <p:nvPr/>
          </p:nvGrpSpPr>
          <p:grpSpPr>
            <a:xfrm>
              <a:off x="1476360" y="2347920"/>
              <a:ext cx="6673680" cy="2317680"/>
              <a:chOff x="1476360" y="2347920"/>
              <a:chExt cx="6673680" cy="2317680"/>
            </a:xfrm>
          </p:grpSpPr>
          <p:sp>
            <p:nvSpPr>
              <p:cNvPr id="844" name=""/>
              <p:cNvSpPr/>
              <p:nvPr/>
            </p:nvSpPr>
            <p:spPr>
              <a:xfrm>
                <a:off x="1476360" y="2863800"/>
                <a:ext cx="6673680" cy="1801800"/>
              </a:xfrm>
              <a:custGeom>
                <a:avLst/>
                <a:gdLst/>
                <a:ahLst/>
                <a:rect l="l" t="t" r="r" b="b"/>
                <a:pathLst>
                  <a:path w="4204" h="1135">
                    <a:moveTo>
                      <a:pt x="4204" y="0"/>
                    </a:moveTo>
                    <a:lnTo>
                      <a:pt x="4204" y="27"/>
                    </a:lnTo>
                    <a:lnTo>
                      <a:pt x="4204" y="27"/>
                    </a:lnTo>
                    <a:lnTo>
                      <a:pt x="4190" y="54"/>
                    </a:lnTo>
                    <a:lnTo>
                      <a:pt x="4190" y="67"/>
                    </a:lnTo>
                    <a:lnTo>
                      <a:pt x="4177" y="81"/>
                    </a:lnTo>
                    <a:lnTo>
                      <a:pt x="4163" y="94"/>
                    </a:lnTo>
                    <a:lnTo>
                      <a:pt x="4150" y="121"/>
                    </a:lnTo>
                    <a:lnTo>
                      <a:pt x="4150" y="121"/>
                    </a:lnTo>
                    <a:lnTo>
                      <a:pt x="4122" y="148"/>
                    </a:lnTo>
                    <a:lnTo>
                      <a:pt x="4109" y="162"/>
                    </a:lnTo>
                    <a:lnTo>
                      <a:pt x="4095" y="175"/>
                    </a:lnTo>
                    <a:lnTo>
                      <a:pt x="4068" y="189"/>
                    </a:lnTo>
                    <a:lnTo>
                      <a:pt x="4041" y="202"/>
                    </a:lnTo>
                    <a:lnTo>
                      <a:pt x="4028" y="216"/>
                    </a:lnTo>
                    <a:lnTo>
                      <a:pt x="4001" y="229"/>
                    </a:lnTo>
                    <a:lnTo>
                      <a:pt x="3974" y="256"/>
                    </a:lnTo>
                    <a:lnTo>
                      <a:pt x="3960" y="256"/>
                    </a:lnTo>
                    <a:lnTo>
                      <a:pt x="3920" y="283"/>
                    </a:lnTo>
                    <a:lnTo>
                      <a:pt x="3879" y="297"/>
                    </a:lnTo>
                    <a:lnTo>
                      <a:pt x="3866" y="297"/>
                    </a:lnTo>
                    <a:lnTo>
                      <a:pt x="3825" y="310"/>
                    </a:lnTo>
                    <a:lnTo>
                      <a:pt x="3771" y="337"/>
                    </a:lnTo>
                    <a:lnTo>
                      <a:pt x="3758" y="337"/>
                    </a:lnTo>
                    <a:lnTo>
                      <a:pt x="3703" y="351"/>
                    </a:lnTo>
                    <a:lnTo>
                      <a:pt x="3663" y="364"/>
                    </a:lnTo>
                    <a:lnTo>
                      <a:pt x="3636" y="378"/>
                    </a:lnTo>
                    <a:lnTo>
                      <a:pt x="3582" y="392"/>
                    </a:lnTo>
                    <a:lnTo>
                      <a:pt x="3528" y="405"/>
                    </a:lnTo>
                    <a:lnTo>
                      <a:pt x="3501" y="405"/>
                    </a:lnTo>
                    <a:lnTo>
                      <a:pt x="3447" y="419"/>
                    </a:lnTo>
                    <a:lnTo>
                      <a:pt x="3393" y="432"/>
                    </a:lnTo>
                    <a:lnTo>
                      <a:pt x="3366" y="446"/>
                    </a:lnTo>
                    <a:lnTo>
                      <a:pt x="3298" y="446"/>
                    </a:lnTo>
                    <a:lnTo>
                      <a:pt x="3244" y="459"/>
                    </a:lnTo>
                    <a:lnTo>
                      <a:pt x="3217" y="473"/>
                    </a:lnTo>
                    <a:lnTo>
                      <a:pt x="3149" y="473"/>
                    </a:lnTo>
                    <a:lnTo>
                      <a:pt x="3082" y="486"/>
                    </a:lnTo>
                    <a:lnTo>
                      <a:pt x="3055" y="486"/>
                    </a:lnTo>
                    <a:lnTo>
                      <a:pt x="2987" y="500"/>
                    </a:lnTo>
                    <a:lnTo>
                      <a:pt x="2920" y="513"/>
                    </a:lnTo>
                    <a:lnTo>
                      <a:pt x="2893" y="513"/>
                    </a:lnTo>
                    <a:lnTo>
                      <a:pt x="2811" y="513"/>
                    </a:lnTo>
                    <a:lnTo>
                      <a:pt x="2744" y="527"/>
                    </a:lnTo>
                    <a:lnTo>
                      <a:pt x="2717" y="527"/>
                    </a:lnTo>
                    <a:lnTo>
                      <a:pt x="2636" y="527"/>
                    </a:lnTo>
                    <a:lnTo>
                      <a:pt x="2568" y="540"/>
                    </a:lnTo>
                    <a:lnTo>
                      <a:pt x="2541" y="540"/>
                    </a:lnTo>
                    <a:lnTo>
                      <a:pt x="2460" y="540"/>
                    </a:lnTo>
                    <a:lnTo>
                      <a:pt x="2392" y="540"/>
                    </a:lnTo>
                    <a:lnTo>
                      <a:pt x="2352" y="540"/>
                    </a:lnTo>
                    <a:lnTo>
                      <a:pt x="2284" y="554"/>
                    </a:lnTo>
                    <a:lnTo>
                      <a:pt x="2203" y="554"/>
                    </a:lnTo>
                    <a:lnTo>
                      <a:pt x="2176" y="554"/>
                    </a:lnTo>
                    <a:lnTo>
                      <a:pt x="2095" y="554"/>
                    </a:lnTo>
                    <a:lnTo>
                      <a:pt x="2027" y="554"/>
                    </a:lnTo>
                    <a:lnTo>
                      <a:pt x="1987" y="554"/>
                    </a:lnTo>
                    <a:lnTo>
                      <a:pt x="1919" y="554"/>
                    </a:lnTo>
                    <a:lnTo>
                      <a:pt x="1838" y="540"/>
                    </a:lnTo>
                    <a:lnTo>
                      <a:pt x="1811" y="540"/>
                    </a:lnTo>
                    <a:lnTo>
                      <a:pt x="1730" y="540"/>
                    </a:lnTo>
                    <a:lnTo>
                      <a:pt x="1663" y="540"/>
                    </a:lnTo>
                    <a:lnTo>
                      <a:pt x="1622" y="540"/>
                    </a:lnTo>
                    <a:lnTo>
                      <a:pt x="1554" y="527"/>
                    </a:lnTo>
                    <a:lnTo>
                      <a:pt x="1487" y="527"/>
                    </a:lnTo>
                    <a:lnTo>
                      <a:pt x="1446" y="527"/>
                    </a:lnTo>
                    <a:lnTo>
                      <a:pt x="1379" y="513"/>
                    </a:lnTo>
                    <a:lnTo>
                      <a:pt x="1311" y="513"/>
                    </a:lnTo>
                    <a:lnTo>
                      <a:pt x="1271" y="513"/>
                    </a:lnTo>
                    <a:lnTo>
                      <a:pt x="1217" y="500"/>
                    </a:lnTo>
                    <a:lnTo>
                      <a:pt x="1149" y="486"/>
                    </a:lnTo>
                    <a:lnTo>
                      <a:pt x="1108" y="486"/>
                    </a:lnTo>
                    <a:lnTo>
                      <a:pt x="1041" y="473"/>
                    </a:lnTo>
                    <a:lnTo>
                      <a:pt x="987" y="473"/>
                    </a:lnTo>
                    <a:lnTo>
                      <a:pt x="960" y="459"/>
                    </a:lnTo>
                    <a:lnTo>
                      <a:pt x="892" y="446"/>
                    </a:lnTo>
                    <a:lnTo>
                      <a:pt x="838" y="446"/>
                    </a:lnTo>
                    <a:lnTo>
                      <a:pt x="811" y="432"/>
                    </a:lnTo>
                    <a:lnTo>
                      <a:pt x="743" y="419"/>
                    </a:lnTo>
                    <a:lnTo>
                      <a:pt x="689" y="405"/>
                    </a:lnTo>
                    <a:lnTo>
                      <a:pt x="662" y="405"/>
                    </a:lnTo>
                    <a:lnTo>
                      <a:pt x="608" y="392"/>
                    </a:lnTo>
                    <a:lnTo>
                      <a:pt x="568" y="378"/>
                    </a:lnTo>
                    <a:lnTo>
                      <a:pt x="541" y="364"/>
                    </a:lnTo>
                    <a:lnTo>
                      <a:pt x="487" y="351"/>
                    </a:lnTo>
                    <a:lnTo>
                      <a:pt x="446" y="337"/>
                    </a:lnTo>
                    <a:lnTo>
                      <a:pt x="419" y="337"/>
                    </a:lnTo>
                    <a:lnTo>
                      <a:pt x="379" y="310"/>
                    </a:lnTo>
                    <a:lnTo>
                      <a:pt x="338" y="297"/>
                    </a:lnTo>
                    <a:lnTo>
                      <a:pt x="311" y="297"/>
                    </a:lnTo>
                    <a:lnTo>
                      <a:pt x="284" y="283"/>
                    </a:lnTo>
                    <a:lnTo>
                      <a:pt x="243" y="256"/>
                    </a:lnTo>
                    <a:lnTo>
                      <a:pt x="230" y="256"/>
                    </a:lnTo>
                    <a:lnTo>
                      <a:pt x="189" y="229"/>
                    </a:lnTo>
                    <a:lnTo>
                      <a:pt x="162" y="216"/>
                    </a:lnTo>
                    <a:lnTo>
                      <a:pt x="149" y="202"/>
                    </a:lnTo>
                    <a:lnTo>
                      <a:pt x="122" y="189"/>
                    </a:lnTo>
                    <a:lnTo>
                      <a:pt x="95" y="175"/>
                    </a:lnTo>
                    <a:lnTo>
                      <a:pt x="95" y="162"/>
                    </a:lnTo>
                    <a:lnTo>
                      <a:pt x="68" y="148"/>
                    </a:lnTo>
                    <a:lnTo>
                      <a:pt x="54" y="121"/>
                    </a:lnTo>
                    <a:lnTo>
                      <a:pt x="41" y="121"/>
                    </a:lnTo>
                    <a:lnTo>
                      <a:pt x="27" y="94"/>
                    </a:lnTo>
                    <a:lnTo>
                      <a:pt x="14" y="81"/>
                    </a:lnTo>
                    <a:lnTo>
                      <a:pt x="14" y="67"/>
                    </a:lnTo>
                    <a:lnTo>
                      <a:pt x="0" y="5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35"/>
                    </a:lnTo>
                    <a:lnTo>
                      <a:pt x="14" y="648"/>
                    </a:lnTo>
                    <a:lnTo>
                      <a:pt x="14" y="662"/>
                    </a:lnTo>
                    <a:lnTo>
                      <a:pt x="27" y="675"/>
                    </a:lnTo>
                    <a:lnTo>
                      <a:pt x="41" y="702"/>
                    </a:lnTo>
                    <a:lnTo>
                      <a:pt x="54" y="702"/>
                    </a:lnTo>
                    <a:lnTo>
                      <a:pt x="68" y="729"/>
                    </a:lnTo>
                    <a:lnTo>
                      <a:pt x="95" y="743"/>
                    </a:lnTo>
                    <a:lnTo>
                      <a:pt x="95" y="756"/>
                    </a:lnTo>
                    <a:lnTo>
                      <a:pt x="122" y="770"/>
                    </a:lnTo>
                    <a:lnTo>
                      <a:pt x="149" y="783"/>
                    </a:lnTo>
                    <a:lnTo>
                      <a:pt x="162" y="797"/>
                    </a:lnTo>
                    <a:lnTo>
                      <a:pt x="189" y="811"/>
                    </a:lnTo>
                    <a:lnTo>
                      <a:pt x="230" y="838"/>
                    </a:lnTo>
                    <a:lnTo>
                      <a:pt x="243" y="838"/>
                    </a:lnTo>
                    <a:lnTo>
                      <a:pt x="284" y="865"/>
                    </a:lnTo>
                    <a:lnTo>
                      <a:pt x="311" y="878"/>
                    </a:lnTo>
                    <a:lnTo>
                      <a:pt x="338" y="878"/>
                    </a:lnTo>
                    <a:lnTo>
                      <a:pt x="379" y="892"/>
                    </a:lnTo>
                    <a:lnTo>
                      <a:pt x="419" y="919"/>
                    </a:lnTo>
                    <a:lnTo>
                      <a:pt x="446" y="919"/>
                    </a:lnTo>
                    <a:lnTo>
                      <a:pt x="487" y="932"/>
                    </a:lnTo>
                    <a:lnTo>
                      <a:pt x="541" y="946"/>
                    </a:lnTo>
                    <a:lnTo>
                      <a:pt x="568" y="959"/>
                    </a:lnTo>
                    <a:lnTo>
                      <a:pt x="608" y="973"/>
                    </a:lnTo>
                    <a:lnTo>
                      <a:pt x="662" y="986"/>
                    </a:lnTo>
                    <a:lnTo>
                      <a:pt x="689" y="986"/>
                    </a:lnTo>
                    <a:lnTo>
                      <a:pt x="743" y="1000"/>
                    </a:lnTo>
                    <a:lnTo>
                      <a:pt x="811" y="1013"/>
                    </a:lnTo>
                    <a:lnTo>
                      <a:pt x="838" y="1027"/>
                    </a:lnTo>
                    <a:lnTo>
                      <a:pt x="892" y="1027"/>
                    </a:lnTo>
                    <a:lnTo>
                      <a:pt x="960" y="1040"/>
                    </a:lnTo>
                    <a:lnTo>
                      <a:pt x="987" y="1054"/>
                    </a:lnTo>
                    <a:lnTo>
                      <a:pt x="1041" y="1054"/>
                    </a:lnTo>
                    <a:lnTo>
                      <a:pt x="1108" y="1067"/>
                    </a:lnTo>
                    <a:lnTo>
                      <a:pt x="1149" y="1067"/>
                    </a:lnTo>
                    <a:lnTo>
                      <a:pt x="1217" y="1081"/>
                    </a:lnTo>
                    <a:lnTo>
                      <a:pt x="1271" y="1094"/>
                    </a:lnTo>
                    <a:lnTo>
                      <a:pt x="1311" y="1094"/>
                    </a:lnTo>
                    <a:lnTo>
                      <a:pt x="1379" y="1094"/>
                    </a:lnTo>
                    <a:lnTo>
                      <a:pt x="1446" y="1108"/>
                    </a:lnTo>
                    <a:lnTo>
                      <a:pt x="1487" y="1108"/>
                    </a:lnTo>
                    <a:lnTo>
                      <a:pt x="1554" y="1108"/>
                    </a:lnTo>
                    <a:lnTo>
                      <a:pt x="1622" y="1121"/>
                    </a:lnTo>
                    <a:lnTo>
                      <a:pt x="1663" y="1121"/>
                    </a:lnTo>
                    <a:lnTo>
                      <a:pt x="1730" y="1121"/>
                    </a:lnTo>
                    <a:lnTo>
                      <a:pt x="1811" y="1121"/>
                    </a:lnTo>
                    <a:lnTo>
                      <a:pt x="1838" y="1121"/>
                    </a:lnTo>
                    <a:lnTo>
                      <a:pt x="1919" y="1135"/>
                    </a:lnTo>
                    <a:lnTo>
                      <a:pt x="1987" y="1135"/>
                    </a:lnTo>
                    <a:lnTo>
                      <a:pt x="2027" y="1135"/>
                    </a:lnTo>
                    <a:lnTo>
                      <a:pt x="2095" y="1135"/>
                    </a:lnTo>
                    <a:lnTo>
                      <a:pt x="2176" y="1135"/>
                    </a:lnTo>
                    <a:lnTo>
                      <a:pt x="2203" y="1135"/>
                    </a:lnTo>
                    <a:lnTo>
                      <a:pt x="2284" y="1135"/>
                    </a:lnTo>
                    <a:lnTo>
                      <a:pt x="2352" y="1121"/>
                    </a:lnTo>
                    <a:lnTo>
                      <a:pt x="2392" y="1121"/>
                    </a:lnTo>
                    <a:lnTo>
                      <a:pt x="2460" y="1121"/>
                    </a:lnTo>
                    <a:lnTo>
                      <a:pt x="2541" y="1121"/>
                    </a:lnTo>
                    <a:lnTo>
                      <a:pt x="2568" y="1121"/>
                    </a:lnTo>
                    <a:lnTo>
                      <a:pt x="2636" y="1108"/>
                    </a:lnTo>
                    <a:lnTo>
                      <a:pt x="2717" y="1108"/>
                    </a:lnTo>
                    <a:lnTo>
                      <a:pt x="2744" y="1108"/>
                    </a:lnTo>
                    <a:lnTo>
                      <a:pt x="2811" y="1094"/>
                    </a:lnTo>
                    <a:lnTo>
                      <a:pt x="2893" y="1094"/>
                    </a:lnTo>
                    <a:lnTo>
                      <a:pt x="2920" y="1094"/>
                    </a:lnTo>
                    <a:lnTo>
                      <a:pt x="2987" y="1081"/>
                    </a:lnTo>
                    <a:lnTo>
                      <a:pt x="3055" y="1067"/>
                    </a:lnTo>
                    <a:lnTo>
                      <a:pt x="3082" y="1067"/>
                    </a:lnTo>
                    <a:lnTo>
                      <a:pt x="3149" y="1054"/>
                    </a:lnTo>
                    <a:lnTo>
                      <a:pt x="3217" y="1054"/>
                    </a:lnTo>
                    <a:lnTo>
                      <a:pt x="3244" y="1040"/>
                    </a:lnTo>
                    <a:lnTo>
                      <a:pt x="3298" y="1027"/>
                    </a:lnTo>
                    <a:lnTo>
                      <a:pt x="3366" y="1027"/>
                    </a:lnTo>
                    <a:lnTo>
                      <a:pt x="3393" y="1013"/>
                    </a:lnTo>
                    <a:lnTo>
                      <a:pt x="3447" y="1000"/>
                    </a:lnTo>
                    <a:lnTo>
                      <a:pt x="3501" y="986"/>
                    </a:lnTo>
                    <a:lnTo>
                      <a:pt x="3528" y="986"/>
                    </a:lnTo>
                    <a:lnTo>
                      <a:pt x="3582" y="973"/>
                    </a:lnTo>
                    <a:lnTo>
                      <a:pt x="3636" y="959"/>
                    </a:lnTo>
                    <a:lnTo>
                      <a:pt x="3663" y="946"/>
                    </a:lnTo>
                    <a:lnTo>
                      <a:pt x="3703" y="932"/>
                    </a:lnTo>
                    <a:lnTo>
                      <a:pt x="3758" y="919"/>
                    </a:lnTo>
                    <a:lnTo>
                      <a:pt x="3771" y="919"/>
                    </a:lnTo>
                    <a:lnTo>
                      <a:pt x="3825" y="892"/>
                    </a:lnTo>
                    <a:lnTo>
                      <a:pt x="3866" y="878"/>
                    </a:lnTo>
                    <a:lnTo>
                      <a:pt x="3879" y="878"/>
                    </a:lnTo>
                    <a:lnTo>
                      <a:pt x="3920" y="865"/>
                    </a:lnTo>
                    <a:lnTo>
                      <a:pt x="3960" y="838"/>
                    </a:lnTo>
                    <a:lnTo>
                      <a:pt x="3974" y="838"/>
                    </a:lnTo>
                    <a:lnTo>
                      <a:pt x="4001" y="811"/>
                    </a:lnTo>
                    <a:lnTo>
                      <a:pt x="4028" y="797"/>
                    </a:lnTo>
                    <a:lnTo>
                      <a:pt x="4041" y="783"/>
                    </a:lnTo>
                    <a:lnTo>
                      <a:pt x="4068" y="770"/>
                    </a:lnTo>
                    <a:lnTo>
                      <a:pt x="4095" y="756"/>
                    </a:lnTo>
                    <a:lnTo>
                      <a:pt x="4109" y="743"/>
                    </a:lnTo>
                    <a:lnTo>
                      <a:pt x="4122" y="729"/>
                    </a:lnTo>
                    <a:lnTo>
                      <a:pt x="4150" y="702"/>
                    </a:lnTo>
                    <a:lnTo>
                      <a:pt x="4150" y="702"/>
                    </a:lnTo>
                    <a:lnTo>
                      <a:pt x="4163" y="675"/>
                    </a:lnTo>
                    <a:lnTo>
                      <a:pt x="4177" y="662"/>
                    </a:lnTo>
                    <a:lnTo>
                      <a:pt x="4190" y="648"/>
                    </a:lnTo>
                    <a:lnTo>
                      <a:pt x="4190" y="635"/>
                    </a:lnTo>
                    <a:lnTo>
                      <a:pt x="4204" y="608"/>
                    </a:lnTo>
                    <a:lnTo>
                      <a:pt x="4204" y="608"/>
                    </a:lnTo>
                    <a:lnTo>
                      <a:pt x="4204" y="581"/>
                    </a:lnTo>
                    <a:lnTo>
                      <a:pt x="4204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76360" y="2347920"/>
                <a:ext cx="6673680" cy="1395360"/>
              </a:xfrm>
              <a:custGeom>
                <a:avLst/>
                <a:gdLst/>
                <a:ahLst/>
                <a:rect l="l" t="t" r="r" b="b"/>
                <a:pathLst>
                  <a:path w="4204" h="879">
                    <a:moveTo>
                      <a:pt x="3798" y="0"/>
                    </a:moveTo>
                    <a:lnTo>
                      <a:pt x="3839" y="27"/>
                    </a:lnTo>
                    <a:lnTo>
                      <a:pt x="3866" y="27"/>
                    </a:lnTo>
                    <a:lnTo>
                      <a:pt x="3906" y="41"/>
                    </a:lnTo>
                    <a:lnTo>
                      <a:pt x="3933" y="68"/>
                    </a:lnTo>
                    <a:lnTo>
                      <a:pt x="3960" y="68"/>
                    </a:lnTo>
                    <a:lnTo>
                      <a:pt x="3987" y="81"/>
                    </a:lnTo>
                    <a:lnTo>
                      <a:pt x="4014" y="108"/>
                    </a:lnTo>
                    <a:lnTo>
                      <a:pt x="4028" y="108"/>
                    </a:lnTo>
                    <a:lnTo>
                      <a:pt x="4055" y="135"/>
                    </a:lnTo>
                    <a:lnTo>
                      <a:pt x="4082" y="149"/>
                    </a:lnTo>
                    <a:lnTo>
                      <a:pt x="4095" y="162"/>
                    </a:lnTo>
                    <a:lnTo>
                      <a:pt x="4122" y="176"/>
                    </a:lnTo>
                    <a:lnTo>
                      <a:pt x="4136" y="189"/>
                    </a:lnTo>
                    <a:lnTo>
                      <a:pt x="4150" y="203"/>
                    </a:lnTo>
                    <a:lnTo>
                      <a:pt x="4163" y="230"/>
                    </a:lnTo>
                    <a:lnTo>
                      <a:pt x="4177" y="243"/>
                    </a:lnTo>
                    <a:lnTo>
                      <a:pt x="4177" y="257"/>
                    </a:lnTo>
                    <a:lnTo>
                      <a:pt x="4190" y="270"/>
                    </a:lnTo>
                    <a:lnTo>
                      <a:pt x="4190" y="284"/>
                    </a:lnTo>
                    <a:lnTo>
                      <a:pt x="4204" y="298"/>
                    </a:lnTo>
                    <a:lnTo>
                      <a:pt x="4204" y="325"/>
                    </a:lnTo>
                    <a:lnTo>
                      <a:pt x="4204" y="338"/>
                    </a:lnTo>
                    <a:lnTo>
                      <a:pt x="4204" y="352"/>
                    </a:lnTo>
                    <a:lnTo>
                      <a:pt x="4190" y="365"/>
                    </a:lnTo>
                    <a:lnTo>
                      <a:pt x="4190" y="379"/>
                    </a:lnTo>
                    <a:lnTo>
                      <a:pt x="4190" y="392"/>
                    </a:lnTo>
                    <a:lnTo>
                      <a:pt x="4177" y="419"/>
                    </a:lnTo>
                    <a:lnTo>
                      <a:pt x="4163" y="419"/>
                    </a:lnTo>
                    <a:lnTo>
                      <a:pt x="4150" y="446"/>
                    </a:lnTo>
                    <a:lnTo>
                      <a:pt x="4136" y="460"/>
                    </a:lnTo>
                    <a:lnTo>
                      <a:pt x="4122" y="473"/>
                    </a:lnTo>
                    <a:lnTo>
                      <a:pt x="4109" y="487"/>
                    </a:lnTo>
                    <a:lnTo>
                      <a:pt x="4082" y="500"/>
                    </a:lnTo>
                    <a:lnTo>
                      <a:pt x="4068" y="514"/>
                    </a:lnTo>
                    <a:lnTo>
                      <a:pt x="4041" y="527"/>
                    </a:lnTo>
                    <a:lnTo>
                      <a:pt x="4014" y="554"/>
                    </a:lnTo>
                    <a:lnTo>
                      <a:pt x="4001" y="554"/>
                    </a:lnTo>
                    <a:lnTo>
                      <a:pt x="3974" y="581"/>
                    </a:lnTo>
                    <a:lnTo>
                      <a:pt x="3933" y="595"/>
                    </a:lnTo>
                    <a:lnTo>
                      <a:pt x="3920" y="608"/>
                    </a:lnTo>
                    <a:lnTo>
                      <a:pt x="3879" y="622"/>
                    </a:lnTo>
                    <a:lnTo>
                      <a:pt x="3839" y="635"/>
                    </a:lnTo>
                    <a:lnTo>
                      <a:pt x="3825" y="635"/>
                    </a:lnTo>
                    <a:lnTo>
                      <a:pt x="3771" y="662"/>
                    </a:lnTo>
                    <a:lnTo>
                      <a:pt x="3731" y="676"/>
                    </a:lnTo>
                    <a:lnTo>
                      <a:pt x="3703" y="676"/>
                    </a:lnTo>
                    <a:lnTo>
                      <a:pt x="3663" y="689"/>
                    </a:lnTo>
                    <a:lnTo>
                      <a:pt x="3609" y="703"/>
                    </a:lnTo>
                    <a:lnTo>
                      <a:pt x="3582" y="717"/>
                    </a:lnTo>
                    <a:lnTo>
                      <a:pt x="3528" y="730"/>
                    </a:lnTo>
                    <a:lnTo>
                      <a:pt x="3474" y="744"/>
                    </a:lnTo>
                    <a:lnTo>
                      <a:pt x="3447" y="744"/>
                    </a:lnTo>
                    <a:lnTo>
                      <a:pt x="3393" y="757"/>
                    </a:lnTo>
                    <a:lnTo>
                      <a:pt x="3339" y="771"/>
                    </a:lnTo>
                    <a:lnTo>
                      <a:pt x="3298" y="771"/>
                    </a:lnTo>
                    <a:lnTo>
                      <a:pt x="3244" y="784"/>
                    </a:lnTo>
                    <a:lnTo>
                      <a:pt x="3176" y="798"/>
                    </a:lnTo>
                    <a:lnTo>
                      <a:pt x="3149" y="798"/>
                    </a:lnTo>
                    <a:lnTo>
                      <a:pt x="3082" y="811"/>
                    </a:lnTo>
                    <a:lnTo>
                      <a:pt x="3014" y="825"/>
                    </a:lnTo>
                    <a:lnTo>
                      <a:pt x="2987" y="825"/>
                    </a:lnTo>
                    <a:lnTo>
                      <a:pt x="2920" y="838"/>
                    </a:lnTo>
                    <a:lnTo>
                      <a:pt x="2852" y="838"/>
                    </a:lnTo>
                    <a:lnTo>
                      <a:pt x="2811" y="838"/>
                    </a:lnTo>
                    <a:lnTo>
                      <a:pt x="2744" y="852"/>
                    </a:lnTo>
                    <a:lnTo>
                      <a:pt x="2676" y="852"/>
                    </a:lnTo>
                    <a:lnTo>
                      <a:pt x="2636" y="852"/>
                    </a:lnTo>
                    <a:lnTo>
                      <a:pt x="2568" y="865"/>
                    </a:lnTo>
                    <a:lnTo>
                      <a:pt x="2501" y="865"/>
                    </a:lnTo>
                    <a:lnTo>
                      <a:pt x="2460" y="865"/>
                    </a:lnTo>
                    <a:lnTo>
                      <a:pt x="2392" y="865"/>
                    </a:lnTo>
                    <a:lnTo>
                      <a:pt x="2352" y="865"/>
                    </a:lnTo>
                    <a:lnTo>
                      <a:pt x="2284" y="879"/>
                    </a:lnTo>
                    <a:lnTo>
                      <a:pt x="2203" y="879"/>
                    </a:lnTo>
                    <a:lnTo>
                      <a:pt x="2176" y="879"/>
                    </a:lnTo>
                    <a:lnTo>
                      <a:pt x="2095" y="879"/>
                    </a:lnTo>
                    <a:lnTo>
                      <a:pt x="2027" y="879"/>
                    </a:lnTo>
                    <a:lnTo>
                      <a:pt x="1987" y="879"/>
                    </a:lnTo>
                    <a:lnTo>
                      <a:pt x="1919" y="879"/>
                    </a:lnTo>
                    <a:lnTo>
                      <a:pt x="1838" y="865"/>
                    </a:lnTo>
                    <a:lnTo>
                      <a:pt x="1811" y="865"/>
                    </a:lnTo>
                    <a:lnTo>
                      <a:pt x="1730" y="865"/>
                    </a:lnTo>
                    <a:lnTo>
                      <a:pt x="1663" y="865"/>
                    </a:lnTo>
                    <a:lnTo>
                      <a:pt x="1622" y="865"/>
                    </a:lnTo>
                    <a:lnTo>
                      <a:pt x="1554" y="852"/>
                    </a:lnTo>
                    <a:lnTo>
                      <a:pt x="1487" y="852"/>
                    </a:lnTo>
                    <a:lnTo>
                      <a:pt x="1446" y="852"/>
                    </a:lnTo>
                    <a:lnTo>
                      <a:pt x="1379" y="838"/>
                    </a:lnTo>
                    <a:lnTo>
                      <a:pt x="1311" y="838"/>
                    </a:lnTo>
                    <a:lnTo>
                      <a:pt x="1271" y="838"/>
                    </a:lnTo>
                    <a:lnTo>
                      <a:pt x="1217" y="825"/>
                    </a:lnTo>
                    <a:lnTo>
                      <a:pt x="1149" y="811"/>
                    </a:lnTo>
                    <a:lnTo>
                      <a:pt x="1108" y="811"/>
                    </a:lnTo>
                    <a:lnTo>
                      <a:pt x="1041" y="798"/>
                    </a:lnTo>
                    <a:lnTo>
                      <a:pt x="987" y="798"/>
                    </a:lnTo>
                    <a:lnTo>
                      <a:pt x="960" y="784"/>
                    </a:lnTo>
                    <a:lnTo>
                      <a:pt x="892" y="771"/>
                    </a:lnTo>
                    <a:lnTo>
                      <a:pt x="838" y="771"/>
                    </a:lnTo>
                    <a:lnTo>
                      <a:pt x="811" y="757"/>
                    </a:lnTo>
                    <a:lnTo>
                      <a:pt x="743" y="744"/>
                    </a:lnTo>
                    <a:lnTo>
                      <a:pt x="689" y="730"/>
                    </a:lnTo>
                    <a:lnTo>
                      <a:pt x="662" y="730"/>
                    </a:lnTo>
                    <a:lnTo>
                      <a:pt x="608" y="717"/>
                    </a:lnTo>
                    <a:lnTo>
                      <a:pt x="568" y="703"/>
                    </a:lnTo>
                    <a:lnTo>
                      <a:pt x="541" y="689"/>
                    </a:lnTo>
                    <a:lnTo>
                      <a:pt x="487" y="676"/>
                    </a:lnTo>
                    <a:lnTo>
                      <a:pt x="446" y="662"/>
                    </a:lnTo>
                    <a:lnTo>
                      <a:pt x="419" y="662"/>
                    </a:lnTo>
                    <a:lnTo>
                      <a:pt x="379" y="635"/>
                    </a:lnTo>
                    <a:lnTo>
                      <a:pt x="338" y="622"/>
                    </a:lnTo>
                    <a:lnTo>
                      <a:pt x="311" y="622"/>
                    </a:lnTo>
                    <a:lnTo>
                      <a:pt x="284" y="608"/>
                    </a:lnTo>
                    <a:lnTo>
                      <a:pt x="243" y="581"/>
                    </a:lnTo>
                    <a:lnTo>
                      <a:pt x="230" y="581"/>
                    </a:lnTo>
                    <a:lnTo>
                      <a:pt x="189" y="554"/>
                    </a:lnTo>
                    <a:lnTo>
                      <a:pt x="162" y="541"/>
                    </a:lnTo>
                    <a:lnTo>
                      <a:pt x="149" y="527"/>
                    </a:lnTo>
                    <a:lnTo>
                      <a:pt x="122" y="514"/>
                    </a:lnTo>
                    <a:lnTo>
                      <a:pt x="108" y="500"/>
                    </a:lnTo>
                    <a:lnTo>
                      <a:pt x="95" y="487"/>
                    </a:lnTo>
                    <a:lnTo>
                      <a:pt x="68" y="473"/>
                    </a:lnTo>
                    <a:lnTo>
                      <a:pt x="54" y="460"/>
                    </a:lnTo>
                    <a:lnTo>
                      <a:pt x="41" y="446"/>
                    </a:lnTo>
                    <a:lnTo>
                      <a:pt x="27" y="419"/>
                    </a:lnTo>
                    <a:lnTo>
                      <a:pt x="27" y="419"/>
                    </a:lnTo>
                    <a:lnTo>
                      <a:pt x="14" y="392"/>
                    </a:lnTo>
                    <a:lnTo>
                      <a:pt x="0" y="379"/>
                    </a:lnTo>
                    <a:lnTo>
                      <a:pt x="0" y="365"/>
                    </a:lnTo>
                    <a:lnTo>
                      <a:pt x="0" y="352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14" y="270"/>
                    </a:lnTo>
                    <a:lnTo>
                      <a:pt x="14" y="257"/>
                    </a:lnTo>
                    <a:lnTo>
                      <a:pt x="27" y="230"/>
                    </a:lnTo>
                    <a:lnTo>
                      <a:pt x="41" y="230"/>
                    </a:lnTo>
                    <a:lnTo>
                      <a:pt x="54" y="203"/>
                    </a:lnTo>
                    <a:lnTo>
                      <a:pt x="68" y="189"/>
                    </a:lnTo>
                    <a:lnTo>
                      <a:pt x="81" y="176"/>
                    </a:lnTo>
                    <a:lnTo>
                      <a:pt x="95" y="162"/>
                    </a:lnTo>
                    <a:lnTo>
                      <a:pt x="2095" y="325"/>
                    </a:lnTo>
                    <a:lnTo>
                      <a:pt x="3798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412720" y="1411200"/>
              <a:ext cx="347760" cy="1655640"/>
              <a:chOff x="2412720" y="1411200"/>
              <a:chExt cx="347760" cy="1655640"/>
            </a:xfrm>
          </p:grpSpPr>
          <p:sp>
            <p:nvSpPr>
              <p:cNvPr id="847" name=""/>
              <p:cNvSpPr/>
              <p:nvPr/>
            </p:nvSpPr>
            <p:spPr>
              <a:xfrm>
                <a:off x="2484000" y="1914480"/>
                <a:ext cx="21600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412720" y="1411200"/>
                <a:ext cx="34776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6084720" y="1843200"/>
              <a:ext cx="347760" cy="1655640"/>
              <a:chOff x="6084720" y="1843200"/>
              <a:chExt cx="347760" cy="1655640"/>
            </a:xfrm>
          </p:grpSpPr>
          <p:sp>
            <p:nvSpPr>
              <p:cNvPr id="850" name=""/>
              <p:cNvSpPr/>
              <p:nvPr/>
            </p:nvSpPr>
            <p:spPr>
              <a:xfrm>
                <a:off x="6156000" y="2346480"/>
                <a:ext cx="21600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84720" y="1843200"/>
                <a:ext cx="34776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7092720" y="1268280"/>
              <a:ext cx="287640" cy="1510920"/>
              <a:chOff x="7092720" y="1268280"/>
              <a:chExt cx="287640" cy="1510920"/>
            </a:xfrm>
          </p:grpSpPr>
          <p:sp>
            <p:nvSpPr>
              <p:cNvPr id="853" name=""/>
              <p:cNvSpPr/>
              <p:nvPr/>
            </p:nvSpPr>
            <p:spPr>
              <a:xfrm>
                <a:off x="7151400" y="1727640"/>
                <a:ext cx="178560" cy="10515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92720" y="1268280"/>
                <a:ext cx="287640" cy="57960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4716360" y="1915920"/>
              <a:ext cx="347760" cy="1655640"/>
              <a:chOff x="4716360" y="1915920"/>
              <a:chExt cx="347760" cy="1655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787640" y="2419200"/>
                <a:ext cx="21600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716360" y="1915920"/>
                <a:ext cx="34776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3421080" y="1771560"/>
              <a:ext cx="347400" cy="1655640"/>
              <a:chOff x="3421080" y="1771560"/>
              <a:chExt cx="347400" cy="1655640"/>
            </a:xfrm>
          </p:grpSpPr>
          <p:sp>
            <p:nvSpPr>
              <p:cNvPr id="859" name=""/>
              <p:cNvSpPr/>
              <p:nvPr/>
            </p:nvSpPr>
            <p:spPr>
              <a:xfrm>
                <a:off x="3492000" y="2274840"/>
                <a:ext cx="21564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421080" y="1771560"/>
                <a:ext cx="34740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833" dur="1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83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 0.07977 L 0.77951 -0.00948 E">
                                      <p:cBhvr>
                                        <p:cTn id="838" dur="2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500"/>
                            </p:stCondLst>
                            <p:childTnLst>
                              <p:par>
                                <p:cTn id="8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27168E-006 L 0.05243 0.16162 E">
                                      <p:cBhvr>
                                        <p:cTn id="848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7500"/>
                            </p:stCondLst>
                            <p:childTnLst>
                              <p:par>
                                <p:cTn id="8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55112E-017 L 0.06476 -0.07029 E">
                                      <p:cBhvr>
                                        <p:cTn id="856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276720" y="1052640"/>
            <a:ext cx="4825800" cy="4897440"/>
            <a:chOff x="3276720" y="1052640"/>
            <a:chExt cx="4825800" cy="4897440"/>
          </a:xfrm>
        </p:grpSpPr>
        <p:sp>
          <p:nvSpPr>
            <p:cNvPr id="862" name=""/>
            <p:cNvSpPr/>
            <p:nvPr/>
          </p:nvSpPr>
          <p:spPr>
            <a:xfrm>
              <a:off x="3276720" y="1052640"/>
              <a:ext cx="4825800" cy="489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cc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76720" y="4508640"/>
              <a:ext cx="1584000" cy="144144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6720" y="3068640"/>
              <a:ext cx="3024000" cy="280836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16360" y="1052640"/>
              <a:ext cx="1584000" cy="144144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76720" y="1052640"/>
              <a:ext cx="3023640" cy="280800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000" y="1052640"/>
              <a:ext cx="4752360" cy="489744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276720" y="1052640"/>
              <a:ext cx="4824000" cy="4897440"/>
            </a:xfrm>
            <a:prstGeom prst="line">
              <a:avLst/>
            </a:prstGeom>
            <a:ln w="2844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2514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6300720" y="1341360"/>
            <a:ext cx="1652760" cy="1382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2867040" y="80496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 flipH="1">
            <a:off x="1834920" y="242100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 flipH="1">
            <a:off x="3419640" y="4292640"/>
            <a:ext cx="1584000" cy="1325520"/>
          </a:xfrm>
          <a:prstGeom prst="rect">
            <a:avLst/>
          </a:prstGeom>
          <a:ln w="0">
            <a:noFill/>
          </a:ln>
        </p:spPr>
      </p:pic>
      <p:grpSp>
        <p:nvGrpSpPr>
          <p:cNvPr id="874" name=""/>
          <p:cNvGrpSpPr/>
          <p:nvPr/>
        </p:nvGrpSpPr>
        <p:grpSpPr>
          <a:xfrm>
            <a:off x="4716360" y="2421000"/>
            <a:ext cx="1409400" cy="1528560"/>
            <a:chOff x="4716360" y="2421000"/>
            <a:chExt cx="1409400" cy="1528560"/>
          </a:xfrm>
        </p:grpSpPr>
        <p:grpSp>
          <p:nvGrpSpPr>
            <p:cNvPr id="875" name=""/>
            <p:cNvGrpSpPr/>
            <p:nvPr/>
          </p:nvGrpSpPr>
          <p:grpSpPr>
            <a:xfrm>
              <a:off x="4716360" y="2421000"/>
              <a:ext cx="1409400" cy="1528560"/>
              <a:chOff x="4716360" y="2421000"/>
              <a:chExt cx="1409400" cy="1528560"/>
            </a:xfrm>
          </p:grpSpPr>
          <p:sp>
            <p:nvSpPr>
              <p:cNvPr id="876" name=""/>
              <p:cNvSpPr/>
              <p:nvPr/>
            </p:nvSpPr>
            <p:spPr>
              <a:xfrm>
                <a:off x="5716440" y="2421000"/>
                <a:ext cx="409320" cy="1528560"/>
              </a:xfrm>
              <a:custGeom>
                <a:avLst/>
                <a:gdLst/>
                <a:ahLst/>
                <a:rect l="l" t="t" r="r" b="b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16360" y="2421000"/>
                <a:ext cx="990360" cy="1528560"/>
              </a:xfrm>
              <a:custGeom>
                <a:avLst/>
                <a:gdLst/>
                <a:ahLst/>
                <a:rect l="l" t="t" r="r" b="b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716360" y="2421000"/>
                <a:ext cx="1409400" cy="606240"/>
              </a:xfrm>
              <a:custGeom>
                <a:avLst/>
                <a:gdLst/>
                <a:ahLst/>
                <a:rect l="l" t="t" r="r" b="b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508360" y="2565360"/>
              <a:ext cx="216000" cy="1422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780000" y="1628640"/>
            <a:ext cx="990360" cy="1774800"/>
            <a:chOff x="3780000" y="1628640"/>
            <a:chExt cx="990360" cy="1774800"/>
          </a:xfrm>
        </p:grpSpPr>
        <p:grpSp>
          <p:nvGrpSpPr>
            <p:cNvPr id="881" name=""/>
            <p:cNvGrpSpPr/>
            <p:nvPr/>
          </p:nvGrpSpPr>
          <p:grpSpPr>
            <a:xfrm>
              <a:off x="3780000" y="1628640"/>
              <a:ext cx="990360" cy="1774800"/>
              <a:chOff x="3780000" y="1628640"/>
              <a:chExt cx="990360" cy="1774800"/>
            </a:xfrm>
          </p:grpSpPr>
          <p:sp>
            <p:nvSpPr>
              <p:cNvPr id="882" name=""/>
              <p:cNvSpPr/>
              <p:nvPr/>
            </p:nvSpPr>
            <p:spPr>
              <a:xfrm>
                <a:off x="3780000" y="1876320"/>
                <a:ext cx="990360" cy="1527120"/>
              </a:xfrm>
              <a:custGeom>
                <a:avLst/>
                <a:gdLst/>
                <a:ahLst/>
                <a:rect l="l" t="t" r="r" b="b"/>
                <a:pathLst>
                  <a:path w="624" h="962">
                    <a:moveTo>
                      <a:pt x="624" y="382"/>
                    </a:moveTo>
                    <a:lnTo>
                      <a:pt x="0" y="0"/>
                    </a:lnTo>
                    <a:lnTo>
                      <a:pt x="0" y="580"/>
                    </a:lnTo>
                    <a:lnTo>
                      <a:pt x="624" y="962"/>
                    </a:lnTo>
                    <a:lnTo>
                      <a:pt x="624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80000" y="1628640"/>
                <a:ext cx="990360" cy="853920"/>
              </a:xfrm>
              <a:custGeom>
                <a:avLst/>
                <a:gdLst/>
                <a:ahLst/>
                <a:rect l="l" t="t" r="r" b="b"/>
                <a:pathLst>
                  <a:path w="624" h="538">
                    <a:moveTo>
                      <a:pt x="0" y="156"/>
                    </a:moveTo>
                    <a:lnTo>
                      <a:pt x="24" y="142"/>
                    </a:lnTo>
                    <a:lnTo>
                      <a:pt x="36" y="142"/>
                    </a:lnTo>
                    <a:lnTo>
                      <a:pt x="54" y="128"/>
                    </a:lnTo>
                    <a:lnTo>
                      <a:pt x="78" y="114"/>
                    </a:lnTo>
                    <a:lnTo>
                      <a:pt x="90" y="114"/>
                    </a:lnTo>
                    <a:lnTo>
                      <a:pt x="120" y="99"/>
                    </a:lnTo>
                    <a:lnTo>
                      <a:pt x="144" y="85"/>
                    </a:lnTo>
                    <a:lnTo>
                      <a:pt x="156" y="85"/>
                    </a:lnTo>
                    <a:lnTo>
                      <a:pt x="180" y="71"/>
                    </a:lnTo>
                    <a:lnTo>
                      <a:pt x="210" y="57"/>
                    </a:lnTo>
                    <a:lnTo>
                      <a:pt x="222" y="57"/>
                    </a:lnTo>
                    <a:lnTo>
                      <a:pt x="252" y="43"/>
                    </a:lnTo>
                    <a:lnTo>
                      <a:pt x="282" y="43"/>
                    </a:lnTo>
                    <a:lnTo>
                      <a:pt x="294" y="43"/>
                    </a:lnTo>
                    <a:lnTo>
                      <a:pt x="324" y="29"/>
                    </a:lnTo>
                    <a:lnTo>
                      <a:pt x="354" y="29"/>
                    </a:lnTo>
                    <a:lnTo>
                      <a:pt x="366" y="14"/>
                    </a:lnTo>
                    <a:lnTo>
                      <a:pt x="396" y="14"/>
                    </a:lnTo>
                    <a:lnTo>
                      <a:pt x="426" y="14"/>
                    </a:lnTo>
                    <a:lnTo>
                      <a:pt x="444" y="14"/>
                    </a:lnTo>
                    <a:lnTo>
                      <a:pt x="474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46" y="0"/>
                    </a:lnTo>
                    <a:lnTo>
                      <a:pt x="582" y="0"/>
                    </a:lnTo>
                    <a:lnTo>
                      <a:pt x="594" y="0"/>
                    </a:lnTo>
                    <a:lnTo>
                      <a:pt x="624" y="0"/>
                    </a:lnTo>
                    <a:lnTo>
                      <a:pt x="624" y="53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498920" y="2178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82920" y="188892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348000" y="1844640"/>
            <a:ext cx="1400040" cy="1527120"/>
            <a:chOff x="3348000" y="1844640"/>
            <a:chExt cx="1400040" cy="1527120"/>
          </a:xfrm>
        </p:grpSpPr>
        <p:grpSp>
          <p:nvGrpSpPr>
            <p:cNvPr id="887" name=""/>
            <p:cNvGrpSpPr/>
            <p:nvPr/>
          </p:nvGrpSpPr>
          <p:grpSpPr>
            <a:xfrm>
              <a:off x="3348000" y="1844640"/>
              <a:ext cx="1400040" cy="1527120"/>
              <a:chOff x="3348000" y="1844640"/>
              <a:chExt cx="1400040" cy="1527120"/>
            </a:xfrm>
          </p:grpSpPr>
          <p:sp>
            <p:nvSpPr>
              <p:cNvPr id="888" name=""/>
              <p:cNvSpPr/>
              <p:nvPr/>
            </p:nvSpPr>
            <p:spPr>
              <a:xfrm>
                <a:off x="334800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48000" y="1844640"/>
                <a:ext cx="1400040" cy="606240"/>
              </a:xfrm>
              <a:custGeom>
                <a:avLst/>
                <a:gdLst/>
                <a:ahLst/>
                <a:rect l="l" t="t" r="r" b="b"/>
                <a:pathLst>
                  <a:path w="882" h="382">
                    <a:moveTo>
                      <a:pt x="0" y="382"/>
                    </a:moveTo>
                    <a:lnTo>
                      <a:pt x="0" y="368"/>
                    </a:lnTo>
                    <a:lnTo>
                      <a:pt x="0" y="354"/>
                    </a:lnTo>
                    <a:lnTo>
                      <a:pt x="0" y="340"/>
                    </a:lnTo>
                    <a:lnTo>
                      <a:pt x="6" y="326"/>
                    </a:lnTo>
                    <a:lnTo>
                      <a:pt x="6" y="311"/>
                    </a:lnTo>
                    <a:lnTo>
                      <a:pt x="12" y="297"/>
                    </a:lnTo>
                    <a:lnTo>
                      <a:pt x="18" y="269"/>
                    </a:lnTo>
                    <a:lnTo>
                      <a:pt x="24" y="269"/>
                    </a:lnTo>
                    <a:lnTo>
                      <a:pt x="30" y="241"/>
                    </a:lnTo>
                    <a:lnTo>
                      <a:pt x="36" y="226"/>
                    </a:lnTo>
                    <a:lnTo>
                      <a:pt x="42" y="212"/>
                    </a:lnTo>
                    <a:lnTo>
                      <a:pt x="54" y="198"/>
                    </a:lnTo>
                    <a:lnTo>
                      <a:pt x="60" y="184"/>
                    </a:lnTo>
                    <a:lnTo>
                      <a:pt x="66" y="170"/>
                    </a:lnTo>
                    <a:lnTo>
                      <a:pt x="84" y="156"/>
                    </a:lnTo>
                    <a:lnTo>
                      <a:pt x="96" y="142"/>
                    </a:lnTo>
                    <a:lnTo>
                      <a:pt x="102" y="127"/>
                    </a:lnTo>
                    <a:lnTo>
                      <a:pt x="120" y="113"/>
                    </a:lnTo>
                    <a:lnTo>
                      <a:pt x="132" y="99"/>
                    </a:lnTo>
                    <a:lnTo>
                      <a:pt x="144" y="85"/>
                    </a:lnTo>
                    <a:lnTo>
                      <a:pt x="156" y="71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204" y="42"/>
                    </a:lnTo>
                    <a:lnTo>
                      <a:pt x="228" y="14"/>
                    </a:lnTo>
                    <a:lnTo>
                      <a:pt x="234" y="14"/>
                    </a:lnTo>
                    <a:lnTo>
                      <a:pt x="258" y="0"/>
                    </a:lnTo>
                    <a:lnTo>
                      <a:pt x="882" y="38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3997440" y="220320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65440" y="198720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3348000" y="2421000"/>
            <a:ext cx="1400040" cy="1528560"/>
            <a:chOff x="3348000" y="2421000"/>
            <a:chExt cx="1400040" cy="1528560"/>
          </a:xfrm>
        </p:grpSpPr>
        <p:grpSp>
          <p:nvGrpSpPr>
            <p:cNvPr id="893" name=""/>
            <p:cNvGrpSpPr/>
            <p:nvPr/>
          </p:nvGrpSpPr>
          <p:grpSpPr>
            <a:xfrm>
              <a:off x="3348000" y="2421000"/>
              <a:ext cx="1400040" cy="1528560"/>
              <a:chOff x="3348000" y="2421000"/>
              <a:chExt cx="1400040" cy="1528560"/>
            </a:xfrm>
          </p:grpSpPr>
          <p:sp>
            <p:nvSpPr>
              <p:cNvPr id="894" name=""/>
              <p:cNvSpPr/>
              <p:nvPr/>
            </p:nvSpPr>
            <p:spPr>
              <a:xfrm>
                <a:off x="3348000" y="2421000"/>
                <a:ext cx="409320" cy="1528560"/>
              </a:xfrm>
              <a:custGeom>
                <a:avLst/>
                <a:gdLst/>
                <a:ahLst/>
                <a:rect l="l" t="t" r="r" b="b"/>
                <a:pathLst>
                  <a:path w="258" h="963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609"/>
                    </a:lnTo>
                    <a:lnTo>
                      <a:pt x="0" y="609"/>
                    </a:lnTo>
                    <a:lnTo>
                      <a:pt x="0" y="637"/>
                    </a:lnTo>
                    <a:lnTo>
                      <a:pt x="6" y="651"/>
                    </a:lnTo>
                    <a:lnTo>
                      <a:pt x="6" y="665"/>
                    </a:lnTo>
                    <a:lnTo>
                      <a:pt x="12" y="680"/>
                    </a:lnTo>
                    <a:lnTo>
                      <a:pt x="18" y="694"/>
                    </a:lnTo>
                    <a:lnTo>
                      <a:pt x="24" y="708"/>
                    </a:lnTo>
                    <a:lnTo>
                      <a:pt x="30" y="722"/>
                    </a:lnTo>
                    <a:lnTo>
                      <a:pt x="36" y="750"/>
                    </a:lnTo>
                    <a:lnTo>
                      <a:pt x="42" y="750"/>
                    </a:lnTo>
                    <a:lnTo>
                      <a:pt x="54" y="764"/>
                    </a:lnTo>
                    <a:lnTo>
                      <a:pt x="60" y="793"/>
                    </a:lnTo>
                    <a:lnTo>
                      <a:pt x="66" y="793"/>
                    </a:lnTo>
                    <a:lnTo>
                      <a:pt x="84" y="821"/>
                    </a:lnTo>
                    <a:lnTo>
                      <a:pt x="96" y="835"/>
                    </a:lnTo>
                    <a:lnTo>
                      <a:pt x="102" y="835"/>
                    </a:lnTo>
                    <a:lnTo>
                      <a:pt x="120" y="864"/>
                    </a:lnTo>
                    <a:lnTo>
                      <a:pt x="132" y="878"/>
                    </a:lnTo>
                    <a:lnTo>
                      <a:pt x="144" y="878"/>
                    </a:lnTo>
                    <a:lnTo>
                      <a:pt x="156" y="892"/>
                    </a:lnTo>
                    <a:lnTo>
                      <a:pt x="174" y="906"/>
                    </a:lnTo>
                    <a:lnTo>
                      <a:pt x="186" y="920"/>
                    </a:lnTo>
                    <a:lnTo>
                      <a:pt x="204" y="934"/>
                    </a:lnTo>
                    <a:lnTo>
                      <a:pt x="228" y="948"/>
                    </a:lnTo>
                    <a:lnTo>
                      <a:pt x="234" y="963"/>
                    </a:lnTo>
                    <a:lnTo>
                      <a:pt x="258" y="963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57320" y="2421000"/>
                <a:ext cx="990360" cy="1528560"/>
              </a:xfrm>
              <a:custGeom>
                <a:avLst/>
                <a:gdLst/>
                <a:ahLst/>
                <a:rect l="l" t="t" r="r" b="b"/>
                <a:pathLst>
                  <a:path w="624" h="963">
                    <a:moveTo>
                      <a:pt x="624" y="0"/>
                    </a:moveTo>
                    <a:lnTo>
                      <a:pt x="0" y="382"/>
                    </a:lnTo>
                    <a:lnTo>
                      <a:pt x="0" y="963"/>
                    </a:lnTo>
                    <a:lnTo>
                      <a:pt x="624" y="580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48000" y="2421000"/>
                <a:ext cx="1400040" cy="606240"/>
              </a:xfrm>
              <a:custGeom>
                <a:avLst/>
                <a:gdLst/>
                <a:ahLst/>
                <a:rect l="l" t="t" r="r" b="b"/>
                <a:pathLst>
                  <a:path w="882" h="382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3708000" y="256500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716360" y="1628640"/>
            <a:ext cx="1000080" cy="1774800"/>
            <a:chOff x="4716360" y="1628640"/>
            <a:chExt cx="1000080" cy="1774800"/>
          </a:xfrm>
        </p:grpSpPr>
        <p:grpSp>
          <p:nvGrpSpPr>
            <p:cNvPr id="899" name=""/>
            <p:cNvGrpSpPr/>
            <p:nvPr/>
          </p:nvGrpSpPr>
          <p:grpSpPr>
            <a:xfrm>
              <a:off x="4716360" y="1628640"/>
              <a:ext cx="1000080" cy="1774800"/>
              <a:chOff x="4716360" y="1628640"/>
              <a:chExt cx="1000080" cy="1774800"/>
            </a:xfrm>
          </p:grpSpPr>
          <p:sp>
            <p:nvSpPr>
              <p:cNvPr id="900" name=""/>
              <p:cNvSpPr/>
              <p:nvPr/>
            </p:nvSpPr>
            <p:spPr>
              <a:xfrm>
                <a:off x="4716360" y="1876320"/>
                <a:ext cx="990360" cy="1527120"/>
              </a:xfrm>
              <a:custGeom>
                <a:avLst/>
                <a:gdLst/>
                <a:ahLst/>
                <a:rect l="l" t="t" r="r" b="b"/>
                <a:pathLst>
                  <a:path w="624" h="962">
                    <a:moveTo>
                      <a:pt x="0" y="382"/>
                    </a:moveTo>
                    <a:lnTo>
                      <a:pt x="624" y="0"/>
                    </a:lnTo>
                    <a:lnTo>
                      <a:pt x="624" y="580"/>
                    </a:lnTo>
                    <a:lnTo>
                      <a:pt x="0" y="96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716360" y="1628640"/>
                <a:ext cx="1000080" cy="853920"/>
              </a:xfrm>
              <a:custGeom>
                <a:avLst/>
                <a:gdLst/>
                <a:ahLst/>
                <a:rect l="l" t="t" r="r" b="b"/>
                <a:pathLst>
                  <a:path w="630" h="538">
                    <a:moveTo>
                      <a:pt x="0" y="0"/>
                    </a:moveTo>
                    <a:lnTo>
                      <a:pt x="3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86" y="14"/>
                    </a:lnTo>
                    <a:lnTo>
                      <a:pt x="198" y="14"/>
                    </a:lnTo>
                    <a:lnTo>
                      <a:pt x="228" y="14"/>
                    </a:lnTo>
                    <a:lnTo>
                      <a:pt x="258" y="14"/>
                    </a:lnTo>
                    <a:lnTo>
                      <a:pt x="276" y="29"/>
                    </a:lnTo>
                    <a:lnTo>
                      <a:pt x="306" y="29"/>
                    </a:lnTo>
                    <a:lnTo>
                      <a:pt x="336" y="43"/>
                    </a:lnTo>
                    <a:lnTo>
                      <a:pt x="348" y="43"/>
                    </a:lnTo>
                    <a:lnTo>
                      <a:pt x="378" y="43"/>
                    </a:lnTo>
                    <a:lnTo>
                      <a:pt x="402" y="57"/>
                    </a:lnTo>
                    <a:lnTo>
                      <a:pt x="414" y="57"/>
                    </a:lnTo>
                    <a:lnTo>
                      <a:pt x="444" y="71"/>
                    </a:lnTo>
                    <a:lnTo>
                      <a:pt x="468" y="85"/>
                    </a:lnTo>
                    <a:lnTo>
                      <a:pt x="486" y="85"/>
                    </a:lnTo>
                    <a:lnTo>
                      <a:pt x="510" y="99"/>
                    </a:lnTo>
                    <a:lnTo>
                      <a:pt x="534" y="114"/>
                    </a:lnTo>
                    <a:lnTo>
                      <a:pt x="546" y="114"/>
                    </a:lnTo>
                    <a:lnTo>
                      <a:pt x="570" y="128"/>
                    </a:lnTo>
                    <a:lnTo>
                      <a:pt x="594" y="142"/>
                    </a:lnTo>
                    <a:lnTo>
                      <a:pt x="606" y="142"/>
                    </a:lnTo>
                    <a:lnTo>
                      <a:pt x="630" y="156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4932000" y="206064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716360" y="1844640"/>
            <a:ext cx="1409400" cy="1527120"/>
            <a:chOff x="4716360" y="1844640"/>
            <a:chExt cx="1409400" cy="1527120"/>
          </a:xfrm>
        </p:grpSpPr>
        <p:grpSp>
          <p:nvGrpSpPr>
            <p:cNvPr id="904" name=""/>
            <p:cNvGrpSpPr/>
            <p:nvPr/>
          </p:nvGrpSpPr>
          <p:grpSpPr>
            <a:xfrm>
              <a:off x="4716360" y="1844640"/>
              <a:ext cx="1409400" cy="1527120"/>
              <a:chOff x="4716360" y="1844640"/>
              <a:chExt cx="1409400" cy="1527120"/>
            </a:xfrm>
          </p:grpSpPr>
          <p:sp>
            <p:nvSpPr>
              <p:cNvPr id="905" name=""/>
              <p:cNvSpPr/>
              <p:nvPr/>
            </p:nvSpPr>
            <p:spPr>
              <a:xfrm>
                <a:off x="471636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16360" y="1844640"/>
                <a:ext cx="1409400" cy="606240"/>
              </a:xfrm>
              <a:custGeom>
                <a:avLst/>
                <a:gdLst/>
                <a:ahLst/>
                <a:rect l="l" t="t" r="r" b="b"/>
                <a:pathLst>
                  <a:path w="888" h="382">
                    <a:moveTo>
                      <a:pt x="630" y="0"/>
                    </a:moveTo>
                    <a:lnTo>
                      <a:pt x="648" y="14"/>
                    </a:lnTo>
                    <a:lnTo>
                      <a:pt x="660" y="14"/>
                    </a:lnTo>
                    <a:lnTo>
                      <a:pt x="678" y="42"/>
                    </a:lnTo>
                    <a:lnTo>
                      <a:pt x="696" y="57"/>
                    </a:lnTo>
                    <a:lnTo>
                      <a:pt x="708" y="57"/>
                    </a:lnTo>
                    <a:lnTo>
                      <a:pt x="726" y="71"/>
                    </a:lnTo>
                    <a:lnTo>
                      <a:pt x="744" y="85"/>
                    </a:lnTo>
                    <a:lnTo>
                      <a:pt x="750" y="99"/>
                    </a:lnTo>
                    <a:lnTo>
                      <a:pt x="768" y="113"/>
                    </a:lnTo>
                    <a:lnTo>
                      <a:pt x="780" y="127"/>
                    </a:lnTo>
                    <a:lnTo>
                      <a:pt x="792" y="142"/>
                    </a:lnTo>
                    <a:lnTo>
                      <a:pt x="804" y="156"/>
                    </a:lnTo>
                    <a:lnTo>
                      <a:pt x="816" y="170"/>
                    </a:lnTo>
                    <a:lnTo>
                      <a:pt x="822" y="184"/>
                    </a:lnTo>
                    <a:lnTo>
                      <a:pt x="834" y="198"/>
                    </a:lnTo>
                    <a:lnTo>
                      <a:pt x="846" y="212"/>
                    </a:lnTo>
                    <a:lnTo>
                      <a:pt x="846" y="226"/>
                    </a:lnTo>
                    <a:lnTo>
                      <a:pt x="858" y="241"/>
                    </a:lnTo>
                    <a:lnTo>
                      <a:pt x="864" y="269"/>
                    </a:lnTo>
                    <a:lnTo>
                      <a:pt x="870" y="269"/>
                    </a:lnTo>
                    <a:lnTo>
                      <a:pt x="876" y="297"/>
                    </a:lnTo>
                    <a:lnTo>
                      <a:pt x="876" y="311"/>
                    </a:lnTo>
                    <a:lnTo>
                      <a:pt x="882" y="326"/>
                    </a:lnTo>
                    <a:lnTo>
                      <a:pt x="882" y="340"/>
                    </a:lnTo>
                    <a:lnTo>
                      <a:pt x="888" y="354"/>
                    </a:lnTo>
                    <a:lnTo>
                      <a:pt x="888" y="368"/>
                    </a:lnTo>
                    <a:lnTo>
                      <a:pt x="888" y="382"/>
                    </a:lnTo>
                    <a:lnTo>
                      <a:pt x="0" y="382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5580000" y="2062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48000" y="227772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780000" y="2421000"/>
            <a:ext cx="1936080" cy="1797120"/>
            <a:chOff x="3780000" y="2421000"/>
            <a:chExt cx="1936080" cy="1797120"/>
          </a:xfrm>
        </p:grpSpPr>
        <p:grpSp>
          <p:nvGrpSpPr>
            <p:cNvPr id="910" name=""/>
            <p:cNvGrpSpPr/>
            <p:nvPr/>
          </p:nvGrpSpPr>
          <p:grpSpPr>
            <a:xfrm>
              <a:off x="3780000" y="2421000"/>
              <a:ext cx="1936080" cy="1797120"/>
              <a:chOff x="3780000" y="2421000"/>
              <a:chExt cx="1936080" cy="179712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4716360" y="2421000"/>
                <a:ext cx="999720" cy="1797120"/>
                <a:chOff x="4716360" y="2421000"/>
                <a:chExt cx="999720" cy="17971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16360" y="3027600"/>
                  <a:ext cx="999720" cy="1190520"/>
                </a:xfrm>
                <a:custGeom>
                  <a:avLst/>
                  <a:gdLst/>
                  <a:ahLst/>
                  <a:rect l="l" t="t" r="r" b="b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16360" y="2421000"/>
                  <a:ext cx="999720" cy="876240"/>
                </a:xfrm>
                <a:custGeom>
                  <a:avLst/>
                  <a:gdLst/>
                  <a:ahLst/>
                  <a:rect l="l" t="t" r="r" b="b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780000" y="2421000"/>
                <a:ext cx="990360" cy="1797120"/>
                <a:chOff x="3780000" y="2421000"/>
                <a:chExt cx="990360" cy="17971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780000" y="3027600"/>
                  <a:ext cx="990360" cy="1190520"/>
                </a:xfrm>
                <a:custGeom>
                  <a:avLst/>
                  <a:gdLst/>
                  <a:ahLst/>
                  <a:rect l="l" t="t" r="r" b="b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780000" y="2421000"/>
                  <a:ext cx="990360" cy="876240"/>
                </a:xfrm>
                <a:custGeom>
                  <a:avLst/>
                  <a:gdLst/>
                  <a:ahLst/>
                  <a:rect l="l" t="t" r="r" b="b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7" name=""/>
            <p:cNvSpPr/>
            <p:nvPr/>
          </p:nvSpPr>
          <p:spPr>
            <a:xfrm>
              <a:off x="4356000" y="285264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56000" y="3573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05080" y="299736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076720" y="3429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1" name="" descr=""/>
          <p:cNvPicPr/>
          <p:nvPr/>
        </p:nvPicPr>
        <p:blipFill>
          <a:blip r:embed="rId4"/>
          <a:stretch/>
        </p:blipFill>
        <p:spPr>
          <a:xfrm>
            <a:off x="6156360" y="242100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877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879" dur="2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881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9.24855E-007 L -0.20487 0.31468 E">
                                      <p:cBhvr>
                                        <p:cTn id="883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8 0.24116 L 0.14184 0.36694 E">
                                      <p:cBhvr>
                                        <p:cTn id="896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2428E-007 L 0.33073 0.11537 E">
                                      <p:cBhvr>
                                        <p:cTn id="898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90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902" dur="2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6358E-006 L 0.15747 0.22012 E">
                                      <p:cBhvr>
                                        <p:cTn id="904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867040" y="80496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643280" y="2133720"/>
            <a:ext cx="1000080" cy="1774800"/>
            <a:chOff x="4643280" y="2133720"/>
            <a:chExt cx="1000080" cy="1774800"/>
          </a:xfrm>
        </p:grpSpPr>
        <p:grpSp>
          <p:nvGrpSpPr>
            <p:cNvPr id="924" name=""/>
            <p:cNvGrpSpPr/>
            <p:nvPr/>
          </p:nvGrpSpPr>
          <p:grpSpPr>
            <a:xfrm>
              <a:off x="4643280" y="2133720"/>
              <a:ext cx="1000080" cy="1774800"/>
              <a:chOff x="4643280" y="2133720"/>
              <a:chExt cx="1000080" cy="177480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4643280" y="2133720"/>
                <a:ext cx="1000080" cy="1774800"/>
                <a:chOff x="4643280" y="2133720"/>
                <a:chExt cx="1000080" cy="17748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4643280" y="2381400"/>
                  <a:ext cx="990360" cy="1527120"/>
                </a:xfrm>
                <a:custGeom>
                  <a:avLst/>
                  <a:gdLst/>
                  <a:ahLst/>
                  <a:rect l="l" t="t" r="r" b="b"/>
                  <a:pathLst>
                    <a:path w="624" h="962">
                      <a:moveTo>
                        <a:pt x="0" y="382"/>
                      </a:moveTo>
                      <a:lnTo>
                        <a:pt x="624" y="0"/>
                      </a:lnTo>
                      <a:lnTo>
                        <a:pt x="624" y="580"/>
                      </a:lnTo>
                      <a:lnTo>
                        <a:pt x="0" y="96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643280" y="2133720"/>
                  <a:ext cx="1000080" cy="853920"/>
                </a:xfrm>
                <a:custGeom>
                  <a:avLst/>
                  <a:gdLst/>
                  <a:ahLst/>
                  <a:rect l="l" t="t" r="r" b="b"/>
                  <a:pathLst>
                    <a:path w="630" h="538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48" y="0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26" y="0"/>
                      </a:lnTo>
                      <a:lnTo>
                        <a:pt x="156" y="0"/>
                      </a:lnTo>
                      <a:lnTo>
                        <a:pt x="186" y="14"/>
                      </a:lnTo>
                      <a:lnTo>
                        <a:pt x="198" y="14"/>
                      </a:lnTo>
                      <a:lnTo>
                        <a:pt x="228" y="14"/>
                      </a:lnTo>
                      <a:lnTo>
                        <a:pt x="258" y="14"/>
                      </a:lnTo>
                      <a:lnTo>
                        <a:pt x="276" y="29"/>
                      </a:lnTo>
                      <a:lnTo>
                        <a:pt x="306" y="29"/>
                      </a:lnTo>
                      <a:lnTo>
                        <a:pt x="336" y="43"/>
                      </a:lnTo>
                      <a:lnTo>
                        <a:pt x="348" y="43"/>
                      </a:lnTo>
                      <a:lnTo>
                        <a:pt x="378" y="43"/>
                      </a:lnTo>
                      <a:lnTo>
                        <a:pt x="402" y="57"/>
                      </a:lnTo>
                      <a:lnTo>
                        <a:pt x="414" y="57"/>
                      </a:lnTo>
                      <a:lnTo>
                        <a:pt x="444" y="71"/>
                      </a:lnTo>
                      <a:lnTo>
                        <a:pt x="468" y="85"/>
                      </a:lnTo>
                      <a:lnTo>
                        <a:pt x="486" y="85"/>
                      </a:lnTo>
                      <a:lnTo>
                        <a:pt x="510" y="99"/>
                      </a:lnTo>
                      <a:lnTo>
                        <a:pt x="534" y="114"/>
                      </a:lnTo>
                      <a:lnTo>
                        <a:pt x="546" y="114"/>
                      </a:lnTo>
                      <a:lnTo>
                        <a:pt x="570" y="128"/>
                      </a:lnTo>
                      <a:lnTo>
                        <a:pt x="594" y="142"/>
                      </a:lnTo>
                      <a:lnTo>
                        <a:pt x="606" y="142"/>
                      </a:lnTo>
                      <a:lnTo>
                        <a:pt x="630" y="156"/>
                      </a:lnTo>
                      <a:lnTo>
                        <a:pt x="0" y="5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4859280" y="2349360"/>
                <a:ext cx="28728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4932360" y="282600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92720" y="297036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1652400" cy="13827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 flipH="1">
            <a:off x="3276360" y="692280"/>
            <a:ext cx="1584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934" name=""/>
          <p:cNvGrpSpPr/>
          <p:nvPr/>
        </p:nvGrpSpPr>
        <p:grpSpPr>
          <a:xfrm>
            <a:off x="4572000" y="2349360"/>
            <a:ext cx="1409400" cy="1527120"/>
            <a:chOff x="4572000" y="2349360"/>
            <a:chExt cx="1409400" cy="1527120"/>
          </a:xfrm>
        </p:grpSpPr>
        <p:grpSp>
          <p:nvGrpSpPr>
            <p:cNvPr id="935" name=""/>
            <p:cNvGrpSpPr/>
            <p:nvPr/>
          </p:nvGrpSpPr>
          <p:grpSpPr>
            <a:xfrm>
              <a:off x="4572000" y="2349360"/>
              <a:ext cx="1409400" cy="1527120"/>
              <a:chOff x="4572000" y="2349360"/>
              <a:chExt cx="1409400" cy="152712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4572000" y="2349360"/>
                <a:ext cx="1409400" cy="1527120"/>
                <a:chOff x="4572000" y="2349360"/>
                <a:chExt cx="1409400" cy="15271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4572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572000" y="2349360"/>
                  <a:ext cx="1409400" cy="606240"/>
                </a:xfrm>
                <a:custGeom>
                  <a:avLst/>
                  <a:gdLst/>
                  <a:ahLst/>
                  <a:rect l="l" t="t" r="r" b="b"/>
                  <a:pathLst>
                    <a:path w="888" h="382">
                      <a:moveTo>
                        <a:pt x="630" y="0"/>
                      </a:moveTo>
                      <a:lnTo>
                        <a:pt x="648" y="14"/>
                      </a:lnTo>
                      <a:lnTo>
                        <a:pt x="660" y="14"/>
                      </a:lnTo>
                      <a:lnTo>
                        <a:pt x="678" y="42"/>
                      </a:lnTo>
                      <a:lnTo>
                        <a:pt x="696" y="57"/>
                      </a:lnTo>
                      <a:lnTo>
                        <a:pt x="708" y="57"/>
                      </a:lnTo>
                      <a:lnTo>
                        <a:pt x="726" y="71"/>
                      </a:lnTo>
                      <a:lnTo>
                        <a:pt x="744" y="85"/>
                      </a:lnTo>
                      <a:lnTo>
                        <a:pt x="750" y="99"/>
                      </a:lnTo>
                      <a:lnTo>
                        <a:pt x="768" y="113"/>
                      </a:lnTo>
                      <a:lnTo>
                        <a:pt x="780" y="127"/>
                      </a:lnTo>
                      <a:lnTo>
                        <a:pt x="792" y="142"/>
                      </a:lnTo>
                      <a:lnTo>
                        <a:pt x="804" y="156"/>
                      </a:lnTo>
                      <a:lnTo>
                        <a:pt x="816" y="170"/>
                      </a:lnTo>
                      <a:lnTo>
                        <a:pt x="822" y="184"/>
                      </a:lnTo>
                      <a:lnTo>
                        <a:pt x="834" y="198"/>
                      </a:lnTo>
                      <a:lnTo>
                        <a:pt x="846" y="212"/>
                      </a:lnTo>
                      <a:lnTo>
                        <a:pt x="846" y="226"/>
                      </a:lnTo>
                      <a:lnTo>
                        <a:pt x="858" y="241"/>
                      </a:lnTo>
                      <a:lnTo>
                        <a:pt x="864" y="269"/>
                      </a:lnTo>
                      <a:lnTo>
                        <a:pt x="870" y="269"/>
                      </a:lnTo>
                      <a:lnTo>
                        <a:pt x="876" y="297"/>
                      </a:lnTo>
                      <a:lnTo>
                        <a:pt x="876" y="311"/>
                      </a:lnTo>
                      <a:lnTo>
                        <a:pt x="882" y="326"/>
                      </a:lnTo>
                      <a:lnTo>
                        <a:pt x="882" y="340"/>
                      </a:lnTo>
                      <a:lnTo>
                        <a:pt x="888" y="354"/>
                      </a:lnTo>
                      <a:lnTo>
                        <a:pt x="888" y="368"/>
                      </a:lnTo>
                      <a:lnTo>
                        <a:pt x="888" y="382"/>
                      </a:lnTo>
                      <a:lnTo>
                        <a:pt x="0" y="382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>
                <a:off x="4794480" y="321264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442120" y="350172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5370480" y="270972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572000" y="2852640"/>
            <a:ext cx="1409400" cy="1528560"/>
            <a:chOff x="4572000" y="2852640"/>
            <a:chExt cx="1409400" cy="1528560"/>
          </a:xfrm>
        </p:grpSpPr>
        <p:grpSp>
          <p:nvGrpSpPr>
            <p:cNvPr id="943" name=""/>
            <p:cNvGrpSpPr/>
            <p:nvPr/>
          </p:nvGrpSpPr>
          <p:grpSpPr>
            <a:xfrm>
              <a:off x="4572000" y="2852640"/>
              <a:ext cx="1409400" cy="1528560"/>
              <a:chOff x="4572000" y="2852640"/>
              <a:chExt cx="1409400" cy="152856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4572000" y="2852640"/>
                <a:ext cx="1409400" cy="1528560"/>
                <a:chOff x="4572000" y="2852640"/>
                <a:chExt cx="1409400" cy="15285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5572080" y="2852640"/>
                  <a:ext cx="409320" cy="1528560"/>
                </a:xfrm>
                <a:custGeom>
                  <a:avLst/>
                  <a:gdLst/>
                  <a:ahLst/>
                  <a:rect l="l" t="t" r="r" b="b"/>
                  <a:pathLst>
                    <a:path w="258" h="963">
                      <a:moveTo>
                        <a:pt x="258" y="0"/>
                      </a:moveTo>
                      <a:lnTo>
                        <a:pt x="258" y="28"/>
                      </a:lnTo>
                      <a:lnTo>
                        <a:pt x="258" y="28"/>
                      </a:lnTo>
                      <a:lnTo>
                        <a:pt x="252" y="57"/>
                      </a:lnTo>
                      <a:lnTo>
                        <a:pt x="252" y="71"/>
                      </a:lnTo>
                      <a:lnTo>
                        <a:pt x="246" y="85"/>
                      </a:lnTo>
                      <a:lnTo>
                        <a:pt x="246" y="99"/>
                      </a:lnTo>
                      <a:lnTo>
                        <a:pt x="240" y="113"/>
                      </a:lnTo>
                      <a:lnTo>
                        <a:pt x="234" y="128"/>
                      </a:lnTo>
                      <a:lnTo>
                        <a:pt x="228" y="142"/>
                      </a:lnTo>
                      <a:lnTo>
                        <a:pt x="216" y="170"/>
                      </a:lnTo>
                      <a:lnTo>
                        <a:pt x="216" y="170"/>
                      </a:lnTo>
                      <a:lnTo>
                        <a:pt x="204" y="184"/>
                      </a:lnTo>
                      <a:lnTo>
                        <a:pt x="192" y="212"/>
                      </a:lnTo>
                      <a:lnTo>
                        <a:pt x="186" y="212"/>
                      </a:lnTo>
                      <a:lnTo>
                        <a:pt x="174" y="241"/>
                      </a:lnTo>
                      <a:lnTo>
                        <a:pt x="162" y="255"/>
                      </a:lnTo>
                      <a:lnTo>
                        <a:pt x="150" y="255"/>
                      </a:lnTo>
                      <a:lnTo>
                        <a:pt x="138" y="283"/>
                      </a:lnTo>
                      <a:lnTo>
                        <a:pt x="120" y="297"/>
                      </a:lnTo>
                      <a:lnTo>
                        <a:pt x="114" y="297"/>
                      </a:lnTo>
                      <a:lnTo>
                        <a:pt x="96" y="312"/>
                      </a:lnTo>
                      <a:lnTo>
                        <a:pt x="78" y="326"/>
                      </a:lnTo>
                      <a:lnTo>
                        <a:pt x="66" y="340"/>
                      </a:lnTo>
                      <a:lnTo>
                        <a:pt x="48" y="354"/>
                      </a:lnTo>
                      <a:lnTo>
                        <a:pt x="30" y="368"/>
                      </a:lnTo>
                      <a:lnTo>
                        <a:pt x="18" y="382"/>
                      </a:ln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18" y="963"/>
                      </a:lnTo>
                      <a:lnTo>
                        <a:pt x="30" y="948"/>
                      </a:lnTo>
                      <a:lnTo>
                        <a:pt x="48" y="934"/>
                      </a:lnTo>
                      <a:lnTo>
                        <a:pt x="66" y="920"/>
                      </a:lnTo>
                      <a:lnTo>
                        <a:pt x="78" y="906"/>
                      </a:lnTo>
                      <a:lnTo>
                        <a:pt x="96" y="892"/>
                      </a:lnTo>
                      <a:lnTo>
                        <a:pt x="114" y="878"/>
                      </a:lnTo>
                      <a:lnTo>
                        <a:pt x="120" y="878"/>
                      </a:lnTo>
                      <a:lnTo>
                        <a:pt x="138" y="864"/>
                      </a:lnTo>
                      <a:lnTo>
                        <a:pt x="150" y="835"/>
                      </a:lnTo>
                      <a:lnTo>
                        <a:pt x="162" y="835"/>
                      </a:lnTo>
                      <a:lnTo>
                        <a:pt x="174" y="821"/>
                      </a:lnTo>
                      <a:lnTo>
                        <a:pt x="186" y="793"/>
                      </a:lnTo>
                      <a:lnTo>
                        <a:pt x="192" y="793"/>
                      </a:lnTo>
                      <a:lnTo>
                        <a:pt x="204" y="764"/>
                      </a:lnTo>
                      <a:lnTo>
                        <a:pt x="216" y="750"/>
                      </a:lnTo>
                      <a:lnTo>
                        <a:pt x="216" y="750"/>
                      </a:lnTo>
                      <a:lnTo>
                        <a:pt x="228" y="722"/>
                      </a:lnTo>
                      <a:lnTo>
                        <a:pt x="234" y="708"/>
                      </a:lnTo>
                      <a:lnTo>
                        <a:pt x="240" y="694"/>
                      </a:lnTo>
                      <a:lnTo>
                        <a:pt x="246" y="680"/>
                      </a:lnTo>
                      <a:lnTo>
                        <a:pt x="246" y="665"/>
                      </a:lnTo>
                      <a:lnTo>
                        <a:pt x="252" y="651"/>
                      </a:lnTo>
                      <a:lnTo>
                        <a:pt x="252" y="637"/>
                      </a:lnTo>
                      <a:lnTo>
                        <a:pt x="258" y="609"/>
                      </a:lnTo>
                      <a:lnTo>
                        <a:pt x="258" y="609"/>
                      </a:lnTo>
                      <a:lnTo>
                        <a:pt x="258" y="58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572000" y="2852640"/>
                  <a:ext cx="990360" cy="1528560"/>
                </a:xfrm>
                <a:custGeom>
                  <a:avLst/>
                  <a:gdLst/>
                  <a:ahLst/>
                  <a:rect l="l" t="t" r="r" b="b"/>
                  <a:pathLst>
                    <a:path w="624" h="963">
                      <a:moveTo>
                        <a:pt x="0" y="0"/>
                      </a:moveTo>
                      <a:lnTo>
                        <a:pt x="624" y="382"/>
                      </a:lnTo>
                      <a:lnTo>
                        <a:pt x="624" y="963"/>
                      </a:lnTo>
                      <a:lnTo>
                        <a:pt x="0" y="5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572000" y="2852640"/>
                  <a:ext cx="1409400" cy="606240"/>
                </a:xfrm>
                <a:custGeom>
                  <a:avLst/>
                  <a:gdLst/>
                  <a:ahLst/>
                  <a:rect l="l" t="t" r="r" b="b"/>
                  <a:pathLst>
                    <a:path w="888" h="382">
                      <a:moveTo>
                        <a:pt x="888" y="0"/>
                      </a:moveTo>
                      <a:lnTo>
                        <a:pt x="888" y="28"/>
                      </a:lnTo>
                      <a:lnTo>
                        <a:pt x="888" y="28"/>
                      </a:lnTo>
                      <a:lnTo>
                        <a:pt x="882" y="57"/>
                      </a:lnTo>
                      <a:lnTo>
                        <a:pt x="882" y="71"/>
                      </a:lnTo>
                      <a:lnTo>
                        <a:pt x="876" y="85"/>
                      </a:lnTo>
                      <a:lnTo>
                        <a:pt x="876" y="99"/>
                      </a:lnTo>
                      <a:lnTo>
                        <a:pt x="870" y="113"/>
                      </a:lnTo>
                      <a:lnTo>
                        <a:pt x="864" y="128"/>
                      </a:lnTo>
                      <a:lnTo>
                        <a:pt x="858" y="142"/>
                      </a:lnTo>
                      <a:lnTo>
                        <a:pt x="846" y="170"/>
                      </a:lnTo>
                      <a:lnTo>
                        <a:pt x="846" y="170"/>
                      </a:lnTo>
                      <a:lnTo>
                        <a:pt x="834" y="184"/>
                      </a:lnTo>
                      <a:lnTo>
                        <a:pt x="822" y="212"/>
                      </a:lnTo>
                      <a:lnTo>
                        <a:pt x="816" y="212"/>
                      </a:lnTo>
                      <a:lnTo>
                        <a:pt x="804" y="241"/>
                      </a:lnTo>
                      <a:lnTo>
                        <a:pt x="792" y="255"/>
                      </a:lnTo>
                      <a:lnTo>
                        <a:pt x="780" y="255"/>
                      </a:lnTo>
                      <a:lnTo>
                        <a:pt x="768" y="283"/>
                      </a:lnTo>
                      <a:lnTo>
                        <a:pt x="750" y="297"/>
                      </a:lnTo>
                      <a:lnTo>
                        <a:pt x="744" y="297"/>
                      </a:lnTo>
                      <a:lnTo>
                        <a:pt x="726" y="312"/>
                      </a:lnTo>
                      <a:lnTo>
                        <a:pt x="708" y="326"/>
                      </a:lnTo>
                      <a:lnTo>
                        <a:pt x="696" y="340"/>
                      </a:lnTo>
                      <a:lnTo>
                        <a:pt x="678" y="354"/>
                      </a:lnTo>
                      <a:lnTo>
                        <a:pt x="660" y="368"/>
                      </a:lnTo>
                      <a:lnTo>
                        <a:pt x="648" y="382"/>
                      </a:lnTo>
                      <a:lnTo>
                        <a:pt x="630" y="382"/>
                      </a:lnTo>
                      <a:lnTo>
                        <a:pt x="0" y="0"/>
                      </a:lnTo>
                      <a:lnTo>
                        <a:pt x="88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8" name=""/>
              <p:cNvSpPr/>
              <p:nvPr/>
            </p:nvSpPr>
            <p:spPr>
              <a:xfrm>
                <a:off x="5003640" y="2925720"/>
                <a:ext cx="28764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4932360" y="357336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708360" y="2133720"/>
            <a:ext cx="990720" cy="1774800"/>
            <a:chOff x="3708360" y="2133720"/>
            <a:chExt cx="990720" cy="1774800"/>
          </a:xfrm>
        </p:grpSpPr>
        <p:grpSp>
          <p:nvGrpSpPr>
            <p:cNvPr id="951" name=""/>
            <p:cNvGrpSpPr/>
            <p:nvPr/>
          </p:nvGrpSpPr>
          <p:grpSpPr>
            <a:xfrm>
              <a:off x="3708360" y="2133720"/>
              <a:ext cx="990720" cy="1774800"/>
              <a:chOff x="3708360" y="2133720"/>
              <a:chExt cx="990720" cy="177480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3708360" y="2133720"/>
                <a:ext cx="990720" cy="1774800"/>
                <a:chOff x="3708360" y="2133720"/>
                <a:chExt cx="990720" cy="1774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708360" y="2381400"/>
                  <a:ext cx="990720" cy="1527120"/>
                </a:xfrm>
                <a:custGeom>
                  <a:avLst/>
                  <a:gdLst/>
                  <a:ahLst/>
                  <a:rect l="l" t="t" r="r" b="b"/>
                  <a:pathLst>
                    <a:path w="624" h="962">
                      <a:moveTo>
                        <a:pt x="624" y="382"/>
                      </a:move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624" y="962"/>
                      </a:lnTo>
                      <a:lnTo>
                        <a:pt x="624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708360" y="2133720"/>
                  <a:ext cx="990720" cy="853920"/>
                </a:xfrm>
                <a:custGeom>
                  <a:avLst/>
                  <a:gdLst/>
                  <a:ahLst/>
                  <a:rect l="l" t="t" r="r" b="b"/>
                  <a:pathLst>
                    <a:path w="624" h="538">
                      <a:moveTo>
                        <a:pt x="0" y="156"/>
                      </a:moveTo>
                      <a:lnTo>
                        <a:pt x="24" y="142"/>
                      </a:lnTo>
                      <a:lnTo>
                        <a:pt x="36" y="142"/>
                      </a:lnTo>
                      <a:lnTo>
                        <a:pt x="54" y="128"/>
                      </a:lnTo>
                      <a:lnTo>
                        <a:pt x="78" y="114"/>
                      </a:lnTo>
                      <a:lnTo>
                        <a:pt x="90" y="114"/>
                      </a:lnTo>
                      <a:lnTo>
                        <a:pt x="120" y="99"/>
                      </a:lnTo>
                      <a:lnTo>
                        <a:pt x="144" y="85"/>
                      </a:lnTo>
                      <a:lnTo>
                        <a:pt x="156" y="85"/>
                      </a:lnTo>
                      <a:lnTo>
                        <a:pt x="180" y="71"/>
                      </a:lnTo>
                      <a:lnTo>
                        <a:pt x="210" y="57"/>
                      </a:lnTo>
                      <a:lnTo>
                        <a:pt x="222" y="57"/>
                      </a:lnTo>
                      <a:lnTo>
                        <a:pt x="252" y="43"/>
                      </a:lnTo>
                      <a:lnTo>
                        <a:pt x="282" y="43"/>
                      </a:lnTo>
                      <a:lnTo>
                        <a:pt x="294" y="43"/>
                      </a:lnTo>
                      <a:lnTo>
                        <a:pt x="324" y="29"/>
                      </a:lnTo>
                      <a:lnTo>
                        <a:pt x="354" y="29"/>
                      </a:lnTo>
                      <a:lnTo>
                        <a:pt x="366" y="14"/>
                      </a:lnTo>
                      <a:lnTo>
                        <a:pt x="396" y="14"/>
                      </a:lnTo>
                      <a:lnTo>
                        <a:pt x="426" y="14"/>
                      </a:lnTo>
                      <a:lnTo>
                        <a:pt x="444" y="14"/>
                      </a:lnTo>
                      <a:lnTo>
                        <a:pt x="474" y="0"/>
                      </a:lnTo>
                      <a:lnTo>
                        <a:pt x="504" y="0"/>
                      </a:lnTo>
                      <a:lnTo>
                        <a:pt x="516" y="0"/>
                      </a:lnTo>
                      <a:lnTo>
                        <a:pt x="546" y="0"/>
                      </a:lnTo>
                      <a:lnTo>
                        <a:pt x="582" y="0"/>
                      </a:lnTo>
                      <a:lnTo>
                        <a:pt x="594" y="0"/>
                      </a:lnTo>
                      <a:lnTo>
                        <a:pt x="624" y="0"/>
                      </a:lnTo>
                      <a:lnTo>
                        <a:pt x="624" y="53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>
                <a:off x="3995640" y="2276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140000" y="3041640"/>
              <a:ext cx="21600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8000" y="2349360"/>
            <a:ext cx="1400040" cy="1527120"/>
            <a:chOff x="3348000" y="2349360"/>
            <a:chExt cx="1400040" cy="1527120"/>
          </a:xfrm>
        </p:grpSpPr>
        <p:grpSp>
          <p:nvGrpSpPr>
            <p:cNvPr id="958" name=""/>
            <p:cNvGrpSpPr/>
            <p:nvPr/>
          </p:nvGrpSpPr>
          <p:grpSpPr>
            <a:xfrm>
              <a:off x="3348000" y="2349360"/>
              <a:ext cx="1400040" cy="1527120"/>
              <a:chOff x="3348000" y="2349360"/>
              <a:chExt cx="1400040" cy="152712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3348000" y="2349360"/>
                <a:ext cx="1400040" cy="1527120"/>
                <a:chOff x="3348000" y="2349360"/>
                <a:chExt cx="1400040" cy="15271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3348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348000" y="2349360"/>
                  <a:ext cx="1400040" cy="60624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"/>
              <p:cNvSpPr/>
              <p:nvPr/>
            </p:nvSpPr>
            <p:spPr>
              <a:xfrm>
                <a:off x="3564000" y="2636640"/>
                <a:ext cx="287280" cy="1440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3852720" y="3284280"/>
              <a:ext cx="360000" cy="362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348000" y="2852640"/>
            <a:ext cx="1400040" cy="1528560"/>
            <a:chOff x="3348000" y="2852640"/>
            <a:chExt cx="1400040" cy="1528560"/>
          </a:xfrm>
        </p:grpSpPr>
        <p:grpSp>
          <p:nvGrpSpPr>
            <p:cNvPr id="965" name=""/>
            <p:cNvGrpSpPr/>
            <p:nvPr/>
          </p:nvGrpSpPr>
          <p:grpSpPr>
            <a:xfrm>
              <a:off x="3348000" y="2852640"/>
              <a:ext cx="1400040" cy="1528560"/>
              <a:chOff x="3348000" y="2852640"/>
              <a:chExt cx="1400040" cy="152856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3348000" y="2852640"/>
                <a:ext cx="1400040" cy="1528560"/>
                <a:chOff x="3348000" y="2852640"/>
                <a:chExt cx="1400040" cy="152856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348000" y="2852640"/>
                  <a:ext cx="409320" cy="1528560"/>
                </a:xfrm>
                <a:custGeom>
                  <a:avLst/>
                  <a:gdLst/>
                  <a:ahLst/>
                  <a:rect l="l" t="t" r="r" b="b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757320" y="2852640"/>
                  <a:ext cx="990360" cy="1528560"/>
                </a:xfrm>
                <a:custGeom>
                  <a:avLst/>
                  <a:gdLst/>
                  <a:ahLst/>
                  <a:rect l="l" t="t" r="r" b="b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348000" y="2852640"/>
                  <a:ext cx="1400040" cy="60624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0" name=""/>
              <p:cNvSpPr/>
              <p:nvPr/>
            </p:nvSpPr>
            <p:spPr>
              <a:xfrm>
                <a:off x="4140000" y="2852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08360" y="307008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348000" y="357336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282920" y="3357360"/>
              <a:ext cx="217080" cy="3618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643280" y="2852640"/>
            <a:ext cx="1000080" cy="1797120"/>
            <a:chOff x="4643280" y="2852640"/>
            <a:chExt cx="1000080" cy="1797120"/>
          </a:xfrm>
        </p:grpSpPr>
        <p:grpSp>
          <p:nvGrpSpPr>
            <p:cNvPr id="975" name=""/>
            <p:cNvGrpSpPr/>
            <p:nvPr/>
          </p:nvGrpSpPr>
          <p:grpSpPr>
            <a:xfrm>
              <a:off x="4643280" y="2852640"/>
              <a:ext cx="1000080" cy="1797120"/>
              <a:chOff x="4643280" y="2852640"/>
              <a:chExt cx="1000080" cy="1797120"/>
            </a:xfrm>
          </p:grpSpPr>
          <p:sp>
            <p:nvSpPr>
              <p:cNvPr id="976" name=""/>
              <p:cNvSpPr/>
              <p:nvPr/>
            </p:nvSpPr>
            <p:spPr>
              <a:xfrm>
                <a:off x="4643280" y="3459240"/>
                <a:ext cx="1000080" cy="1190520"/>
              </a:xfrm>
              <a:custGeom>
                <a:avLst/>
                <a:gdLst/>
                <a:ahLst/>
                <a:rect l="l" t="t" r="r" b="b"/>
                <a:pathLst>
                  <a:path w="630" h="750">
                    <a:moveTo>
                      <a:pt x="630" y="0"/>
                    </a:moveTo>
                    <a:lnTo>
                      <a:pt x="606" y="14"/>
                    </a:lnTo>
                    <a:lnTo>
                      <a:pt x="594" y="29"/>
                    </a:lnTo>
                    <a:lnTo>
                      <a:pt x="570" y="43"/>
                    </a:lnTo>
                    <a:lnTo>
                      <a:pt x="546" y="57"/>
                    </a:lnTo>
                    <a:lnTo>
                      <a:pt x="534" y="57"/>
                    </a:lnTo>
                    <a:lnTo>
                      <a:pt x="510" y="71"/>
                    </a:lnTo>
                    <a:lnTo>
                      <a:pt x="486" y="85"/>
                    </a:lnTo>
                    <a:lnTo>
                      <a:pt x="468" y="85"/>
                    </a:lnTo>
                    <a:lnTo>
                      <a:pt x="444" y="99"/>
                    </a:lnTo>
                    <a:lnTo>
                      <a:pt x="414" y="99"/>
                    </a:lnTo>
                    <a:lnTo>
                      <a:pt x="402" y="114"/>
                    </a:lnTo>
                    <a:lnTo>
                      <a:pt x="378" y="114"/>
                    </a:lnTo>
                    <a:lnTo>
                      <a:pt x="348" y="128"/>
                    </a:lnTo>
                    <a:lnTo>
                      <a:pt x="336" y="128"/>
                    </a:lnTo>
                    <a:lnTo>
                      <a:pt x="306" y="128"/>
                    </a:lnTo>
                    <a:lnTo>
                      <a:pt x="276" y="142"/>
                    </a:lnTo>
                    <a:lnTo>
                      <a:pt x="258" y="142"/>
                    </a:lnTo>
                    <a:lnTo>
                      <a:pt x="228" y="142"/>
                    </a:lnTo>
                    <a:lnTo>
                      <a:pt x="198" y="156"/>
                    </a:lnTo>
                    <a:lnTo>
                      <a:pt x="186" y="156"/>
                    </a:lnTo>
                    <a:lnTo>
                      <a:pt x="156" y="156"/>
                    </a:lnTo>
                    <a:lnTo>
                      <a:pt x="126" y="156"/>
                    </a:lnTo>
                    <a:lnTo>
                      <a:pt x="108" y="156"/>
                    </a:lnTo>
                    <a:lnTo>
                      <a:pt x="78" y="170"/>
                    </a:lnTo>
                    <a:lnTo>
                      <a:pt x="48" y="170"/>
                    </a:lnTo>
                    <a:lnTo>
                      <a:pt x="30" y="170"/>
                    </a:lnTo>
                    <a:lnTo>
                      <a:pt x="0" y="170"/>
                    </a:lnTo>
                    <a:lnTo>
                      <a:pt x="0" y="750"/>
                    </a:lnTo>
                    <a:lnTo>
                      <a:pt x="30" y="750"/>
                    </a:lnTo>
                    <a:lnTo>
                      <a:pt x="48" y="750"/>
                    </a:lnTo>
                    <a:lnTo>
                      <a:pt x="78" y="750"/>
                    </a:lnTo>
                    <a:lnTo>
                      <a:pt x="108" y="736"/>
                    </a:lnTo>
                    <a:lnTo>
                      <a:pt x="126" y="736"/>
                    </a:lnTo>
                    <a:lnTo>
                      <a:pt x="156" y="736"/>
                    </a:lnTo>
                    <a:lnTo>
                      <a:pt x="186" y="736"/>
                    </a:lnTo>
                    <a:lnTo>
                      <a:pt x="198" y="736"/>
                    </a:lnTo>
                    <a:lnTo>
                      <a:pt x="228" y="722"/>
                    </a:lnTo>
                    <a:lnTo>
                      <a:pt x="258" y="722"/>
                    </a:lnTo>
                    <a:lnTo>
                      <a:pt x="276" y="722"/>
                    </a:lnTo>
                    <a:lnTo>
                      <a:pt x="306" y="708"/>
                    </a:lnTo>
                    <a:lnTo>
                      <a:pt x="336" y="708"/>
                    </a:lnTo>
                    <a:lnTo>
                      <a:pt x="348" y="708"/>
                    </a:lnTo>
                    <a:lnTo>
                      <a:pt x="378" y="694"/>
                    </a:lnTo>
                    <a:lnTo>
                      <a:pt x="402" y="694"/>
                    </a:lnTo>
                    <a:lnTo>
                      <a:pt x="414" y="680"/>
                    </a:lnTo>
                    <a:lnTo>
                      <a:pt x="444" y="680"/>
                    </a:lnTo>
                    <a:lnTo>
                      <a:pt x="468" y="666"/>
                    </a:lnTo>
                    <a:lnTo>
                      <a:pt x="486" y="666"/>
                    </a:lnTo>
                    <a:lnTo>
                      <a:pt x="510" y="651"/>
                    </a:lnTo>
                    <a:lnTo>
                      <a:pt x="534" y="637"/>
                    </a:lnTo>
                    <a:lnTo>
                      <a:pt x="546" y="637"/>
                    </a:lnTo>
                    <a:lnTo>
                      <a:pt x="570" y="623"/>
                    </a:lnTo>
                    <a:lnTo>
                      <a:pt x="594" y="609"/>
                    </a:lnTo>
                    <a:lnTo>
                      <a:pt x="606" y="595"/>
                    </a:lnTo>
                    <a:lnTo>
                      <a:pt x="630" y="581"/>
                    </a:lnTo>
                    <a:lnTo>
                      <a:pt x="6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643280" y="2852640"/>
                <a:ext cx="1000080" cy="876240"/>
              </a:xfrm>
              <a:custGeom>
                <a:avLst/>
                <a:gdLst/>
                <a:ahLst/>
                <a:rect l="l" t="t" r="r" b="b"/>
                <a:pathLst>
                  <a:path w="630" h="552">
                    <a:moveTo>
                      <a:pt x="630" y="382"/>
                    </a:moveTo>
                    <a:lnTo>
                      <a:pt x="606" y="396"/>
                    </a:lnTo>
                    <a:lnTo>
                      <a:pt x="594" y="411"/>
                    </a:lnTo>
                    <a:lnTo>
                      <a:pt x="570" y="425"/>
                    </a:lnTo>
                    <a:lnTo>
                      <a:pt x="546" y="439"/>
                    </a:lnTo>
                    <a:lnTo>
                      <a:pt x="534" y="439"/>
                    </a:lnTo>
                    <a:lnTo>
                      <a:pt x="510" y="453"/>
                    </a:lnTo>
                    <a:lnTo>
                      <a:pt x="486" y="467"/>
                    </a:lnTo>
                    <a:lnTo>
                      <a:pt x="468" y="467"/>
                    </a:lnTo>
                    <a:lnTo>
                      <a:pt x="444" y="481"/>
                    </a:lnTo>
                    <a:lnTo>
                      <a:pt x="414" y="481"/>
                    </a:lnTo>
                    <a:lnTo>
                      <a:pt x="402" y="496"/>
                    </a:lnTo>
                    <a:lnTo>
                      <a:pt x="378" y="496"/>
                    </a:lnTo>
                    <a:lnTo>
                      <a:pt x="348" y="510"/>
                    </a:lnTo>
                    <a:lnTo>
                      <a:pt x="336" y="510"/>
                    </a:lnTo>
                    <a:lnTo>
                      <a:pt x="306" y="510"/>
                    </a:lnTo>
                    <a:lnTo>
                      <a:pt x="276" y="524"/>
                    </a:lnTo>
                    <a:lnTo>
                      <a:pt x="258" y="524"/>
                    </a:lnTo>
                    <a:lnTo>
                      <a:pt x="228" y="524"/>
                    </a:lnTo>
                    <a:lnTo>
                      <a:pt x="198" y="538"/>
                    </a:lnTo>
                    <a:lnTo>
                      <a:pt x="186" y="538"/>
                    </a:lnTo>
                    <a:lnTo>
                      <a:pt x="156" y="538"/>
                    </a:lnTo>
                    <a:lnTo>
                      <a:pt x="126" y="538"/>
                    </a:lnTo>
                    <a:lnTo>
                      <a:pt x="108" y="538"/>
                    </a:lnTo>
                    <a:lnTo>
                      <a:pt x="78" y="552"/>
                    </a:lnTo>
                    <a:lnTo>
                      <a:pt x="48" y="552"/>
                    </a:lnTo>
                    <a:lnTo>
                      <a:pt x="30" y="552"/>
                    </a:lnTo>
                    <a:lnTo>
                      <a:pt x="0" y="552"/>
                    </a:lnTo>
                    <a:lnTo>
                      <a:pt x="0" y="0"/>
                    </a:lnTo>
                    <a:lnTo>
                      <a:pt x="630" y="3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87640" y="321300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0364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19640" y="378900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708360" y="2852640"/>
            <a:ext cx="990720" cy="1797120"/>
            <a:chOff x="3708360" y="2852640"/>
            <a:chExt cx="990720" cy="1797120"/>
          </a:xfrm>
        </p:grpSpPr>
        <p:grpSp>
          <p:nvGrpSpPr>
            <p:cNvPr id="982" name=""/>
            <p:cNvGrpSpPr/>
            <p:nvPr/>
          </p:nvGrpSpPr>
          <p:grpSpPr>
            <a:xfrm>
              <a:off x="3708360" y="2852640"/>
              <a:ext cx="990720" cy="1797120"/>
              <a:chOff x="3708360" y="2852640"/>
              <a:chExt cx="990720" cy="1797120"/>
            </a:xfrm>
          </p:grpSpPr>
          <p:sp>
            <p:nvSpPr>
              <p:cNvPr id="983" name=""/>
              <p:cNvSpPr/>
              <p:nvPr/>
            </p:nvSpPr>
            <p:spPr>
              <a:xfrm>
                <a:off x="3708360" y="3459240"/>
                <a:ext cx="990720" cy="1190520"/>
              </a:xfrm>
              <a:custGeom>
                <a:avLst/>
                <a:gdLst/>
                <a:ahLst/>
                <a:rect l="l" t="t" r="r" b="b"/>
                <a:pathLst>
                  <a:path w="624" h="750">
                    <a:moveTo>
                      <a:pt x="624" y="170"/>
                    </a:moveTo>
                    <a:lnTo>
                      <a:pt x="594" y="170"/>
                    </a:lnTo>
                    <a:lnTo>
                      <a:pt x="582" y="170"/>
                    </a:lnTo>
                    <a:lnTo>
                      <a:pt x="546" y="170"/>
                    </a:lnTo>
                    <a:lnTo>
                      <a:pt x="516" y="156"/>
                    </a:lnTo>
                    <a:lnTo>
                      <a:pt x="504" y="156"/>
                    </a:lnTo>
                    <a:lnTo>
                      <a:pt x="474" y="156"/>
                    </a:lnTo>
                    <a:lnTo>
                      <a:pt x="444" y="156"/>
                    </a:lnTo>
                    <a:lnTo>
                      <a:pt x="426" y="156"/>
                    </a:lnTo>
                    <a:lnTo>
                      <a:pt x="396" y="142"/>
                    </a:lnTo>
                    <a:lnTo>
                      <a:pt x="366" y="142"/>
                    </a:lnTo>
                    <a:lnTo>
                      <a:pt x="354" y="142"/>
                    </a:lnTo>
                    <a:lnTo>
                      <a:pt x="324" y="128"/>
                    </a:lnTo>
                    <a:lnTo>
                      <a:pt x="294" y="128"/>
                    </a:lnTo>
                    <a:lnTo>
                      <a:pt x="282" y="128"/>
                    </a:lnTo>
                    <a:lnTo>
                      <a:pt x="252" y="114"/>
                    </a:lnTo>
                    <a:lnTo>
                      <a:pt x="222" y="114"/>
                    </a:lnTo>
                    <a:lnTo>
                      <a:pt x="210" y="99"/>
                    </a:lnTo>
                    <a:lnTo>
                      <a:pt x="180" y="99"/>
                    </a:lnTo>
                    <a:lnTo>
                      <a:pt x="156" y="85"/>
                    </a:lnTo>
                    <a:lnTo>
                      <a:pt x="144" y="85"/>
                    </a:lnTo>
                    <a:lnTo>
                      <a:pt x="120" y="71"/>
                    </a:lnTo>
                    <a:lnTo>
                      <a:pt x="90" y="57"/>
                    </a:lnTo>
                    <a:lnTo>
                      <a:pt x="78" y="57"/>
                    </a:lnTo>
                    <a:lnTo>
                      <a:pt x="54" y="43"/>
                    </a:lnTo>
                    <a:lnTo>
                      <a:pt x="36" y="29"/>
                    </a:lnTo>
                    <a:lnTo>
                      <a:pt x="24" y="14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24" y="595"/>
                    </a:lnTo>
                    <a:lnTo>
                      <a:pt x="36" y="609"/>
                    </a:lnTo>
                    <a:lnTo>
                      <a:pt x="54" y="623"/>
                    </a:lnTo>
                    <a:lnTo>
                      <a:pt x="78" y="637"/>
                    </a:lnTo>
                    <a:lnTo>
                      <a:pt x="90" y="637"/>
                    </a:lnTo>
                    <a:lnTo>
                      <a:pt x="120" y="651"/>
                    </a:lnTo>
                    <a:lnTo>
                      <a:pt x="144" y="666"/>
                    </a:lnTo>
                    <a:lnTo>
                      <a:pt x="156" y="666"/>
                    </a:lnTo>
                    <a:lnTo>
                      <a:pt x="180" y="680"/>
                    </a:lnTo>
                    <a:lnTo>
                      <a:pt x="210" y="680"/>
                    </a:lnTo>
                    <a:lnTo>
                      <a:pt x="222" y="694"/>
                    </a:lnTo>
                    <a:lnTo>
                      <a:pt x="252" y="694"/>
                    </a:lnTo>
                    <a:lnTo>
                      <a:pt x="282" y="708"/>
                    </a:lnTo>
                    <a:lnTo>
                      <a:pt x="294" y="708"/>
                    </a:lnTo>
                    <a:lnTo>
                      <a:pt x="324" y="708"/>
                    </a:lnTo>
                    <a:lnTo>
                      <a:pt x="354" y="722"/>
                    </a:lnTo>
                    <a:lnTo>
                      <a:pt x="366" y="722"/>
                    </a:lnTo>
                    <a:lnTo>
                      <a:pt x="396" y="722"/>
                    </a:lnTo>
                    <a:lnTo>
                      <a:pt x="426" y="736"/>
                    </a:lnTo>
                    <a:lnTo>
                      <a:pt x="444" y="736"/>
                    </a:lnTo>
                    <a:lnTo>
                      <a:pt x="474" y="736"/>
                    </a:lnTo>
                    <a:lnTo>
                      <a:pt x="504" y="736"/>
                    </a:lnTo>
                    <a:lnTo>
                      <a:pt x="516" y="736"/>
                    </a:lnTo>
                    <a:lnTo>
                      <a:pt x="546" y="750"/>
                    </a:lnTo>
                    <a:lnTo>
                      <a:pt x="582" y="750"/>
                    </a:lnTo>
                    <a:lnTo>
                      <a:pt x="594" y="750"/>
                    </a:lnTo>
                    <a:lnTo>
                      <a:pt x="624" y="750"/>
                    </a:lnTo>
                    <a:lnTo>
                      <a:pt x="624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08360" y="2852640"/>
                <a:ext cx="990720" cy="876240"/>
              </a:xfrm>
              <a:custGeom>
                <a:avLst/>
                <a:gdLst/>
                <a:ahLst/>
                <a:rect l="l" t="t" r="r" b="b"/>
                <a:pathLst>
                  <a:path w="624" h="552">
                    <a:moveTo>
                      <a:pt x="624" y="552"/>
                    </a:moveTo>
                    <a:lnTo>
                      <a:pt x="594" y="552"/>
                    </a:lnTo>
                    <a:lnTo>
                      <a:pt x="582" y="552"/>
                    </a:lnTo>
                    <a:lnTo>
                      <a:pt x="546" y="552"/>
                    </a:lnTo>
                    <a:lnTo>
                      <a:pt x="516" y="538"/>
                    </a:lnTo>
                    <a:lnTo>
                      <a:pt x="504" y="538"/>
                    </a:lnTo>
                    <a:lnTo>
                      <a:pt x="474" y="538"/>
                    </a:lnTo>
                    <a:lnTo>
                      <a:pt x="444" y="538"/>
                    </a:lnTo>
                    <a:lnTo>
                      <a:pt x="426" y="538"/>
                    </a:lnTo>
                    <a:lnTo>
                      <a:pt x="396" y="524"/>
                    </a:lnTo>
                    <a:lnTo>
                      <a:pt x="366" y="524"/>
                    </a:lnTo>
                    <a:lnTo>
                      <a:pt x="354" y="524"/>
                    </a:lnTo>
                    <a:lnTo>
                      <a:pt x="324" y="510"/>
                    </a:lnTo>
                    <a:lnTo>
                      <a:pt x="294" y="510"/>
                    </a:lnTo>
                    <a:lnTo>
                      <a:pt x="282" y="510"/>
                    </a:lnTo>
                    <a:lnTo>
                      <a:pt x="252" y="496"/>
                    </a:lnTo>
                    <a:lnTo>
                      <a:pt x="222" y="496"/>
                    </a:lnTo>
                    <a:lnTo>
                      <a:pt x="210" y="481"/>
                    </a:lnTo>
                    <a:lnTo>
                      <a:pt x="180" y="481"/>
                    </a:lnTo>
                    <a:lnTo>
                      <a:pt x="156" y="467"/>
                    </a:lnTo>
                    <a:lnTo>
                      <a:pt x="144" y="467"/>
                    </a:lnTo>
                    <a:lnTo>
                      <a:pt x="120" y="453"/>
                    </a:lnTo>
                    <a:lnTo>
                      <a:pt x="90" y="439"/>
                    </a:lnTo>
                    <a:lnTo>
                      <a:pt x="78" y="439"/>
                    </a:lnTo>
                    <a:lnTo>
                      <a:pt x="54" y="425"/>
                    </a:lnTo>
                    <a:lnTo>
                      <a:pt x="36" y="411"/>
                    </a:lnTo>
                    <a:lnTo>
                      <a:pt x="24" y="396"/>
                    </a:lnTo>
                    <a:lnTo>
                      <a:pt x="0" y="382"/>
                    </a:lnTo>
                    <a:lnTo>
                      <a:pt x="624" y="0"/>
                    </a:lnTo>
                    <a:lnTo>
                      <a:pt x="624" y="5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406872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84720" y="429408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7" name="" descr=""/>
          <p:cNvPicPr/>
          <p:nvPr/>
        </p:nvPicPr>
        <p:blipFill>
          <a:blip r:embed="rId4"/>
          <a:stretch/>
        </p:blipFill>
        <p:spPr>
          <a:xfrm flipH="1">
            <a:off x="2987280" y="4005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 flipH="1">
            <a:off x="1692000" y="2997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6"/>
          <a:stretch/>
        </p:blipFill>
        <p:spPr>
          <a:xfrm flipH="1">
            <a:off x="1834920" y="162864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7"/>
          <a:stretch/>
        </p:blipFill>
        <p:spPr>
          <a:xfrm>
            <a:off x="6084720" y="2852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8"/>
          <a:stretch/>
        </p:blipFill>
        <p:spPr>
          <a:xfrm>
            <a:off x="5364000" y="4005360"/>
            <a:ext cx="1652760" cy="13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0.00833 L -0.2757 0.16574 E">
                                      <p:cBhvr>
                                        <p:cTn id="970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8382E-006 L -0.25989 0.2622 E">
                                      <p:cBhvr>
                                        <p:cTn id="972" dur="2000" fill="hold"/>
                                        <p:tgtEl>
                                          <p:spTgt spid="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6 L 0.08663 0.17826 E">
                                      <p:cBhvr>
                                        <p:cTn id="974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79191E-006 L 0.11024 0.22034 E">
                                      <p:cBhvr>
                                        <p:cTn id="976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1214E-006 L 0.20486 0.25179 E">
                                      <p:cBhvr>
                                        <p:cTn id="978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1387E-006 L 0.2599 0.1889 E">
                                      <p:cBhvr>
                                        <p:cTn id="980" dur="2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56069E-006 L 0.14167 -0.02104 E">
                                      <p:cBhvr>
                                        <p:cTn id="982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0.17326 -0.03144 E">
                                      <p:cBhvr>
                                        <p:cTn id="984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0116E-006 L 0.13402 -0.06289 E">
                                      <p:cBhvr>
                                        <p:cTn id="986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00578E-006 L 0.13385 -0.11537 E">
                                      <p:cBhvr>
                                        <p:cTn id="988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91329E-006 L -0.15747 -0.05249 E">
                                      <p:cBhvr>
                                        <p:cTn id="990" dur="2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63006E-006 L -0.09461 -0.12601 E">
                                      <p:cBhvr>
                                        <p:cTn id="992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62428E-007 L -0.18107 -0.07353 E">
                                      <p:cBhvr>
                                        <p:cTn id="994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3237E-006 L -0.19688 -0.06288 E">
                                      <p:cBhvr>
                                        <p:cTn id="996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2312E-006 L -0.18125 0.07144 E">
                                      <p:cBhvr>
                                        <p:cTn id="998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6763E-006 L -0.15746 0.07329 E">
                                      <p:cBhvr>
                                        <p:cTn id="1000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067280" y="1916280"/>
            <a:ext cx="1296720" cy="2089080"/>
            <a:chOff x="4067280" y="1916280"/>
            <a:chExt cx="1296720" cy="2089080"/>
          </a:xfrm>
        </p:grpSpPr>
        <p:sp>
          <p:nvSpPr>
            <p:cNvPr id="994" name=""/>
            <p:cNvSpPr/>
            <p:nvPr/>
          </p:nvSpPr>
          <p:spPr>
            <a:xfrm>
              <a:off x="4067280" y="2924280"/>
              <a:ext cx="1296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4356000" y="1916280"/>
              <a:ext cx="3621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4356000" y="3141720"/>
              <a:ext cx="5749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1042920" y="1916280"/>
            <a:ext cx="936720" cy="2017440"/>
            <a:chOff x="1042920" y="1916280"/>
            <a:chExt cx="936720" cy="2017440"/>
          </a:xfrm>
        </p:grpSpPr>
        <p:sp>
          <p:nvSpPr>
            <p:cNvPr id="998" name=""/>
            <p:cNvSpPr txBox="1"/>
            <p:nvPr/>
          </p:nvSpPr>
          <p:spPr>
            <a:xfrm>
              <a:off x="1258920" y="1916280"/>
              <a:ext cx="360360" cy="72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1258920" y="3141720"/>
              <a:ext cx="647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2920" y="2924280"/>
              <a:ext cx="936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877080" y="1844640"/>
            <a:ext cx="1224000" cy="2160360"/>
            <a:chOff x="6877080" y="1844640"/>
            <a:chExt cx="1224000" cy="2160360"/>
          </a:xfrm>
        </p:grpSpPr>
        <p:sp>
          <p:nvSpPr>
            <p:cNvPr id="1002" name=""/>
            <p:cNvSpPr txBox="1"/>
            <p:nvPr/>
          </p:nvSpPr>
          <p:spPr>
            <a:xfrm>
              <a:off x="7166160" y="1844640"/>
              <a:ext cx="360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7237440" y="3141360"/>
              <a:ext cx="50328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6877080" y="2852640"/>
              <a:ext cx="122400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3780000" y="4365720"/>
            <a:ext cx="1936080" cy="1797120"/>
            <a:chOff x="3780000" y="4365720"/>
            <a:chExt cx="1936080" cy="1797120"/>
          </a:xfrm>
        </p:grpSpPr>
        <p:grpSp>
          <p:nvGrpSpPr>
            <p:cNvPr id="1006" name=""/>
            <p:cNvGrpSpPr/>
            <p:nvPr/>
          </p:nvGrpSpPr>
          <p:grpSpPr>
            <a:xfrm>
              <a:off x="3780000" y="4365720"/>
              <a:ext cx="1936080" cy="1797120"/>
              <a:chOff x="3780000" y="4365720"/>
              <a:chExt cx="1936080" cy="1797120"/>
            </a:xfrm>
          </p:grpSpPr>
          <p:grpSp>
            <p:nvGrpSpPr>
              <p:cNvPr id="1007" name=""/>
              <p:cNvGrpSpPr/>
              <p:nvPr/>
            </p:nvGrpSpPr>
            <p:grpSpPr>
              <a:xfrm>
                <a:off x="4716360" y="4365720"/>
                <a:ext cx="999720" cy="1797120"/>
                <a:chOff x="4716360" y="4365720"/>
                <a:chExt cx="999720" cy="17971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716360" y="4972320"/>
                  <a:ext cx="999720" cy="1190520"/>
                </a:xfrm>
                <a:custGeom>
                  <a:avLst/>
                  <a:gdLst/>
                  <a:ahLst/>
                  <a:rect l="l" t="t" r="r" b="b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716360" y="4365720"/>
                  <a:ext cx="999720" cy="876240"/>
                </a:xfrm>
                <a:custGeom>
                  <a:avLst/>
                  <a:gdLst/>
                  <a:ahLst/>
                  <a:rect l="l" t="t" r="r" b="b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3780000" y="4365720"/>
                <a:ext cx="990360" cy="1797120"/>
                <a:chOff x="3780000" y="4365720"/>
                <a:chExt cx="990360" cy="17971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3780000" y="4972320"/>
                  <a:ext cx="990360" cy="1190520"/>
                </a:xfrm>
                <a:custGeom>
                  <a:avLst/>
                  <a:gdLst/>
                  <a:ahLst/>
                  <a:rect l="l" t="t" r="r" b="b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780000" y="4365720"/>
                  <a:ext cx="990360" cy="876240"/>
                </a:xfrm>
                <a:custGeom>
                  <a:avLst/>
                  <a:gdLst/>
                  <a:ahLst/>
                  <a:rect l="l" t="t" r="r" b="b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"/>
            <p:cNvSpPr/>
            <p:nvPr/>
          </p:nvSpPr>
          <p:spPr>
            <a:xfrm>
              <a:off x="4356000" y="4797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56000" y="551808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005080" y="494208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76720" y="537372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99880" y="3892680"/>
            <a:ext cx="2368800" cy="2373120"/>
            <a:chOff x="299880" y="3892680"/>
            <a:chExt cx="2368800" cy="2373120"/>
          </a:xfrm>
        </p:grpSpPr>
        <p:grpSp>
          <p:nvGrpSpPr>
            <p:cNvPr id="1018" name=""/>
            <p:cNvGrpSpPr/>
            <p:nvPr/>
          </p:nvGrpSpPr>
          <p:grpSpPr>
            <a:xfrm>
              <a:off x="299880" y="3892680"/>
              <a:ext cx="1400040" cy="1527120"/>
              <a:chOff x="299880" y="3892680"/>
              <a:chExt cx="1400040" cy="15271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299880" y="3892680"/>
                <a:ext cx="1400040" cy="1527120"/>
                <a:chOff x="299880" y="3892680"/>
                <a:chExt cx="1400040" cy="152712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299880" y="4498920"/>
                  <a:ext cx="1400040" cy="920880"/>
                </a:xfrm>
                <a:prstGeom prst="rect">
                  <a:avLst/>
                </a:pr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99880" y="3892680"/>
                  <a:ext cx="1400040" cy="60624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>
                <a:off x="949320" y="42512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17320" y="40352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99880" y="4468680"/>
              <a:ext cx="1400400" cy="1528920"/>
              <a:chOff x="299880" y="4468680"/>
              <a:chExt cx="1400400" cy="152892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299880" y="4468680"/>
                <a:ext cx="1400400" cy="1528920"/>
                <a:chOff x="299880" y="4468680"/>
                <a:chExt cx="1400400" cy="152892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299880" y="4468680"/>
                  <a:ext cx="409680" cy="1528920"/>
                </a:xfrm>
                <a:custGeom>
                  <a:avLst/>
                  <a:gdLst/>
                  <a:ahLst/>
                  <a:rect l="l" t="t" r="r" b="b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09560" y="4468680"/>
                  <a:ext cx="990720" cy="1528920"/>
                </a:xfrm>
                <a:custGeom>
                  <a:avLst/>
                  <a:gdLst/>
                  <a:ahLst/>
                  <a:rect l="l" t="t" r="r" b="b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99880" y="4468680"/>
                  <a:ext cx="1400400" cy="60660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660240" y="46130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731880" y="4468680"/>
              <a:ext cx="1936800" cy="1797120"/>
              <a:chOff x="731880" y="4468680"/>
              <a:chExt cx="1936800" cy="179712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731880" y="4468680"/>
                <a:ext cx="1936800" cy="1797120"/>
                <a:chOff x="731880" y="4468680"/>
                <a:chExt cx="1936800" cy="179712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1668600" y="4468680"/>
                  <a:ext cx="1000080" cy="1797120"/>
                  <a:chOff x="1668600" y="4468680"/>
                  <a:chExt cx="1000080" cy="17971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1668600" y="5075280"/>
                    <a:ext cx="1000080" cy="11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750">
                        <a:moveTo>
                          <a:pt x="630" y="0"/>
                        </a:moveTo>
                        <a:lnTo>
                          <a:pt x="606" y="14"/>
                        </a:lnTo>
                        <a:lnTo>
                          <a:pt x="594" y="29"/>
                        </a:lnTo>
                        <a:lnTo>
                          <a:pt x="570" y="43"/>
                        </a:lnTo>
                        <a:lnTo>
                          <a:pt x="546" y="57"/>
                        </a:lnTo>
                        <a:lnTo>
                          <a:pt x="534" y="57"/>
                        </a:lnTo>
                        <a:lnTo>
                          <a:pt x="510" y="71"/>
                        </a:lnTo>
                        <a:lnTo>
                          <a:pt x="486" y="85"/>
                        </a:lnTo>
                        <a:lnTo>
                          <a:pt x="468" y="85"/>
                        </a:lnTo>
                        <a:lnTo>
                          <a:pt x="444" y="99"/>
                        </a:lnTo>
                        <a:lnTo>
                          <a:pt x="414" y="99"/>
                        </a:lnTo>
                        <a:lnTo>
                          <a:pt x="402" y="114"/>
                        </a:lnTo>
                        <a:lnTo>
                          <a:pt x="378" y="114"/>
                        </a:lnTo>
                        <a:lnTo>
                          <a:pt x="348" y="128"/>
                        </a:lnTo>
                        <a:lnTo>
                          <a:pt x="336" y="128"/>
                        </a:lnTo>
                        <a:lnTo>
                          <a:pt x="306" y="128"/>
                        </a:lnTo>
                        <a:lnTo>
                          <a:pt x="276" y="142"/>
                        </a:lnTo>
                        <a:lnTo>
                          <a:pt x="258" y="142"/>
                        </a:lnTo>
                        <a:lnTo>
                          <a:pt x="228" y="142"/>
                        </a:lnTo>
                        <a:lnTo>
                          <a:pt x="198" y="156"/>
                        </a:lnTo>
                        <a:lnTo>
                          <a:pt x="186" y="156"/>
                        </a:lnTo>
                        <a:lnTo>
                          <a:pt x="156" y="156"/>
                        </a:lnTo>
                        <a:lnTo>
                          <a:pt x="126" y="156"/>
                        </a:lnTo>
                        <a:lnTo>
                          <a:pt x="108" y="156"/>
                        </a:lnTo>
                        <a:lnTo>
                          <a:pt x="78" y="170"/>
                        </a:lnTo>
                        <a:lnTo>
                          <a:pt x="48" y="170"/>
                        </a:lnTo>
                        <a:lnTo>
                          <a:pt x="30" y="170"/>
                        </a:lnTo>
                        <a:lnTo>
                          <a:pt x="0" y="170"/>
                        </a:lnTo>
                        <a:lnTo>
                          <a:pt x="0" y="750"/>
                        </a:lnTo>
                        <a:lnTo>
                          <a:pt x="30" y="750"/>
                        </a:lnTo>
                        <a:lnTo>
                          <a:pt x="48" y="750"/>
                        </a:lnTo>
                        <a:lnTo>
                          <a:pt x="78" y="750"/>
                        </a:lnTo>
                        <a:lnTo>
                          <a:pt x="108" y="736"/>
                        </a:lnTo>
                        <a:lnTo>
                          <a:pt x="126" y="736"/>
                        </a:lnTo>
                        <a:lnTo>
                          <a:pt x="156" y="736"/>
                        </a:lnTo>
                        <a:lnTo>
                          <a:pt x="186" y="736"/>
                        </a:lnTo>
                        <a:lnTo>
                          <a:pt x="198" y="736"/>
                        </a:lnTo>
                        <a:lnTo>
                          <a:pt x="228" y="722"/>
                        </a:lnTo>
                        <a:lnTo>
                          <a:pt x="258" y="722"/>
                        </a:lnTo>
                        <a:lnTo>
                          <a:pt x="276" y="722"/>
                        </a:lnTo>
                        <a:lnTo>
                          <a:pt x="306" y="708"/>
                        </a:lnTo>
                        <a:lnTo>
                          <a:pt x="336" y="708"/>
                        </a:lnTo>
                        <a:lnTo>
                          <a:pt x="348" y="708"/>
                        </a:lnTo>
                        <a:lnTo>
                          <a:pt x="378" y="694"/>
                        </a:lnTo>
                        <a:lnTo>
                          <a:pt x="402" y="694"/>
                        </a:lnTo>
                        <a:lnTo>
                          <a:pt x="414" y="680"/>
                        </a:lnTo>
                        <a:lnTo>
                          <a:pt x="444" y="680"/>
                        </a:lnTo>
                        <a:lnTo>
                          <a:pt x="468" y="666"/>
                        </a:lnTo>
                        <a:lnTo>
                          <a:pt x="486" y="666"/>
                        </a:lnTo>
                        <a:lnTo>
                          <a:pt x="510" y="651"/>
                        </a:lnTo>
                        <a:lnTo>
                          <a:pt x="534" y="637"/>
                        </a:lnTo>
                        <a:lnTo>
                          <a:pt x="546" y="637"/>
                        </a:lnTo>
                        <a:lnTo>
                          <a:pt x="570" y="623"/>
                        </a:lnTo>
                        <a:lnTo>
                          <a:pt x="594" y="609"/>
                        </a:lnTo>
                        <a:lnTo>
                          <a:pt x="606" y="595"/>
                        </a:lnTo>
                        <a:lnTo>
                          <a:pt x="630" y="581"/>
                        </a:lnTo>
                        <a:lnTo>
                          <a:pt x="630" y="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668600" y="4468680"/>
                    <a:ext cx="100008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552">
                        <a:moveTo>
                          <a:pt x="630" y="382"/>
                        </a:moveTo>
                        <a:lnTo>
                          <a:pt x="606" y="396"/>
                        </a:lnTo>
                        <a:lnTo>
                          <a:pt x="594" y="411"/>
                        </a:lnTo>
                        <a:lnTo>
                          <a:pt x="570" y="425"/>
                        </a:lnTo>
                        <a:lnTo>
                          <a:pt x="546" y="439"/>
                        </a:lnTo>
                        <a:lnTo>
                          <a:pt x="534" y="439"/>
                        </a:lnTo>
                        <a:lnTo>
                          <a:pt x="510" y="453"/>
                        </a:lnTo>
                        <a:lnTo>
                          <a:pt x="486" y="467"/>
                        </a:lnTo>
                        <a:lnTo>
                          <a:pt x="468" y="467"/>
                        </a:lnTo>
                        <a:lnTo>
                          <a:pt x="444" y="481"/>
                        </a:lnTo>
                        <a:lnTo>
                          <a:pt x="414" y="481"/>
                        </a:lnTo>
                        <a:lnTo>
                          <a:pt x="402" y="496"/>
                        </a:lnTo>
                        <a:lnTo>
                          <a:pt x="378" y="496"/>
                        </a:lnTo>
                        <a:lnTo>
                          <a:pt x="348" y="510"/>
                        </a:lnTo>
                        <a:lnTo>
                          <a:pt x="336" y="510"/>
                        </a:lnTo>
                        <a:lnTo>
                          <a:pt x="306" y="510"/>
                        </a:lnTo>
                        <a:lnTo>
                          <a:pt x="276" y="524"/>
                        </a:lnTo>
                        <a:lnTo>
                          <a:pt x="258" y="524"/>
                        </a:lnTo>
                        <a:lnTo>
                          <a:pt x="228" y="524"/>
                        </a:lnTo>
                        <a:lnTo>
                          <a:pt x="198" y="538"/>
                        </a:lnTo>
                        <a:lnTo>
                          <a:pt x="186" y="538"/>
                        </a:lnTo>
                        <a:lnTo>
                          <a:pt x="156" y="538"/>
                        </a:lnTo>
                        <a:lnTo>
                          <a:pt x="126" y="538"/>
                        </a:lnTo>
                        <a:lnTo>
                          <a:pt x="108" y="538"/>
                        </a:lnTo>
                        <a:lnTo>
                          <a:pt x="78" y="552"/>
                        </a:lnTo>
                        <a:lnTo>
                          <a:pt x="48" y="552"/>
                        </a:lnTo>
                        <a:lnTo>
                          <a:pt x="30" y="552"/>
                        </a:lnTo>
                        <a:lnTo>
                          <a:pt x="0" y="552"/>
                        </a:lnTo>
                        <a:lnTo>
                          <a:pt x="0" y="0"/>
                        </a:lnTo>
                        <a:lnTo>
                          <a:pt x="630" y="38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731880" y="4468680"/>
                  <a:ext cx="990720" cy="1797120"/>
                  <a:chOff x="731880" y="4468680"/>
                  <a:chExt cx="990720" cy="179712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731880" y="5075280"/>
                    <a:ext cx="990720" cy="11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50">
                        <a:moveTo>
                          <a:pt x="624" y="170"/>
                        </a:moveTo>
                        <a:lnTo>
                          <a:pt x="594" y="170"/>
                        </a:lnTo>
                        <a:lnTo>
                          <a:pt x="582" y="170"/>
                        </a:lnTo>
                        <a:lnTo>
                          <a:pt x="546" y="170"/>
                        </a:lnTo>
                        <a:lnTo>
                          <a:pt x="516" y="156"/>
                        </a:lnTo>
                        <a:lnTo>
                          <a:pt x="504" y="156"/>
                        </a:lnTo>
                        <a:lnTo>
                          <a:pt x="474" y="156"/>
                        </a:lnTo>
                        <a:lnTo>
                          <a:pt x="444" y="156"/>
                        </a:lnTo>
                        <a:lnTo>
                          <a:pt x="426" y="156"/>
                        </a:lnTo>
                        <a:lnTo>
                          <a:pt x="396" y="142"/>
                        </a:lnTo>
                        <a:lnTo>
                          <a:pt x="366" y="142"/>
                        </a:lnTo>
                        <a:lnTo>
                          <a:pt x="354" y="142"/>
                        </a:lnTo>
                        <a:lnTo>
                          <a:pt x="324" y="128"/>
                        </a:lnTo>
                        <a:lnTo>
                          <a:pt x="294" y="128"/>
                        </a:lnTo>
                        <a:lnTo>
                          <a:pt x="282" y="128"/>
                        </a:lnTo>
                        <a:lnTo>
                          <a:pt x="252" y="114"/>
                        </a:lnTo>
                        <a:lnTo>
                          <a:pt x="222" y="114"/>
                        </a:lnTo>
                        <a:lnTo>
                          <a:pt x="210" y="99"/>
                        </a:lnTo>
                        <a:lnTo>
                          <a:pt x="180" y="99"/>
                        </a:lnTo>
                        <a:lnTo>
                          <a:pt x="156" y="85"/>
                        </a:lnTo>
                        <a:lnTo>
                          <a:pt x="144" y="85"/>
                        </a:lnTo>
                        <a:lnTo>
                          <a:pt x="120" y="71"/>
                        </a:lnTo>
                        <a:lnTo>
                          <a:pt x="90" y="57"/>
                        </a:lnTo>
                        <a:lnTo>
                          <a:pt x="78" y="57"/>
                        </a:lnTo>
                        <a:lnTo>
                          <a:pt x="54" y="43"/>
                        </a:lnTo>
                        <a:lnTo>
                          <a:pt x="36" y="29"/>
                        </a:lnTo>
                        <a:lnTo>
                          <a:pt x="24" y="14"/>
                        </a:lnTo>
                        <a:lnTo>
                          <a:pt x="0" y="0"/>
                        </a:lnTo>
                        <a:lnTo>
                          <a:pt x="0" y="581"/>
                        </a:lnTo>
                        <a:lnTo>
                          <a:pt x="24" y="595"/>
                        </a:lnTo>
                        <a:lnTo>
                          <a:pt x="36" y="609"/>
                        </a:lnTo>
                        <a:lnTo>
                          <a:pt x="54" y="623"/>
                        </a:lnTo>
                        <a:lnTo>
                          <a:pt x="78" y="637"/>
                        </a:lnTo>
                        <a:lnTo>
                          <a:pt x="90" y="637"/>
                        </a:lnTo>
                        <a:lnTo>
                          <a:pt x="120" y="651"/>
                        </a:lnTo>
                        <a:lnTo>
                          <a:pt x="144" y="666"/>
                        </a:lnTo>
                        <a:lnTo>
                          <a:pt x="156" y="666"/>
                        </a:lnTo>
                        <a:lnTo>
                          <a:pt x="180" y="680"/>
                        </a:lnTo>
                        <a:lnTo>
                          <a:pt x="210" y="680"/>
                        </a:lnTo>
                        <a:lnTo>
                          <a:pt x="222" y="694"/>
                        </a:lnTo>
                        <a:lnTo>
                          <a:pt x="252" y="694"/>
                        </a:lnTo>
                        <a:lnTo>
                          <a:pt x="282" y="708"/>
                        </a:lnTo>
                        <a:lnTo>
                          <a:pt x="294" y="708"/>
                        </a:lnTo>
                        <a:lnTo>
                          <a:pt x="324" y="708"/>
                        </a:lnTo>
                        <a:lnTo>
                          <a:pt x="354" y="722"/>
                        </a:lnTo>
                        <a:lnTo>
                          <a:pt x="366" y="722"/>
                        </a:lnTo>
                        <a:lnTo>
                          <a:pt x="396" y="722"/>
                        </a:lnTo>
                        <a:lnTo>
                          <a:pt x="426" y="736"/>
                        </a:lnTo>
                        <a:lnTo>
                          <a:pt x="444" y="736"/>
                        </a:lnTo>
                        <a:lnTo>
                          <a:pt x="474" y="736"/>
                        </a:lnTo>
                        <a:lnTo>
                          <a:pt x="504" y="736"/>
                        </a:lnTo>
                        <a:lnTo>
                          <a:pt x="516" y="736"/>
                        </a:lnTo>
                        <a:lnTo>
                          <a:pt x="546" y="750"/>
                        </a:lnTo>
                        <a:lnTo>
                          <a:pt x="582" y="750"/>
                        </a:lnTo>
                        <a:lnTo>
                          <a:pt x="594" y="750"/>
                        </a:lnTo>
                        <a:lnTo>
                          <a:pt x="624" y="750"/>
                        </a:lnTo>
                        <a:lnTo>
                          <a:pt x="624" y="17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731880" y="4468680"/>
                    <a:ext cx="99072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552">
                        <a:moveTo>
                          <a:pt x="624" y="552"/>
                        </a:moveTo>
                        <a:lnTo>
                          <a:pt x="594" y="552"/>
                        </a:lnTo>
                        <a:lnTo>
                          <a:pt x="582" y="552"/>
                        </a:lnTo>
                        <a:lnTo>
                          <a:pt x="546" y="552"/>
                        </a:lnTo>
                        <a:lnTo>
                          <a:pt x="516" y="538"/>
                        </a:lnTo>
                        <a:lnTo>
                          <a:pt x="504" y="538"/>
                        </a:lnTo>
                        <a:lnTo>
                          <a:pt x="474" y="538"/>
                        </a:lnTo>
                        <a:lnTo>
                          <a:pt x="444" y="538"/>
                        </a:lnTo>
                        <a:lnTo>
                          <a:pt x="426" y="538"/>
                        </a:lnTo>
                        <a:lnTo>
                          <a:pt x="396" y="524"/>
                        </a:lnTo>
                        <a:lnTo>
                          <a:pt x="366" y="524"/>
                        </a:lnTo>
                        <a:lnTo>
                          <a:pt x="354" y="524"/>
                        </a:lnTo>
                        <a:lnTo>
                          <a:pt x="324" y="510"/>
                        </a:lnTo>
                        <a:lnTo>
                          <a:pt x="294" y="510"/>
                        </a:lnTo>
                        <a:lnTo>
                          <a:pt x="282" y="510"/>
                        </a:lnTo>
                        <a:lnTo>
                          <a:pt x="252" y="496"/>
                        </a:lnTo>
                        <a:lnTo>
                          <a:pt x="222" y="496"/>
                        </a:lnTo>
                        <a:lnTo>
                          <a:pt x="210" y="481"/>
                        </a:lnTo>
                        <a:lnTo>
                          <a:pt x="180" y="481"/>
                        </a:lnTo>
                        <a:lnTo>
                          <a:pt x="156" y="467"/>
                        </a:lnTo>
                        <a:lnTo>
                          <a:pt x="144" y="467"/>
                        </a:lnTo>
                        <a:lnTo>
                          <a:pt x="120" y="453"/>
                        </a:lnTo>
                        <a:lnTo>
                          <a:pt x="90" y="439"/>
                        </a:lnTo>
                        <a:lnTo>
                          <a:pt x="78" y="439"/>
                        </a:lnTo>
                        <a:lnTo>
                          <a:pt x="54" y="425"/>
                        </a:lnTo>
                        <a:lnTo>
                          <a:pt x="36" y="411"/>
                        </a:lnTo>
                        <a:lnTo>
                          <a:pt x="24" y="396"/>
                        </a:lnTo>
                        <a:lnTo>
                          <a:pt x="0" y="382"/>
                        </a:lnTo>
                        <a:lnTo>
                          <a:pt x="624" y="0"/>
                        </a:lnTo>
                        <a:lnTo>
                          <a:pt x="624" y="55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8" name=""/>
              <p:cNvSpPr/>
              <p:nvPr/>
            </p:nvSpPr>
            <p:spPr>
              <a:xfrm>
                <a:off x="1308240" y="490032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308240" y="56210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957320" y="5045040"/>
                <a:ext cx="21600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28960" y="547668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6659640" y="4581360"/>
            <a:ext cx="1409400" cy="1528920"/>
            <a:chOff x="6659640" y="4581360"/>
            <a:chExt cx="1409400" cy="1528920"/>
          </a:xfrm>
        </p:grpSpPr>
        <p:grpSp>
          <p:nvGrpSpPr>
            <p:cNvPr id="1043" name=""/>
            <p:cNvGrpSpPr/>
            <p:nvPr/>
          </p:nvGrpSpPr>
          <p:grpSpPr>
            <a:xfrm>
              <a:off x="6659640" y="4581360"/>
              <a:ext cx="1409400" cy="1528920"/>
              <a:chOff x="6659640" y="4581360"/>
              <a:chExt cx="1409400" cy="1528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7659720" y="4581360"/>
                <a:ext cx="409320" cy="1528920"/>
              </a:xfrm>
              <a:custGeom>
                <a:avLst/>
                <a:gdLst/>
                <a:ahLst/>
                <a:rect l="l" t="t" r="r" b="b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59640" y="4581360"/>
                <a:ext cx="990360" cy="1528920"/>
              </a:xfrm>
              <a:custGeom>
                <a:avLst/>
                <a:gdLst/>
                <a:ahLst/>
                <a:rect l="l" t="t" r="r" b="b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59640" y="4581360"/>
                <a:ext cx="1409400" cy="606600"/>
              </a:xfrm>
              <a:custGeom>
                <a:avLst/>
                <a:gdLst/>
                <a:ahLst/>
                <a:rect l="l" t="t" r="r" b="b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452000" y="4726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02560" y="5084640"/>
              <a:ext cx="216000" cy="287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810560" y="5157720"/>
              <a:ext cx="144720" cy="358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368800" y="2467440"/>
            <a:ext cx="977040" cy="932760"/>
            <a:chOff x="2368800" y="2467440"/>
            <a:chExt cx="977040" cy="932760"/>
          </a:xfrm>
        </p:grpSpPr>
        <p:sp>
          <p:nvSpPr>
            <p:cNvPr id="1051" name=""/>
            <p:cNvSpPr/>
            <p:nvPr/>
          </p:nvSpPr>
          <p:spPr>
            <a:xfrm flipH="1">
              <a:off x="245808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236880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5537520" y="2467440"/>
            <a:ext cx="977040" cy="932760"/>
            <a:chOff x="5537520" y="2467440"/>
            <a:chExt cx="977040" cy="932760"/>
          </a:xfrm>
        </p:grpSpPr>
        <p:sp>
          <p:nvSpPr>
            <p:cNvPr id="1054" name=""/>
            <p:cNvSpPr/>
            <p:nvPr/>
          </p:nvSpPr>
          <p:spPr>
            <a:xfrm flipH="1">
              <a:off x="562680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553752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26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разрезать головку сы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8 равных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елав только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азре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0926720" y="-63360"/>
            <a:ext cx="135000" cy="147600"/>
          </a:xfrm>
          <a:custGeom>
            <a:avLst/>
            <a:gdLst/>
            <a:ahLst/>
            <a:rect l="l" t="t" r="r" b="b"/>
            <a:pathLst>
              <a:path w="53" h="77">
                <a:moveTo>
                  <a:pt x="36" y="18"/>
                </a:moveTo>
                <a:cubicBezTo>
                  <a:pt x="35" y="15"/>
                  <a:pt x="34" y="0"/>
                  <a:pt x="30" y="0"/>
                </a:cubicBezTo>
                <a:cubicBezTo>
                  <a:pt x="26" y="0"/>
                  <a:pt x="16" y="9"/>
                  <a:pt x="12" y="18"/>
                </a:cubicBezTo>
                <a:cubicBezTo>
                  <a:pt x="8" y="27"/>
                  <a:pt x="0" y="46"/>
                  <a:pt x="6" y="54"/>
                </a:cubicBezTo>
                <a:cubicBezTo>
                  <a:pt x="12" y="62"/>
                  <a:pt x="45" y="77"/>
                  <a:pt x="49" y="68"/>
                </a:cubicBezTo>
                <a:cubicBezTo>
                  <a:pt x="53" y="59"/>
                  <a:pt x="34" y="14"/>
                  <a:pt x="30" y="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1059" name=""/>
            <p:cNvSpPr/>
            <p:nvPr/>
          </p:nvSpPr>
          <p:spPr>
            <a:xfrm>
              <a:off x="2006640" y="2844720"/>
              <a:ext cx="4737240" cy="2444760"/>
            </a:xfrm>
            <a:custGeom>
              <a:avLst/>
              <a:gdLst/>
              <a:ahLst/>
              <a:rect l="l" t="t" r="r" b="b"/>
              <a:pathLst>
                <a:path w="2984" h="1540">
                  <a:moveTo>
                    <a:pt x="0" y="4"/>
                  </a:moveTo>
                  <a:lnTo>
                    <a:pt x="8" y="984"/>
                  </a:lnTo>
                  <a:lnTo>
                    <a:pt x="48" y="1104"/>
                  </a:lnTo>
                  <a:lnTo>
                    <a:pt x="112" y="1180"/>
                  </a:lnTo>
                  <a:lnTo>
                    <a:pt x="180" y="1228"/>
                  </a:lnTo>
                  <a:lnTo>
                    <a:pt x="260" y="1288"/>
                  </a:lnTo>
                  <a:lnTo>
                    <a:pt x="368" y="1336"/>
                  </a:lnTo>
                  <a:lnTo>
                    <a:pt x="488" y="1384"/>
                  </a:lnTo>
                  <a:lnTo>
                    <a:pt x="640" y="1432"/>
                  </a:lnTo>
                  <a:lnTo>
                    <a:pt x="768" y="1464"/>
                  </a:lnTo>
                  <a:lnTo>
                    <a:pt x="952" y="1500"/>
                  </a:lnTo>
                  <a:lnTo>
                    <a:pt x="1108" y="1520"/>
                  </a:lnTo>
                  <a:lnTo>
                    <a:pt x="1276" y="1536"/>
                  </a:lnTo>
                  <a:lnTo>
                    <a:pt x="1432" y="1540"/>
                  </a:lnTo>
                  <a:lnTo>
                    <a:pt x="1584" y="1536"/>
                  </a:lnTo>
                  <a:lnTo>
                    <a:pt x="1776" y="1528"/>
                  </a:lnTo>
                  <a:lnTo>
                    <a:pt x="1940" y="1520"/>
                  </a:lnTo>
                  <a:lnTo>
                    <a:pt x="2136" y="1496"/>
                  </a:lnTo>
                  <a:lnTo>
                    <a:pt x="2456" y="1400"/>
                  </a:lnTo>
                  <a:lnTo>
                    <a:pt x="2616" y="1340"/>
                  </a:lnTo>
                  <a:lnTo>
                    <a:pt x="2776" y="1244"/>
                  </a:lnTo>
                  <a:lnTo>
                    <a:pt x="2860" y="1172"/>
                  </a:lnTo>
                  <a:lnTo>
                    <a:pt x="2928" y="1100"/>
                  </a:lnTo>
                  <a:lnTo>
                    <a:pt x="2984" y="992"/>
                  </a:lnTo>
                  <a:lnTo>
                    <a:pt x="2960" y="0"/>
                  </a:lnTo>
                  <a:lnTo>
                    <a:pt x="2916" y="100"/>
                  </a:lnTo>
                  <a:lnTo>
                    <a:pt x="2848" y="216"/>
                  </a:lnTo>
                  <a:lnTo>
                    <a:pt x="2748" y="292"/>
                  </a:lnTo>
                  <a:lnTo>
                    <a:pt x="2620" y="364"/>
                  </a:lnTo>
                  <a:lnTo>
                    <a:pt x="2480" y="408"/>
                  </a:lnTo>
                  <a:lnTo>
                    <a:pt x="2328" y="460"/>
                  </a:lnTo>
                  <a:lnTo>
                    <a:pt x="2168" y="496"/>
                  </a:lnTo>
                  <a:lnTo>
                    <a:pt x="1992" y="528"/>
                  </a:lnTo>
                  <a:lnTo>
                    <a:pt x="1824" y="544"/>
                  </a:lnTo>
                  <a:lnTo>
                    <a:pt x="1620" y="552"/>
                  </a:lnTo>
                  <a:lnTo>
                    <a:pt x="1452" y="552"/>
                  </a:lnTo>
                  <a:lnTo>
                    <a:pt x="1284" y="552"/>
                  </a:lnTo>
                  <a:lnTo>
                    <a:pt x="1156" y="548"/>
                  </a:lnTo>
                  <a:lnTo>
                    <a:pt x="1008" y="536"/>
                  </a:lnTo>
                  <a:lnTo>
                    <a:pt x="848" y="508"/>
                  </a:lnTo>
                  <a:lnTo>
                    <a:pt x="760" y="484"/>
                  </a:lnTo>
                  <a:lnTo>
                    <a:pt x="700" y="468"/>
                  </a:lnTo>
                  <a:lnTo>
                    <a:pt x="532" y="428"/>
                  </a:lnTo>
                  <a:lnTo>
                    <a:pt x="408" y="384"/>
                  </a:lnTo>
                  <a:lnTo>
                    <a:pt x="312" y="336"/>
                  </a:lnTo>
                  <a:lnTo>
                    <a:pt x="200" y="280"/>
                  </a:lnTo>
                  <a:lnTo>
                    <a:pt x="56" y="14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68960" y="464832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56080" y="4038480"/>
              <a:ext cx="177840" cy="18576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445280" y="406404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66120" y="441972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1065" name="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14800" y="3174840"/>
              <a:ext cx="177480" cy="10980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75040" y="3327480"/>
              <a:ext cx="177840" cy="18576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34880" y="274320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62360" y="231156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84440" y="573876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252360" y="5445000"/>
            <a:ext cx="2198520" cy="1191240"/>
            <a:chOff x="252360" y="5445000"/>
            <a:chExt cx="2198520" cy="1191240"/>
          </a:xfrm>
        </p:grpSpPr>
        <p:sp>
          <p:nvSpPr>
            <p:cNvPr id="1074" name=""/>
            <p:cNvSpPr/>
            <p:nvPr/>
          </p:nvSpPr>
          <p:spPr>
            <a:xfrm>
              <a:off x="252360" y="5445000"/>
              <a:ext cx="6379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22240" y="5749920"/>
              <a:ext cx="162864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доле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1077" name=""/>
            <p:cNvSpPr/>
            <p:nvPr/>
          </p:nvSpPr>
          <p:spPr>
            <a:xfrm>
              <a:off x="2031840" y="5169600"/>
              <a:ext cx="4736880" cy="172620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" descr="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1081" name=""/>
            <p:cNvSpPr/>
            <p:nvPr/>
          </p:nvSpPr>
          <p:spPr>
            <a:xfrm>
              <a:off x="2600280" y="3531960"/>
              <a:ext cx="3205440" cy="762120"/>
            </a:xfrm>
            <a:custGeom>
              <a:avLst/>
              <a:gdLst/>
              <a:ahLst/>
              <a:rect l="l" t="t" r="r" b="b"/>
              <a:pathLst>
                <a:path w="2019" h="480">
                  <a:moveTo>
                    <a:pt x="0" y="96"/>
                  </a:moveTo>
                  <a:lnTo>
                    <a:pt x="2019" y="0"/>
                  </a:lnTo>
                  <a:lnTo>
                    <a:pt x="1171" y="4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446720" y="3525840"/>
              <a:ext cx="1396800" cy="1581120"/>
            </a:xfrm>
            <a:custGeom>
              <a:avLst/>
              <a:gdLst/>
              <a:ahLst/>
              <a:rect l="l" t="t" r="r" b="b"/>
              <a:pathLst>
                <a:path w="880" h="996">
                  <a:moveTo>
                    <a:pt x="0" y="996"/>
                  </a:moveTo>
                  <a:lnTo>
                    <a:pt x="880" y="508"/>
                  </a:lnTo>
                  <a:cubicBezTo>
                    <a:pt x="868" y="337"/>
                    <a:pt x="860" y="170"/>
                    <a:pt x="849" y="0"/>
                  </a:cubicBezTo>
                  <a:lnTo>
                    <a:pt x="8" y="49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67160" y="3671640"/>
              <a:ext cx="1904760" cy="1447920"/>
            </a:xfrm>
            <a:custGeom>
              <a:avLst/>
              <a:gdLst/>
              <a:ahLst/>
              <a:rect l="l" t="t" r="r" b="b"/>
              <a:pathLst>
                <a:path w="1200" h="912">
                  <a:moveTo>
                    <a:pt x="1200" y="912"/>
                  </a:moveTo>
                  <a:lnTo>
                    <a:pt x="48" y="472"/>
                  </a:lnTo>
                  <a:lnTo>
                    <a:pt x="0" y="0"/>
                  </a:lnTo>
                  <a:lnTo>
                    <a:pt x="1192" y="400"/>
                  </a:lnTo>
                  <a:lnTo>
                    <a:pt x="1200" y="9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81200" y="3348000"/>
              <a:ext cx="3237120" cy="336600"/>
            </a:xfrm>
            <a:custGeom>
              <a:avLst/>
              <a:gdLst/>
              <a:ahLst/>
              <a:rect l="l" t="t" r="r" b="b"/>
              <a:pathLst>
                <a:path w="2039" h="212">
                  <a:moveTo>
                    <a:pt x="0" y="212"/>
                  </a:moveTo>
                  <a:cubicBezTo>
                    <a:pt x="55" y="196"/>
                    <a:pt x="224" y="137"/>
                    <a:pt x="330" y="109"/>
                  </a:cubicBezTo>
                  <a:cubicBezTo>
                    <a:pt x="436" y="81"/>
                    <a:pt x="486" y="61"/>
                    <a:pt x="637" y="43"/>
                  </a:cubicBezTo>
                  <a:cubicBezTo>
                    <a:pt x="788" y="25"/>
                    <a:pt x="1083" y="3"/>
                    <a:pt x="1236" y="1"/>
                  </a:cubicBezTo>
                  <a:cubicBezTo>
                    <a:pt x="1388" y="0"/>
                    <a:pt x="1417" y="13"/>
                    <a:pt x="1551" y="31"/>
                  </a:cubicBezTo>
                  <a:cubicBezTo>
                    <a:pt x="1685" y="49"/>
                    <a:pt x="1937" y="92"/>
                    <a:pt x="2039" y="10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09960" y="408456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57640" y="42177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917880" y="459900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08600" y="431928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467320" y="3913200"/>
              <a:ext cx="1605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340240" y="434484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54440" y="47764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41920" y="3608280"/>
              <a:ext cx="1857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1094" name="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1095" name=""/>
              <p:cNvSpPr/>
              <p:nvPr/>
            </p:nvSpPr>
            <p:spPr>
              <a:xfrm>
                <a:off x="4414680" y="3506760"/>
                <a:ext cx="1778040" cy="2076480"/>
              </a:xfrm>
              <a:custGeom>
                <a:avLst/>
                <a:gdLst/>
                <a:ahLst/>
                <a:rect l="l" t="t" r="r" b="b"/>
                <a:pathLst>
                  <a:path w="1120" h="1308">
                    <a:moveTo>
                      <a:pt x="876" y="0"/>
                    </a:moveTo>
                    <a:lnTo>
                      <a:pt x="0" y="508"/>
                    </a:lnTo>
                    <a:lnTo>
                      <a:pt x="1120" y="820"/>
                    </a:lnTo>
                    <a:lnTo>
                      <a:pt x="1120" y="1308"/>
                    </a:lnTo>
                    <a:lnTo>
                      <a:pt x="36" y="1016"/>
                    </a:lnTo>
                    <a:lnTo>
                      <a:pt x="8" y="508"/>
                    </a:lnTo>
                    <a:lnTo>
                      <a:pt x="32" y="1020"/>
                    </a:lnTo>
                    <a:lnTo>
                      <a:pt x="880" y="488"/>
                    </a:lnTo>
                    <a:lnTo>
                      <a:pt x="87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05360" y="3519360"/>
                <a:ext cx="930240" cy="1314360"/>
              </a:xfrm>
              <a:custGeom>
                <a:avLst/>
                <a:gdLst/>
                <a:ahLst/>
                <a:rect l="l" t="t" r="r" b="b"/>
                <a:pathLst>
                  <a:path w="586" h="828">
                    <a:moveTo>
                      <a:pt x="0" y="0"/>
                    </a:moveTo>
                    <a:cubicBezTo>
                      <a:pt x="34" y="12"/>
                      <a:pt x="139" y="43"/>
                      <a:pt x="204" y="72"/>
                    </a:cubicBezTo>
                    <a:cubicBezTo>
                      <a:pt x="269" y="101"/>
                      <a:pt x="333" y="134"/>
                      <a:pt x="388" y="172"/>
                    </a:cubicBezTo>
                    <a:cubicBezTo>
                      <a:pt x="443" y="210"/>
                      <a:pt x="499" y="251"/>
                      <a:pt x="532" y="300"/>
                    </a:cubicBezTo>
                    <a:cubicBezTo>
                      <a:pt x="565" y="349"/>
                      <a:pt x="582" y="415"/>
                      <a:pt x="584" y="464"/>
                    </a:cubicBezTo>
                    <a:cubicBezTo>
                      <a:pt x="586" y="513"/>
                      <a:pt x="565" y="559"/>
                      <a:pt x="544" y="596"/>
                    </a:cubicBezTo>
                    <a:cubicBezTo>
                      <a:pt x="523" y="633"/>
                      <a:pt x="475" y="669"/>
                      <a:pt x="456" y="688"/>
                    </a:cubicBezTo>
                    <a:cubicBezTo>
                      <a:pt x="437" y="707"/>
                      <a:pt x="450" y="691"/>
                      <a:pt x="428" y="708"/>
                    </a:cubicBezTo>
                    <a:cubicBezTo>
                      <a:pt x="406" y="725"/>
                      <a:pt x="355" y="768"/>
                      <a:pt x="324" y="788"/>
                    </a:cubicBezTo>
                    <a:cubicBezTo>
                      <a:pt x="293" y="808"/>
                      <a:pt x="268" y="818"/>
                      <a:pt x="244" y="8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11480" y="4281480"/>
                <a:ext cx="944640" cy="1295280"/>
              </a:xfrm>
              <a:custGeom>
                <a:avLst/>
                <a:gdLst/>
                <a:ahLst/>
                <a:rect l="l" t="t" r="r" b="b"/>
                <a:pathLst>
                  <a:path w="595" h="816">
                    <a:moveTo>
                      <a:pt x="0" y="0"/>
                    </a:moveTo>
                    <a:cubicBezTo>
                      <a:pt x="37" y="13"/>
                      <a:pt x="153" y="47"/>
                      <a:pt x="220" y="76"/>
                    </a:cubicBezTo>
                    <a:cubicBezTo>
                      <a:pt x="287" y="105"/>
                      <a:pt x="348" y="136"/>
                      <a:pt x="400" y="172"/>
                    </a:cubicBezTo>
                    <a:cubicBezTo>
                      <a:pt x="452" y="208"/>
                      <a:pt x="500" y="245"/>
                      <a:pt x="532" y="292"/>
                    </a:cubicBezTo>
                    <a:cubicBezTo>
                      <a:pt x="564" y="339"/>
                      <a:pt x="589" y="403"/>
                      <a:pt x="592" y="452"/>
                    </a:cubicBezTo>
                    <a:cubicBezTo>
                      <a:pt x="595" y="501"/>
                      <a:pt x="577" y="545"/>
                      <a:pt x="552" y="588"/>
                    </a:cubicBezTo>
                    <a:cubicBezTo>
                      <a:pt x="527" y="631"/>
                      <a:pt x="477" y="677"/>
                      <a:pt x="440" y="708"/>
                    </a:cubicBezTo>
                    <a:cubicBezTo>
                      <a:pt x="403" y="739"/>
                      <a:pt x="364" y="758"/>
                      <a:pt x="332" y="776"/>
                    </a:cubicBezTo>
                    <a:cubicBezTo>
                      <a:pt x="300" y="794"/>
                      <a:pt x="266" y="808"/>
                      <a:pt x="248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19760" y="4179960"/>
                <a:ext cx="41040" cy="846000"/>
              </a:xfrm>
              <a:custGeom>
                <a:avLst/>
                <a:gdLst/>
                <a:ahLst/>
                <a:rect l="l" t="t" r="r" b="b"/>
                <a:pathLst>
                  <a:path w="26" h="533">
                    <a:moveTo>
                      <a:pt x="0" y="0"/>
                    </a:moveTo>
                    <a:lnTo>
                      <a:pt x="26" y="5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417920" y="3521160"/>
                <a:ext cx="2314440" cy="1295280"/>
              </a:xfrm>
              <a:custGeom>
                <a:avLst/>
                <a:gdLst/>
                <a:ahLst/>
                <a:rect l="l" t="t" r="r" b="b"/>
                <a:pathLst>
                  <a:path w="1458" h="816">
                    <a:moveTo>
                      <a:pt x="858" y="0"/>
                    </a:moveTo>
                    <a:lnTo>
                      <a:pt x="0" y="498"/>
                    </a:lnTo>
                    <a:lnTo>
                      <a:pt x="1134" y="816"/>
                    </a:lnTo>
                    <a:lnTo>
                      <a:pt x="1258" y="751"/>
                    </a:lnTo>
                    <a:lnTo>
                      <a:pt x="1374" y="648"/>
                    </a:lnTo>
                    <a:lnTo>
                      <a:pt x="1428" y="594"/>
                    </a:lnTo>
                    <a:lnTo>
                      <a:pt x="1458" y="498"/>
                    </a:lnTo>
                    <a:lnTo>
                      <a:pt x="1452" y="396"/>
                    </a:lnTo>
                    <a:lnTo>
                      <a:pt x="1386" y="271"/>
                    </a:lnTo>
                    <a:lnTo>
                      <a:pt x="1254" y="162"/>
                    </a:lnTo>
                    <a:lnTo>
                      <a:pt x="1098" y="79"/>
                    </a:lnTo>
                    <a:lnTo>
                      <a:pt x="1002" y="47"/>
                    </a:lnTo>
                    <a:lnTo>
                      <a:pt x="8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417920" y="4321080"/>
                <a:ext cx="1771560" cy="1257480"/>
              </a:xfrm>
              <a:custGeom>
                <a:avLst/>
                <a:gdLst/>
                <a:ahLst/>
                <a:rect l="l" t="t" r="r" b="b"/>
                <a:pathLst>
                  <a:path w="1116" h="792">
                    <a:moveTo>
                      <a:pt x="0" y="0"/>
                    </a:moveTo>
                    <a:lnTo>
                      <a:pt x="1116" y="312"/>
                    </a:lnTo>
                    <a:lnTo>
                      <a:pt x="1116" y="792"/>
                    </a:lnTo>
                    <a:lnTo>
                      <a:pt x="36" y="50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98840" y="4321080"/>
                <a:ext cx="561960" cy="1257480"/>
              </a:xfrm>
              <a:custGeom>
                <a:avLst/>
                <a:gdLst/>
                <a:ahLst/>
                <a:rect l="l" t="t" r="r" b="b"/>
                <a:pathLst>
                  <a:path w="354" h="792">
                    <a:moveTo>
                      <a:pt x="0" y="318"/>
                    </a:moveTo>
                    <a:lnTo>
                      <a:pt x="6" y="792"/>
                    </a:lnTo>
                    <a:lnTo>
                      <a:pt x="66" y="756"/>
                    </a:lnTo>
                    <a:lnTo>
                      <a:pt x="126" y="726"/>
                    </a:lnTo>
                    <a:lnTo>
                      <a:pt x="204" y="672"/>
                    </a:lnTo>
                    <a:lnTo>
                      <a:pt x="240" y="636"/>
                    </a:lnTo>
                    <a:lnTo>
                      <a:pt x="288" y="588"/>
                    </a:lnTo>
                    <a:lnTo>
                      <a:pt x="324" y="522"/>
                    </a:lnTo>
                    <a:lnTo>
                      <a:pt x="354" y="450"/>
                    </a:lnTo>
                    <a:lnTo>
                      <a:pt x="330" y="0"/>
                    </a:lnTo>
                    <a:lnTo>
                      <a:pt x="312" y="78"/>
                    </a:lnTo>
                    <a:lnTo>
                      <a:pt x="252" y="150"/>
                    </a:lnTo>
                    <a:lnTo>
                      <a:pt x="180" y="210"/>
                    </a:lnTo>
                    <a:lnTo>
                      <a:pt x="90" y="264"/>
                    </a:lnTo>
                    <a:lnTo>
                      <a:pt x="30" y="300"/>
                    </a:lnTo>
                    <a:lnTo>
                      <a:pt x="0" y="3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508440" y="4668840"/>
                <a:ext cx="185760" cy="19836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57320" y="461484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352840" y="477360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76520" y="488160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6203880" y="4287600"/>
              <a:ext cx="185760" cy="1987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64200" y="434160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6089400" y="41702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1110" name="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1111" name=""/>
              <p:cNvSpPr/>
              <p:nvPr/>
            </p:nvSpPr>
            <p:spPr>
              <a:xfrm>
                <a:off x="2592000" y="3672000"/>
                <a:ext cx="1866600" cy="2108160"/>
              </a:xfrm>
              <a:custGeom>
                <a:avLst/>
                <a:gdLst/>
                <a:ahLst/>
                <a:rect l="l" t="t" r="r" b="b"/>
                <a:pathLst>
                  <a:path w="1176" h="1328">
                    <a:moveTo>
                      <a:pt x="0" y="0"/>
                    </a:moveTo>
                    <a:lnTo>
                      <a:pt x="1175" y="396"/>
                    </a:lnTo>
                    <a:lnTo>
                      <a:pt x="312" y="840"/>
                    </a:lnTo>
                    <a:lnTo>
                      <a:pt x="336" y="1328"/>
                    </a:lnTo>
                    <a:lnTo>
                      <a:pt x="1176" y="912"/>
                    </a:lnTo>
                    <a:lnTo>
                      <a:pt x="1167" y="396"/>
                    </a:lnTo>
                    <a:lnTo>
                      <a:pt x="1143" y="908"/>
                    </a:lnTo>
                    <a:lnTo>
                      <a:pt x="48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035080" y="3672000"/>
                <a:ext cx="1052280" cy="1358640"/>
              </a:xfrm>
              <a:custGeom>
                <a:avLst/>
                <a:gdLst/>
                <a:ahLst/>
                <a:rect l="l" t="t" r="r" b="b"/>
                <a:pathLst>
                  <a:path w="663" h="856">
                    <a:moveTo>
                      <a:pt x="359" y="0"/>
                    </a:moveTo>
                    <a:cubicBezTo>
                      <a:pt x="330" y="19"/>
                      <a:pt x="234" y="75"/>
                      <a:pt x="183" y="112"/>
                    </a:cubicBezTo>
                    <a:cubicBezTo>
                      <a:pt x="132" y="149"/>
                      <a:pt x="84" y="185"/>
                      <a:pt x="55" y="224"/>
                    </a:cubicBezTo>
                    <a:cubicBezTo>
                      <a:pt x="26" y="263"/>
                      <a:pt x="14" y="309"/>
                      <a:pt x="7" y="344"/>
                    </a:cubicBezTo>
                    <a:cubicBezTo>
                      <a:pt x="0" y="379"/>
                      <a:pt x="3" y="399"/>
                      <a:pt x="15" y="432"/>
                    </a:cubicBezTo>
                    <a:cubicBezTo>
                      <a:pt x="27" y="465"/>
                      <a:pt x="55" y="512"/>
                      <a:pt x="79" y="544"/>
                    </a:cubicBezTo>
                    <a:cubicBezTo>
                      <a:pt x="103" y="576"/>
                      <a:pt x="130" y="599"/>
                      <a:pt x="159" y="624"/>
                    </a:cubicBezTo>
                    <a:cubicBezTo>
                      <a:pt x="188" y="649"/>
                      <a:pt x="206" y="669"/>
                      <a:pt x="255" y="696"/>
                    </a:cubicBezTo>
                    <a:cubicBezTo>
                      <a:pt x="304" y="723"/>
                      <a:pt x="387" y="757"/>
                      <a:pt x="455" y="784"/>
                    </a:cubicBezTo>
                    <a:cubicBezTo>
                      <a:pt x="523" y="811"/>
                      <a:pt x="620" y="841"/>
                      <a:pt x="66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63520" y="4433760"/>
                <a:ext cx="1036080" cy="1358640"/>
              </a:xfrm>
              <a:custGeom>
                <a:avLst/>
                <a:gdLst/>
                <a:ahLst/>
                <a:rect l="l" t="t" r="r" b="b"/>
                <a:pathLst>
                  <a:path w="653" h="856">
                    <a:moveTo>
                      <a:pt x="373" y="0"/>
                    </a:moveTo>
                    <a:cubicBezTo>
                      <a:pt x="345" y="15"/>
                      <a:pt x="249" y="53"/>
                      <a:pt x="197" y="88"/>
                    </a:cubicBezTo>
                    <a:cubicBezTo>
                      <a:pt x="145" y="123"/>
                      <a:pt x="93" y="165"/>
                      <a:pt x="61" y="208"/>
                    </a:cubicBezTo>
                    <a:cubicBezTo>
                      <a:pt x="29" y="251"/>
                      <a:pt x="10" y="300"/>
                      <a:pt x="5" y="344"/>
                    </a:cubicBezTo>
                    <a:cubicBezTo>
                      <a:pt x="0" y="388"/>
                      <a:pt x="10" y="432"/>
                      <a:pt x="29" y="472"/>
                    </a:cubicBezTo>
                    <a:cubicBezTo>
                      <a:pt x="48" y="512"/>
                      <a:pt x="77" y="545"/>
                      <a:pt x="117" y="584"/>
                    </a:cubicBezTo>
                    <a:cubicBezTo>
                      <a:pt x="157" y="623"/>
                      <a:pt x="213" y="672"/>
                      <a:pt x="269" y="704"/>
                    </a:cubicBezTo>
                    <a:cubicBezTo>
                      <a:pt x="325" y="736"/>
                      <a:pt x="389" y="751"/>
                      <a:pt x="453" y="776"/>
                    </a:cubicBezTo>
                    <a:cubicBezTo>
                      <a:pt x="517" y="801"/>
                      <a:pt x="611" y="839"/>
                      <a:pt x="65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3112920" y="4332240"/>
              <a:ext cx="1346040" cy="1422360"/>
            </a:xfrm>
            <a:custGeom>
              <a:avLst/>
              <a:gdLst/>
              <a:ahLst/>
              <a:rect l="l" t="t" r="r" b="b"/>
              <a:pathLst>
                <a:path w="848" h="896">
                  <a:moveTo>
                    <a:pt x="832" y="0"/>
                  </a:moveTo>
                  <a:lnTo>
                    <a:pt x="848" y="496"/>
                  </a:lnTo>
                  <a:lnTo>
                    <a:pt x="16" y="896"/>
                  </a:lnTo>
                  <a:lnTo>
                    <a:pt x="0" y="432"/>
                  </a:lnTo>
                  <a:lnTo>
                    <a:pt x="8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027160" y="3672000"/>
              <a:ext cx="2425680" cy="1352520"/>
            </a:xfrm>
            <a:custGeom>
              <a:avLst/>
              <a:gdLst/>
              <a:ahLst/>
              <a:rect l="l" t="t" r="r" b="b"/>
              <a:pathLst>
                <a:path w="1528" h="852">
                  <a:moveTo>
                    <a:pt x="364" y="0"/>
                  </a:moveTo>
                  <a:lnTo>
                    <a:pt x="1528" y="404"/>
                  </a:lnTo>
                  <a:lnTo>
                    <a:pt x="664" y="852"/>
                  </a:lnTo>
                  <a:lnTo>
                    <a:pt x="492" y="800"/>
                  </a:lnTo>
                  <a:lnTo>
                    <a:pt x="348" y="736"/>
                  </a:lnTo>
                  <a:lnTo>
                    <a:pt x="220" y="672"/>
                  </a:lnTo>
                  <a:lnTo>
                    <a:pt x="112" y="588"/>
                  </a:lnTo>
                  <a:lnTo>
                    <a:pt x="28" y="464"/>
                  </a:lnTo>
                  <a:lnTo>
                    <a:pt x="0" y="364"/>
                  </a:lnTo>
                  <a:lnTo>
                    <a:pt x="32" y="252"/>
                  </a:lnTo>
                  <a:lnTo>
                    <a:pt x="92" y="192"/>
                  </a:lnTo>
                  <a:lnTo>
                    <a:pt x="156" y="128"/>
                  </a:lnTo>
                  <a:lnTo>
                    <a:pt x="256" y="68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27160" y="4300560"/>
              <a:ext cx="1104840" cy="1473120"/>
            </a:xfrm>
            <a:custGeom>
              <a:avLst/>
              <a:gdLst/>
              <a:ahLst/>
              <a:rect l="l" t="t" r="r" b="b"/>
              <a:pathLst>
                <a:path w="696" h="928">
                  <a:moveTo>
                    <a:pt x="0" y="0"/>
                  </a:moveTo>
                  <a:lnTo>
                    <a:pt x="32" y="488"/>
                  </a:lnTo>
                  <a:lnTo>
                    <a:pt x="80" y="600"/>
                  </a:lnTo>
                  <a:lnTo>
                    <a:pt x="152" y="680"/>
                  </a:lnTo>
                  <a:lnTo>
                    <a:pt x="248" y="760"/>
                  </a:lnTo>
                  <a:lnTo>
                    <a:pt x="368" y="824"/>
                  </a:lnTo>
                  <a:lnTo>
                    <a:pt x="496" y="864"/>
                  </a:lnTo>
                  <a:lnTo>
                    <a:pt x="576" y="584"/>
                  </a:lnTo>
                  <a:lnTo>
                    <a:pt x="488" y="872"/>
                  </a:lnTo>
                  <a:lnTo>
                    <a:pt x="584" y="904"/>
                  </a:lnTo>
                  <a:lnTo>
                    <a:pt x="696" y="928"/>
                  </a:lnTo>
                  <a:lnTo>
                    <a:pt x="672" y="464"/>
                  </a:lnTo>
                  <a:lnTo>
                    <a:pt x="544" y="416"/>
                  </a:lnTo>
                  <a:lnTo>
                    <a:pt x="408" y="368"/>
                  </a:lnTo>
                  <a:lnTo>
                    <a:pt x="256" y="296"/>
                  </a:lnTo>
                  <a:lnTo>
                    <a:pt x="144" y="216"/>
                  </a:lnTo>
                  <a:lnTo>
                    <a:pt x="56" y="1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981160" y="46404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74800" y="434196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22520" y="46022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5440" y="507204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159080" y="47736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006080" y="503388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46120" y="4970520"/>
              <a:ext cx="13500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08120" y="51292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2812320" y="544032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549160" y="385308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6120" y="41832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1129" name=""/>
            <p:cNvSpPr/>
            <p:nvPr/>
          </p:nvSpPr>
          <p:spPr>
            <a:xfrm>
              <a:off x="3062160" y="4319640"/>
              <a:ext cx="1396800" cy="1460520"/>
            </a:xfrm>
            <a:custGeom>
              <a:avLst/>
              <a:gdLst/>
              <a:ahLst/>
              <a:rect l="l" t="t" r="r" b="b"/>
              <a:pathLst>
                <a:path w="880" h="920">
                  <a:moveTo>
                    <a:pt x="856" y="0"/>
                  </a:moveTo>
                  <a:lnTo>
                    <a:pt x="0" y="440"/>
                  </a:lnTo>
                  <a:lnTo>
                    <a:pt x="16" y="920"/>
                  </a:lnTo>
                  <a:lnTo>
                    <a:pt x="880" y="528"/>
                  </a:lnTo>
                  <a:lnTo>
                    <a:pt x="8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21160" y="4319640"/>
              <a:ext cx="1777680" cy="1320480"/>
            </a:xfrm>
            <a:custGeom>
              <a:avLst/>
              <a:gdLst/>
              <a:ahLst/>
              <a:rect l="l" t="t" r="r" b="b"/>
              <a:pathLst>
                <a:path w="1120" h="832">
                  <a:moveTo>
                    <a:pt x="0" y="0"/>
                  </a:moveTo>
                  <a:lnTo>
                    <a:pt x="1112" y="320"/>
                  </a:lnTo>
                  <a:cubicBezTo>
                    <a:pt x="1115" y="491"/>
                    <a:pt x="1117" y="661"/>
                    <a:pt x="1120" y="832"/>
                  </a:cubicBezTo>
                  <a:lnTo>
                    <a:pt x="16" y="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62160" y="4852800"/>
              <a:ext cx="3136680" cy="33516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87360" y="5614920"/>
              <a:ext cx="3137040" cy="33480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62160" y="4827600"/>
              <a:ext cx="3124080" cy="1117440"/>
            </a:xfrm>
            <a:custGeom>
              <a:avLst/>
              <a:gdLst/>
              <a:ahLst/>
              <a:rect l="l" t="t" r="r" b="b"/>
              <a:pathLst>
                <a:path w="1968" h="704">
                  <a:moveTo>
                    <a:pt x="1968" y="496"/>
                  </a:moveTo>
                  <a:lnTo>
                    <a:pt x="1968" y="0"/>
                  </a:lnTo>
                  <a:lnTo>
                    <a:pt x="1808" y="80"/>
                  </a:lnTo>
                  <a:lnTo>
                    <a:pt x="1552" y="144"/>
                  </a:lnTo>
                  <a:lnTo>
                    <a:pt x="1248" y="208"/>
                  </a:lnTo>
                  <a:lnTo>
                    <a:pt x="1008" y="224"/>
                  </a:lnTo>
                  <a:lnTo>
                    <a:pt x="768" y="224"/>
                  </a:lnTo>
                  <a:lnTo>
                    <a:pt x="528" y="208"/>
                  </a:lnTo>
                  <a:lnTo>
                    <a:pt x="272" y="176"/>
                  </a:lnTo>
                  <a:lnTo>
                    <a:pt x="128" y="144"/>
                  </a:lnTo>
                  <a:lnTo>
                    <a:pt x="0" y="128"/>
                  </a:lnTo>
                  <a:lnTo>
                    <a:pt x="16" y="608"/>
                  </a:lnTo>
                  <a:lnTo>
                    <a:pt x="192" y="640"/>
                  </a:lnTo>
                  <a:lnTo>
                    <a:pt x="368" y="672"/>
                  </a:lnTo>
                  <a:lnTo>
                    <a:pt x="480" y="688"/>
                  </a:lnTo>
                  <a:lnTo>
                    <a:pt x="592" y="688"/>
                  </a:lnTo>
                  <a:lnTo>
                    <a:pt x="768" y="704"/>
                  </a:lnTo>
                  <a:lnTo>
                    <a:pt x="928" y="704"/>
                  </a:lnTo>
                  <a:lnTo>
                    <a:pt x="1072" y="704"/>
                  </a:lnTo>
                  <a:lnTo>
                    <a:pt x="1264" y="688"/>
                  </a:lnTo>
                  <a:lnTo>
                    <a:pt x="1392" y="672"/>
                  </a:lnTo>
                  <a:lnTo>
                    <a:pt x="1536" y="640"/>
                  </a:lnTo>
                  <a:lnTo>
                    <a:pt x="1712" y="592"/>
                  </a:lnTo>
                  <a:lnTo>
                    <a:pt x="1824" y="560"/>
                  </a:lnTo>
                  <a:lnTo>
                    <a:pt x="1904" y="528"/>
                  </a:lnTo>
                  <a:lnTo>
                    <a:pt x="1968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87360" y="431964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17720" y="472896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11360" y="44305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4159080" y="46908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87360" y="431964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7720" y="472896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11360" y="44305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159080" y="46908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17920" y="541476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11560" y="51163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5759280" y="53766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209760" y="5516280"/>
              <a:ext cx="135000" cy="1479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3400" y="52178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651120" y="547848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1149" name=""/>
            <p:cNvSpPr/>
            <p:nvPr/>
          </p:nvSpPr>
          <p:spPr>
            <a:xfrm>
              <a:off x="2598480" y="2781000"/>
              <a:ext cx="3205440" cy="762120"/>
            </a:xfrm>
            <a:custGeom>
              <a:avLst/>
              <a:gdLst/>
              <a:ahLst/>
              <a:rect l="l" t="t" r="r" b="b"/>
              <a:pathLst>
                <a:path w="2019" h="480">
                  <a:moveTo>
                    <a:pt x="0" y="96"/>
                  </a:moveTo>
                  <a:lnTo>
                    <a:pt x="2019" y="0"/>
                  </a:lnTo>
                  <a:lnTo>
                    <a:pt x="1171" y="4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4920" y="2774880"/>
              <a:ext cx="1396800" cy="1581120"/>
            </a:xfrm>
            <a:custGeom>
              <a:avLst/>
              <a:gdLst/>
              <a:ahLst/>
              <a:rect l="l" t="t" r="r" b="b"/>
              <a:pathLst>
                <a:path w="880" h="996">
                  <a:moveTo>
                    <a:pt x="0" y="996"/>
                  </a:moveTo>
                  <a:lnTo>
                    <a:pt x="880" y="508"/>
                  </a:lnTo>
                  <a:cubicBezTo>
                    <a:pt x="868" y="337"/>
                    <a:pt x="860" y="170"/>
                    <a:pt x="849" y="0"/>
                  </a:cubicBezTo>
                  <a:lnTo>
                    <a:pt x="8" y="49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65360" y="2920680"/>
              <a:ext cx="1904760" cy="1447920"/>
            </a:xfrm>
            <a:custGeom>
              <a:avLst/>
              <a:gdLst/>
              <a:ahLst/>
              <a:rect l="l" t="t" r="r" b="b"/>
              <a:pathLst>
                <a:path w="1200" h="912">
                  <a:moveTo>
                    <a:pt x="1200" y="912"/>
                  </a:moveTo>
                  <a:lnTo>
                    <a:pt x="48" y="472"/>
                  </a:lnTo>
                  <a:lnTo>
                    <a:pt x="0" y="0"/>
                  </a:lnTo>
                  <a:lnTo>
                    <a:pt x="1192" y="400"/>
                  </a:lnTo>
                  <a:lnTo>
                    <a:pt x="1200" y="9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79400" y="2597040"/>
              <a:ext cx="3237120" cy="336600"/>
            </a:xfrm>
            <a:custGeom>
              <a:avLst/>
              <a:gdLst/>
              <a:ahLst/>
              <a:rect l="l" t="t" r="r" b="b"/>
              <a:pathLst>
                <a:path w="2039" h="212">
                  <a:moveTo>
                    <a:pt x="0" y="212"/>
                  </a:moveTo>
                  <a:cubicBezTo>
                    <a:pt x="55" y="196"/>
                    <a:pt x="224" y="137"/>
                    <a:pt x="330" y="109"/>
                  </a:cubicBezTo>
                  <a:cubicBezTo>
                    <a:pt x="436" y="81"/>
                    <a:pt x="486" y="61"/>
                    <a:pt x="637" y="43"/>
                  </a:cubicBezTo>
                  <a:cubicBezTo>
                    <a:pt x="788" y="25"/>
                    <a:pt x="1083" y="3"/>
                    <a:pt x="1236" y="1"/>
                  </a:cubicBezTo>
                  <a:cubicBezTo>
                    <a:pt x="1388" y="0"/>
                    <a:pt x="1417" y="13"/>
                    <a:pt x="1551" y="31"/>
                  </a:cubicBezTo>
                  <a:cubicBezTo>
                    <a:pt x="1685" y="49"/>
                    <a:pt x="1937" y="92"/>
                    <a:pt x="2039" y="10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008160" y="333360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55840" y="34668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16080" y="384804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06800" y="356832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65520" y="3162240"/>
              <a:ext cx="1605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338440" y="359388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52640" y="40255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40120" y="2857320"/>
              <a:ext cx="1857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1162" name="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1163" name=""/>
              <p:cNvSpPr/>
              <p:nvPr/>
            </p:nvSpPr>
            <p:spPr>
              <a:xfrm>
                <a:off x="4413240" y="2755800"/>
                <a:ext cx="1778040" cy="2076480"/>
              </a:xfrm>
              <a:custGeom>
                <a:avLst/>
                <a:gdLst/>
                <a:ahLst/>
                <a:rect l="l" t="t" r="r" b="b"/>
                <a:pathLst>
                  <a:path w="1120" h="1308">
                    <a:moveTo>
                      <a:pt x="876" y="0"/>
                    </a:moveTo>
                    <a:lnTo>
                      <a:pt x="0" y="508"/>
                    </a:lnTo>
                    <a:lnTo>
                      <a:pt x="1120" y="820"/>
                    </a:lnTo>
                    <a:lnTo>
                      <a:pt x="1120" y="1308"/>
                    </a:lnTo>
                    <a:lnTo>
                      <a:pt x="36" y="1016"/>
                    </a:lnTo>
                    <a:lnTo>
                      <a:pt x="8" y="508"/>
                    </a:lnTo>
                    <a:lnTo>
                      <a:pt x="32" y="1020"/>
                    </a:lnTo>
                    <a:lnTo>
                      <a:pt x="880" y="488"/>
                    </a:lnTo>
                    <a:lnTo>
                      <a:pt x="87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03920" y="2768400"/>
                <a:ext cx="930240" cy="1314360"/>
              </a:xfrm>
              <a:custGeom>
                <a:avLst/>
                <a:gdLst/>
                <a:ahLst/>
                <a:rect l="l" t="t" r="r" b="b"/>
                <a:pathLst>
                  <a:path w="586" h="828">
                    <a:moveTo>
                      <a:pt x="0" y="0"/>
                    </a:moveTo>
                    <a:cubicBezTo>
                      <a:pt x="34" y="12"/>
                      <a:pt x="139" y="43"/>
                      <a:pt x="204" y="72"/>
                    </a:cubicBezTo>
                    <a:cubicBezTo>
                      <a:pt x="269" y="101"/>
                      <a:pt x="333" y="134"/>
                      <a:pt x="388" y="172"/>
                    </a:cubicBezTo>
                    <a:cubicBezTo>
                      <a:pt x="443" y="210"/>
                      <a:pt x="499" y="251"/>
                      <a:pt x="532" y="300"/>
                    </a:cubicBezTo>
                    <a:cubicBezTo>
                      <a:pt x="565" y="349"/>
                      <a:pt x="582" y="415"/>
                      <a:pt x="584" y="464"/>
                    </a:cubicBezTo>
                    <a:cubicBezTo>
                      <a:pt x="586" y="513"/>
                      <a:pt x="565" y="559"/>
                      <a:pt x="544" y="596"/>
                    </a:cubicBezTo>
                    <a:cubicBezTo>
                      <a:pt x="523" y="633"/>
                      <a:pt x="475" y="669"/>
                      <a:pt x="456" y="688"/>
                    </a:cubicBezTo>
                    <a:cubicBezTo>
                      <a:pt x="437" y="707"/>
                      <a:pt x="450" y="691"/>
                      <a:pt x="428" y="708"/>
                    </a:cubicBezTo>
                    <a:cubicBezTo>
                      <a:pt x="406" y="725"/>
                      <a:pt x="355" y="768"/>
                      <a:pt x="324" y="788"/>
                    </a:cubicBezTo>
                    <a:cubicBezTo>
                      <a:pt x="293" y="808"/>
                      <a:pt x="268" y="818"/>
                      <a:pt x="244" y="8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10040" y="3530520"/>
                <a:ext cx="944640" cy="1295280"/>
              </a:xfrm>
              <a:custGeom>
                <a:avLst/>
                <a:gdLst/>
                <a:ahLst/>
                <a:rect l="l" t="t" r="r" b="b"/>
                <a:pathLst>
                  <a:path w="595" h="816">
                    <a:moveTo>
                      <a:pt x="0" y="0"/>
                    </a:moveTo>
                    <a:cubicBezTo>
                      <a:pt x="37" y="13"/>
                      <a:pt x="153" y="47"/>
                      <a:pt x="220" y="76"/>
                    </a:cubicBezTo>
                    <a:cubicBezTo>
                      <a:pt x="287" y="105"/>
                      <a:pt x="348" y="136"/>
                      <a:pt x="400" y="172"/>
                    </a:cubicBezTo>
                    <a:cubicBezTo>
                      <a:pt x="452" y="208"/>
                      <a:pt x="500" y="245"/>
                      <a:pt x="532" y="292"/>
                    </a:cubicBezTo>
                    <a:cubicBezTo>
                      <a:pt x="564" y="339"/>
                      <a:pt x="589" y="403"/>
                      <a:pt x="592" y="452"/>
                    </a:cubicBezTo>
                    <a:cubicBezTo>
                      <a:pt x="595" y="501"/>
                      <a:pt x="577" y="545"/>
                      <a:pt x="552" y="588"/>
                    </a:cubicBezTo>
                    <a:cubicBezTo>
                      <a:pt x="527" y="631"/>
                      <a:pt x="477" y="677"/>
                      <a:pt x="440" y="708"/>
                    </a:cubicBezTo>
                    <a:cubicBezTo>
                      <a:pt x="403" y="739"/>
                      <a:pt x="364" y="758"/>
                      <a:pt x="332" y="776"/>
                    </a:cubicBezTo>
                    <a:cubicBezTo>
                      <a:pt x="300" y="794"/>
                      <a:pt x="266" y="808"/>
                      <a:pt x="248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718320" y="3429000"/>
                <a:ext cx="41040" cy="846000"/>
              </a:xfrm>
              <a:custGeom>
                <a:avLst/>
                <a:gdLst/>
                <a:ahLst/>
                <a:rect l="l" t="t" r="r" b="b"/>
                <a:pathLst>
                  <a:path w="26" h="533">
                    <a:moveTo>
                      <a:pt x="0" y="0"/>
                    </a:moveTo>
                    <a:lnTo>
                      <a:pt x="26" y="5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416480" y="2770200"/>
                <a:ext cx="2314440" cy="1295280"/>
              </a:xfrm>
              <a:custGeom>
                <a:avLst/>
                <a:gdLst/>
                <a:ahLst/>
                <a:rect l="l" t="t" r="r" b="b"/>
                <a:pathLst>
                  <a:path w="1458" h="816">
                    <a:moveTo>
                      <a:pt x="858" y="0"/>
                    </a:moveTo>
                    <a:lnTo>
                      <a:pt x="0" y="498"/>
                    </a:lnTo>
                    <a:lnTo>
                      <a:pt x="1134" y="816"/>
                    </a:lnTo>
                    <a:lnTo>
                      <a:pt x="1258" y="751"/>
                    </a:lnTo>
                    <a:lnTo>
                      <a:pt x="1374" y="648"/>
                    </a:lnTo>
                    <a:lnTo>
                      <a:pt x="1428" y="594"/>
                    </a:lnTo>
                    <a:lnTo>
                      <a:pt x="1458" y="498"/>
                    </a:lnTo>
                    <a:lnTo>
                      <a:pt x="1452" y="396"/>
                    </a:lnTo>
                    <a:lnTo>
                      <a:pt x="1386" y="271"/>
                    </a:lnTo>
                    <a:lnTo>
                      <a:pt x="1254" y="162"/>
                    </a:lnTo>
                    <a:lnTo>
                      <a:pt x="1098" y="79"/>
                    </a:lnTo>
                    <a:lnTo>
                      <a:pt x="1002" y="47"/>
                    </a:lnTo>
                    <a:lnTo>
                      <a:pt x="8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416480" y="3570120"/>
                <a:ext cx="1771560" cy="1257480"/>
              </a:xfrm>
              <a:custGeom>
                <a:avLst/>
                <a:gdLst/>
                <a:ahLst/>
                <a:rect l="l" t="t" r="r" b="b"/>
                <a:pathLst>
                  <a:path w="1116" h="792">
                    <a:moveTo>
                      <a:pt x="0" y="0"/>
                    </a:moveTo>
                    <a:lnTo>
                      <a:pt x="1116" y="312"/>
                    </a:lnTo>
                    <a:lnTo>
                      <a:pt x="1116" y="792"/>
                    </a:lnTo>
                    <a:lnTo>
                      <a:pt x="36" y="50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97400" y="3570120"/>
                <a:ext cx="561960" cy="1257480"/>
              </a:xfrm>
              <a:custGeom>
                <a:avLst/>
                <a:gdLst/>
                <a:ahLst/>
                <a:rect l="l" t="t" r="r" b="b"/>
                <a:pathLst>
                  <a:path w="354" h="792">
                    <a:moveTo>
                      <a:pt x="0" y="318"/>
                    </a:moveTo>
                    <a:lnTo>
                      <a:pt x="6" y="792"/>
                    </a:lnTo>
                    <a:lnTo>
                      <a:pt x="66" y="756"/>
                    </a:lnTo>
                    <a:lnTo>
                      <a:pt x="126" y="726"/>
                    </a:lnTo>
                    <a:lnTo>
                      <a:pt x="204" y="672"/>
                    </a:lnTo>
                    <a:lnTo>
                      <a:pt x="240" y="636"/>
                    </a:lnTo>
                    <a:lnTo>
                      <a:pt x="288" y="588"/>
                    </a:lnTo>
                    <a:lnTo>
                      <a:pt x="324" y="522"/>
                    </a:lnTo>
                    <a:lnTo>
                      <a:pt x="354" y="450"/>
                    </a:lnTo>
                    <a:lnTo>
                      <a:pt x="330" y="0"/>
                    </a:lnTo>
                    <a:lnTo>
                      <a:pt x="312" y="78"/>
                    </a:lnTo>
                    <a:lnTo>
                      <a:pt x="252" y="150"/>
                    </a:lnTo>
                    <a:lnTo>
                      <a:pt x="180" y="210"/>
                    </a:lnTo>
                    <a:lnTo>
                      <a:pt x="90" y="264"/>
                    </a:lnTo>
                    <a:lnTo>
                      <a:pt x="30" y="300"/>
                    </a:lnTo>
                    <a:lnTo>
                      <a:pt x="0" y="3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507000" y="3917880"/>
                <a:ext cx="185760" cy="19836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655880" y="386388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51400" y="402264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275080" y="413064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202440" y="3536640"/>
              <a:ext cx="185760" cy="1987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62760" y="359064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087960" y="34192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1178" name="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2590560" y="2921040"/>
                <a:ext cx="1866600" cy="2108160"/>
              </a:xfrm>
              <a:custGeom>
                <a:avLst/>
                <a:gdLst/>
                <a:ahLst/>
                <a:rect l="l" t="t" r="r" b="b"/>
                <a:pathLst>
                  <a:path w="1176" h="1328">
                    <a:moveTo>
                      <a:pt x="0" y="0"/>
                    </a:moveTo>
                    <a:lnTo>
                      <a:pt x="1175" y="396"/>
                    </a:lnTo>
                    <a:lnTo>
                      <a:pt x="312" y="840"/>
                    </a:lnTo>
                    <a:lnTo>
                      <a:pt x="336" y="1328"/>
                    </a:lnTo>
                    <a:lnTo>
                      <a:pt x="1176" y="912"/>
                    </a:lnTo>
                    <a:lnTo>
                      <a:pt x="1167" y="396"/>
                    </a:lnTo>
                    <a:lnTo>
                      <a:pt x="1143" y="908"/>
                    </a:lnTo>
                    <a:lnTo>
                      <a:pt x="48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033640" y="2921040"/>
                <a:ext cx="1052280" cy="1358640"/>
              </a:xfrm>
              <a:custGeom>
                <a:avLst/>
                <a:gdLst/>
                <a:ahLst/>
                <a:rect l="l" t="t" r="r" b="b"/>
                <a:pathLst>
                  <a:path w="663" h="856">
                    <a:moveTo>
                      <a:pt x="359" y="0"/>
                    </a:moveTo>
                    <a:cubicBezTo>
                      <a:pt x="330" y="19"/>
                      <a:pt x="234" y="75"/>
                      <a:pt x="183" y="112"/>
                    </a:cubicBezTo>
                    <a:cubicBezTo>
                      <a:pt x="132" y="149"/>
                      <a:pt x="84" y="185"/>
                      <a:pt x="55" y="224"/>
                    </a:cubicBezTo>
                    <a:cubicBezTo>
                      <a:pt x="26" y="263"/>
                      <a:pt x="14" y="309"/>
                      <a:pt x="7" y="344"/>
                    </a:cubicBezTo>
                    <a:cubicBezTo>
                      <a:pt x="0" y="379"/>
                      <a:pt x="3" y="399"/>
                      <a:pt x="15" y="432"/>
                    </a:cubicBezTo>
                    <a:cubicBezTo>
                      <a:pt x="27" y="465"/>
                      <a:pt x="55" y="512"/>
                      <a:pt x="79" y="544"/>
                    </a:cubicBezTo>
                    <a:cubicBezTo>
                      <a:pt x="103" y="576"/>
                      <a:pt x="130" y="599"/>
                      <a:pt x="159" y="624"/>
                    </a:cubicBezTo>
                    <a:cubicBezTo>
                      <a:pt x="188" y="649"/>
                      <a:pt x="206" y="669"/>
                      <a:pt x="255" y="696"/>
                    </a:cubicBezTo>
                    <a:cubicBezTo>
                      <a:pt x="304" y="723"/>
                      <a:pt x="387" y="757"/>
                      <a:pt x="455" y="784"/>
                    </a:cubicBezTo>
                    <a:cubicBezTo>
                      <a:pt x="523" y="811"/>
                      <a:pt x="620" y="841"/>
                      <a:pt x="66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062080" y="3682800"/>
                <a:ext cx="1036080" cy="1358640"/>
              </a:xfrm>
              <a:custGeom>
                <a:avLst/>
                <a:gdLst/>
                <a:ahLst/>
                <a:rect l="l" t="t" r="r" b="b"/>
                <a:pathLst>
                  <a:path w="653" h="856">
                    <a:moveTo>
                      <a:pt x="373" y="0"/>
                    </a:moveTo>
                    <a:cubicBezTo>
                      <a:pt x="345" y="15"/>
                      <a:pt x="249" y="53"/>
                      <a:pt x="197" y="88"/>
                    </a:cubicBezTo>
                    <a:cubicBezTo>
                      <a:pt x="145" y="123"/>
                      <a:pt x="93" y="165"/>
                      <a:pt x="61" y="208"/>
                    </a:cubicBezTo>
                    <a:cubicBezTo>
                      <a:pt x="29" y="251"/>
                      <a:pt x="10" y="300"/>
                      <a:pt x="5" y="344"/>
                    </a:cubicBezTo>
                    <a:cubicBezTo>
                      <a:pt x="0" y="388"/>
                      <a:pt x="10" y="432"/>
                      <a:pt x="29" y="472"/>
                    </a:cubicBezTo>
                    <a:cubicBezTo>
                      <a:pt x="48" y="512"/>
                      <a:pt x="77" y="545"/>
                      <a:pt x="117" y="584"/>
                    </a:cubicBezTo>
                    <a:cubicBezTo>
                      <a:pt x="157" y="623"/>
                      <a:pt x="213" y="672"/>
                      <a:pt x="269" y="704"/>
                    </a:cubicBezTo>
                    <a:cubicBezTo>
                      <a:pt x="325" y="736"/>
                      <a:pt x="389" y="751"/>
                      <a:pt x="453" y="776"/>
                    </a:cubicBezTo>
                    <a:cubicBezTo>
                      <a:pt x="517" y="801"/>
                      <a:pt x="611" y="839"/>
                      <a:pt x="65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3111480" y="3581280"/>
              <a:ext cx="1346040" cy="1422360"/>
            </a:xfrm>
            <a:custGeom>
              <a:avLst/>
              <a:gdLst/>
              <a:ahLst/>
              <a:rect l="l" t="t" r="r" b="b"/>
              <a:pathLst>
                <a:path w="848" h="896">
                  <a:moveTo>
                    <a:pt x="832" y="0"/>
                  </a:moveTo>
                  <a:lnTo>
                    <a:pt x="848" y="496"/>
                  </a:lnTo>
                  <a:lnTo>
                    <a:pt x="16" y="896"/>
                  </a:lnTo>
                  <a:lnTo>
                    <a:pt x="0" y="432"/>
                  </a:lnTo>
                  <a:lnTo>
                    <a:pt x="8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025720" y="2921040"/>
              <a:ext cx="2425680" cy="1352520"/>
            </a:xfrm>
            <a:custGeom>
              <a:avLst/>
              <a:gdLst/>
              <a:ahLst/>
              <a:rect l="l" t="t" r="r" b="b"/>
              <a:pathLst>
                <a:path w="1528" h="852">
                  <a:moveTo>
                    <a:pt x="364" y="0"/>
                  </a:moveTo>
                  <a:lnTo>
                    <a:pt x="1528" y="404"/>
                  </a:lnTo>
                  <a:lnTo>
                    <a:pt x="664" y="852"/>
                  </a:lnTo>
                  <a:lnTo>
                    <a:pt x="492" y="800"/>
                  </a:lnTo>
                  <a:lnTo>
                    <a:pt x="348" y="736"/>
                  </a:lnTo>
                  <a:lnTo>
                    <a:pt x="220" y="672"/>
                  </a:lnTo>
                  <a:lnTo>
                    <a:pt x="112" y="588"/>
                  </a:lnTo>
                  <a:lnTo>
                    <a:pt x="28" y="464"/>
                  </a:lnTo>
                  <a:lnTo>
                    <a:pt x="0" y="364"/>
                  </a:lnTo>
                  <a:lnTo>
                    <a:pt x="32" y="252"/>
                  </a:lnTo>
                  <a:lnTo>
                    <a:pt x="92" y="192"/>
                  </a:lnTo>
                  <a:lnTo>
                    <a:pt x="156" y="128"/>
                  </a:lnTo>
                  <a:lnTo>
                    <a:pt x="256" y="68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025720" y="3549600"/>
              <a:ext cx="1104840" cy="1473120"/>
            </a:xfrm>
            <a:custGeom>
              <a:avLst/>
              <a:gdLst/>
              <a:ahLst/>
              <a:rect l="l" t="t" r="r" b="b"/>
              <a:pathLst>
                <a:path w="696" h="928">
                  <a:moveTo>
                    <a:pt x="0" y="0"/>
                  </a:moveTo>
                  <a:lnTo>
                    <a:pt x="32" y="488"/>
                  </a:lnTo>
                  <a:lnTo>
                    <a:pt x="80" y="600"/>
                  </a:lnTo>
                  <a:lnTo>
                    <a:pt x="152" y="680"/>
                  </a:lnTo>
                  <a:lnTo>
                    <a:pt x="248" y="760"/>
                  </a:lnTo>
                  <a:lnTo>
                    <a:pt x="368" y="824"/>
                  </a:lnTo>
                  <a:lnTo>
                    <a:pt x="496" y="864"/>
                  </a:lnTo>
                  <a:lnTo>
                    <a:pt x="576" y="584"/>
                  </a:lnTo>
                  <a:lnTo>
                    <a:pt x="488" y="872"/>
                  </a:lnTo>
                  <a:lnTo>
                    <a:pt x="584" y="904"/>
                  </a:lnTo>
                  <a:lnTo>
                    <a:pt x="696" y="928"/>
                  </a:lnTo>
                  <a:lnTo>
                    <a:pt x="672" y="464"/>
                  </a:lnTo>
                  <a:lnTo>
                    <a:pt x="544" y="416"/>
                  </a:lnTo>
                  <a:lnTo>
                    <a:pt x="408" y="368"/>
                  </a:lnTo>
                  <a:lnTo>
                    <a:pt x="256" y="296"/>
                  </a:lnTo>
                  <a:lnTo>
                    <a:pt x="144" y="216"/>
                  </a:lnTo>
                  <a:lnTo>
                    <a:pt x="56" y="1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79720" y="388944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73360" y="359100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421080" y="38512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564000" y="432108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7640" y="40226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004640" y="428292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44680" y="4219560"/>
              <a:ext cx="13500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06680" y="43783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810880" y="468936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547720" y="310212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44680" y="343224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1197" name=""/>
            <p:cNvSpPr/>
            <p:nvPr/>
          </p:nvSpPr>
          <p:spPr>
            <a:xfrm>
              <a:off x="3060720" y="3568680"/>
              <a:ext cx="1396800" cy="1460520"/>
            </a:xfrm>
            <a:custGeom>
              <a:avLst/>
              <a:gdLst/>
              <a:ahLst/>
              <a:rect l="l" t="t" r="r" b="b"/>
              <a:pathLst>
                <a:path w="880" h="920">
                  <a:moveTo>
                    <a:pt x="856" y="0"/>
                  </a:moveTo>
                  <a:lnTo>
                    <a:pt x="0" y="440"/>
                  </a:lnTo>
                  <a:lnTo>
                    <a:pt x="16" y="920"/>
                  </a:lnTo>
                  <a:lnTo>
                    <a:pt x="880" y="528"/>
                  </a:lnTo>
                  <a:lnTo>
                    <a:pt x="8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19720" y="3568680"/>
              <a:ext cx="1777680" cy="1320480"/>
            </a:xfrm>
            <a:custGeom>
              <a:avLst/>
              <a:gdLst/>
              <a:ahLst/>
              <a:rect l="l" t="t" r="r" b="b"/>
              <a:pathLst>
                <a:path w="1120" h="832">
                  <a:moveTo>
                    <a:pt x="0" y="0"/>
                  </a:moveTo>
                  <a:lnTo>
                    <a:pt x="1112" y="320"/>
                  </a:lnTo>
                  <a:cubicBezTo>
                    <a:pt x="1115" y="491"/>
                    <a:pt x="1117" y="661"/>
                    <a:pt x="1120" y="832"/>
                  </a:cubicBezTo>
                  <a:lnTo>
                    <a:pt x="16" y="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60720" y="4101840"/>
              <a:ext cx="3136680" cy="33516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85920" y="4863960"/>
              <a:ext cx="3137040" cy="33480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60720" y="4076640"/>
              <a:ext cx="3124080" cy="1117440"/>
            </a:xfrm>
            <a:custGeom>
              <a:avLst/>
              <a:gdLst/>
              <a:ahLst/>
              <a:rect l="l" t="t" r="r" b="b"/>
              <a:pathLst>
                <a:path w="1968" h="704">
                  <a:moveTo>
                    <a:pt x="1968" y="496"/>
                  </a:moveTo>
                  <a:lnTo>
                    <a:pt x="1968" y="0"/>
                  </a:lnTo>
                  <a:lnTo>
                    <a:pt x="1808" y="80"/>
                  </a:lnTo>
                  <a:lnTo>
                    <a:pt x="1552" y="144"/>
                  </a:lnTo>
                  <a:lnTo>
                    <a:pt x="1248" y="208"/>
                  </a:lnTo>
                  <a:lnTo>
                    <a:pt x="1008" y="224"/>
                  </a:lnTo>
                  <a:lnTo>
                    <a:pt x="768" y="224"/>
                  </a:lnTo>
                  <a:lnTo>
                    <a:pt x="528" y="208"/>
                  </a:lnTo>
                  <a:lnTo>
                    <a:pt x="272" y="176"/>
                  </a:lnTo>
                  <a:lnTo>
                    <a:pt x="128" y="144"/>
                  </a:lnTo>
                  <a:lnTo>
                    <a:pt x="0" y="128"/>
                  </a:lnTo>
                  <a:lnTo>
                    <a:pt x="16" y="608"/>
                  </a:lnTo>
                  <a:lnTo>
                    <a:pt x="192" y="640"/>
                  </a:lnTo>
                  <a:lnTo>
                    <a:pt x="368" y="672"/>
                  </a:lnTo>
                  <a:lnTo>
                    <a:pt x="480" y="688"/>
                  </a:lnTo>
                  <a:lnTo>
                    <a:pt x="592" y="688"/>
                  </a:lnTo>
                  <a:lnTo>
                    <a:pt x="768" y="704"/>
                  </a:lnTo>
                  <a:lnTo>
                    <a:pt x="928" y="704"/>
                  </a:lnTo>
                  <a:lnTo>
                    <a:pt x="1072" y="704"/>
                  </a:lnTo>
                  <a:lnTo>
                    <a:pt x="1264" y="688"/>
                  </a:lnTo>
                  <a:lnTo>
                    <a:pt x="1392" y="672"/>
                  </a:lnTo>
                  <a:lnTo>
                    <a:pt x="1536" y="640"/>
                  </a:lnTo>
                  <a:lnTo>
                    <a:pt x="1712" y="592"/>
                  </a:lnTo>
                  <a:lnTo>
                    <a:pt x="1824" y="560"/>
                  </a:lnTo>
                  <a:lnTo>
                    <a:pt x="1904" y="528"/>
                  </a:lnTo>
                  <a:lnTo>
                    <a:pt x="1968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85920" y="356868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16280" y="39780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309920" y="36795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157640" y="39398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85920" y="356868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16280" y="39780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09920" y="36795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4157640" y="39398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6480" y="46638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10120" y="43653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5757840" y="46256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08320" y="4765320"/>
              <a:ext cx="135000" cy="1479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01960" y="44668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3649680" y="472752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1217" name=""/>
            <p:cNvSpPr/>
            <p:nvPr/>
          </p:nvSpPr>
          <p:spPr>
            <a:xfrm>
              <a:off x="2031840" y="3530520"/>
              <a:ext cx="4737240" cy="2444760"/>
            </a:xfrm>
            <a:custGeom>
              <a:avLst/>
              <a:gdLst/>
              <a:ahLst/>
              <a:rect l="l" t="t" r="r" b="b"/>
              <a:pathLst>
                <a:path w="2984" h="1540">
                  <a:moveTo>
                    <a:pt x="0" y="4"/>
                  </a:moveTo>
                  <a:lnTo>
                    <a:pt x="8" y="984"/>
                  </a:lnTo>
                  <a:lnTo>
                    <a:pt x="48" y="1104"/>
                  </a:lnTo>
                  <a:lnTo>
                    <a:pt x="112" y="1180"/>
                  </a:lnTo>
                  <a:lnTo>
                    <a:pt x="180" y="1228"/>
                  </a:lnTo>
                  <a:lnTo>
                    <a:pt x="260" y="1288"/>
                  </a:lnTo>
                  <a:lnTo>
                    <a:pt x="368" y="1336"/>
                  </a:lnTo>
                  <a:lnTo>
                    <a:pt x="488" y="1384"/>
                  </a:lnTo>
                  <a:lnTo>
                    <a:pt x="640" y="1432"/>
                  </a:lnTo>
                  <a:lnTo>
                    <a:pt x="768" y="1464"/>
                  </a:lnTo>
                  <a:lnTo>
                    <a:pt x="952" y="1500"/>
                  </a:lnTo>
                  <a:lnTo>
                    <a:pt x="1108" y="1520"/>
                  </a:lnTo>
                  <a:lnTo>
                    <a:pt x="1276" y="1536"/>
                  </a:lnTo>
                  <a:lnTo>
                    <a:pt x="1432" y="1540"/>
                  </a:lnTo>
                  <a:lnTo>
                    <a:pt x="1584" y="1536"/>
                  </a:lnTo>
                  <a:lnTo>
                    <a:pt x="1776" y="1528"/>
                  </a:lnTo>
                  <a:lnTo>
                    <a:pt x="1940" y="1520"/>
                  </a:lnTo>
                  <a:lnTo>
                    <a:pt x="2136" y="1496"/>
                  </a:lnTo>
                  <a:lnTo>
                    <a:pt x="2456" y="1400"/>
                  </a:lnTo>
                  <a:lnTo>
                    <a:pt x="2616" y="1340"/>
                  </a:lnTo>
                  <a:lnTo>
                    <a:pt x="2776" y="1244"/>
                  </a:lnTo>
                  <a:lnTo>
                    <a:pt x="2860" y="1172"/>
                  </a:lnTo>
                  <a:lnTo>
                    <a:pt x="2928" y="1100"/>
                  </a:lnTo>
                  <a:lnTo>
                    <a:pt x="2984" y="992"/>
                  </a:lnTo>
                  <a:lnTo>
                    <a:pt x="2960" y="0"/>
                  </a:lnTo>
                  <a:lnTo>
                    <a:pt x="2916" y="100"/>
                  </a:lnTo>
                  <a:lnTo>
                    <a:pt x="2848" y="216"/>
                  </a:lnTo>
                  <a:lnTo>
                    <a:pt x="2748" y="292"/>
                  </a:lnTo>
                  <a:lnTo>
                    <a:pt x="2620" y="364"/>
                  </a:lnTo>
                  <a:lnTo>
                    <a:pt x="2480" y="408"/>
                  </a:lnTo>
                  <a:lnTo>
                    <a:pt x="2328" y="460"/>
                  </a:lnTo>
                  <a:lnTo>
                    <a:pt x="2168" y="496"/>
                  </a:lnTo>
                  <a:lnTo>
                    <a:pt x="1992" y="528"/>
                  </a:lnTo>
                  <a:lnTo>
                    <a:pt x="1824" y="544"/>
                  </a:lnTo>
                  <a:lnTo>
                    <a:pt x="1620" y="552"/>
                  </a:lnTo>
                  <a:lnTo>
                    <a:pt x="1452" y="552"/>
                  </a:lnTo>
                  <a:lnTo>
                    <a:pt x="1284" y="552"/>
                  </a:lnTo>
                  <a:lnTo>
                    <a:pt x="1156" y="548"/>
                  </a:lnTo>
                  <a:lnTo>
                    <a:pt x="1008" y="536"/>
                  </a:lnTo>
                  <a:lnTo>
                    <a:pt x="848" y="508"/>
                  </a:lnTo>
                  <a:lnTo>
                    <a:pt x="760" y="484"/>
                  </a:lnTo>
                  <a:lnTo>
                    <a:pt x="700" y="468"/>
                  </a:lnTo>
                  <a:lnTo>
                    <a:pt x="532" y="428"/>
                  </a:lnTo>
                  <a:lnTo>
                    <a:pt x="408" y="384"/>
                  </a:lnTo>
                  <a:lnTo>
                    <a:pt x="312" y="336"/>
                  </a:lnTo>
                  <a:lnTo>
                    <a:pt x="200" y="280"/>
                  </a:lnTo>
                  <a:lnTo>
                    <a:pt x="56" y="148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394160" y="533412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81280" y="4724280"/>
              <a:ext cx="177840" cy="18576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70480" y="474984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91320" y="510552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6191280" y="4375080"/>
            <a:ext cx="571320" cy="1276560"/>
          </a:xfrm>
          <a:custGeom>
            <a:avLst/>
            <a:gdLst/>
            <a:ahLst/>
            <a:rect l="l" t="t" r="r" b="b"/>
            <a:pathLst>
              <a:path w="312" h="756">
                <a:moveTo>
                  <a:pt x="0" y="276"/>
                </a:moveTo>
                <a:lnTo>
                  <a:pt x="108" y="216"/>
                </a:lnTo>
                <a:lnTo>
                  <a:pt x="204" y="132"/>
                </a:lnTo>
                <a:lnTo>
                  <a:pt x="264" y="72"/>
                </a:lnTo>
                <a:lnTo>
                  <a:pt x="300" y="0"/>
                </a:lnTo>
                <a:lnTo>
                  <a:pt x="312" y="456"/>
                </a:lnTo>
                <a:lnTo>
                  <a:pt x="264" y="552"/>
                </a:lnTo>
                <a:lnTo>
                  <a:pt x="192" y="636"/>
                </a:lnTo>
                <a:lnTo>
                  <a:pt x="120" y="684"/>
                </a:lnTo>
                <a:lnTo>
                  <a:pt x="60" y="720"/>
                </a:lnTo>
                <a:lnTo>
                  <a:pt x="12" y="756"/>
                </a:lnTo>
                <a:lnTo>
                  <a:pt x="0" y="27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038320" y="4362480"/>
            <a:ext cx="1028880" cy="1447920"/>
          </a:xfrm>
          <a:custGeom>
            <a:avLst/>
            <a:gdLst/>
            <a:ahLst/>
            <a:rect l="l" t="t" r="r" b="b"/>
            <a:pathLst>
              <a:path w="648" h="912">
                <a:moveTo>
                  <a:pt x="0" y="0"/>
                </a:moveTo>
                <a:lnTo>
                  <a:pt x="48" y="96"/>
                </a:lnTo>
                <a:lnTo>
                  <a:pt x="120" y="180"/>
                </a:lnTo>
                <a:lnTo>
                  <a:pt x="192" y="252"/>
                </a:lnTo>
                <a:lnTo>
                  <a:pt x="288" y="312"/>
                </a:lnTo>
                <a:lnTo>
                  <a:pt x="384" y="348"/>
                </a:lnTo>
                <a:lnTo>
                  <a:pt x="480" y="384"/>
                </a:lnTo>
                <a:lnTo>
                  <a:pt x="576" y="408"/>
                </a:lnTo>
                <a:lnTo>
                  <a:pt x="648" y="432"/>
                </a:lnTo>
                <a:lnTo>
                  <a:pt x="648" y="912"/>
                </a:lnTo>
                <a:lnTo>
                  <a:pt x="528" y="876"/>
                </a:lnTo>
                <a:lnTo>
                  <a:pt x="468" y="840"/>
                </a:lnTo>
                <a:lnTo>
                  <a:pt x="396" y="792"/>
                </a:lnTo>
                <a:lnTo>
                  <a:pt x="324" y="756"/>
                </a:lnTo>
                <a:lnTo>
                  <a:pt x="240" y="720"/>
                </a:lnTo>
                <a:lnTo>
                  <a:pt x="156" y="660"/>
                </a:lnTo>
                <a:lnTo>
                  <a:pt x="108" y="624"/>
                </a:lnTo>
                <a:lnTo>
                  <a:pt x="60" y="588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019240" y="3619440"/>
            <a:ext cx="1071720" cy="1486080"/>
          </a:xfrm>
          <a:custGeom>
            <a:avLst/>
            <a:gdLst/>
            <a:ahLst/>
            <a:rect l="l" t="t" r="r" b="b"/>
            <a:pathLst>
              <a:path w="675" h="936">
                <a:moveTo>
                  <a:pt x="0" y="0"/>
                </a:moveTo>
                <a:lnTo>
                  <a:pt x="51" y="66"/>
                </a:lnTo>
                <a:lnTo>
                  <a:pt x="69" y="102"/>
                </a:lnTo>
                <a:lnTo>
                  <a:pt x="137" y="180"/>
                </a:lnTo>
                <a:lnTo>
                  <a:pt x="219" y="234"/>
                </a:lnTo>
                <a:lnTo>
                  <a:pt x="309" y="282"/>
                </a:lnTo>
                <a:lnTo>
                  <a:pt x="411" y="324"/>
                </a:lnTo>
                <a:lnTo>
                  <a:pt x="507" y="360"/>
                </a:lnTo>
                <a:lnTo>
                  <a:pt x="597" y="390"/>
                </a:lnTo>
                <a:lnTo>
                  <a:pt x="675" y="420"/>
                </a:lnTo>
                <a:lnTo>
                  <a:pt x="663" y="936"/>
                </a:lnTo>
                <a:lnTo>
                  <a:pt x="572" y="912"/>
                </a:lnTo>
                <a:lnTo>
                  <a:pt x="485" y="888"/>
                </a:lnTo>
                <a:lnTo>
                  <a:pt x="423" y="852"/>
                </a:lnTo>
                <a:lnTo>
                  <a:pt x="348" y="816"/>
                </a:lnTo>
                <a:lnTo>
                  <a:pt x="249" y="780"/>
                </a:lnTo>
                <a:lnTo>
                  <a:pt x="162" y="708"/>
                </a:lnTo>
                <a:lnTo>
                  <a:pt x="112" y="660"/>
                </a:lnTo>
                <a:lnTo>
                  <a:pt x="75" y="588"/>
                </a:lnTo>
                <a:lnTo>
                  <a:pt x="12" y="492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610000" y="2641680"/>
            <a:ext cx="3238200" cy="907920"/>
          </a:xfrm>
          <a:custGeom>
            <a:avLst/>
            <a:gdLst/>
            <a:ahLst/>
            <a:rect l="l" t="t" r="r" b="b"/>
            <a:pathLst>
              <a:path w="2040" h="572">
                <a:moveTo>
                  <a:pt x="1152" y="572"/>
                </a:moveTo>
                <a:lnTo>
                  <a:pt x="2040" y="92"/>
                </a:lnTo>
                <a:lnTo>
                  <a:pt x="1812" y="68"/>
                </a:lnTo>
                <a:lnTo>
                  <a:pt x="1680" y="44"/>
                </a:lnTo>
                <a:lnTo>
                  <a:pt x="1526" y="20"/>
                </a:lnTo>
                <a:lnTo>
                  <a:pt x="1334" y="0"/>
                </a:lnTo>
                <a:lnTo>
                  <a:pt x="1150" y="4"/>
                </a:lnTo>
                <a:lnTo>
                  <a:pt x="1002" y="0"/>
                </a:lnTo>
                <a:lnTo>
                  <a:pt x="854" y="8"/>
                </a:lnTo>
                <a:lnTo>
                  <a:pt x="696" y="20"/>
                </a:lnTo>
                <a:lnTo>
                  <a:pt x="530" y="44"/>
                </a:lnTo>
                <a:lnTo>
                  <a:pt x="382" y="72"/>
                </a:lnTo>
                <a:lnTo>
                  <a:pt x="286" y="96"/>
                </a:lnTo>
                <a:lnTo>
                  <a:pt x="176" y="128"/>
                </a:lnTo>
                <a:lnTo>
                  <a:pt x="88" y="160"/>
                </a:lnTo>
                <a:lnTo>
                  <a:pt x="0" y="196"/>
                </a:lnTo>
                <a:lnTo>
                  <a:pt x="1152" y="5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514520" y="304920"/>
            <a:ext cx="5591520" cy="3620160"/>
            <a:chOff x="1514520" y="304920"/>
            <a:chExt cx="5591520" cy="3620160"/>
          </a:xfrm>
        </p:grpSpPr>
        <p:sp>
          <p:nvSpPr>
            <p:cNvPr id="1227" name=""/>
            <p:cNvSpPr/>
            <p:nvPr/>
          </p:nvSpPr>
          <p:spPr>
            <a:xfrm rot="19972200">
              <a:off x="1463760" y="1539360"/>
              <a:ext cx="569268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9972200">
              <a:off x="5079960" y="1195920"/>
              <a:ext cx="1993680" cy="62208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9972200">
              <a:off x="5281200" y="16862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9972200">
              <a:off x="5428080" y="16106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9972200">
              <a:off x="5563800" y="154152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9972200">
              <a:off x="5727960" y="14716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9972200">
              <a:off x="5060880" y="17848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043000" y="2933640"/>
            <a:ext cx="2371680" cy="1306440"/>
          </a:xfrm>
          <a:custGeom>
            <a:avLst/>
            <a:gdLst/>
            <a:ahLst/>
            <a:rect l="l" t="t" r="r" b="b"/>
            <a:pathLst>
              <a:path w="1494" h="823">
                <a:moveTo>
                  <a:pt x="372" y="0"/>
                </a:moveTo>
                <a:lnTo>
                  <a:pt x="1494" y="361"/>
                </a:lnTo>
                <a:lnTo>
                  <a:pt x="630" y="823"/>
                </a:lnTo>
                <a:lnTo>
                  <a:pt x="489" y="784"/>
                </a:lnTo>
                <a:lnTo>
                  <a:pt x="385" y="748"/>
                </a:lnTo>
                <a:lnTo>
                  <a:pt x="228" y="672"/>
                </a:lnTo>
                <a:lnTo>
                  <a:pt x="126" y="588"/>
                </a:lnTo>
                <a:lnTo>
                  <a:pt x="84" y="552"/>
                </a:lnTo>
                <a:lnTo>
                  <a:pt x="66" y="528"/>
                </a:lnTo>
                <a:lnTo>
                  <a:pt x="42" y="462"/>
                </a:lnTo>
                <a:lnTo>
                  <a:pt x="0" y="402"/>
                </a:lnTo>
                <a:lnTo>
                  <a:pt x="12" y="336"/>
                </a:lnTo>
                <a:lnTo>
                  <a:pt x="36" y="246"/>
                </a:lnTo>
                <a:lnTo>
                  <a:pt x="108" y="168"/>
                </a:lnTo>
                <a:lnTo>
                  <a:pt x="228" y="84"/>
                </a:lnTo>
                <a:lnTo>
                  <a:pt x="37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1236" name=""/>
            <p:cNvSpPr/>
            <p:nvPr/>
          </p:nvSpPr>
          <p:spPr>
            <a:xfrm rot="18213600">
              <a:off x="1088280" y="2181600"/>
              <a:ext cx="569268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8213600">
              <a:off x="4180320" y="1051200"/>
              <a:ext cx="1993680" cy="62208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1244" name=""/>
            <p:cNvSpPr/>
            <p:nvPr/>
          </p:nvSpPr>
          <p:spPr>
            <a:xfrm>
              <a:off x="4324320" y="2743200"/>
              <a:ext cx="2374560" cy="1355400"/>
            </a:xfrm>
            <a:custGeom>
              <a:avLst/>
              <a:gdLst/>
              <a:ahLst/>
              <a:rect l="l" t="t" r="r" b="b"/>
              <a:pathLst>
                <a:path w="1464" h="822">
                  <a:moveTo>
                    <a:pt x="0" y="480"/>
                  </a:moveTo>
                  <a:lnTo>
                    <a:pt x="884" y="0"/>
                  </a:lnTo>
                  <a:lnTo>
                    <a:pt x="984" y="30"/>
                  </a:lnTo>
                  <a:lnTo>
                    <a:pt x="1128" y="90"/>
                  </a:lnTo>
                  <a:lnTo>
                    <a:pt x="1260" y="162"/>
                  </a:lnTo>
                  <a:lnTo>
                    <a:pt x="1380" y="258"/>
                  </a:lnTo>
                  <a:lnTo>
                    <a:pt x="1440" y="318"/>
                  </a:lnTo>
                  <a:lnTo>
                    <a:pt x="1464" y="402"/>
                  </a:lnTo>
                  <a:lnTo>
                    <a:pt x="1464" y="510"/>
                  </a:lnTo>
                  <a:lnTo>
                    <a:pt x="1416" y="594"/>
                  </a:lnTo>
                  <a:lnTo>
                    <a:pt x="1356" y="678"/>
                  </a:lnTo>
                  <a:lnTo>
                    <a:pt x="1272" y="738"/>
                  </a:lnTo>
                  <a:lnTo>
                    <a:pt x="1212" y="774"/>
                  </a:lnTo>
                  <a:lnTo>
                    <a:pt x="1140" y="822"/>
                  </a:lnTo>
                  <a:lnTo>
                    <a:pt x="0" y="4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95880" y="3521520"/>
              <a:ext cx="181440" cy="19260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03240" y="3468600"/>
              <a:ext cx="207720" cy="245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44040" y="3284280"/>
              <a:ext cx="181440" cy="11340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3009960" y="4838760"/>
            <a:ext cx="3232080" cy="1139760"/>
          </a:xfrm>
          <a:custGeom>
            <a:avLst/>
            <a:gdLst/>
            <a:ahLst/>
            <a:rect l="l" t="t" r="r" b="b"/>
            <a:pathLst>
              <a:path w="2036" h="718">
                <a:moveTo>
                  <a:pt x="16" y="112"/>
                </a:moveTo>
                <a:lnTo>
                  <a:pt x="144" y="144"/>
                </a:lnTo>
                <a:lnTo>
                  <a:pt x="336" y="176"/>
                </a:lnTo>
                <a:lnTo>
                  <a:pt x="496" y="192"/>
                </a:lnTo>
                <a:lnTo>
                  <a:pt x="672" y="208"/>
                </a:lnTo>
                <a:lnTo>
                  <a:pt x="832" y="208"/>
                </a:lnTo>
                <a:lnTo>
                  <a:pt x="992" y="208"/>
                </a:lnTo>
                <a:lnTo>
                  <a:pt x="1200" y="192"/>
                </a:lnTo>
                <a:lnTo>
                  <a:pt x="1376" y="176"/>
                </a:lnTo>
                <a:lnTo>
                  <a:pt x="1552" y="144"/>
                </a:lnTo>
                <a:lnTo>
                  <a:pt x="1712" y="112"/>
                </a:lnTo>
                <a:lnTo>
                  <a:pt x="1872" y="48"/>
                </a:lnTo>
                <a:lnTo>
                  <a:pt x="2032" y="0"/>
                </a:lnTo>
                <a:lnTo>
                  <a:pt x="2036" y="490"/>
                </a:lnTo>
                <a:lnTo>
                  <a:pt x="1892" y="550"/>
                </a:lnTo>
                <a:lnTo>
                  <a:pt x="1736" y="598"/>
                </a:lnTo>
                <a:lnTo>
                  <a:pt x="1536" y="650"/>
                </a:lnTo>
                <a:lnTo>
                  <a:pt x="1352" y="686"/>
                </a:lnTo>
                <a:lnTo>
                  <a:pt x="1148" y="702"/>
                </a:lnTo>
                <a:lnTo>
                  <a:pt x="908" y="710"/>
                </a:lnTo>
                <a:lnTo>
                  <a:pt x="680" y="718"/>
                </a:lnTo>
                <a:lnTo>
                  <a:pt x="352" y="688"/>
                </a:lnTo>
                <a:lnTo>
                  <a:pt x="192" y="656"/>
                </a:lnTo>
                <a:lnTo>
                  <a:pt x="92" y="646"/>
                </a:lnTo>
                <a:lnTo>
                  <a:pt x="0" y="608"/>
                </a:lnTo>
                <a:lnTo>
                  <a:pt x="16" y="11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1250" name=""/>
            <p:cNvSpPr/>
            <p:nvPr/>
          </p:nvSpPr>
          <p:spPr>
            <a:xfrm>
              <a:off x="3030480" y="3506760"/>
              <a:ext cx="3255840" cy="912600"/>
            </a:xfrm>
            <a:custGeom>
              <a:avLst/>
              <a:gdLst/>
              <a:ahLst/>
              <a:rect l="l" t="t" r="r" b="b"/>
              <a:pathLst>
                <a:path w="1971" h="559">
                  <a:moveTo>
                    <a:pt x="0" y="462"/>
                  </a:moveTo>
                  <a:lnTo>
                    <a:pt x="852" y="0"/>
                  </a:lnTo>
                  <a:lnTo>
                    <a:pt x="1971" y="359"/>
                  </a:lnTo>
                  <a:lnTo>
                    <a:pt x="1779" y="423"/>
                  </a:lnTo>
                  <a:lnTo>
                    <a:pt x="1539" y="487"/>
                  </a:lnTo>
                  <a:lnTo>
                    <a:pt x="1380" y="522"/>
                  </a:lnTo>
                  <a:lnTo>
                    <a:pt x="1158" y="552"/>
                  </a:lnTo>
                  <a:lnTo>
                    <a:pt x="947" y="543"/>
                  </a:lnTo>
                  <a:lnTo>
                    <a:pt x="691" y="559"/>
                  </a:lnTo>
                  <a:lnTo>
                    <a:pt x="371" y="535"/>
                  </a:lnTo>
                  <a:lnTo>
                    <a:pt x="198" y="516"/>
                  </a:lnTo>
                  <a:lnTo>
                    <a:pt x="60" y="480"/>
                  </a:lnTo>
                  <a:lnTo>
                    <a:pt x="0" y="4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1252" name=""/>
              <p:cNvSpPr/>
              <p:nvPr/>
            </p:nvSpPr>
            <p:spPr>
              <a:xfrm>
                <a:off x="3661560" y="4043160"/>
                <a:ext cx="148320" cy="168120"/>
              </a:xfrm>
              <a:custGeom>
                <a:avLst/>
                <a:gdLst/>
                <a:ahLst/>
                <a:rect l="l" t="t" r="r" b="b"/>
                <a:pathLst>
                  <a:path w="154" h="186">
                    <a:moveTo>
                      <a:pt x="61" y="5"/>
                    </a:moveTo>
                    <a:cubicBezTo>
                      <a:pt x="48" y="10"/>
                      <a:pt x="0" y="104"/>
                      <a:pt x="13" y="133"/>
                    </a:cubicBezTo>
                    <a:cubicBezTo>
                      <a:pt x="26" y="162"/>
                      <a:pt x="128" y="186"/>
                      <a:pt x="141" y="181"/>
                    </a:cubicBezTo>
                    <a:cubicBezTo>
                      <a:pt x="154" y="176"/>
                      <a:pt x="109" y="127"/>
                      <a:pt x="93" y="101"/>
                    </a:cubicBezTo>
                    <a:cubicBezTo>
                      <a:pt x="77" y="75"/>
                      <a:pt x="74" y="0"/>
                      <a:pt x="61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084200" y="3763800"/>
                <a:ext cx="147960" cy="168120"/>
              </a:xfrm>
              <a:custGeom>
                <a:avLst/>
                <a:gdLst/>
                <a:ahLst/>
                <a:rect l="l" t="t" r="r" b="b"/>
                <a:pathLst>
                  <a:path w="154" h="186">
                    <a:moveTo>
                      <a:pt x="61" y="5"/>
                    </a:moveTo>
                    <a:cubicBezTo>
                      <a:pt x="48" y="10"/>
                      <a:pt x="0" y="104"/>
                      <a:pt x="13" y="133"/>
                    </a:cubicBezTo>
                    <a:cubicBezTo>
                      <a:pt x="26" y="162"/>
                      <a:pt x="128" y="186"/>
                      <a:pt x="141" y="181"/>
                    </a:cubicBezTo>
                    <a:cubicBezTo>
                      <a:pt x="154" y="176"/>
                      <a:pt x="109" y="127"/>
                      <a:pt x="93" y="101"/>
                    </a:cubicBezTo>
                    <a:cubicBezTo>
                      <a:pt x="77" y="75"/>
                      <a:pt x="74" y="0"/>
                      <a:pt x="61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925440" y="3966840"/>
                <a:ext cx="148320" cy="168480"/>
              </a:xfrm>
              <a:custGeom>
                <a:avLst/>
                <a:gdLst/>
                <a:ahLst/>
                <a:rect l="l" t="t" r="r" b="b"/>
                <a:pathLst>
                  <a:path w="154" h="186">
                    <a:moveTo>
                      <a:pt x="61" y="5"/>
                    </a:moveTo>
                    <a:cubicBezTo>
                      <a:pt x="48" y="10"/>
                      <a:pt x="0" y="104"/>
                      <a:pt x="13" y="133"/>
                    </a:cubicBezTo>
                    <a:cubicBezTo>
                      <a:pt x="26" y="162"/>
                      <a:pt x="128" y="186"/>
                      <a:pt x="141" y="181"/>
                    </a:cubicBezTo>
                    <a:cubicBezTo>
                      <a:pt x="154" y="176"/>
                      <a:pt x="109" y="127"/>
                      <a:pt x="93" y="101"/>
                    </a:cubicBezTo>
                    <a:cubicBezTo>
                      <a:pt x="77" y="75"/>
                      <a:pt x="74" y="0"/>
                      <a:pt x="61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1256" name="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690920" y="4214880"/>
            <a:ext cx="5678280" cy="3334320"/>
            <a:chOff x="1690920" y="4214880"/>
            <a:chExt cx="5678280" cy="3334320"/>
          </a:xfrm>
        </p:grpSpPr>
        <p:sp>
          <p:nvSpPr>
            <p:cNvPr id="1259" name=""/>
            <p:cNvSpPr/>
            <p:nvPr/>
          </p:nvSpPr>
          <p:spPr>
            <a:xfrm flipV="1" rot="1416600">
              <a:off x="1683000" y="5306400"/>
              <a:ext cx="569232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5293080" y="5676120"/>
              <a:ext cx="2076120" cy="1368720"/>
              <a:chOff x="5293080" y="5676120"/>
              <a:chExt cx="2076120" cy="1368720"/>
            </a:xfrm>
          </p:grpSpPr>
          <p:sp>
            <p:nvSpPr>
              <p:cNvPr id="1261" name=""/>
              <p:cNvSpPr/>
              <p:nvPr/>
            </p:nvSpPr>
            <p:spPr>
              <a:xfrm flipV="1" rot="1416600">
                <a:off x="5334120" y="6049080"/>
                <a:ext cx="1994040" cy="622080"/>
              </a:xfrm>
              <a:custGeom>
                <a:avLst/>
                <a:gdLst/>
                <a:ahLst/>
                <a:rect l="l" t="t" r="r" b="b"/>
                <a:pathLst>
                  <a:path w="1256" h="392">
                    <a:moveTo>
                      <a:pt x="64" y="0"/>
                    </a:moveTo>
                    <a:lnTo>
                      <a:pt x="1152" y="56"/>
                    </a:lnTo>
                    <a:lnTo>
                      <a:pt x="1256" y="208"/>
                    </a:lnTo>
                    <a:lnTo>
                      <a:pt x="1192" y="352"/>
                    </a:lnTo>
                    <a:lnTo>
                      <a:pt x="672" y="392"/>
                    </a:lnTo>
                    <a:lnTo>
                      <a:pt x="440" y="392"/>
                    </a:lnTo>
                    <a:lnTo>
                      <a:pt x="0" y="320"/>
                    </a:lnTo>
                    <a:lnTo>
                      <a:pt x="64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4160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4160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4160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4160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4160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>
            <a:off x="3073320" y="4095720"/>
            <a:ext cx="3146400" cy="1120680"/>
          </a:xfrm>
          <a:custGeom>
            <a:avLst/>
            <a:gdLst/>
            <a:ahLst/>
            <a:rect l="l" t="t" r="r" b="b"/>
            <a:pathLst>
              <a:path w="1964" h="706">
                <a:moveTo>
                  <a:pt x="0" y="116"/>
                </a:moveTo>
                <a:lnTo>
                  <a:pt x="134" y="144"/>
                </a:lnTo>
                <a:lnTo>
                  <a:pt x="302" y="174"/>
                </a:lnTo>
                <a:lnTo>
                  <a:pt x="472" y="180"/>
                </a:lnTo>
                <a:lnTo>
                  <a:pt x="643" y="196"/>
                </a:lnTo>
                <a:lnTo>
                  <a:pt x="806" y="198"/>
                </a:lnTo>
                <a:lnTo>
                  <a:pt x="962" y="192"/>
                </a:lnTo>
                <a:lnTo>
                  <a:pt x="1154" y="180"/>
                </a:lnTo>
                <a:lnTo>
                  <a:pt x="1325" y="164"/>
                </a:lnTo>
                <a:lnTo>
                  <a:pt x="1495" y="132"/>
                </a:lnTo>
                <a:lnTo>
                  <a:pt x="1650" y="100"/>
                </a:lnTo>
                <a:lnTo>
                  <a:pt x="1802" y="60"/>
                </a:lnTo>
                <a:lnTo>
                  <a:pt x="1958" y="0"/>
                </a:lnTo>
                <a:lnTo>
                  <a:pt x="1964" y="478"/>
                </a:lnTo>
                <a:lnTo>
                  <a:pt x="1825" y="538"/>
                </a:lnTo>
                <a:lnTo>
                  <a:pt x="1673" y="586"/>
                </a:lnTo>
                <a:lnTo>
                  <a:pt x="1480" y="638"/>
                </a:lnTo>
                <a:lnTo>
                  <a:pt x="1302" y="674"/>
                </a:lnTo>
                <a:lnTo>
                  <a:pt x="1104" y="690"/>
                </a:lnTo>
                <a:lnTo>
                  <a:pt x="871" y="698"/>
                </a:lnTo>
                <a:lnTo>
                  <a:pt x="651" y="706"/>
                </a:lnTo>
                <a:lnTo>
                  <a:pt x="333" y="676"/>
                </a:lnTo>
                <a:lnTo>
                  <a:pt x="178" y="644"/>
                </a:lnTo>
                <a:lnTo>
                  <a:pt x="81" y="634"/>
                </a:lnTo>
                <a:lnTo>
                  <a:pt x="2" y="612"/>
                </a:lnTo>
                <a:lnTo>
                  <a:pt x="0" y="11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197760" y="3664080"/>
            <a:ext cx="495000" cy="1218960"/>
          </a:xfrm>
          <a:custGeom>
            <a:avLst/>
            <a:gdLst/>
            <a:ahLst/>
            <a:rect l="l" t="t" r="r" b="b"/>
            <a:pathLst>
              <a:path w="312" h="768">
                <a:moveTo>
                  <a:pt x="0" y="276"/>
                </a:moveTo>
                <a:lnTo>
                  <a:pt x="120" y="192"/>
                </a:lnTo>
                <a:lnTo>
                  <a:pt x="228" y="108"/>
                </a:lnTo>
                <a:lnTo>
                  <a:pt x="264" y="60"/>
                </a:lnTo>
                <a:lnTo>
                  <a:pt x="300" y="0"/>
                </a:lnTo>
                <a:lnTo>
                  <a:pt x="312" y="468"/>
                </a:lnTo>
                <a:lnTo>
                  <a:pt x="264" y="564"/>
                </a:lnTo>
                <a:lnTo>
                  <a:pt x="192" y="648"/>
                </a:lnTo>
                <a:lnTo>
                  <a:pt x="120" y="696"/>
                </a:lnTo>
                <a:lnTo>
                  <a:pt x="60" y="732"/>
                </a:lnTo>
                <a:lnTo>
                  <a:pt x="12" y="768"/>
                </a:lnTo>
                <a:lnTo>
                  <a:pt x="0" y="27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019240" y="4336920"/>
            <a:ext cx="4749840" cy="900360"/>
          </a:xfrm>
          <a:custGeom>
            <a:avLst/>
            <a:gdLst/>
            <a:ahLst/>
            <a:rect l="l" t="t" r="r" b="b"/>
            <a:pathLst>
              <a:path w="2992" h="567">
                <a:moveTo>
                  <a:pt x="0" y="0"/>
                </a:moveTo>
                <a:cubicBezTo>
                  <a:pt x="33" y="70"/>
                  <a:pt x="67" y="141"/>
                  <a:pt x="104" y="192"/>
                </a:cubicBezTo>
                <a:cubicBezTo>
                  <a:pt x="141" y="243"/>
                  <a:pt x="173" y="272"/>
                  <a:pt x="224" y="304"/>
                </a:cubicBezTo>
                <a:cubicBezTo>
                  <a:pt x="275" y="336"/>
                  <a:pt x="343" y="359"/>
                  <a:pt x="408" y="384"/>
                </a:cubicBezTo>
                <a:cubicBezTo>
                  <a:pt x="473" y="409"/>
                  <a:pt x="537" y="433"/>
                  <a:pt x="616" y="456"/>
                </a:cubicBezTo>
                <a:cubicBezTo>
                  <a:pt x="695" y="479"/>
                  <a:pt x="785" y="503"/>
                  <a:pt x="880" y="520"/>
                </a:cubicBezTo>
                <a:cubicBezTo>
                  <a:pt x="975" y="537"/>
                  <a:pt x="1084" y="553"/>
                  <a:pt x="1184" y="560"/>
                </a:cubicBezTo>
                <a:cubicBezTo>
                  <a:pt x="1284" y="567"/>
                  <a:pt x="1373" y="561"/>
                  <a:pt x="1480" y="560"/>
                </a:cubicBezTo>
                <a:cubicBezTo>
                  <a:pt x="1587" y="559"/>
                  <a:pt x="1713" y="561"/>
                  <a:pt x="1824" y="552"/>
                </a:cubicBezTo>
                <a:cubicBezTo>
                  <a:pt x="1935" y="543"/>
                  <a:pt x="2053" y="521"/>
                  <a:pt x="2144" y="504"/>
                </a:cubicBezTo>
                <a:cubicBezTo>
                  <a:pt x="2235" y="487"/>
                  <a:pt x="2287" y="472"/>
                  <a:pt x="2368" y="448"/>
                </a:cubicBezTo>
                <a:cubicBezTo>
                  <a:pt x="2449" y="424"/>
                  <a:pt x="2557" y="395"/>
                  <a:pt x="2632" y="360"/>
                </a:cubicBezTo>
                <a:cubicBezTo>
                  <a:pt x="2707" y="325"/>
                  <a:pt x="2765" y="283"/>
                  <a:pt x="2816" y="240"/>
                </a:cubicBezTo>
                <a:cubicBezTo>
                  <a:pt x="2867" y="197"/>
                  <a:pt x="2907" y="143"/>
                  <a:pt x="2936" y="104"/>
                </a:cubicBezTo>
                <a:cubicBezTo>
                  <a:pt x="2965" y="65"/>
                  <a:pt x="2974" y="38"/>
                  <a:pt x="2992" y="8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1271" name="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2556000" y="220500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ая часть сы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алась на блю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26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разрезать головку сы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8 равных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елав только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азре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9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1037" dur="1000" fill="hold"/>
                                        <p:tgtEl>
                                          <p:spTgt spid="1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039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1042" dur="2000" fill="hold"/>
                                        <p:tgtEl>
                                          <p:spTgt spid="1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1068" dur="1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70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1089" dur="2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1094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09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1151" dur="2000" fill="hold"/>
                                        <p:tgtEl>
                                          <p:spTgt spid="1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1154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57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1160" dur="2000" fill="hold"/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210960" y="3384720"/>
            <a:ext cx="870444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28600" y="3400560"/>
            <a:ext cx="7315200" cy="2466720"/>
          </a:xfrm>
          <a:custGeom>
            <a:avLst/>
            <a:gdLst/>
            <a:ahLst/>
            <a:rect l="l" t="t" r="r" b="b"/>
            <a:pathLst>
              <a:path w="655" h="1554">
                <a:moveTo>
                  <a:pt x="0" y="0"/>
                </a:moveTo>
                <a:lnTo>
                  <a:pt x="652" y="0"/>
                </a:lnTo>
                <a:lnTo>
                  <a:pt x="655" y="1554"/>
                </a:lnTo>
                <a:lnTo>
                  <a:pt x="1" y="15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80880" y="1752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676520" y="3390840"/>
            <a:ext cx="5866920" cy="2463840"/>
            <a:chOff x="1676520" y="3390840"/>
            <a:chExt cx="5866920" cy="2463840"/>
          </a:xfrm>
        </p:grpSpPr>
        <p:sp>
          <p:nvSpPr>
            <p:cNvPr id="1279" name=""/>
            <p:cNvSpPr/>
            <p:nvPr/>
          </p:nvSpPr>
          <p:spPr>
            <a:xfrm>
              <a:off x="6103080" y="34034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676520" y="34034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543440" y="33908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5440" y="341604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645080" y="341604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-2743920" y="4495680"/>
            <a:ext cx="2743920" cy="1218960"/>
            <a:chOff x="-2743920" y="4495680"/>
            <a:chExt cx="2743920" cy="1218960"/>
          </a:xfrm>
        </p:grpSpPr>
        <p:grpSp>
          <p:nvGrpSpPr>
            <p:cNvPr id="1285" name=""/>
            <p:cNvGrpSpPr/>
            <p:nvPr/>
          </p:nvGrpSpPr>
          <p:grpSpPr>
            <a:xfrm>
              <a:off x="-2743920" y="4495680"/>
              <a:ext cx="2635200" cy="1218960"/>
              <a:chOff x="-2743920" y="4495680"/>
              <a:chExt cx="2635200" cy="12189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-1764000" y="4894200"/>
                <a:ext cx="394920" cy="226440"/>
                <a:chOff x="-1764000" y="4894200"/>
                <a:chExt cx="394920" cy="226440"/>
              </a:xfrm>
            </p:grpSpPr>
            <p:sp>
              <p:nvSpPr>
                <p:cNvPr id="1287" name=""/>
                <p:cNvSpPr/>
                <p:nvPr/>
              </p:nvSpPr>
              <p:spPr>
                <a:xfrm flipH="1" rot="19892400">
                  <a:off x="-1597320" y="4934160"/>
                  <a:ext cx="205560" cy="146160"/>
                </a:xfrm>
                <a:custGeom>
                  <a:avLst/>
                  <a:gdLst/>
                  <a:ahLst/>
                  <a:rect l="l" t="t" r="r" b="b"/>
                  <a:pathLst>
                    <a:path w="272" h="136">
                      <a:moveTo>
                        <a:pt x="0" y="136"/>
                      </a:moveTo>
                      <a:cubicBezTo>
                        <a:pt x="16" y="123"/>
                        <a:pt x="64" y="61"/>
                        <a:pt x="96" y="56"/>
                      </a:cubicBezTo>
                      <a:cubicBezTo>
                        <a:pt x="128" y="51"/>
                        <a:pt x="163" y="107"/>
                        <a:pt x="192" y="104"/>
                      </a:cubicBezTo>
                      <a:cubicBezTo>
                        <a:pt x="221" y="101"/>
                        <a:pt x="272" y="57"/>
                        <a:pt x="272" y="40"/>
                      </a:cubicBezTo>
                      <a:cubicBezTo>
                        <a:pt x="272" y="23"/>
                        <a:pt x="209" y="8"/>
                        <a:pt x="19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rot="1707600">
                  <a:off x="-1741680" y="4934160"/>
                  <a:ext cx="205560" cy="146160"/>
                </a:xfrm>
                <a:custGeom>
                  <a:avLst/>
                  <a:gdLst/>
                  <a:ahLst/>
                  <a:rect l="l" t="t" r="r" b="b"/>
                  <a:pathLst>
                    <a:path w="272" h="136">
                      <a:moveTo>
                        <a:pt x="0" y="136"/>
                      </a:moveTo>
                      <a:cubicBezTo>
                        <a:pt x="16" y="123"/>
                        <a:pt x="64" y="61"/>
                        <a:pt x="96" y="56"/>
                      </a:cubicBezTo>
                      <a:cubicBezTo>
                        <a:pt x="128" y="51"/>
                        <a:pt x="163" y="107"/>
                        <a:pt x="192" y="104"/>
                      </a:cubicBezTo>
                      <a:cubicBezTo>
                        <a:pt x="221" y="101"/>
                        <a:pt x="272" y="57"/>
                        <a:pt x="272" y="40"/>
                      </a:cubicBezTo>
                      <a:cubicBezTo>
                        <a:pt x="272" y="23"/>
                        <a:pt x="209" y="8"/>
                        <a:pt x="19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-2743920" y="4495680"/>
                <a:ext cx="2635200" cy="1218960"/>
                <a:chOff x="-2743920" y="4495680"/>
                <a:chExt cx="2635200" cy="12189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-1431000" y="4495680"/>
                  <a:ext cx="1322280" cy="764640"/>
                  <a:chOff x="-1431000" y="4495680"/>
                  <a:chExt cx="1322280" cy="76464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 flipH="1">
                    <a:off x="-1431360" y="4516200"/>
                    <a:ext cx="1322280" cy="74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14" h="2148">
                        <a:moveTo>
                          <a:pt x="3120" y="960"/>
                        </a:moveTo>
                        <a:lnTo>
                          <a:pt x="3168" y="96"/>
                        </a:lnTo>
                        <a:lnTo>
                          <a:pt x="1872" y="0"/>
                        </a:lnTo>
                        <a:lnTo>
                          <a:pt x="1638" y="876"/>
                        </a:lnTo>
                        <a:lnTo>
                          <a:pt x="768" y="864"/>
                        </a:lnTo>
                        <a:lnTo>
                          <a:pt x="0" y="816"/>
                        </a:lnTo>
                        <a:lnTo>
                          <a:pt x="0" y="1056"/>
                        </a:lnTo>
                        <a:lnTo>
                          <a:pt x="96" y="1056"/>
                        </a:lnTo>
                        <a:lnTo>
                          <a:pt x="96" y="1776"/>
                        </a:lnTo>
                        <a:lnTo>
                          <a:pt x="102" y="1896"/>
                        </a:lnTo>
                        <a:lnTo>
                          <a:pt x="342" y="1944"/>
                        </a:lnTo>
                        <a:lnTo>
                          <a:pt x="450" y="2016"/>
                        </a:lnTo>
                        <a:lnTo>
                          <a:pt x="558" y="2112"/>
                        </a:lnTo>
                        <a:lnTo>
                          <a:pt x="750" y="2148"/>
                        </a:lnTo>
                        <a:lnTo>
                          <a:pt x="858" y="1884"/>
                        </a:lnTo>
                        <a:lnTo>
                          <a:pt x="1074" y="1896"/>
                        </a:lnTo>
                        <a:lnTo>
                          <a:pt x="1248" y="1824"/>
                        </a:lnTo>
                        <a:lnTo>
                          <a:pt x="1584" y="1968"/>
                        </a:lnTo>
                        <a:lnTo>
                          <a:pt x="1584" y="1824"/>
                        </a:lnTo>
                        <a:lnTo>
                          <a:pt x="1776" y="1872"/>
                        </a:lnTo>
                        <a:lnTo>
                          <a:pt x="1824" y="1680"/>
                        </a:lnTo>
                        <a:lnTo>
                          <a:pt x="1872" y="1536"/>
                        </a:lnTo>
                        <a:lnTo>
                          <a:pt x="1968" y="1440"/>
                        </a:lnTo>
                        <a:lnTo>
                          <a:pt x="2160" y="1248"/>
                        </a:lnTo>
                        <a:lnTo>
                          <a:pt x="2352" y="1152"/>
                        </a:lnTo>
                        <a:lnTo>
                          <a:pt x="2592" y="1056"/>
                        </a:lnTo>
                        <a:lnTo>
                          <a:pt x="2880" y="1056"/>
                        </a:lnTo>
                        <a:lnTo>
                          <a:pt x="3066" y="1104"/>
                        </a:lnTo>
                        <a:lnTo>
                          <a:pt x="3258" y="1188"/>
                        </a:lnTo>
                        <a:lnTo>
                          <a:pt x="3390" y="1272"/>
                        </a:lnTo>
                        <a:lnTo>
                          <a:pt x="3510" y="1392"/>
                        </a:lnTo>
                        <a:lnTo>
                          <a:pt x="3678" y="1596"/>
                        </a:lnTo>
                        <a:lnTo>
                          <a:pt x="3714" y="1584"/>
                        </a:lnTo>
                        <a:lnTo>
                          <a:pt x="3558" y="1332"/>
                        </a:lnTo>
                        <a:lnTo>
                          <a:pt x="3270" y="1068"/>
                        </a:lnTo>
                        <a:lnTo>
                          <a:pt x="3120" y="96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6600"/>
                      </a:gs>
                      <a:gs pos="50000">
                        <a:srgbClr val="333333"/>
                      </a:gs>
                      <a:gs pos="100000">
                        <a:srgbClr val="33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H="1">
                    <a:off x="-707040" y="4749120"/>
                    <a:ext cx="5979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0" h="204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1680" y="96"/>
                        </a:lnTo>
                        <a:lnTo>
                          <a:pt x="1626" y="204"/>
                        </a:lnTo>
                        <a:lnTo>
                          <a:pt x="894" y="192"/>
                        </a:lnTo>
                        <a:lnTo>
                          <a:pt x="48" y="144"/>
                        </a:lnTo>
                      </a:path>
                    </a:pathLst>
                  </a:custGeom>
                  <a:solidFill>
                    <a:srgbClr val="33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>
                    <a:off x="-386280" y="4524480"/>
                    <a:ext cx="78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498">
                        <a:moveTo>
                          <a:pt x="145" y="468"/>
                        </a:moveTo>
                        <a:cubicBezTo>
                          <a:pt x="158" y="492"/>
                          <a:pt x="200" y="498"/>
                          <a:pt x="211" y="456"/>
                        </a:cubicBezTo>
                        <a:cubicBezTo>
                          <a:pt x="222" y="414"/>
                          <a:pt x="219" y="288"/>
                          <a:pt x="211" y="216"/>
                        </a:cubicBezTo>
                        <a:cubicBezTo>
                          <a:pt x="203" y="144"/>
                          <a:pt x="195" y="48"/>
                          <a:pt x="163" y="24"/>
                        </a:cubicBezTo>
                        <a:cubicBezTo>
                          <a:pt x="131" y="0"/>
                          <a:pt x="38" y="54"/>
                          <a:pt x="19" y="72"/>
                        </a:cubicBezTo>
                        <a:cubicBezTo>
                          <a:pt x="0" y="90"/>
                          <a:pt x="32" y="124"/>
                          <a:pt x="49" y="132"/>
                        </a:cubicBezTo>
                        <a:cubicBezTo>
                          <a:pt x="66" y="140"/>
                          <a:pt x="107" y="90"/>
                          <a:pt x="121" y="120"/>
                        </a:cubicBezTo>
                        <a:cubicBezTo>
                          <a:pt x="135" y="150"/>
                          <a:pt x="129" y="254"/>
                          <a:pt x="133" y="312"/>
                        </a:cubicBezTo>
                        <a:cubicBezTo>
                          <a:pt x="137" y="370"/>
                          <a:pt x="132" y="444"/>
                          <a:pt x="145" y="46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5f5f5f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>
                    <a:off x="-1230480" y="4495680"/>
                    <a:ext cx="4572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80">
                        <a:moveTo>
                          <a:pt x="0" y="72"/>
                        </a:moveTo>
                        <a:lnTo>
                          <a:pt x="24" y="0"/>
                        </a:lnTo>
                        <a:lnTo>
                          <a:pt x="1176" y="84"/>
                        </a:lnTo>
                        <a:lnTo>
                          <a:pt x="1284" y="180"/>
                        </a:lnTo>
                        <a:lnTo>
                          <a:pt x="12" y="72"/>
                        </a:lnTo>
                      </a:path>
                    </a:pathLst>
                  </a:custGeom>
                  <a:solidFill>
                    <a:srgbClr val="33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H="1">
                    <a:off x="-689760" y="4882320"/>
                    <a:ext cx="546840" cy="1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>
                    <a:off x="-399600" y="4682880"/>
                    <a:ext cx="8532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744">
                        <a:moveTo>
                          <a:pt x="144" y="720"/>
                        </a:moveTo>
                        <a:lnTo>
                          <a:pt x="144" y="576"/>
                        </a:lnTo>
                        <a:lnTo>
                          <a:pt x="240" y="576"/>
                        </a:lnTo>
                        <a:lnTo>
                          <a:pt x="240" y="48"/>
                        </a:lnTo>
                        <a:lnTo>
                          <a:pt x="144" y="0"/>
                        </a:lnTo>
                        <a:lnTo>
                          <a:pt x="0" y="48"/>
                        </a:lnTo>
                        <a:lnTo>
                          <a:pt x="0" y="576"/>
                        </a:lnTo>
                        <a:lnTo>
                          <a:pt x="96" y="576"/>
                        </a:lnTo>
                        <a:lnTo>
                          <a:pt x="78" y="684"/>
                        </a:lnTo>
                        <a:lnTo>
                          <a:pt x="102" y="744"/>
                        </a:lnTo>
                        <a:lnTo>
                          <a:pt x="144" y="72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5f5f5f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H="1">
                    <a:off x="-690840" y="4815720"/>
                    <a:ext cx="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2">
                        <a:moveTo>
                          <a:pt x="0" y="912"/>
                        </a:moveTo>
                        <a:lnTo>
                          <a:pt x="0" y="28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-553320" y="4898880"/>
                    <a:ext cx="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-399600" y="4898880"/>
                    <a:ext cx="0" cy="29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H="1">
                    <a:off x="-1198800" y="4617720"/>
                    <a:ext cx="1933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540">
                        <a:moveTo>
                          <a:pt x="267" y="524"/>
                        </a:moveTo>
                        <a:cubicBezTo>
                          <a:pt x="323" y="536"/>
                          <a:pt x="374" y="540"/>
                          <a:pt x="411" y="524"/>
                        </a:cubicBezTo>
                        <a:cubicBezTo>
                          <a:pt x="448" y="508"/>
                          <a:pt x="472" y="504"/>
                          <a:pt x="489" y="428"/>
                        </a:cubicBezTo>
                        <a:cubicBezTo>
                          <a:pt x="506" y="352"/>
                          <a:pt x="543" y="136"/>
                          <a:pt x="513" y="68"/>
                        </a:cubicBezTo>
                        <a:cubicBezTo>
                          <a:pt x="483" y="0"/>
                          <a:pt x="382" y="24"/>
                          <a:pt x="309" y="20"/>
                        </a:cubicBezTo>
                        <a:cubicBezTo>
                          <a:pt x="236" y="16"/>
                          <a:pt x="122" y="24"/>
                          <a:pt x="75" y="44"/>
                        </a:cubicBezTo>
                        <a:cubicBezTo>
                          <a:pt x="28" y="64"/>
                          <a:pt x="38" y="96"/>
                          <a:pt x="27" y="140"/>
                        </a:cubicBezTo>
                        <a:cubicBezTo>
                          <a:pt x="16" y="184"/>
                          <a:pt x="9" y="252"/>
                          <a:pt x="9" y="308"/>
                        </a:cubicBezTo>
                        <a:cubicBezTo>
                          <a:pt x="9" y="364"/>
                          <a:pt x="0" y="440"/>
                          <a:pt x="27" y="476"/>
                        </a:cubicBezTo>
                        <a:cubicBezTo>
                          <a:pt x="54" y="512"/>
                          <a:pt x="123" y="516"/>
                          <a:pt x="171" y="524"/>
                        </a:cubicBezTo>
                        <a:cubicBezTo>
                          <a:pt x="219" y="532"/>
                          <a:pt x="267" y="528"/>
                          <a:pt x="315" y="52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>
                    <a:off x="-948960" y="4596840"/>
                    <a:ext cx="20016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540">
                        <a:moveTo>
                          <a:pt x="363" y="8"/>
                        </a:moveTo>
                        <a:cubicBezTo>
                          <a:pt x="412" y="12"/>
                          <a:pt x="481" y="16"/>
                          <a:pt x="513" y="32"/>
                        </a:cubicBezTo>
                        <a:cubicBezTo>
                          <a:pt x="545" y="48"/>
                          <a:pt x="548" y="60"/>
                          <a:pt x="555" y="104"/>
                        </a:cubicBezTo>
                        <a:cubicBezTo>
                          <a:pt x="562" y="148"/>
                          <a:pt x="558" y="230"/>
                          <a:pt x="555" y="296"/>
                        </a:cubicBezTo>
                        <a:cubicBezTo>
                          <a:pt x="552" y="362"/>
                          <a:pt x="561" y="460"/>
                          <a:pt x="537" y="500"/>
                        </a:cubicBezTo>
                        <a:cubicBezTo>
                          <a:pt x="513" y="540"/>
                          <a:pt x="469" y="534"/>
                          <a:pt x="411" y="536"/>
                        </a:cubicBezTo>
                        <a:cubicBezTo>
                          <a:pt x="353" y="538"/>
                          <a:pt x="253" y="520"/>
                          <a:pt x="189" y="512"/>
                        </a:cubicBezTo>
                        <a:cubicBezTo>
                          <a:pt x="125" y="504"/>
                          <a:pt x="54" y="508"/>
                          <a:pt x="27" y="488"/>
                        </a:cubicBezTo>
                        <a:cubicBezTo>
                          <a:pt x="0" y="468"/>
                          <a:pt x="14" y="438"/>
                          <a:pt x="27" y="392"/>
                        </a:cubicBezTo>
                        <a:cubicBezTo>
                          <a:pt x="40" y="346"/>
                          <a:pt x="81" y="268"/>
                          <a:pt x="105" y="212"/>
                        </a:cubicBezTo>
                        <a:cubicBezTo>
                          <a:pt x="129" y="156"/>
                          <a:pt x="152" y="90"/>
                          <a:pt x="171" y="56"/>
                        </a:cubicBezTo>
                        <a:cubicBezTo>
                          <a:pt x="190" y="22"/>
                          <a:pt x="187" y="16"/>
                          <a:pt x="219" y="8"/>
                        </a:cubicBezTo>
                        <a:cubicBezTo>
                          <a:pt x="251" y="0"/>
                          <a:pt x="315" y="8"/>
                          <a:pt x="363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>
                    <a:off x="-898200" y="4782600"/>
                    <a:ext cx="17928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400">
                        <a:moveTo>
                          <a:pt x="111" y="384"/>
                        </a:moveTo>
                        <a:cubicBezTo>
                          <a:pt x="143" y="392"/>
                          <a:pt x="175" y="400"/>
                          <a:pt x="207" y="384"/>
                        </a:cubicBezTo>
                        <a:cubicBezTo>
                          <a:pt x="239" y="368"/>
                          <a:pt x="263" y="320"/>
                          <a:pt x="303" y="288"/>
                        </a:cubicBezTo>
                        <a:cubicBezTo>
                          <a:pt x="343" y="256"/>
                          <a:pt x="415" y="216"/>
                          <a:pt x="447" y="192"/>
                        </a:cubicBezTo>
                        <a:cubicBezTo>
                          <a:pt x="479" y="168"/>
                          <a:pt x="490" y="164"/>
                          <a:pt x="495" y="144"/>
                        </a:cubicBezTo>
                        <a:cubicBezTo>
                          <a:pt x="500" y="124"/>
                          <a:pt x="504" y="90"/>
                          <a:pt x="477" y="72"/>
                        </a:cubicBezTo>
                        <a:cubicBezTo>
                          <a:pt x="450" y="54"/>
                          <a:pt x="377" y="44"/>
                          <a:pt x="333" y="36"/>
                        </a:cubicBezTo>
                        <a:cubicBezTo>
                          <a:pt x="289" y="28"/>
                          <a:pt x="257" y="28"/>
                          <a:pt x="213" y="24"/>
                        </a:cubicBezTo>
                        <a:cubicBezTo>
                          <a:pt x="169" y="20"/>
                          <a:pt x="102" y="0"/>
                          <a:pt x="69" y="12"/>
                        </a:cubicBezTo>
                        <a:cubicBezTo>
                          <a:pt x="36" y="24"/>
                          <a:pt x="25" y="58"/>
                          <a:pt x="15" y="96"/>
                        </a:cubicBezTo>
                        <a:cubicBezTo>
                          <a:pt x="5" y="134"/>
                          <a:pt x="10" y="200"/>
                          <a:pt x="9" y="240"/>
                        </a:cubicBezTo>
                        <a:cubicBezTo>
                          <a:pt x="8" y="280"/>
                          <a:pt x="0" y="312"/>
                          <a:pt x="9" y="336"/>
                        </a:cubicBezTo>
                        <a:cubicBezTo>
                          <a:pt x="18" y="360"/>
                          <a:pt x="38" y="376"/>
                          <a:pt x="63" y="384"/>
                        </a:cubicBezTo>
                        <a:cubicBezTo>
                          <a:pt x="88" y="392"/>
                          <a:pt x="119" y="392"/>
                          <a:pt x="159" y="3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H="1">
                    <a:off x="-1407960" y="4866840"/>
                    <a:ext cx="67284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0" h="849">
                        <a:moveTo>
                          <a:pt x="0" y="849"/>
                        </a:moveTo>
                        <a:cubicBezTo>
                          <a:pt x="18" y="795"/>
                          <a:pt x="62" y="623"/>
                          <a:pt x="120" y="525"/>
                        </a:cubicBezTo>
                        <a:cubicBezTo>
                          <a:pt x="178" y="427"/>
                          <a:pt x="253" y="336"/>
                          <a:pt x="348" y="261"/>
                        </a:cubicBezTo>
                        <a:cubicBezTo>
                          <a:pt x="443" y="186"/>
                          <a:pt x="562" y="113"/>
                          <a:pt x="690" y="73"/>
                        </a:cubicBezTo>
                        <a:cubicBezTo>
                          <a:pt x="818" y="33"/>
                          <a:pt x="969" y="0"/>
                          <a:pt x="1116" y="21"/>
                        </a:cubicBezTo>
                        <a:cubicBezTo>
                          <a:pt x="1263" y="42"/>
                          <a:pt x="1443" y="112"/>
                          <a:pt x="1572" y="201"/>
                        </a:cubicBezTo>
                        <a:cubicBezTo>
                          <a:pt x="1701" y="290"/>
                          <a:pt x="1824" y="480"/>
                          <a:pt x="1890" y="553"/>
                        </a:cubicBezTo>
                      </a:path>
                    </a:pathLst>
                  </a:custGeom>
                  <a:noFill/>
                  <a:ln w="76320">
                    <a:solidFill>
                      <a:srgbClr val="33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>
                    <a:off x="-401760" y="4699440"/>
                    <a:ext cx="87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40">
                        <a:moveTo>
                          <a:pt x="0" y="0"/>
                        </a:moveTo>
                        <a:cubicBezTo>
                          <a:pt x="19" y="6"/>
                          <a:pt x="73" y="32"/>
                          <a:pt x="114" y="36"/>
                        </a:cubicBezTo>
                        <a:cubicBezTo>
                          <a:pt x="155" y="40"/>
                          <a:pt x="219" y="26"/>
                          <a:pt x="24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H="1">
                    <a:off x="-397440" y="4682160"/>
                    <a:ext cx="83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62">
                        <a:moveTo>
                          <a:pt x="0" y="50"/>
                        </a:moveTo>
                        <a:cubicBezTo>
                          <a:pt x="23" y="42"/>
                          <a:pt x="99" y="0"/>
                          <a:pt x="138" y="2"/>
                        </a:cubicBezTo>
                        <a:cubicBezTo>
                          <a:pt x="177" y="4"/>
                          <a:pt x="214" y="50"/>
                          <a:pt x="234" y="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"/>
                <p:cNvGrpSpPr/>
                <p:nvPr/>
              </p:nvGrpSpPr>
              <p:grpSpPr>
                <a:xfrm>
                  <a:off x="-2743920" y="4739400"/>
                  <a:ext cx="1152000" cy="975240"/>
                  <a:chOff x="-2743920" y="4739400"/>
                  <a:chExt cx="1152000" cy="97524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 flipH="1">
                    <a:off x="-1842480" y="5284080"/>
                    <a:ext cx="21384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-2042640" y="5178240"/>
                    <a:ext cx="19980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H="1">
                    <a:off x="-2242800" y="5080680"/>
                    <a:ext cx="20016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H="1">
                    <a:off x="-2393640" y="4983120"/>
                    <a:ext cx="15012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>
                    <a:off x="-2593440" y="4885560"/>
                    <a:ext cx="20016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H="1">
                    <a:off x="-2744280" y="4788000"/>
                    <a:ext cx="15012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>
                    <a:off x="-2743920" y="4739400"/>
                    <a:ext cx="1151640" cy="63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4" h="624">
                        <a:moveTo>
                          <a:pt x="0" y="480"/>
                        </a:moveTo>
                        <a:lnTo>
                          <a:pt x="1104" y="0"/>
                        </a:lnTo>
                        <a:lnTo>
                          <a:pt x="1056" y="96"/>
                        </a:lnTo>
                        <a:lnTo>
                          <a:pt x="0" y="624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4" name=""/>
                <p:cNvSpPr/>
                <p:nvPr/>
              </p:nvSpPr>
              <p:spPr>
                <a:xfrm flipH="1">
                  <a:off x="-2484720" y="4845240"/>
                  <a:ext cx="792720" cy="276120"/>
                </a:xfrm>
                <a:custGeom>
                  <a:avLst/>
                  <a:gdLst/>
                  <a:ahLst/>
                  <a:rect l="l" t="t" r="r" b="b"/>
                  <a:pathLst>
                    <a:path w="760" h="272">
                      <a:moveTo>
                        <a:pt x="48" y="136"/>
                      </a:moveTo>
                      <a:lnTo>
                        <a:pt x="760" y="0"/>
                      </a:lnTo>
                      <a:lnTo>
                        <a:pt x="432" y="136"/>
                      </a:lnTo>
                      <a:lnTo>
                        <a:pt x="0" y="136"/>
                      </a:lnTo>
                      <a:lnTo>
                        <a:pt x="200" y="272"/>
                      </a:lnTo>
                      <a:lnTo>
                        <a:pt x="480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5" name=""/>
            <p:cNvGrpSpPr/>
            <p:nvPr/>
          </p:nvGrpSpPr>
          <p:grpSpPr>
            <a:xfrm>
              <a:off x="-1427040" y="4885560"/>
              <a:ext cx="717840" cy="698040"/>
              <a:chOff x="-1427040" y="4885560"/>
              <a:chExt cx="717840" cy="698040"/>
            </a:xfrm>
          </p:grpSpPr>
          <p:sp>
            <p:nvSpPr>
              <p:cNvPr id="1316" name=""/>
              <p:cNvSpPr/>
              <p:nvPr/>
            </p:nvSpPr>
            <p:spPr>
              <a:xfrm flipH="1">
                <a:off x="-1427040" y="4885560"/>
                <a:ext cx="717840" cy="6980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-1305000" y="5004360"/>
                <a:ext cx="472680" cy="4600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-1269720" y="5038560"/>
                <a:ext cx="402120" cy="39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-1077480" y="5055480"/>
                <a:ext cx="1764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-1252080" y="524304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-1077480" y="5396400"/>
                <a:ext cx="1764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-901800" y="524304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-1199520" y="512388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-954360" y="534492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-954360" y="512388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-1199520" y="534492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-358920" y="5170320"/>
              <a:ext cx="358920" cy="349560"/>
              <a:chOff x="-358920" y="5170320"/>
              <a:chExt cx="358920" cy="349560"/>
            </a:xfrm>
          </p:grpSpPr>
          <p:sp>
            <p:nvSpPr>
              <p:cNvPr id="1328" name=""/>
              <p:cNvSpPr/>
              <p:nvPr/>
            </p:nvSpPr>
            <p:spPr>
              <a:xfrm flipH="1">
                <a:off x="-359280" y="5170320"/>
                <a:ext cx="358920" cy="34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-290160" y="5237280"/>
                <a:ext cx="221040" cy="215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-205560" y="5319360"/>
                <a:ext cx="51840" cy="50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-150120" y="5247360"/>
                <a:ext cx="2088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-271440" y="529596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-250560" y="541404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-100440" y="536508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-214200" y="5267520"/>
                <a:ext cx="1368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-114120" y="5316480"/>
                <a:ext cx="1332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-164160" y="5414040"/>
                <a:ext cx="1332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-264240" y="5365080"/>
                <a:ext cx="13320" cy="1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9" name=""/>
          <p:cNvSpPr/>
          <p:nvPr/>
        </p:nvSpPr>
        <p:spPr>
          <a:xfrm>
            <a:off x="312624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6576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36412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88800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72644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36412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12624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8800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72644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609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ую часть поля вспахал тракторис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4.44444E-006 L 0.95 -4.44444E-006 E">
                                      <p:cBhvr>
                                        <p:cTn id="1181" dur="5000" fill="hold"/>
                                        <p:tgtEl>
                                          <p:spTgt spid="1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1339"/>
                    </p:tgtEl>
                  </p:cond>
                </p:stCondLst>
                <p:childTnLst>
                  <p:par>
                    <p:cTn id="1183" fill="hold">
                      <p:stCondLst>
                        <p:cond evt="onClick">
                          <p:tgtEl>
                            <p:spTgt spid="1339"/>
                          </p:tgtEl>
                        </p:cond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7.40741E-007 L 0.05676 0.35857 E">
                                      <p:cBhvr>
                                        <p:cTn id="1186" dur="1000" fill="hold"/>
                                        <p:tgtEl>
                                          <p:spTgt spid="1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1341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1341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1211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1345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1345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5" restart="whenNotActive" nodeType="interactiveSeq" fill="hold">
                <p:stCondLst>
                  <p:cond evt="onClick">
                    <p:tgtEl>
                      <p:spTgt spid="1346"/>
                    </p:tgtEl>
                  </p:cond>
                </p:stCondLst>
                <p:childTnLst>
                  <p:par>
                    <p:cTn id="1226" fill="hold">
                      <p:stCondLst>
                        <p:cond evt="onClick">
                          <p:tgtEl>
                            <p:spTgt spid="1346"/>
                          </p:tgtEl>
                        </p:cond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1347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1347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4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1348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1348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11719 0.33773 E">
                                      <p:cBhvr>
                                        <p:cTn id="1239" dur="5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85960" y="1483920"/>
            <a:ext cx="53290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   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=   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Най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 = 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2480" y="2276640"/>
            <a:ext cx="2232000" cy="1512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82480" y="1752480"/>
            <a:ext cx="2232000" cy="648000"/>
            <a:chOff x="582480" y="1752480"/>
            <a:chExt cx="2232000" cy="648000"/>
          </a:xfrm>
        </p:grpSpPr>
        <p:sp>
          <p:nvSpPr>
            <p:cNvPr id="54" name=""/>
            <p:cNvSpPr/>
            <p:nvPr/>
          </p:nvSpPr>
          <p:spPr>
            <a:xfrm>
              <a:off x="582480" y="19684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4480" y="19684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480" y="21128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1446120" y="1752480"/>
              <a:ext cx="5331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 с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627280" y="2276640"/>
            <a:ext cx="965160" cy="1512720"/>
            <a:chOff x="2627280" y="2276640"/>
            <a:chExt cx="965160" cy="1512720"/>
          </a:xfrm>
        </p:grpSpPr>
        <p:sp>
          <p:nvSpPr>
            <p:cNvPr id="59" name=""/>
            <p:cNvSpPr/>
            <p:nvPr/>
          </p:nvSpPr>
          <p:spPr>
            <a:xfrm>
              <a:off x="2627280" y="378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27280" y="2276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000" y="227664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058920" y="2882160"/>
              <a:ext cx="533520" cy="21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 с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-196200" y="4686120"/>
            <a:ext cx="9836640" cy="1752120"/>
            <a:chOff x="-196200" y="4686120"/>
            <a:chExt cx="9836640" cy="1752120"/>
          </a:xfrm>
        </p:grpSpPr>
        <p:sp>
          <p:nvSpPr>
            <p:cNvPr id="1352" name=""/>
            <p:cNvSpPr/>
            <p:nvPr/>
          </p:nvSpPr>
          <p:spPr>
            <a:xfrm rot="21243600">
              <a:off x="-183960" y="5191920"/>
              <a:ext cx="9812520" cy="740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84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-184320" y="4966920"/>
              <a:ext cx="9810720" cy="11710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>
            <a:hlinkClick r:id="" action="ppaction://hlinkshowjump?jump=nextslide"/>
          </p:cNvPr>
          <p:cNvSpPr/>
          <p:nvPr/>
        </p:nvSpPr>
        <p:spPr>
          <a:xfrm>
            <a:off x="8420040" y="6172200"/>
            <a:ext cx="507960" cy="507960"/>
          </a:xfrm>
          <a:custGeom>
            <a:avLst/>
            <a:gdLst>
              <a:gd name="textAreaLeft" fmla="*/ 32760 w 507960"/>
              <a:gd name="textAreaRight" fmla="*/ 475200 w 5079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0" y="4724280"/>
            <a:ext cx="9144000" cy="1676160"/>
            <a:chOff x="0" y="4724280"/>
            <a:chExt cx="9144000" cy="1676160"/>
          </a:xfrm>
        </p:grpSpPr>
        <p:sp>
          <p:nvSpPr>
            <p:cNvPr id="1356" name=""/>
            <p:cNvSpPr/>
            <p:nvPr/>
          </p:nvSpPr>
          <p:spPr>
            <a:xfrm>
              <a:off x="8966160" y="472428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0" y="558288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419720" y="5184000"/>
              <a:ext cx="177840" cy="81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2960" y="5388480"/>
              <a:ext cx="17748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692760" y="497988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797960" y="4887720"/>
              <a:ext cx="177480" cy="81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49760" y="508212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225960" y="5255640"/>
              <a:ext cx="177480" cy="81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15920" y="547020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3352680" y="5122800"/>
            <a:ext cx="5689080" cy="1290600"/>
            <a:chOff x="3352680" y="5122800"/>
            <a:chExt cx="5689080" cy="1290600"/>
          </a:xfrm>
        </p:grpSpPr>
        <p:sp>
          <p:nvSpPr>
            <p:cNvPr id="1366" name=""/>
            <p:cNvSpPr/>
            <p:nvPr/>
          </p:nvSpPr>
          <p:spPr>
            <a:xfrm>
              <a:off x="3352680" y="5908320"/>
              <a:ext cx="366840" cy="5050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8684640" y="5122800"/>
              <a:ext cx="356760" cy="50472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7585200" y="3854880"/>
            <a:ext cx="2410920" cy="1252080"/>
            <a:chOff x="7585200" y="3854880"/>
            <a:chExt cx="2410920" cy="1252080"/>
          </a:xfrm>
        </p:grpSpPr>
        <p:sp>
          <p:nvSpPr>
            <p:cNvPr id="1369" name=""/>
            <p:cNvSpPr/>
            <p:nvPr/>
          </p:nvSpPr>
          <p:spPr>
            <a:xfrm rot="21235800">
              <a:off x="7632000" y="3974400"/>
              <a:ext cx="2316960" cy="1012680"/>
            </a:xfrm>
            <a:custGeom>
              <a:avLst/>
              <a:gdLst/>
              <a:ahLst/>
              <a:rect l="l" t="t" r="r" b="b"/>
              <a:pathLst>
                <a:path w="3416" h="1511">
                  <a:moveTo>
                    <a:pt x="3173" y="85"/>
                  </a:moveTo>
                  <a:cubicBezTo>
                    <a:pt x="3109" y="74"/>
                    <a:pt x="3240" y="98"/>
                    <a:pt x="2965" y="85"/>
                  </a:cubicBezTo>
                  <a:cubicBezTo>
                    <a:pt x="2690" y="72"/>
                    <a:pt x="1941" y="0"/>
                    <a:pt x="1525" y="5"/>
                  </a:cubicBezTo>
                  <a:cubicBezTo>
                    <a:pt x="1109" y="10"/>
                    <a:pt x="664" y="96"/>
                    <a:pt x="469" y="117"/>
                  </a:cubicBezTo>
                  <a:cubicBezTo>
                    <a:pt x="274" y="138"/>
                    <a:pt x="381" y="112"/>
                    <a:pt x="357" y="133"/>
                  </a:cubicBezTo>
                  <a:cubicBezTo>
                    <a:pt x="333" y="154"/>
                    <a:pt x="336" y="165"/>
                    <a:pt x="325" y="245"/>
                  </a:cubicBezTo>
                  <a:cubicBezTo>
                    <a:pt x="314" y="325"/>
                    <a:pt x="298" y="525"/>
                    <a:pt x="293" y="613"/>
                  </a:cubicBezTo>
                  <a:cubicBezTo>
                    <a:pt x="288" y="701"/>
                    <a:pt x="304" y="730"/>
                    <a:pt x="293" y="773"/>
                  </a:cubicBezTo>
                  <a:cubicBezTo>
                    <a:pt x="282" y="816"/>
                    <a:pt x="269" y="842"/>
                    <a:pt x="229" y="869"/>
                  </a:cubicBezTo>
                  <a:cubicBezTo>
                    <a:pt x="189" y="896"/>
                    <a:pt x="90" y="882"/>
                    <a:pt x="53" y="933"/>
                  </a:cubicBezTo>
                  <a:cubicBezTo>
                    <a:pt x="16" y="984"/>
                    <a:pt x="10" y="1096"/>
                    <a:pt x="5" y="1173"/>
                  </a:cubicBezTo>
                  <a:cubicBezTo>
                    <a:pt x="0" y="1250"/>
                    <a:pt x="5" y="1344"/>
                    <a:pt x="21" y="1397"/>
                  </a:cubicBezTo>
                  <a:cubicBezTo>
                    <a:pt x="37" y="1450"/>
                    <a:pt x="37" y="1477"/>
                    <a:pt x="101" y="1493"/>
                  </a:cubicBezTo>
                  <a:cubicBezTo>
                    <a:pt x="165" y="1509"/>
                    <a:pt x="342" y="1495"/>
                    <a:pt x="405" y="1493"/>
                  </a:cubicBezTo>
                  <a:cubicBezTo>
                    <a:pt x="468" y="1491"/>
                    <a:pt x="463" y="1511"/>
                    <a:pt x="481" y="1481"/>
                  </a:cubicBezTo>
                  <a:cubicBezTo>
                    <a:pt x="499" y="1451"/>
                    <a:pt x="490" y="1354"/>
                    <a:pt x="511" y="1313"/>
                  </a:cubicBezTo>
                  <a:cubicBezTo>
                    <a:pt x="532" y="1272"/>
                    <a:pt x="569" y="1254"/>
                    <a:pt x="607" y="1235"/>
                  </a:cubicBezTo>
                  <a:cubicBezTo>
                    <a:pt x="645" y="1216"/>
                    <a:pt x="695" y="1199"/>
                    <a:pt x="739" y="1199"/>
                  </a:cubicBezTo>
                  <a:cubicBezTo>
                    <a:pt x="783" y="1199"/>
                    <a:pt x="836" y="1218"/>
                    <a:pt x="871" y="1235"/>
                  </a:cubicBezTo>
                  <a:cubicBezTo>
                    <a:pt x="906" y="1252"/>
                    <a:pt x="923" y="1267"/>
                    <a:pt x="949" y="1301"/>
                  </a:cubicBezTo>
                  <a:cubicBezTo>
                    <a:pt x="975" y="1335"/>
                    <a:pt x="1010" y="1414"/>
                    <a:pt x="1027" y="1439"/>
                  </a:cubicBezTo>
                  <a:cubicBezTo>
                    <a:pt x="1044" y="1464"/>
                    <a:pt x="936" y="1450"/>
                    <a:pt x="1051" y="1451"/>
                  </a:cubicBezTo>
                  <a:cubicBezTo>
                    <a:pt x="1166" y="1452"/>
                    <a:pt x="1497" y="1447"/>
                    <a:pt x="1717" y="1445"/>
                  </a:cubicBezTo>
                  <a:cubicBezTo>
                    <a:pt x="1937" y="1443"/>
                    <a:pt x="2259" y="1441"/>
                    <a:pt x="2374" y="1436"/>
                  </a:cubicBezTo>
                  <a:cubicBezTo>
                    <a:pt x="2489" y="1431"/>
                    <a:pt x="2398" y="1426"/>
                    <a:pt x="2404" y="1412"/>
                  </a:cubicBezTo>
                  <a:cubicBezTo>
                    <a:pt x="2410" y="1398"/>
                    <a:pt x="2397" y="1383"/>
                    <a:pt x="2410" y="1352"/>
                  </a:cubicBezTo>
                  <a:cubicBezTo>
                    <a:pt x="2423" y="1321"/>
                    <a:pt x="2442" y="1259"/>
                    <a:pt x="2482" y="1226"/>
                  </a:cubicBezTo>
                  <a:cubicBezTo>
                    <a:pt x="2522" y="1193"/>
                    <a:pt x="2598" y="1161"/>
                    <a:pt x="2650" y="1154"/>
                  </a:cubicBezTo>
                  <a:cubicBezTo>
                    <a:pt x="2702" y="1147"/>
                    <a:pt x="2754" y="1163"/>
                    <a:pt x="2794" y="1184"/>
                  </a:cubicBezTo>
                  <a:cubicBezTo>
                    <a:pt x="2834" y="1205"/>
                    <a:pt x="2868" y="1246"/>
                    <a:pt x="2890" y="1280"/>
                  </a:cubicBezTo>
                  <a:cubicBezTo>
                    <a:pt x="2912" y="1314"/>
                    <a:pt x="2917" y="1367"/>
                    <a:pt x="2926" y="1388"/>
                  </a:cubicBezTo>
                  <a:cubicBezTo>
                    <a:pt x="2935" y="1409"/>
                    <a:pt x="2895" y="1405"/>
                    <a:pt x="2944" y="1406"/>
                  </a:cubicBezTo>
                  <a:cubicBezTo>
                    <a:pt x="2993" y="1407"/>
                    <a:pt x="3151" y="1412"/>
                    <a:pt x="3221" y="1397"/>
                  </a:cubicBezTo>
                  <a:cubicBezTo>
                    <a:pt x="3291" y="1382"/>
                    <a:pt x="3333" y="1421"/>
                    <a:pt x="3365" y="1317"/>
                  </a:cubicBezTo>
                  <a:cubicBezTo>
                    <a:pt x="3397" y="1213"/>
                    <a:pt x="3416" y="968"/>
                    <a:pt x="3413" y="773"/>
                  </a:cubicBezTo>
                  <a:cubicBezTo>
                    <a:pt x="3410" y="578"/>
                    <a:pt x="3384" y="266"/>
                    <a:pt x="3349" y="149"/>
                  </a:cubicBezTo>
                  <a:cubicBezTo>
                    <a:pt x="3314" y="32"/>
                    <a:pt x="3237" y="96"/>
                    <a:pt x="3173" y="8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63504" dir="19383909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8541360" y="4166640"/>
              <a:ext cx="476640" cy="369000"/>
              <a:chOff x="8541360" y="4166640"/>
              <a:chExt cx="476640" cy="369000"/>
            </a:xfrm>
          </p:grpSpPr>
          <p:sp>
            <p:nvSpPr>
              <p:cNvPr id="1371" name=""/>
              <p:cNvSpPr/>
              <p:nvPr/>
            </p:nvSpPr>
            <p:spPr>
              <a:xfrm rot="21235800">
                <a:off x="8557200" y="4189320"/>
                <a:ext cx="444960" cy="323640"/>
              </a:xfrm>
              <a:custGeom>
                <a:avLst/>
                <a:gdLst/>
                <a:ahLst/>
                <a:rect l="l" t="t" r="r" b="b"/>
                <a:pathLst>
                  <a:path w="336" h="562">
                    <a:moveTo>
                      <a:pt x="117" y="5"/>
                    </a:moveTo>
                    <a:cubicBezTo>
                      <a:pt x="171" y="2"/>
                      <a:pt x="226" y="0"/>
                      <a:pt x="261" y="5"/>
                    </a:cubicBezTo>
                    <a:cubicBezTo>
                      <a:pt x="296" y="10"/>
                      <a:pt x="314" y="13"/>
                      <a:pt x="325" y="37"/>
                    </a:cubicBezTo>
                    <a:cubicBezTo>
                      <a:pt x="336" y="61"/>
                      <a:pt x="325" y="77"/>
                      <a:pt x="325" y="149"/>
                    </a:cubicBezTo>
                    <a:cubicBezTo>
                      <a:pt x="325" y="221"/>
                      <a:pt x="333" y="402"/>
                      <a:pt x="325" y="469"/>
                    </a:cubicBezTo>
                    <a:cubicBezTo>
                      <a:pt x="317" y="536"/>
                      <a:pt x="304" y="536"/>
                      <a:pt x="277" y="549"/>
                    </a:cubicBezTo>
                    <a:cubicBezTo>
                      <a:pt x="250" y="562"/>
                      <a:pt x="192" y="549"/>
                      <a:pt x="165" y="549"/>
                    </a:cubicBezTo>
                    <a:cubicBezTo>
                      <a:pt x="138" y="549"/>
                      <a:pt x="138" y="549"/>
                      <a:pt x="117" y="549"/>
                    </a:cubicBezTo>
                    <a:cubicBezTo>
                      <a:pt x="96" y="549"/>
                      <a:pt x="56" y="562"/>
                      <a:pt x="37" y="549"/>
                    </a:cubicBezTo>
                    <a:cubicBezTo>
                      <a:pt x="18" y="536"/>
                      <a:pt x="10" y="509"/>
                      <a:pt x="5" y="469"/>
                    </a:cubicBezTo>
                    <a:cubicBezTo>
                      <a:pt x="0" y="429"/>
                      <a:pt x="5" y="373"/>
                      <a:pt x="5" y="309"/>
                    </a:cubicBezTo>
                    <a:cubicBezTo>
                      <a:pt x="5" y="245"/>
                      <a:pt x="2" y="133"/>
                      <a:pt x="5" y="85"/>
                    </a:cubicBezTo>
                    <a:cubicBezTo>
                      <a:pt x="8" y="37"/>
                      <a:pt x="10" y="34"/>
                      <a:pt x="21" y="21"/>
                    </a:cubicBezTo>
                    <a:cubicBezTo>
                      <a:pt x="32" y="8"/>
                      <a:pt x="40" y="8"/>
                      <a:pt x="69" y="5"/>
                    </a:cubicBezTo>
                    <a:cubicBezTo>
                      <a:pt x="98" y="2"/>
                      <a:pt x="147" y="3"/>
                      <a:pt x="197" y="5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21235800">
                <a:off x="8755200" y="4192920"/>
                <a:ext cx="32400" cy="311760"/>
              </a:xfrm>
              <a:custGeom>
                <a:avLst/>
                <a:gdLst/>
                <a:ahLst/>
                <a:rect l="l" t="t" r="r" b="b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9006120" y="4116960"/>
              <a:ext cx="476280" cy="369000"/>
              <a:chOff x="9006120" y="4116960"/>
              <a:chExt cx="476280" cy="369000"/>
            </a:xfrm>
          </p:grpSpPr>
          <p:sp>
            <p:nvSpPr>
              <p:cNvPr id="1374" name=""/>
              <p:cNvSpPr/>
              <p:nvPr/>
            </p:nvSpPr>
            <p:spPr>
              <a:xfrm rot="21235800">
                <a:off x="9021960" y="4139640"/>
                <a:ext cx="444600" cy="323640"/>
              </a:xfrm>
              <a:custGeom>
                <a:avLst/>
                <a:gdLst/>
                <a:ahLst/>
                <a:rect l="l" t="t" r="r" b="b"/>
                <a:pathLst>
                  <a:path w="336" h="562">
                    <a:moveTo>
                      <a:pt x="117" y="5"/>
                    </a:moveTo>
                    <a:cubicBezTo>
                      <a:pt x="171" y="2"/>
                      <a:pt x="226" y="0"/>
                      <a:pt x="261" y="5"/>
                    </a:cubicBezTo>
                    <a:cubicBezTo>
                      <a:pt x="296" y="10"/>
                      <a:pt x="314" y="13"/>
                      <a:pt x="325" y="37"/>
                    </a:cubicBezTo>
                    <a:cubicBezTo>
                      <a:pt x="336" y="61"/>
                      <a:pt x="325" y="77"/>
                      <a:pt x="325" y="149"/>
                    </a:cubicBezTo>
                    <a:cubicBezTo>
                      <a:pt x="325" y="221"/>
                      <a:pt x="333" y="402"/>
                      <a:pt x="325" y="469"/>
                    </a:cubicBezTo>
                    <a:cubicBezTo>
                      <a:pt x="317" y="536"/>
                      <a:pt x="304" y="536"/>
                      <a:pt x="277" y="549"/>
                    </a:cubicBezTo>
                    <a:cubicBezTo>
                      <a:pt x="250" y="562"/>
                      <a:pt x="192" y="549"/>
                      <a:pt x="165" y="549"/>
                    </a:cubicBezTo>
                    <a:cubicBezTo>
                      <a:pt x="138" y="549"/>
                      <a:pt x="138" y="549"/>
                      <a:pt x="117" y="549"/>
                    </a:cubicBezTo>
                    <a:cubicBezTo>
                      <a:pt x="96" y="549"/>
                      <a:pt x="56" y="562"/>
                      <a:pt x="37" y="549"/>
                    </a:cubicBezTo>
                    <a:cubicBezTo>
                      <a:pt x="18" y="536"/>
                      <a:pt x="10" y="509"/>
                      <a:pt x="5" y="469"/>
                    </a:cubicBezTo>
                    <a:cubicBezTo>
                      <a:pt x="0" y="429"/>
                      <a:pt x="5" y="373"/>
                      <a:pt x="5" y="309"/>
                    </a:cubicBezTo>
                    <a:cubicBezTo>
                      <a:pt x="5" y="245"/>
                      <a:pt x="2" y="133"/>
                      <a:pt x="5" y="85"/>
                    </a:cubicBezTo>
                    <a:cubicBezTo>
                      <a:pt x="8" y="37"/>
                      <a:pt x="10" y="34"/>
                      <a:pt x="21" y="21"/>
                    </a:cubicBezTo>
                    <a:cubicBezTo>
                      <a:pt x="32" y="8"/>
                      <a:pt x="40" y="8"/>
                      <a:pt x="69" y="5"/>
                    </a:cubicBezTo>
                    <a:cubicBezTo>
                      <a:pt x="98" y="2"/>
                      <a:pt x="147" y="3"/>
                      <a:pt x="197" y="5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21235800">
                <a:off x="9219960" y="4143600"/>
                <a:ext cx="32400" cy="311760"/>
              </a:xfrm>
              <a:custGeom>
                <a:avLst/>
                <a:gdLst/>
                <a:ahLst/>
                <a:rect l="l" t="t" r="r" b="b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 rot="21235800">
              <a:off x="9495720" y="4056840"/>
              <a:ext cx="435960" cy="375120"/>
            </a:xfrm>
            <a:custGeom>
              <a:avLst/>
              <a:gdLst/>
              <a:ahLst/>
              <a:rect l="l" t="t" r="r" b="b"/>
              <a:pathLst>
                <a:path w="644" h="558">
                  <a:moveTo>
                    <a:pt x="228" y="53"/>
                  </a:moveTo>
                  <a:cubicBezTo>
                    <a:pt x="334" y="51"/>
                    <a:pt x="449" y="55"/>
                    <a:pt x="510" y="53"/>
                  </a:cubicBezTo>
                  <a:cubicBezTo>
                    <a:pt x="571" y="51"/>
                    <a:pt x="577" y="0"/>
                    <a:pt x="597" y="38"/>
                  </a:cubicBezTo>
                  <a:cubicBezTo>
                    <a:pt x="617" y="76"/>
                    <a:pt x="624" y="198"/>
                    <a:pt x="629" y="278"/>
                  </a:cubicBezTo>
                  <a:cubicBezTo>
                    <a:pt x="634" y="358"/>
                    <a:pt x="644" y="478"/>
                    <a:pt x="629" y="518"/>
                  </a:cubicBezTo>
                  <a:cubicBezTo>
                    <a:pt x="614" y="558"/>
                    <a:pt x="592" y="520"/>
                    <a:pt x="541" y="520"/>
                  </a:cubicBezTo>
                  <a:cubicBezTo>
                    <a:pt x="490" y="520"/>
                    <a:pt x="375" y="520"/>
                    <a:pt x="322" y="520"/>
                  </a:cubicBezTo>
                  <a:cubicBezTo>
                    <a:pt x="269" y="520"/>
                    <a:pt x="269" y="520"/>
                    <a:pt x="228" y="520"/>
                  </a:cubicBezTo>
                  <a:cubicBezTo>
                    <a:pt x="187" y="520"/>
                    <a:pt x="109" y="531"/>
                    <a:pt x="72" y="520"/>
                  </a:cubicBezTo>
                  <a:cubicBezTo>
                    <a:pt x="35" y="509"/>
                    <a:pt x="20" y="486"/>
                    <a:pt x="10" y="451"/>
                  </a:cubicBezTo>
                  <a:cubicBezTo>
                    <a:pt x="0" y="417"/>
                    <a:pt x="10" y="369"/>
                    <a:pt x="10" y="314"/>
                  </a:cubicBezTo>
                  <a:cubicBezTo>
                    <a:pt x="10" y="259"/>
                    <a:pt x="4" y="163"/>
                    <a:pt x="10" y="122"/>
                  </a:cubicBezTo>
                  <a:cubicBezTo>
                    <a:pt x="16" y="81"/>
                    <a:pt x="20" y="78"/>
                    <a:pt x="41" y="67"/>
                  </a:cubicBezTo>
                  <a:cubicBezTo>
                    <a:pt x="62" y="56"/>
                    <a:pt x="78" y="56"/>
                    <a:pt x="135" y="53"/>
                  </a:cubicBezTo>
                  <a:cubicBezTo>
                    <a:pt x="191" y="51"/>
                    <a:pt x="287" y="52"/>
                    <a:pt x="385" y="53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235800">
              <a:off x="9694800" y="4093560"/>
              <a:ext cx="32400" cy="311040"/>
            </a:xfrm>
            <a:custGeom>
              <a:avLst/>
              <a:gdLst/>
              <a:ahLst/>
              <a:rect l="l" t="t" r="r" b="b"/>
              <a:pathLst>
                <a:path w="48" h="464">
                  <a:moveTo>
                    <a:pt x="32" y="0"/>
                  </a:moveTo>
                  <a:lnTo>
                    <a:pt x="48" y="464"/>
                  </a:lnTo>
                  <a:lnTo>
                    <a:pt x="0" y="4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1235800">
              <a:off x="7808400" y="4199760"/>
              <a:ext cx="371160" cy="420840"/>
            </a:xfrm>
            <a:custGeom>
              <a:avLst/>
              <a:gdLst/>
              <a:ahLst/>
              <a:rect l="l" t="t" r="r" b="b"/>
              <a:pathLst>
                <a:path w="547" h="627">
                  <a:moveTo>
                    <a:pt x="203" y="112"/>
                  </a:moveTo>
                  <a:cubicBezTo>
                    <a:pt x="288" y="110"/>
                    <a:pt x="374" y="108"/>
                    <a:pt x="429" y="112"/>
                  </a:cubicBezTo>
                  <a:cubicBezTo>
                    <a:pt x="484" y="117"/>
                    <a:pt x="512" y="119"/>
                    <a:pt x="530" y="140"/>
                  </a:cubicBezTo>
                  <a:cubicBezTo>
                    <a:pt x="547" y="160"/>
                    <a:pt x="530" y="174"/>
                    <a:pt x="530" y="236"/>
                  </a:cubicBezTo>
                  <a:cubicBezTo>
                    <a:pt x="530" y="298"/>
                    <a:pt x="542" y="453"/>
                    <a:pt x="530" y="510"/>
                  </a:cubicBezTo>
                  <a:cubicBezTo>
                    <a:pt x="517" y="568"/>
                    <a:pt x="497" y="568"/>
                    <a:pt x="454" y="579"/>
                  </a:cubicBezTo>
                  <a:cubicBezTo>
                    <a:pt x="412" y="590"/>
                    <a:pt x="321" y="579"/>
                    <a:pt x="278" y="579"/>
                  </a:cubicBezTo>
                  <a:cubicBezTo>
                    <a:pt x="236" y="579"/>
                    <a:pt x="236" y="579"/>
                    <a:pt x="203" y="579"/>
                  </a:cubicBezTo>
                  <a:cubicBezTo>
                    <a:pt x="170" y="579"/>
                    <a:pt x="109" y="577"/>
                    <a:pt x="77" y="579"/>
                  </a:cubicBezTo>
                  <a:cubicBezTo>
                    <a:pt x="45" y="581"/>
                    <a:pt x="16" y="627"/>
                    <a:pt x="8" y="593"/>
                  </a:cubicBezTo>
                  <a:cubicBezTo>
                    <a:pt x="0" y="559"/>
                    <a:pt x="24" y="442"/>
                    <a:pt x="27" y="373"/>
                  </a:cubicBezTo>
                  <a:cubicBezTo>
                    <a:pt x="30" y="304"/>
                    <a:pt x="22" y="240"/>
                    <a:pt x="27" y="181"/>
                  </a:cubicBezTo>
                  <a:cubicBezTo>
                    <a:pt x="32" y="122"/>
                    <a:pt x="46" y="34"/>
                    <a:pt x="56" y="17"/>
                  </a:cubicBezTo>
                  <a:cubicBezTo>
                    <a:pt x="66" y="0"/>
                    <a:pt x="43" y="65"/>
                    <a:pt x="88" y="81"/>
                  </a:cubicBezTo>
                  <a:cubicBezTo>
                    <a:pt x="133" y="97"/>
                    <a:pt x="279" y="106"/>
                    <a:pt x="329" y="112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1235800">
              <a:off x="7984080" y="4275720"/>
              <a:ext cx="24840" cy="311040"/>
            </a:xfrm>
            <a:custGeom>
              <a:avLst/>
              <a:gdLst/>
              <a:ahLst/>
              <a:rect l="l" t="t" r="r" b="b"/>
              <a:pathLst>
                <a:path w="48" h="464">
                  <a:moveTo>
                    <a:pt x="32" y="0"/>
                  </a:moveTo>
                  <a:lnTo>
                    <a:pt x="48" y="464"/>
                  </a:lnTo>
                  <a:lnTo>
                    <a:pt x="0" y="4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1235800">
              <a:off x="9274680" y="4629600"/>
              <a:ext cx="394920" cy="233280"/>
            </a:xfrm>
            <a:custGeom>
              <a:avLst/>
              <a:gdLst/>
              <a:ahLst/>
              <a:rect l="l" t="t" r="r" b="b"/>
              <a:pathLst>
                <a:path w="583" h="347">
                  <a:moveTo>
                    <a:pt x="0" y="347"/>
                  </a:moveTo>
                  <a:cubicBezTo>
                    <a:pt x="3" y="323"/>
                    <a:pt x="11" y="245"/>
                    <a:pt x="23" y="202"/>
                  </a:cubicBezTo>
                  <a:cubicBezTo>
                    <a:pt x="35" y="159"/>
                    <a:pt x="40" y="121"/>
                    <a:pt x="72" y="89"/>
                  </a:cubicBezTo>
                  <a:cubicBezTo>
                    <a:pt x="104" y="57"/>
                    <a:pt x="162" y="20"/>
                    <a:pt x="215" y="10"/>
                  </a:cubicBezTo>
                  <a:cubicBezTo>
                    <a:pt x="268" y="0"/>
                    <a:pt x="337" y="1"/>
                    <a:pt x="391" y="26"/>
                  </a:cubicBezTo>
                  <a:cubicBezTo>
                    <a:pt x="445" y="51"/>
                    <a:pt x="508" y="110"/>
                    <a:pt x="540" y="161"/>
                  </a:cubicBezTo>
                  <a:cubicBezTo>
                    <a:pt x="572" y="212"/>
                    <a:pt x="574" y="295"/>
                    <a:pt x="583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235800">
              <a:off x="7981920" y="4804200"/>
              <a:ext cx="394560" cy="232200"/>
            </a:xfrm>
            <a:custGeom>
              <a:avLst/>
              <a:gdLst/>
              <a:ahLst/>
              <a:rect l="l" t="t" r="r" b="b"/>
              <a:pathLst>
                <a:path w="583" h="347">
                  <a:moveTo>
                    <a:pt x="0" y="347"/>
                  </a:moveTo>
                  <a:cubicBezTo>
                    <a:pt x="3" y="323"/>
                    <a:pt x="11" y="245"/>
                    <a:pt x="23" y="202"/>
                  </a:cubicBezTo>
                  <a:cubicBezTo>
                    <a:pt x="35" y="159"/>
                    <a:pt x="40" y="121"/>
                    <a:pt x="72" y="89"/>
                  </a:cubicBezTo>
                  <a:cubicBezTo>
                    <a:pt x="104" y="57"/>
                    <a:pt x="162" y="20"/>
                    <a:pt x="215" y="10"/>
                  </a:cubicBezTo>
                  <a:cubicBezTo>
                    <a:pt x="268" y="0"/>
                    <a:pt x="337" y="1"/>
                    <a:pt x="391" y="26"/>
                  </a:cubicBezTo>
                  <a:cubicBezTo>
                    <a:pt x="445" y="51"/>
                    <a:pt x="508" y="110"/>
                    <a:pt x="540" y="161"/>
                  </a:cubicBezTo>
                  <a:cubicBezTo>
                    <a:pt x="572" y="212"/>
                    <a:pt x="574" y="295"/>
                    <a:pt x="583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235800">
              <a:off x="7646040" y="4740120"/>
              <a:ext cx="644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235800">
              <a:off x="8181720" y="4128120"/>
              <a:ext cx="392760" cy="871200"/>
            </a:xfrm>
            <a:custGeom>
              <a:avLst/>
              <a:gdLst/>
              <a:ahLst/>
              <a:rect l="l" t="t" r="r" b="b"/>
              <a:pathLst>
                <a:path w="578" h="1299">
                  <a:moveTo>
                    <a:pt x="559" y="1195"/>
                  </a:moveTo>
                  <a:cubicBezTo>
                    <a:pt x="559" y="1023"/>
                    <a:pt x="562" y="442"/>
                    <a:pt x="559" y="253"/>
                  </a:cubicBezTo>
                  <a:cubicBezTo>
                    <a:pt x="556" y="64"/>
                    <a:pt x="565" y="101"/>
                    <a:pt x="541" y="61"/>
                  </a:cubicBezTo>
                  <a:cubicBezTo>
                    <a:pt x="517" y="21"/>
                    <a:pt x="458" y="23"/>
                    <a:pt x="415" y="13"/>
                  </a:cubicBezTo>
                  <a:cubicBezTo>
                    <a:pt x="372" y="3"/>
                    <a:pt x="329" y="0"/>
                    <a:pt x="283" y="1"/>
                  </a:cubicBezTo>
                  <a:cubicBezTo>
                    <a:pt x="237" y="2"/>
                    <a:pt x="175" y="10"/>
                    <a:pt x="140" y="18"/>
                  </a:cubicBezTo>
                  <a:cubicBezTo>
                    <a:pt x="105" y="26"/>
                    <a:pt x="92" y="36"/>
                    <a:pt x="73" y="49"/>
                  </a:cubicBezTo>
                  <a:cubicBezTo>
                    <a:pt x="54" y="62"/>
                    <a:pt x="35" y="55"/>
                    <a:pt x="28" y="98"/>
                  </a:cubicBezTo>
                  <a:cubicBezTo>
                    <a:pt x="21" y="141"/>
                    <a:pt x="28" y="213"/>
                    <a:pt x="28" y="306"/>
                  </a:cubicBezTo>
                  <a:cubicBezTo>
                    <a:pt x="28" y="399"/>
                    <a:pt x="29" y="551"/>
                    <a:pt x="25" y="655"/>
                  </a:cubicBezTo>
                  <a:cubicBezTo>
                    <a:pt x="21" y="759"/>
                    <a:pt x="2" y="873"/>
                    <a:pt x="1" y="931"/>
                  </a:cubicBezTo>
                  <a:cubicBezTo>
                    <a:pt x="0" y="989"/>
                    <a:pt x="12" y="989"/>
                    <a:pt x="19" y="1003"/>
                  </a:cubicBezTo>
                  <a:cubicBezTo>
                    <a:pt x="26" y="1017"/>
                    <a:pt x="23" y="1003"/>
                    <a:pt x="43" y="1015"/>
                  </a:cubicBezTo>
                  <a:cubicBezTo>
                    <a:pt x="63" y="1027"/>
                    <a:pt x="110" y="1039"/>
                    <a:pt x="139" y="1075"/>
                  </a:cubicBezTo>
                  <a:cubicBezTo>
                    <a:pt x="168" y="1111"/>
                    <a:pt x="205" y="1200"/>
                    <a:pt x="220" y="1234"/>
                  </a:cubicBezTo>
                  <a:cubicBezTo>
                    <a:pt x="235" y="1268"/>
                    <a:pt x="216" y="1271"/>
                    <a:pt x="229" y="1279"/>
                  </a:cubicBezTo>
                  <a:cubicBezTo>
                    <a:pt x="242" y="1287"/>
                    <a:pt x="264" y="1282"/>
                    <a:pt x="300" y="1282"/>
                  </a:cubicBezTo>
                  <a:cubicBezTo>
                    <a:pt x="336" y="1282"/>
                    <a:pt x="401" y="1282"/>
                    <a:pt x="444" y="1282"/>
                  </a:cubicBezTo>
                  <a:cubicBezTo>
                    <a:pt x="487" y="1282"/>
                    <a:pt x="540" y="1299"/>
                    <a:pt x="559" y="1285"/>
                  </a:cubicBezTo>
                  <a:cubicBezTo>
                    <a:pt x="578" y="1271"/>
                    <a:pt x="559" y="1214"/>
                    <a:pt x="559" y="11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21235800">
              <a:off x="8190000" y="4233240"/>
              <a:ext cx="347400" cy="323640"/>
            </a:xfrm>
            <a:custGeom>
              <a:avLst/>
              <a:gdLst/>
              <a:ahLst/>
              <a:rect l="l" t="t" r="r" b="b"/>
              <a:pathLst>
                <a:path w="336" h="562">
                  <a:moveTo>
                    <a:pt x="117" y="5"/>
                  </a:moveTo>
                  <a:cubicBezTo>
                    <a:pt x="171" y="2"/>
                    <a:pt x="226" y="0"/>
                    <a:pt x="261" y="5"/>
                  </a:cubicBezTo>
                  <a:cubicBezTo>
                    <a:pt x="296" y="10"/>
                    <a:pt x="314" y="13"/>
                    <a:pt x="325" y="37"/>
                  </a:cubicBezTo>
                  <a:cubicBezTo>
                    <a:pt x="336" y="61"/>
                    <a:pt x="325" y="77"/>
                    <a:pt x="325" y="149"/>
                  </a:cubicBezTo>
                  <a:cubicBezTo>
                    <a:pt x="325" y="221"/>
                    <a:pt x="333" y="402"/>
                    <a:pt x="325" y="469"/>
                  </a:cubicBezTo>
                  <a:cubicBezTo>
                    <a:pt x="317" y="536"/>
                    <a:pt x="304" y="536"/>
                    <a:pt x="277" y="549"/>
                  </a:cubicBezTo>
                  <a:cubicBezTo>
                    <a:pt x="250" y="562"/>
                    <a:pt x="192" y="549"/>
                    <a:pt x="165" y="549"/>
                  </a:cubicBezTo>
                  <a:cubicBezTo>
                    <a:pt x="138" y="549"/>
                    <a:pt x="138" y="549"/>
                    <a:pt x="117" y="549"/>
                  </a:cubicBezTo>
                  <a:cubicBezTo>
                    <a:pt x="96" y="549"/>
                    <a:pt x="56" y="562"/>
                    <a:pt x="37" y="549"/>
                  </a:cubicBezTo>
                  <a:cubicBezTo>
                    <a:pt x="18" y="536"/>
                    <a:pt x="10" y="509"/>
                    <a:pt x="5" y="469"/>
                  </a:cubicBezTo>
                  <a:cubicBezTo>
                    <a:pt x="0" y="429"/>
                    <a:pt x="5" y="373"/>
                    <a:pt x="5" y="309"/>
                  </a:cubicBezTo>
                  <a:cubicBezTo>
                    <a:pt x="5" y="245"/>
                    <a:pt x="2" y="133"/>
                    <a:pt x="5" y="85"/>
                  </a:cubicBezTo>
                  <a:cubicBezTo>
                    <a:pt x="8" y="37"/>
                    <a:pt x="10" y="34"/>
                    <a:pt x="21" y="21"/>
                  </a:cubicBezTo>
                  <a:cubicBezTo>
                    <a:pt x="32" y="8"/>
                    <a:pt x="40" y="8"/>
                    <a:pt x="69" y="5"/>
                  </a:cubicBezTo>
                  <a:cubicBezTo>
                    <a:pt x="98" y="2"/>
                    <a:pt x="147" y="3"/>
                    <a:pt x="197" y="5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21235800">
              <a:off x="8519400" y="4547520"/>
              <a:ext cx="20880" cy="80280"/>
            </a:xfrm>
            <a:custGeom>
              <a:avLst/>
              <a:gdLst/>
              <a:ahLst/>
              <a:rect l="l" t="t" r="r" b="b"/>
              <a:pathLst>
                <a:path w="30" h="120">
                  <a:moveTo>
                    <a:pt x="12" y="0"/>
                  </a:moveTo>
                  <a:lnTo>
                    <a:pt x="0" y="60"/>
                  </a:lnTo>
                  <a:lnTo>
                    <a:pt x="18" y="120"/>
                  </a:lnTo>
                  <a:lnTo>
                    <a:pt x="30" y="5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be0e3"/>
            </a:solidFill>
            <a:ln w="19080">
              <a:solidFill>
                <a:srgbClr val="4d4d4d"/>
              </a:solidFill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9311760" y="4641480"/>
            <a:ext cx="325080" cy="329040"/>
            <a:chOff x="9311760" y="4641480"/>
            <a:chExt cx="325080" cy="329040"/>
          </a:xfrm>
        </p:grpSpPr>
        <p:sp>
          <p:nvSpPr>
            <p:cNvPr id="1387" name=""/>
            <p:cNvSpPr/>
            <p:nvPr/>
          </p:nvSpPr>
          <p:spPr>
            <a:xfrm rot="21239400">
              <a:off x="9326880" y="4666680"/>
              <a:ext cx="295200" cy="288720"/>
            </a:xfrm>
            <a:custGeom>
              <a:avLst/>
              <a:gdLst>
                <a:gd name="textAreaLeft" fmla="*/ 135720 w 295200"/>
                <a:gd name="textAreaRight" fmla="*/ 159480 w 295200"/>
                <a:gd name="textAreaTop" fmla="*/ 132840 h 288720"/>
                <a:gd name="textAreaBottom" fmla="*/ 15588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239400">
              <a:off x="9326520" y="4655880"/>
              <a:ext cx="295200" cy="299880"/>
            </a:xfrm>
            <a:prstGeom prst="ellipse">
              <a:avLst/>
            </a:prstGeom>
            <a:noFill/>
            <a:ln w="381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8008560" y="4809600"/>
            <a:ext cx="325080" cy="329400"/>
            <a:chOff x="8008560" y="4809600"/>
            <a:chExt cx="325080" cy="329400"/>
          </a:xfrm>
        </p:grpSpPr>
        <p:sp>
          <p:nvSpPr>
            <p:cNvPr id="1390" name=""/>
            <p:cNvSpPr/>
            <p:nvPr/>
          </p:nvSpPr>
          <p:spPr>
            <a:xfrm rot="21239400">
              <a:off x="8023680" y="4834800"/>
              <a:ext cx="295200" cy="289080"/>
            </a:xfrm>
            <a:custGeom>
              <a:avLst/>
              <a:gdLst>
                <a:gd name="textAreaLeft" fmla="*/ 135720 w 295200"/>
                <a:gd name="textAreaRight" fmla="*/ 159480 w 295200"/>
                <a:gd name="textAreaTop" fmla="*/ 133200 h 289080"/>
                <a:gd name="textAreaBottom" fmla="*/ 155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21239400">
              <a:off x="8023320" y="4824000"/>
              <a:ext cx="295200" cy="300240"/>
            </a:xfrm>
            <a:prstGeom prst="ellipse">
              <a:avLst/>
            </a:prstGeom>
            <a:noFill/>
            <a:ln w="381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114300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ую часть дороги проехал автоб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52280" y="1371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72644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715000" y="4114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135880" y="1143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8800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2624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5228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36412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1262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8800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7264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556 0.09259 E">
                                      <p:cBhvr>
                                        <p:cTn id="1249" dur="5000" fill="hold"/>
                                        <p:tgtEl>
                                          <p:spTgt spid="1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556 0.09259 E">
                                      <p:cBhvr>
                                        <p:cTn id="1251" dur="5000" fill="hold"/>
                                        <p:tgtEl>
                                          <p:spTgt spid="1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556 0.09259 E">
                                      <p:cBhvr>
                                        <p:cTn id="1253" dur="5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5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57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0.10781 0.33774 E">
                                      <p:cBhvr>
                                        <p:cTn id="1266" dur="1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5" restart="whenNotActive" nodeType="interactiveSeq" fill="hold">
                <p:stCondLst>
                  <p:cond evt="onClick">
                    <p:tgtEl>
                      <p:spTgt spid="1396"/>
                    </p:tgtEl>
                  </p:cond>
                </p:stCondLst>
                <p:childTnLst>
                  <p:par>
                    <p:cTn id="1286" fill="hold">
                      <p:stCondLst>
                        <p:cond evt="onClick">
                          <p:tgtEl>
                            <p:spTgt spid="1396"/>
                          </p:tgtEl>
                        </p:cond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1397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1397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1398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1398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1400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1400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1401"/>
                    </p:tgtEl>
                  </p:cond>
                </p:stCondLst>
                <p:childTnLst>
                  <p:par>
                    <p:cTn id="1306" fill="hold">
                      <p:stCondLst>
                        <p:cond evt="onClick">
                          <p:tgtEl>
                            <p:spTgt spid="1401"/>
                          </p:tgtEl>
                        </p:cond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1402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1402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1403"/>
                    </p:tgtEl>
                  </p:cond>
                </p:stCondLst>
                <p:childTnLst>
                  <p:par>
                    <p:cTn id="1316" fill="hold">
                      <p:stCondLst>
                        <p:cond evt="onClick">
                          <p:tgtEl>
                            <p:spTgt spid="1403"/>
                          </p:tgtEl>
                        </p:cond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10781 0.29328 E">
                                      <p:cBhvr>
                                        <p:cTn id="1319" dur="5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4" name=""/>
          <p:cNvGrpSpPr/>
          <p:nvPr/>
        </p:nvGrpSpPr>
        <p:grpSpPr>
          <a:xfrm>
            <a:off x="609480" y="3857760"/>
            <a:ext cx="2438280" cy="1066680"/>
            <a:chOff x="609480" y="3857760"/>
            <a:chExt cx="2438280" cy="1066680"/>
          </a:xfrm>
        </p:grpSpPr>
        <p:sp>
          <p:nvSpPr>
            <p:cNvPr id="1405" name=""/>
            <p:cNvSpPr/>
            <p:nvPr/>
          </p:nvSpPr>
          <p:spPr>
            <a:xfrm>
              <a:off x="609480" y="4192920"/>
              <a:ext cx="2438280" cy="73152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09480" y="3857760"/>
              <a:ext cx="24382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7" name="" descr=""/>
            <p:cNvPicPr/>
            <p:nvPr/>
          </p:nvPicPr>
          <p:blipFill>
            <a:blip r:embed="rId1"/>
            <a:stretch/>
          </p:blipFill>
          <p:spPr>
            <a:xfrm>
              <a:off x="1076040" y="4621320"/>
              <a:ext cx="1555920" cy="24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8" name=""/>
          <p:cNvSpPr/>
          <p:nvPr/>
        </p:nvSpPr>
        <p:spPr>
          <a:xfrm rot="3222600">
            <a:off x="918000" y="4047480"/>
            <a:ext cx="56808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rot="3222600">
            <a:off x="1832400" y="4082400"/>
            <a:ext cx="56808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rot="885000">
            <a:off x="2367000" y="3957120"/>
            <a:ext cx="56844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rot="1261200">
            <a:off x="1387080" y="4190760"/>
            <a:ext cx="593640" cy="4539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rot="2706600">
            <a:off x="1294200" y="3729600"/>
            <a:ext cx="56808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rot="667200">
            <a:off x="1828800" y="3733920"/>
            <a:ext cx="592200" cy="50472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14300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ая часть слив осталась на тарел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200320" y="1371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77412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06668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41216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93604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17392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20032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41216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17392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9360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77412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09480" y="3733920"/>
            <a:ext cx="609840" cy="62208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47535 0.17732 E">
                                      <p:cBhvr>
                                        <p:cTn id="1325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49167 0.18958 E">
                                      <p:cBhvr>
                                        <p:cTn id="1327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40174 0.16991 E">
                                      <p:cBhvr>
                                        <p:cTn id="1329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0.53438 0.21875 E">
                                      <p:cBhvr>
                                        <p:cTn id="1331" dur="20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0">
                                      <p:cBhvr>
                                        <p:cTn id="133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1417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1417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7407E-006 L -0.62448 0.17107 E">
                                      <p:cBhvr>
                                        <p:cTn id="1338" dur="1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1419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1419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1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424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424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1425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1425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-0.62448 0.12662 E">
                                      <p:cBhvr>
                                        <p:cTn id="1391" dur="5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8" name=""/>
          <p:cNvGrpSpPr/>
          <p:nvPr/>
        </p:nvGrpSpPr>
        <p:grpSpPr>
          <a:xfrm>
            <a:off x="152280" y="1066680"/>
            <a:ext cx="5864400" cy="5343120"/>
            <a:chOff x="152280" y="1066680"/>
            <a:chExt cx="5864400" cy="5343120"/>
          </a:xfrm>
        </p:grpSpPr>
        <p:sp>
          <p:nvSpPr>
            <p:cNvPr id="1429" name=""/>
            <p:cNvSpPr/>
            <p:nvPr/>
          </p:nvSpPr>
          <p:spPr>
            <a:xfrm>
              <a:off x="152280" y="10666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52280" y="173412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52280" y="2403360"/>
              <a:ext cx="73224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52280" y="306936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52280" y="373824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52280" y="440568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2280" y="5074920"/>
              <a:ext cx="73224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2280" y="5740920"/>
              <a:ext cx="73224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84520" y="57423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84520" y="106668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84520" y="17355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84520" y="240336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84520" y="307080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84520" y="373824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84520" y="440748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84520" y="5074920"/>
              <a:ext cx="73188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19280" y="10666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19280" y="173412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19280" y="2403360"/>
              <a:ext cx="73224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19280" y="306936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19280" y="373824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19280" y="440568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19280" y="5074920"/>
              <a:ext cx="73224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19280" y="5740920"/>
              <a:ext cx="73224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51520" y="57423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51520" y="106668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51520" y="17355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51520" y="240336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351520" y="307080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351520" y="373824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351520" y="440748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351520" y="5074920"/>
              <a:ext cx="73188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085200" y="106668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085200" y="173412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085200" y="2403360"/>
              <a:ext cx="73188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085200" y="306936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85200" y="373824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85200" y="440568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85200" y="5074920"/>
              <a:ext cx="73188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85200" y="5740920"/>
              <a:ext cx="73188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7080" y="57423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17080" y="106668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17080" y="17355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17080" y="240336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817080" y="307080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817080" y="373824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817080" y="44074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817080" y="5074920"/>
              <a:ext cx="73224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52200" y="10666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552200" y="173412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52200" y="2403360"/>
              <a:ext cx="73224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552200" y="306936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552200" y="373824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52200" y="440568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52200" y="5074920"/>
              <a:ext cx="73224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552200" y="5740920"/>
              <a:ext cx="73224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284440" y="57423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284440" y="106668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284440" y="17355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284440" y="240336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284440" y="307080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284440" y="373824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284440" y="44074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284440" y="5074920"/>
              <a:ext cx="73224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63480" y="3054240"/>
              <a:ext cx="238680" cy="1371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23" y="91"/>
                  </a:moveTo>
                  <a:cubicBezTo>
                    <a:pt x="11" y="75"/>
                    <a:pt x="0" y="60"/>
                    <a:pt x="23" y="45"/>
                  </a:cubicBezTo>
                  <a:cubicBezTo>
                    <a:pt x="46" y="30"/>
                    <a:pt x="102" y="15"/>
                    <a:pt x="1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3086280" y="3736800"/>
            <a:ext cx="730080" cy="669960"/>
          </a:xfrm>
          <a:custGeom>
            <a:avLst/>
            <a:gdLst/>
            <a:ahLst/>
            <a:rect l="l" t="t" r="r" b="b"/>
            <a:pathLst>
              <a:path w="460" h="422">
                <a:moveTo>
                  <a:pt x="0" y="422"/>
                </a:moveTo>
                <a:lnTo>
                  <a:pt x="456" y="418"/>
                </a:lnTo>
                <a:lnTo>
                  <a:pt x="460" y="2"/>
                </a:lnTo>
                <a:lnTo>
                  <a:pt x="207" y="2"/>
                </a:lnTo>
                <a:lnTo>
                  <a:pt x="0" y="0"/>
                </a:lnTo>
                <a:lnTo>
                  <a:pt x="0" y="422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086280" y="3067200"/>
            <a:ext cx="733320" cy="666720"/>
          </a:xfrm>
          <a:custGeom>
            <a:avLst/>
            <a:gdLst/>
            <a:ahLst/>
            <a:rect l="l" t="t" r="r" b="b"/>
            <a:pathLst>
              <a:path w="462" h="420">
                <a:moveTo>
                  <a:pt x="1" y="420"/>
                </a:moveTo>
                <a:lnTo>
                  <a:pt x="462" y="418"/>
                </a:lnTo>
                <a:lnTo>
                  <a:pt x="462" y="2"/>
                </a:lnTo>
                <a:lnTo>
                  <a:pt x="0" y="0"/>
                </a:lnTo>
                <a:lnTo>
                  <a:pt x="1" y="420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086280" y="2400480"/>
            <a:ext cx="730080" cy="666720"/>
          </a:xfrm>
          <a:custGeom>
            <a:avLst/>
            <a:gdLst/>
            <a:ahLst/>
            <a:rect l="l" t="t" r="r" b="b"/>
            <a:pathLst>
              <a:path w="460" h="420">
                <a:moveTo>
                  <a:pt x="2" y="420"/>
                </a:moveTo>
                <a:lnTo>
                  <a:pt x="460" y="420"/>
                </a:lnTo>
                <a:lnTo>
                  <a:pt x="458" y="2"/>
                </a:lnTo>
                <a:lnTo>
                  <a:pt x="0" y="0"/>
                </a:lnTo>
                <a:lnTo>
                  <a:pt x="2" y="420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349360" y="2397240"/>
            <a:ext cx="733680" cy="669960"/>
          </a:xfrm>
          <a:custGeom>
            <a:avLst/>
            <a:gdLst/>
            <a:ahLst/>
            <a:rect l="l" t="t" r="r" b="b"/>
            <a:pathLst>
              <a:path w="462" h="422">
                <a:moveTo>
                  <a:pt x="2" y="422"/>
                </a:moveTo>
                <a:lnTo>
                  <a:pt x="462" y="422"/>
                </a:lnTo>
                <a:lnTo>
                  <a:pt x="460" y="4"/>
                </a:lnTo>
                <a:lnTo>
                  <a:pt x="0" y="0"/>
                </a:lnTo>
                <a:lnTo>
                  <a:pt x="2" y="422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1198440" cy="180180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/>
          <p:nvPr/>
        </p:nvSpPr>
        <p:spPr>
          <a:xfrm>
            <a:off x="2286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ую часть шахматной доски прошел конь, сделав 1 х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553080" y="1219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8612640" y="17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73152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022080" y="173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774200" y="17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012440" y="17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3244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02172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70752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6964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231760" y="39625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" action="ppaction://hlinkshowjump?jump=nextslide"/>
          </p:cNvPr>
          <p:cNvSpPr/>
          <p:nvPr/>
        </p:nvSpPr>
        <p:spPr>
          <a:xfrm>
            <a:off x="8420040" y="6172200"/>
            <a:ext cx="507960" cy="507960"/>
          </a:xfrm>
          <a:custGeom>
            <a:avLst/>
            <a:gdLst>
              <a:gd name="textAreaLeft" fmla="*/ 32760 w 507960"/>
              <a:gd name="textAreaRight" fmla="*/ 475200 w 5079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00174 -0.20301 L -0.07656 -0.20347 E">
                                      <p:cBhvr>
                                        <p:cTn id="1401" dur="3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12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-0.14218 0.51783 E">
                                      <p:cBhvr>
                                        <p:cTn id="1415" dur="100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4" restart="whenNotActive" nodeType="interactiveSeq" fill="hold">
                <p:stCondLst>
                  <p:cond evt="onClick">
                    <p:tgtEl>
                      <p:spTgt spid="1503"/>
                    </p:tgtEl>
                  </p:cond>
                </p:stCondLst>
                <p:childTnLst>
                  <p:par>
                    <p:cTn id="1435" fill="hold">
                      <p:stCondLst>
                        <p:cond evt="onClick">
                          <p:tgtEl>
                            <p:spTgt spid="1503"/>
                          </p:tgtEl>
                        </p:cond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8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1505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1505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1508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1508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8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9" restart="whenNotActive" nodeType="interactiveSeq" fill="hold">
                <p:stCondLst>
                  <p:cond evt="onClick">
                    <p:tgtEl>
                      <p:spTgt spid="1509"/>
                    </p:tgtEl>
                  </p:cond>
                </p:stCondLst>
                <p:childTnLst>
                  <p:par>
                    <p:cTn id="1460" fill="hold">
                      <p:stCondLst>
                        <p:cond evt="onClick">
                          <p:tgtEl>
                            <p:spTgt spid="1509"/>
                          </p:tgtEl>
                        </p:cond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3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L -0.11597 0.29328 E">
                                      <p:cBhvr>
                                        <p:cTn id="1468" dur="5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" descr=""/>
          <p:cNvPicPr/>
          <p:nvPr/>
        </p:nvPicPr>
        <p:blipFill>
          <a:blip r:embed="rId1"/>
          <a:srcRect l="17208" t="0" r="41831" b="25034"/>
          <a:stretch/>
        </p:blipFill>
        <p:spPr>
          <a:xfrm>
            <a:off x="1835280" y="404640"/>
            <a:ext cx="518472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-252360" y="-160200"/>
            <a:ext cx="9396360" cy="70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. 80 – повторить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на стр.8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1844640"/>
            <a:ext cx="43344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276640"/>
            <a:ext cx="43344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6560" y="2276640"/>
            <a:ext cx="43344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55736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91628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22766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63700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63600" y="263700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3600" y="22766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3600" y="155736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3600" y="299556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3600" y="37148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3600" y="335592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3600" y="407844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4320" y="155736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4320" y="191628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4320" y="22766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4320" y="299556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4320" y="335592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4320" y="407844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4320" y="37148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3600" y="335592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3600" y="299556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3600" y="263700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3600" y="443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3600" y="407844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63700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37148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15772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191628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3600" y="55166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3600" y="479736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4320" y="299556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4320" y="119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4320" y="155736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4320" y="191628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4320" y="22766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263700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4320" y="335592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256536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Результат действ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43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7664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Самая маленькая изученная единица д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49228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Сумма длин всех сторон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234936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Единица длины равная 10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276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Чтобы найти … прямоугольника, нужно длину умножить на шир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76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1125360"/>
            <a:ext cx="216000" cy="360720"/>
          </a:xfrm>
          <a:prstGeom prst="downArrow">
            <a:avLst>
              <a:gd name="adj1" fmla="val 50000"/>
              <a:gd name="adj2" fmla="val 4175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1125360"/>
            <a:ext cx="215640" cy="360720"/>
          </a:xfrm>
          <a:prstGeom prst="downArrow">
            <a:avLst>
              <a:gd name="adj1" fmla="val 50000"/>
              <a:gd name="adj2" fmla="val 4182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205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76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8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6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4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2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2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4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4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4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4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6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4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2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8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6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4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2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2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2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6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4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2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8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2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874960" cy="251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2786040" cy="2317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Comic Sans MS"/>
              </a:rPr>
              <a:t>Приглашаем на ч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35640" y="2205000"/>
            <a:ext cx="286380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Разгадай шиф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2305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1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6 + 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4 :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708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4000" y="112536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4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51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27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32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92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9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0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и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8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82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12 -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Апель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14680" y="1995480"/>
            <a:ext cx="39146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5998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«Дол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1989000"/>
            <a:ext cx="9208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920" y="3645000"/>
            <a:ext cx="9208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35640" y="1844640"/>
            <a:ext cx="776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508720" y="3645000"/>
            <a:ext cx="93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50028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42900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43640" y="2276280"/>
            <a:ext cx="1728360" cy="2233440"/>
            <a:chOff x="2843640" y="2276280"/>
            <a:chExt cx="1728360" cy="2233440"/>
          </a:xfrm>
        </p:grpSpPr>
        <p:sp>
          <p:nvSpPr>
            <p:cNvPr id="139" name=""/>
            <p:cNvSpPr/>
            <p:nvPr/>
          </p:nvSpPr>
          <p:spPr>
            <a:xfrm flipH="1">
              <a:off x="2843640" y="3429000"/>
              <a:ext cx="1728360" cy="108072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843640" y="2276280"/>
              <a:ext cx="1728360" cy="1152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3564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ЧИСЛ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8108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ЧИСЛ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16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ЗНАМЕН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516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ЗНАМЕН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4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97160" y="2943360"/>
            <a:ext cx="1728720" cy="706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0240" y="2205000"/>
            <a:ext cx="1782720" cy="706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011480" y="1479960"/>
            <a:ext cx="3018240" cy="1666080"/>
            <a:chOff x="4011480" y="1479960"/>
            <a:chExt cx="3018240" cy="1666080"/>
          </a:xfrm>
        </p:grpSpPr>
        <p:grpSp>
          <p:nvGrpSpPr>
            <p:cNvPr id="148" name=""/>
            <p:cNvGrpSpPr/>
            <p:nvPr/>
          </p:nvGrpSpPr>
          <p:grpSpPr>
            <a:xfrm>
              <a:off x="4838760" y="1479960"/>
              <a:ext cx="885960" cy="628920"/>
              <a:chOff x="4838760" y="1479960"/>
              <a:chExt cx="885960" cy="6289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838760" y="1479960"/>
                <a:ext cx="885960" cy="628920"/>
                <a:chOff x="4838760" y="1479960"/>
                <a:chExt cx="885960" cy="628920"/>
              </a:xfrm>
            </p:grpSpPr>
            <p:sp>
              <p:nvSpPr>
                <p:cNvPr id="150" name=""/>
                <p:cNvSpPr/>
                <p:nvPr/>
              </p:nvSpPr>
              <p:spPr>
                <a:xfrm rot="202800">
                  <a:off x="5305320" y="167472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02800">
                  <a:off x="4846680" y="176976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202800">
                  <a:off x="4858560" y="150444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5302800" y="1922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302080" y="168048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411800" y="1741680"/>
              <a:ext cx="887400" cy="629640"/>
              <a:chOff x="4411800" y="1741680"/>
              <a:chExt cx="887400" cy="6296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411800" y="1741680"/>
                <a:ext cx="887400" cy="629640"/>
                <a:chOff x="4411800" y="1741680"/>
                <a:chExt cx="887400" cy="629640"/>
              </a:xfrm>
            </p:grpSpPr>
            <p:sp>
              <p:nvSpPr>
                <p:cNvPr id="157" name=""/>
                <p:cNvSpPr/>
                <p:nvPr/>
              </p:nvSpPr>
              <p:spPr>
                <a:xfrm rot="202800">
                  <a:off x="4879080" y="193680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02800">
                  <a:off x="4419720" y="203148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202800">
                  <a:off x="4431960" y="176616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4876560" y="2184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4875840" y="19422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283360" y="1654560"/>
              <a:ext cx="885960" cy="628920"/>
              <a:chOff x="5283360" y="1654560"/>
              <a:chExt cx="885960" cy="6289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5283360" y="1654560"/>
                <a:ext cx="885960" cy="628920"/>
                <a:chOff x="5283360" y="1654560"/>
                <a:chExt cx="885960" cy="628920"/>
              </a:xfrm>
            </p:grpSpPr>
            <p:sp>
              <p:nvSpPr>
                <p:cNvPr id="164" name=""/>
                <p:cNvSpPr/>
                <p:nvPr/>
              </p:nvSpPr>
              <p:spPr>
                <a:xfrm rot="202800">
                  <a:off x="5749920" y="184932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202800">
                  <a:off x="5291280" y="194436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02800">
                  <a:off x="5303160" y="167904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5747400" y="2096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5746680" y="185508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857840" y="1916640"/>
              <a:ext cx="885960" cy="628920"/>
              <a:chOff x="4857840" y="1916640"/>
              <a:chExt cx="885960" cy="6289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4857840" y="1916640"/>
                <a:ext cx="885960" cy="628920"/>
                <a:chOff x="4857840" y="1916640"/>
                <a:chExt cx="885960" cy="628920"/>
              </a:xfrm>
            </p:grpSpPr>
            <p:sp>
              <p:nvSpPr>
                <p:cNvPr id="171" name=""/>
                <p:cNvSpPr/>
                <p:nvPr/>
              </p:nvSpPr>
              <p:spPr>
                <a:xfrm rot="202800">
                  <a:off x="5324400" y="211140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02800">
                  <a:off x="4865760" y="220644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02800">
                  <a:off x="4877640" y="194112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5321880" y="2358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321160" y="21171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97360" y="1827720"/>
              <a:ext cx="886320" cy="631080"/>
              <a:chOff x="5697360" y="1827720"/>
              <a:chExt cx="886320" cy="6310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697360" y="1827720"/>
                <a:ext cx="886320" cy="631080"/>
                <a:chOff x="5697360" y="1827720"/>
                <a:chExt cx="886320" cy="631080"/>
              </a:xfrm>
            </p:grpSpPr>
            <p:sp>
              <p:nvSpPr>
                <p:cNvPr id="178" name=""/>
                <p:cNvSpPr/>
                <p:nvPr/>
              </p:nvSpPr>
              <p:spPr>
                <a:xfrm rot="202800">
                  <a:off x="6164280" y="20232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02800">
                  <a:off x="5705640" y="21182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02800">
                  <a:off x="5717880" y="18522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6161760" y="2271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161040" y="20286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72200" y="2089440"/>
              <a:ext cx="885960" cy="629640"/>
              <a:chOff x="5272200" y="2089440"/>
              <a:chExt cx="885960" cy="6296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272200" y="2089440"/>
                <a:ext cx="885960" cy="629640"/>
                <a:chOff x="5272200" y="2089440"/>
                <a:chExt cx="885960" cy="629640"/>
              </a:xfrm>
            </p:grpSpPr>
            <p:sp>
              <p:nvSpPr>
                <p:cNvPr id="185" name=""/>
                <p:cNvSpPr/>
                <p:nvPr/>
              </p:nvSpPr>
              <p:spPr>
                <a:xfrm rot="202800">
                  <a:off x="5738760" y="22845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02800">
                  <a:off x="5280120" y="23792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02800">
                  <a:off x="5292360" y="21139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5736240" y="253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735520" y="22899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143760" y="2002320"/>
              <a:ext cx="885960" cy="628920"/>
              <a:chOff x="6143760" y="2002320"/>
              <a:chExt cx="885960" cy="6289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143760" y="2002320"/>
                <a:ext cx="885960" cy="628920"/>
                <a:chOff x="6143760" y="2002320"/>
                <a:chExt cx="885960" cy="628920"/>
              </a:xfrm>
            </p:grpSpPr>
            <p:sp>
              <p:nvSpPr>
                <p:cNvPr id="192" name=""/>
                <p:cNvSpPr/>
                <p:nvPr/>
              </p:nvSpPr>
              <p:spPr>
                <a:xfrm rot="202800">
                  <a:off x="6610320" y="21970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2800">
                  <a:off x="6151680" y="22921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202800">
                  <a:off x="6163560" y="20268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607800" y="2444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607080" y="22028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718240" y="2264040"/>
              <a:ext cx="885960" cy="629640"/>
              <a:chOff x="5718240" y="2264040"/>
              <a:chExt cx="885960" cy="629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718240" y="2264040"/>
                <a:ext cx="885960" cy="629640"/>
                <a:chOff x="5718240" y="2264040"/>
                <a:chExt cx="885960" cy="629640"/>
              </a:xfrm>
            </p:grpSpPr>
            <p:sp>
              <p:nvSpPr>
                <p:cNvPr id="199" name=""/>
                <p:cNvSpPr/>
                <p:nvPr/>
              </p:nvSpPr>
              <p:spPr>
                <a:xfrm rot="202800">
                  <a:off x="6184800" y="24591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02800">
                  <a:off x="5726160" y="25538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202800">
                  <a:off x="5738400" y="22885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6182280" y="2706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181560" y="24645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011480" y="1991160"/>
              <a:ext cx="886320" cy="631080"/>
              <a:chOff x="4011480" y="1991160"/>
              <a:chExt cx="886320" cy="6310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011480" y="1991160"/>
                <a:ext cx="886320" cy="631080"/>
                <a:chOff x="4011480" y="1991160"/>
                <a:chExt cx="886320" cy="631080"/>
              </a:xfrm>
            </p:grpSpPr>
            <p:sp>
              <p:nvSpPr>
                <p:cNvPr id="206" name=""/>
                <p:cNvSpPr/>
                <p:nvPr/>
              </p:nvSpPr>
              <p:spPr>
                <a:xfrm rot="202800">
                  <a:off x="4478400" y="218664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2800">
                  <a:off x="4019760" y="228168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02800">
                  <a:off x="4032000" y="201564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75880" y="2434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475160" y="219204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457520" y="2167200"/>
              <a:ext cx="887760" cy="631080"/>
              <a:chOff x="4457520" y="2167200"/>
              <a:chExt cx="887760" cy="6310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4457520" y="2167200"/>
                <a:ext cx="887760" cy="631080"/>
                <a:chOff x="4457520" y="2167200"/>
                <a:chExt cx="887760" cy="631080"/>
              </a:xfrm>
            </p:grpSpPr>
            <p:sp>
              <p:nvSpPr>
                <p:cNvPr id="213" name=""/>
                <p:cNvSpPr/>
                <p:nvPr/>
              </p:nvSpPr>
              <p:spPr>
                <a:xfrm rot="202800">
                  <a:off x="4925160" y="236268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202800">
                  <a:off x="4465800" y="245772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202800">
                  <a:off x="4478040" y="219168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922640" y="2610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921920" y="236808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870440" y="2340360"/>
              <a:ext cx="885960" cy="628920"/>
              <a:chOff x="4870440" y="2340360"/>
              <a:chExt cx="885960" cy="6289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870440" y="2340360"/>
                <a:ext cx="885960" cy="628920"/>
                <a:chOff x="4870440" y="2340360"/>
                <a:chExt cx="885960" cy="628920"/>
              </a:xfrm>
            </p:grpSpPr>
            <p:sp>
              <p:nvSpPr>
                <p:cNvPr id="220" name=""/>
                <p:cNvSpPr/>
                <p:nvPr/>
              </p:nvSpPr>
              <p:spPr>
                <a:xfrm rot="202800">
                  <a:off x="5337000" y="253512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202800">
                  <a:off x="4878360" y="263016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202800">
                  <a:off x="4890240" y="236484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5334480" y="2782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333760" y="254088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316480" y="2514960"/>
              <a:ext cx="887760" cy="631080"/>
              <a:chOff x="5316480" y="2514960"/>
              <a:chExt cx="887760" cy="63108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316480" y="2514960"/>
                <a:ext cx="887760" cy="631080"/>
                <a:chOff x="5316480" y="2514960"/>
                <a:chExt cx="887760" cy="631080"/>
              </a:xfrm>
            </p:grpSpPr>
            <p:sp>
              <p:nvSpPr>
                <p:cNvPr id="227" name=""/>
                <p:cNvSpPr/>
                <p:nvPr/>
              </p:nvSpPr>
              <p:spPr>
                <a:xfrm rot="202800">
                  <a:off x="5784120" y="271044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800">
                  <a:off x="5324760" y="280548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2800">
                  <a:off x="5337000" y="253944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781600" y="295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780880" y="271584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2769120" y="2250000"/>
            <a:ext cx="3017880" cy="1663920"/>
            <a:chOff x="2769120" y="2250000"/>
            <a:chExt cx="3017880" cy="1663920"/>
          </a:xfrm>
        </p:grpSpPr>
        <p:grpSp>
          <p:nvGrpSpPr>
            <p:cNvPr id="233" name=""/>
            <p:cNvGrpSpPr/>
            <p:nvPr/>
          </p:nvGrpSpPr>
          <p:grpSpPr>
            <a:xfrm>
              <a:off x="3596040" y="2250000"/>
              <a:ext cx="885960" cy="628920"/>
              <a:chOff x="3596040" y="2250000"/>
              <a:chExt cx="885960" cy="628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596040" y="2250000"/>
                <a:ext cx="885960" cy="628920"/>
                <a:chOff x="3596040" y="2250000"/>
                <a:chExt cx="885960" cy="628920"/>
              </a:xfrm>
            </p:grpSpPr>
            <p:sp>
              <p:nvSpPr>
                <p:cNvPr id="235" name=""/>
                <p:cNvSpPr/>
                <p:nvPr/>
              </p:nvSpPr>
              <p:spPr>
                <a:xfrm rot="202800">
                  <a:off x="4062600" y="244476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2800">
                  <a:off x="3603960" y="253980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2800">
                  <a:off x="3615840" y="227448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4060080" y="2692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059360" y="24505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186360" y="2505600"/>
              <a:ext cx="886320" cy="631080"/>
              <a:chOff x="3186360" y="2505600"/>
              <a:chExt cx="886320" cy="631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3186360" y="2505600"/>
                <a:ext cx="886320" cy="631080"/>
                <a:chOff x="3186360" y="2505600"/>
                <a:chExt cx="886320" cy="631080"/>
              </a:xfrm>
            </p:grpSpPr>
            <p:sp>
              <p:nvSpPr>
                <p:cNvPr id="242" name=""/>
                <p:cNvSpPr/>
                <p:nvPr/>
              </p:nvSpPr>
              <p:spPr>
                <a:xfrm rot="202800">
                  <a:off x="3653280" y="270108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2800">
                  <a:off x="3194640" y="279612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02800">
                  <a:off x="3206880" y="253008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650760" y="2949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650040" y="270648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769120" y="2762640"/>
              <a:ext cx="885960" cy="628920"/>
              <a:chOff x="2769120" y="2762640"/>
              <a:chExt cx="885960" cy="62892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2769120" y="2762640"/>
                <a:ext cx="885960" cy="628920"/>
                <a:chOff x="2769120" y="2762640"/>
                <a:chExt cx="885960" cy="628920"/>
              </a:xfrm>
            </p:grpSpPr>
            <p:sp>
              <p:nvSpPr>
                <p:cNvPr id="249" name=""/>
                <p:cNvSpPr/>
                <p:nvPr/>
              </p:nvSpPr>
              <p:spPr>
                <a:xfrm rot="202800">
                  <a:off x="3235680" y="295740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2800">
                  <a:off x="2777040" y="305244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2800">
                  <a:off x="2788920" y="278712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233160" y="3204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3232440" y="29631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040640" y="2424600"/>
              <a:ext cx="885960" cy="628920"/>
              <a:chOff x="4040640" y="2424600"/>
              <a:chExt cx="885960" cy="6289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040640" y="2424600"/>
                <a:ext cx="885960" cy="628920"/>
                <a:chOff x="4040640" y="2424600"/>
                <a:chExt cx="885960" cy="628920"/>
              </a:xfrm>
            </p:grpSpPr>
            <p:sp>
              <p:nvSpPr>
                <p:cNvPr id="256" name=""/>
                <p:cNvSpPr/>
                <p:nvPr/>
              </p:nvSpPr>
              <p:spPr>
                <a:xfrm rot="202800">
                  <a:off x="4507200" y="261936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2800">
                  <a:off x="4048560" y="271440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2800">
                  <a:off x="4060440" y="244908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4504680" y="2866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4503960" y="26251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630600" y="2680200"/>
              <a:ext cx="888480" cy="631080"/>
              <a:chOff x="3630600" y="2680200"/>
              <a:chExt cx="888480" cy="6310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30600" y="2680200"/>
                <a:ext cx="888480" cy="631080"/>
                <a:chOff x="3630600" y="2680200"/>
                <a:chExt cx="888480" cy="631080"/>
              </a:xfrm>
            </p:grpSpPr>
            <p:sp>
              <p:nvSpPr>
                <p:cNvPr id="263" name=""/>
                <p:cNvSpPr/>
                <p:nvPr/>
              </p:nvSpPr>
              <p:spPr>
                <a:xfrm rot="202800">
                  <a:off x="4098600" y="2875680"/>
                  <a:ext cx="40824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800">
                  <a:off x="3638880" y="2970720"/>
                  <a:ext cx="45720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800">
                  <a:off x="3651120" y="2704680"/>
                  <a:ext cx="8488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4096080" y="3123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095360" y="288108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213720" y="2936880"/>
              <a:ext cx="888840" cy="630000"/>
              <a:chOff x="3213720" y="2936880"/>
              <a:chExt cx="888840" cy="6300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213720" y="2936880"/>
                <a:ext cx="888840" cy="630000"/>
                <a:chOff x="3213720" y="2936880"/>
                <a:chExt cx="888840" cy="630000"/>
              </a:xfrm>
            </p:grpSpPr>
            <p:sp>
              <p:nvSpPr>
                <p:cNvPr id="270" name=""/>
                <p:cNvSpPr/>
                <p:nvPr/>
              </p:nvSpPr>
              <p:spPr>
                <a:xfrm rot="202800">
                  <a:off x="3681720" y="3132360"/>
                  <a:ext cx="40860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2800">
                  <a:off x="3221640" y="3227040"/>
                  <a:ext cx="45756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2800">
                  <a:off x="3233880" y="2961360"/>
                  <a:ext cx="84996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679200" y="337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678480" y="3137760"/>
                <a:ext cx="4082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455000" y="2597400"/>
              <a:ext cx="885960" cy="629640"/>
              <a:chOff x="4455000" y="2597400"/>
              <a:chExt cx="885960" cy="62964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455000" y="2597400"/>
                <a:ext cx="885960" cy="629640"/>
                <a:chOff x="4455000" y="2597400"/>
                <a:chExt cx="885960" cy="629640"/>
              </a:xfrm>
            </p:grpSpPr>
            <p:sp>
              <p:nvSpPr>
                <p:cNvPr id="277" name=""/>
                <p:cNvSpPr/>
                <p:nvPr/>
              </p:nvSpPr>
              <p:spPr>
                <a:xfrm rot="202800">
                  <a:off x="4921560" y="279252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02800">
                  <a:off x="4462920" y="288720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02800">
                  <a:off x="4475160" y="262188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919040" y="3039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918320" y="27979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044960" y="2853000"/>
              <a:ext cx="886320" cy="631080"/>
              <a:chOff x="4044960" y="2853000"/>
              <a:chExt cx="886320" cy="6310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4044960" y="2853000"/>
                <a:ext cx="886320" cy="631080"/>
                <a:chOff x="4044960" y="2853000"/>
                <a:chExt cx="886320" cy="631080"/>
              </a:xfrm>
            </p:grpSpPr>
            <p:sp>
              <p:nvSpPr>
                <p:cNvPr id="284" name=""/>
                <p:cNvSpPr/>
                <p:nvPr/>
              </p:nvSpPr>
              <p:spPr>
                <a:xfrm rot="202800">
                  <a:off x="4511880" y="304848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202800">
                  <a:off x="4053240" y="314352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2800">
                  <a:off x="4065480" y="287748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4509360" y="3296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508640" y="305388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28080" y="3110400"/>
              <a:ext cx="885600" cy="628920"/>
              <a:chOff x="3628080" y="3110400"/>
              <a:chExt cx="885600" cy="6289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628080" y="3110400"/>
                <a:ext cx="885600" cy="628920"/>
                <a:chOff x="3628080" y="3110400"/>
                <a:chExt cx="885600" cy="628920"/>
              </a:xfrm>
            </p:grpSpPr>
            <p:sp>
              <p:nvSpPr>
                <p:cNvPr id="291" name=""/>
                <p:cNvSpPr/>
                <p:nvPr/>
              </p:nvSpPr>
              <p:spPr>
                <a:xfrm rot="202800">
                  <a:off x="4094280" y="330516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02800">
                  <a:off x="3636000" y="3400200"/>
                  <a:ext cx="45576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02800">
                  <a:off x="3647880" y="3134880"/>
                  <a:ext cx="8467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4091760" y="3552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090680" y="3310920"/>
                <a:ext cx="4064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899600" y="2772000"/>
              <a:ext cx="887400" cy="629640"/>
              <a:chOff x="4899600" y="2772000"/>
              <a:chExt cx="887400" cy="6296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899600" y="2772000"/>
                <a:ext cx="887400" cy="629640"/>
                <a:chOff x="4899600" y="2772000"/>
                <a:chExt cx="887400" cy="629640"/>
              </a:xfrm>
            </p:grpSpPr>
            <p:sp>
              <p:nvSpPr>
                <p:cNvPr id="298" name=""/>
                <p:cNvSpPr/>
                <p:nvPr/>
              </p:nvSpPr>
              <p:spPr>
                <a:xfrm rot="202800">
                  <a:off x="5366880" y="296712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02800">
                  <a:off x="4907520" y="306180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02800">
                  <a:off x="4919760" y="279648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364360" y="321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363640" y="297252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489920" y="3029400"/>
              <a:ext cx="887400" cy="628920"/>
              <a:chOff x="4489920" y="3029400"/>
              <a:chExt cx="887400" cy="628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4489920" y="3029400"/>
                <a:ext cx="887400" cy="628920"/>
                <a:chOff x="4489920" y="3029400"/>
                <a:chExt cx="887400" cy="628920"/>
              </a:xfrm>
            </p:grpSpPr>
            <p:sp>
              <p:nvSpPr>
                <p:cNvPr id="305" name=""/>
                <p:cNvSpPr/>
                <p:nvPr/>
              </p:nvSpPr>
              <p:spPr>
                <a:xfrm rot="202800">
                  <a:off x="4957200" y="322416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02800">
                  <a:off x="4497840" y="331920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02800">
                  <a:off x="4509720" y="305388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4954680" y="347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953960" y="322992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072320" y="3285000"/>
              <a:ext cx="888120" cy="628920"/>
              <a:chOff x="4072320" y="3285000"/>
              <a:chExt cx="888120" cy="6289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4072320" y="3285000"/>
                <a:ext cx="888120" cy="628920"/>
                <a:chOff x="4072320" y="3285000"/>
                <a:chExt cx="888120" cy="628920"/>
              </a:xfrm>
            </p:grpSpPr>
            <p:sp>
              <p:nvSpPr>
                <p:cNvPr id="312" name=""/>
                <p:cNvSpPr/>
                <p:nvPr/>
              </p:nvSpPr>
              <p:spPr>
                <a:xfrm rot="202800">
                  <a:off x="4539960" y="3479760"/>
                  <a:ext cx="40824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02800">
                  <a:off x="4080240" y="3574800"/>
                  <a:ext cx="45720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202800">
                  <a:off x="4092120" y="3309480"/>
                  <a:ext cx="8488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4537440" y="3727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4536720" y="348552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570320" y="2993040"/>
            <a:ext cx="3017880" cy="1666080"/>
            <a:chOff x="1570320" y="2993040"/>
            <a:chExt cx="3017880" cy="1666080"/>
          </a:xfrm>
        </p:grpSpPr>
        <p:grpSp>
          <p:nvGrpSpPr>
            <p:cNvPr id="318" name=""/>
            <p:cNvGrpSpPr/>
            <p:nvPr/>
          </p:nvGrpSpPr>
          <p:grpSpPr>
            <a:xfrm>
              <a:off x="2396880" y="2993040"/>
              <a:ext cx="886320" cy="631080"/>
              <a:chOff x="2396880" y="2993040"/>
              <a:chExt cx="886320" cy="631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2396880" y="2993040"/>
                <a:ext cx="886320" cy="631080"/>
                <a:chOff x="2396880" y="2993040"/>
                <a:chExt cx="886320" cy="631080"/>
              </a:xfrm>
            </p:grpSpPr>
            <p:sp>
              <p:nvSpPr>
                <p:cNvPr id="320" name=""/>
                <p:cNvSpPr/>
                <p:nvPr/>
              </p:nvSpPr>
              <p:spPr>
                <a:xfrm rot="202800">
                  <a:off x="2863800" y="31885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202800">
                  <a:off x="2405160" y="32835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02800">
                  <a:off x="2417400" y="30175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2861280" y="34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860560" y="31939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843280" y="3169080"/>
              <a:ext cx="885960" cy="629640"/>
              <a:chOff x="2843280" y="3169080"/>
              <a:chExt cx="885960" cy="629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843280" y="3169080"/>
                <a:ext cx="885960" cy="629640"/>
                <a:chOff x="2843280" y="3169080"/>
                <a:chExt cx="885960" cy="629640"/>
              </a:xfrm>
            </p:grpSpPr>
            <p:sp>
              <p:nvSpPr>
                <p:cNvPr id="327" name=""/>
                <p:cNvSpPr/>
                <p:nvPr/>
              </p:nvSpPr>
              <p:spPr>
                <a:xfrm rot="202800">
                  <a:off x="3309840" y="336420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202800">
                  <a:off x="2851200" y="345888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202800">
                  <a:off x="2863440" y="319356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3307320" y="3611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306600" y="33696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255840" y="3340800"/>
              <a:ext cx="887760" cy="631080"/>
              <a:chOff x="3255840" y="3340800"/>
              <a:chExt cx="887760" cy="6310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255840" y="3340800"/>
                <a:ext cx="887760" cy="631080"/>
                <a:chOff x="3255840" y="3340800"/>
                <a:chExt cx="887760" cy="631080"/>
              </a:xfrm>
            </p:grpSpPr>
            <p:sp>
              <p:nvSpPr>
                <p:cNvPr id="334" name=""/>
                <p:cNvSpPr/>
                <p:nvPr/>
              </p:nvSpPr>
              <p:spPr>
                <a:xfrm rot="202800">
                  <a:off x="3723480" y="353628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202800">
                  <a:off x="3264120" y="363132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02800">
                  <a:off x="3276360" y="336528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720960" y="378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720240" y="354168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701880" y="3516840"/>
              <a:ext cx="886320" cy="631080"/>
              <a:chOff x="3701880" y="3516840"/>
              <a:chExt cx="886320" cy="6310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701880" y="3516840"/>
                <a:ext cx="886320" cy="631080"/>
                <a:chOff x="3701880" y="3516840"/>
                <a:chExt cx="886320" cy="631080"/>
              </a:xfrm>
            </p:grpSpPr>
            <p:sp>
              <p:nvSpPr>
                <p:cNvPr id="341" name=""/>
                <p:cNvSpPr/>
                <p:nvPr/>
              </p:nvSpPr>
              <p:spPr>
                <a:xfrm rot="202800">
                  <a:off x="4168800" y="37123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202800">
                  <a:off x="3710160" y="38073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202800">
                  <a:off x="3722400" y="35413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4166280" y="3960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165560" y="37177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987560" y="3250080"/>
              <a:ext cx="887760" cy="631080"/>
              <a:chOff x="1987560" y="3250080"/>
              <a:chExt cx="887760" cy="63108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1987560" y="3250080"/>
                <a:ext cx="887760" cy="631080"/>
                <a:chOff x="1987560" y="3250080"/>
                <a:chExt cx="887760" cy="631080"/>
              </a:xfrm>
            </p:grpSpPr>
            <p:sp>
              <p:nvSpPr>
                <p:cNvPr id="348" name=""/>
                <p:cNvSpPr/>
                <p:nvPr/>
              </p:nvSpPr>
              <p:spPr>
                <a:xfrm rot="202800">
                  <a:off x="2455200" y="344556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02800">
                  <a:off x="1995840" y="354060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202800">
                  <a:off x="2008080" y="327456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452680" y="369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451960" y="345096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70320" y="3507480"/>
              <a:ext cx="887400" cy="628920"/>
              <a:chOff x="1570320" y="3507480"/>
              <a:chExt cx="887400" cy="62892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570320" y="3507480"/>
                <a:ext cx="887400" cy="628920"/>
                <a:chOff x="1570320" y="3507480"/>
                <a:chExt cx="887400" cy="628920"/>
              </a:xfrm>
            </p:grpSpPr>
            <p:sp>
              <p:nvSpPr>
                <p:cNvPr id="355" name=""/>
                <p:cNvSpPr/>
                <p:nvPr/>
              </p:nvSpPr>
              <p:spPr>
                <a:xfrm rot="202800">
                  <a:off x="2037600" y="370224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202800">
                  <a:off x="1578240" y="379728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202800">
                  <a:off x="1590120" y="353196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2035080" y="3949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034360" y="37080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433600" y="3424680"/>
              <a:ext cx="886320" cy="631080"/>
              <a:chOff x="2433600" y="3424680"/>
              <a:chExt cx="886320" cy="6310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2433600" y="3424680"/>
                <a:ext cx="886320" cy="631080"/>
                <a:chOff x="2433600" y="3424680"/>
                <a:chExt cx="886320" cy="631080"/>
              </a:xfrm>
            </p:grpSpPr>
            <p:sp>
              <p:nvSpPr>
                <p:cNvPr id="362" name=""/>
                <p:cNvSpPr/>
                <p:nvPr/>
              </p:nvSpPr>
              <p:spPr>
                <a:xfrm rot="202800">
                  <a:off x="2900520" y="362016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202800">
                  <a:off x="2441880" y="371520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202800">
                  <a:off x="2454120" y="344916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2898000" y="3868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2897280" y="362556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016000" y="3680280"/>
              <a:ext cx="886320" cy="631080"/>
              <a:chOff x="2016000" y="3680280"/>
              <a:chExt cx="886320" cy="6310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016000" y="3680280"/>
                <a:ext cx="886320" cy="631080"/>
                <a:chOff x="2016000" y="3680280"/>
                <a:chExt cx="886320" cy="631080"/>
              </a:xfrm>
            </p:grpSpPr>
            <p:sp>
              <p:nvSpPr>
                <p:cNvPr id="369" name=""/>
                <p:cNvSpPr/>
                <p:nvPr/>
              </p:nvSpPr>
              <p:spPr>
                <a:xfrm rot="202800">
                  <a:off x="2482920" y="387576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202800">
                  <a:off x="2024280" y="397080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202800">
                  <a:off x="2036520" y="370476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2480400" y="4123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2479680" y="388116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846520" y="3599280"/>
              <a:ext cx="887400" cy="629640"/>
              <a:chOff x="2846520" y="3599280"/>
              <a:chExt cx="887400" cy="6296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2846520" y="3599280"/>
                <a:ext cx="887400" cy="629640"/>
                <a:chOff x="2846520" y="3599280"/>
                <a:chExt cx="887400" cy="629640"/>
              </a:xfrm>
            </p:grpSpPr>
            <p:sp>
              <p:nvSpPr>
                <p:cNvPr id="376" name=""/>
                <p:cNvSpPr/>
                <p:nvPr/>
              </p:nvSpPr>
              <p:spPr>
                <a:xfrm rot="202800">
                  <a:off x="3313800" y="379440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202800">
                  <a:off x="2854440" y="388908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202800">
                  <a:off x="2866680" y="362376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311280" y="4041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3310560" y="37998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2430720" y="3854880"/>
              <a:ext cx="885960" cy="629640"/>
              <a:chOff x="2430720" y="3854880"/>
              <a:chExt cx="885960" cy="62964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430720" y="3854880"/>
                <a:ext cx="885960" cy="629640"/>
                <a:chOff x="2430720" y="3854880"/>
                <a:chExt cx="885960" cy="629640"/>
              </a:xfrm>
            </p:grpSpPr>
            <p:sp>
              <p:nvSpPr>
                <p:cNvPr id="383" name=""/>
                <p:cNvSpPr/>
                <p:nvPr/>
              </p:nvSpPr>
              <p:spPr>
                <a:xfrm rot="202800">
                  <a:off x="2897280" y="405000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202800">
                  <a:off x="2438640" y="414468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202800">
                  <a:off x="2450880" y="387936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2894760" y="4297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894040" y="40554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292560" y="3773880"/>
              <a:ext cx="888120" cy="629640"/>
              <a:chOff x="3292560" y="3773880"/>
              <a:chExt cx="888120" cy="6296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3292560" y="3773880"/>
                <a:ext cx="888120" cy="629640"/>
                <a:chOff x="3292560" y="3773880"/>
                <a:chExt cx="888120" cy="629640"/>
              </a:xfrm>
            </p:grpSpPr>
            <p:sp>
              <p:nvSpPr>
                <p:cNvPr id="390" name=""/>
                <p:cNvSpPr/>
                <p:nvPr/>
              </p:nvSpPr>
              <p:spPr>
                <a:xfrm rot="202800">
                  <a:off x="3760200" y="3969000"/>
                  <a:ext cx="40824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202800">
                  <a:off x="3300480" y="4063680"/>
                  <a:ext cx="45720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02800">
                  <a:off x="3312720" y="3798360"/>
                  <a:ext cx="8488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3757680" y="4216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756960" y="39744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875320" y="4029480"/>
              <a:ext cx="885600" cy="629640"/>
              <a:chOff x="2875320" y="4029480"/>
              <a:chExt cx="885600" cy="6296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2875320" y="4029480"/>
                <a:ext cx="885600" cy="629640"/>
                <a:chOff x="2875320" y="4029480"/>
                <a:chExt cx="885600" cy="629640"/>
              </a:xfrm>
            </p:grpSpPr>
            <p:sp>
              <p:nvSpPr>
                <p:cNvPr id="397" name=""/>
                <p:cNvSpPr/>
                <p:nvPr/>
              </p:nvSpPr>
              <p:spPr>
                <a:xfrm rot="202800">
                  <a:off x="3341520" y="422460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202800">
                  <a:off x="2883240" y="4319280"/>
                  <a:ext cx="45576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02800">
                  <a:off x="2895480" y="4053960"/>
                  <a:ext cx="8467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3339000" y="4471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37920" y="4230000"/>
                <a:ext cx="4064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728120" y="3436920"/>
            <a:ext cx="954000" cy="1395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7721640" y="1797120"/>
            <a:ext cx="887400" cy="1454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7448400" y="185760"/>
            <a:ext cx="992160" cy="163044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3517920" y="1405440"/>
            <a:ext cx="2157840" cy="1318680"/>
            <a:chOff x="3517920" y="1405440"/>
            <a:chExt cx="2157840" cy="1318680"/>
          </a:xfrm>
        </p:grpSpPr>
        <p:grpSp>
          <p:nvGrpSpPr>
            <p:cNvPr id="406" name=""/>
            <p:cNvGrpSpPr/>
            <p:nvPr/>
          </p:nvGrpSpPr>
          <p:grpSpPr>
            <a:xfrm>
              <a:off x="4345560" y="1405440"/>
              <a:ext cx="885600" cy="629640"/>
              <a:chOff x="4345560" y="1405440"/>
              <a:chExt cx="885600" cy="6296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4345560" y="1405440"/>
                <a:ext cx="885600" cy="629640"/>
                <a:chOff x="4345560" y="1405440"/>
                <a:chExt cx="885600" cy="629640"/>
              </a:xfrm>
            </p:grpSpPr>
            <p:sp>
              <p:nvSpPr>
                <p:cNvPr id="408" name=""/>
                <p:cNvSpPr/>
                <p:nvPr/>
              </p:nvSpPr>
              <p:spPr>
                <a:xfrm rot="202800">
                  <a:off x="4811760" y="16005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202800">
                  <a:off x="4353480" y="1695240"/>
                  <a:ext cx="45576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02800">
                  <a:off x="4365720" y="1429920"/>
                  <a:ext cx="8467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4809240" y="1847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808160" y="1605960"/>
                <a:ext cx="4064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918240" y="1667520"/>
              <a:ext cx="888120" cy="628920"/>
              <a:chOff x="3918240" y="1667520"/>
              <a:chExt cx="888120" cy="628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3918240" y="1667520"/>
                <a:ext cx="888120" cy="628920"/>
                <a:chOff x="3918240" y="1667520"/>
                <a:chExt cx="888120" cy="628920"/>
              </a:xfrm>
            </p:grpSpPr>
            <p:sp>
              <p:nvSpPr>
                <p:cNvPr id="415" name=""/>
                <p:cNvSpPr/>
                <p:nvPr/>
              </p:nvSpPr>
              <p:spPr>
                <a:xfrm rot="202800">
                  <a:off x="4385880" y="1862280"/>
                  <a:ext cx="40824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202800">
                  <a:off x="3926160" y="1957320"/>
                  <a:ext cx="45720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202800">
                  <a:off x="3938040" y="1692000"/>
                  <a:ext cx="8488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4383360" y="2109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4382640" y="186804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789800" y="1580040"/>
              <a:ext cx="885960" cy="629640"/>
              <a:chOff x="4789800" y="1580040"/>
              <a:chExt cx="885960" cy="6296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4789800" y="1580040"/>
                <a:ext cx="885960" cy="629640"/>
                <a:chOff x="4789800" y="1580040"/>
                <a:chExt cx="885960" cy="629640"/>
              </a:xfrm>
            </p:grpSpPr>
            <p:sp>
              <p:nvSpPr>
                <p:cNvPr id="422" name=""/>
                <p:cNvSpPr/>
                <p:nvPr/>
              </p:nvSpPr>
              <p:spPr>
                <a:xfrm rot="202800">
                  <a:off x="5256360" y="17751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202800">
                  <a:off x="4797720" y="18698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202800">
                  <a:off x="4809960" y="16045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5253840" y="2022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253120" y="17805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64280" y="1842120"/>
              <a:ext cx="885960" cy="628920"/>
              <a:chOff x="4364280" y="1842120"/>
              <a:chExt cx="885960" cy="6289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4364280" y="1842120"/>
                <a:ext cx="885960" cy="628920"/>
                <a:chOff x="4364280" y="1842120"/>
                <a:chExt cx="885960" cy="628920"/>
              </a:xfrm>
            </p:grpSpPr>
            <p:sp>
              <p:nvSpPr>
                <p:cNvPr id="429" name=""/>
                <p:cNvSpPr/>
                <p:nvPr/>
              </p:nvSpPr>
              <p:spPr>
                <a:xfrm rot="202800">
                  <a:off x="4830840" y="20368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202800">
                  <a:off x="4372200" y="21319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202800">
                  <a:off x="4384080" y="18666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4828320" y="2284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4827600" y="20426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517920" y="1916640"/>
              <a:ext cx="886320" cy="631080"/>
              <a:chOff x="3517920" y="1916640"/>
              <a:chExt cx="886320" cy="63108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3517920" y="1916640"/>
                <a:ext cx="886320" cy="631080"/>
                <a:chOff x="3517920" y="1916640"/>
                <a:chExt cx="886320" cy="631080"/>
              </a:xfrm>
            </p:grpSpPr>
            <p:sp>
              <p:nvSpPr>
                <p:cNvPr id="436" name=""/>
                <p:cNvSpPr/>
                <p:nvPr/>
              </p:nvSpPr>
              <p:spPr>
                <a:xfrm rot="202800">
                  <a:off x="3984840" y="21121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202800">
                  <a:off x="3526200" y="22071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202800">
                  <a:off x="3538440" y="19411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3982320" y="2360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3981600" y="21175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963960" y="2093040"/>
              <a:ext cx="887760" cy="631080"/>
              <a:chOff x="3963960" y="2093040"/>
              <a:chExt cx="887760" cy="63108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3963960" y="2093040"/>
                <a:ext cx="887760" cy="631080"/>
                <a:chOff x="3963960" y="2093040"/>
                <a:chExt cx="887760" cy="631080"/>
              </a:xfrm>
            </p:grpSpPr>
            <p:sp>
              <p:nvSpPr>
                <p:cNvPr id="443" name=""/>
                <p:cNvSpPr/>
                <p:nvPr/>
              </p:nvSpPr>
              <p:spPr>
                <a:xfrm rot="202800">
                  <a:off x="4431600" y="228852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02800">
                  <a:off x="3972240" y="238356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202800">
                  <a:off x="3984480" y="211752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4429080" y="25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428360" y="229392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4377240" y="1753200"/>
            <a:ext cx="2158920" cy="1318320"/>
            <a:chOff x="4377240" y="1753200"/>
            <a:chExt cx="2158920" cy="1318320"/>
          </a:xfrm>
        </p:grpSpPr>
        <p:grpSp>
          <p:nvGrpSpPr>
            <p:cNvPr id="449" name=""/>
            <p:cNvGrpSpPr/>
            <p:nvPr/>
          </p:nvGrpSpPr>
          <p:grpSpPr>
            <a:xfrm>
              <a:off x="5203800" y="1753200"/>
              <a:ext cx="886320" cy="631080"/>
              <a:chOff x="5203800" y="1753200"/>
              <a:chExt cx="886320" cy="6310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5203800" y="1753200"/>
                <a:ext cx="886320" cy="631080"/>
                <a:chOff x="5203800" y="1753200"/>
                <a:chExt cx="886320" cy="631080"/>
              </a:xfrm>
            </p:grpSpPr>
            <p:sp>
              <p:nvSpPr>
                <p:cNvPr id="451" name=""/>
                <p:cNvSpPr/>
                <p:nvPr/>
              </p:nvSpPr>
              <p:spPr>
                <a:xfrm rot="202800">
                  <a:off x="5670720" y="194868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202800">
                  <a:off x="5212080" y="204372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02800">
                  <a:off x="5224320" y="177768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5668200" y="2196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5667480" y="195408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778640" y="2014920"/>
              <a:ext cx="885960" cy="629640"/>
              <a:chOff x="4778640" y="2014920"/>
              <a:chExt cx="885960" cy="62964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4778640" y="2014920"/>
                <a:ext cx="885960" cy="629640"/>
                <a:chOff x="4778640" y="2014920"/>
                <a:chExt cx="885960" cy="629640"/>
              </a:xfrm>
            </p:grpSpPr>
            <p:sp>
              <p:nvSpPr>
                <p:cNvPr id="458" name=""/>
                <p:cNvSpPr/>
                <p:nvPr/>
              </p:nvSpPr>
              <p:spPr>
                <a:xfrm rot="202800">
                  <a:off x="5245200" y="221004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202800">
                  <a:off x="4786560" y="230472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02800">
                  <a:off x="4798800" y="203940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5242680" y="2457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5241960" y="22154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650200" y="1927800"/>
              <a:ext cx="885960" cy="629640"/>
              <a:chOff x="5650200" y="1927800"/>
              <a:chExt cx="885960" cy="6296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5650200" y="1927800"/>
                <a:ext cx="885960" cy="629640"/>
                <a:chOff x="5650200" y="1927800"/>
                <a:chExt cx="885960" cy="629640"/>
              </a:xfrm>
            </p:grpSpPr>
            <p:sp>
              <p:nvSpPr>
                <p:cNvPr id="465" name=""/>
                <p:cNvSpPr/>
                <p:nvPr/>
              </p:nvSpPr>
              <p:spPr>
                <a:xfrm rot="202800">
                  <a:off x="6116760" y="212292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02800">
                  <a:off x="5658120" y="221760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202800">
                  <a:off x="5670360" y="195228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6114240" y="237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6113520" y="21283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224680" y="2189880"/>
              <a:ext cx="885960" cy="628920"/>
              <a:chOff x="5224680" y="2189880"/>
              <a:chExt cx="885960" cy="6289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5224680" y="2189880"/>
                <a:ext cx="885960" cy="628920"/>
                <a:chOff x="5224680" y="2189880"/>
                <a:chExt cx="885960" cy="628920"/>
              </a:xfrm>
            </p:grpSpPr>
            <p:sp>
              <p:nvSpPr>
                <p:cNvPr id="472" name=""/>
                <p:cNvSpPr/>
                <p:nvPr/>
              </p:nvSpPr>
              <p:spPr>
                <a:xfrm rot="202800">
                  <a:off x="5691240" y="23846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202800">
                  <a:off x="5232600" y="24796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202800">
                  <a:off x="5244480" y="22143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5688720" y="2631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688000" y="23904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377240" y="2265840"/>
              <a:ext cx="885960" cy="629640"/>
              <a:chOff x="4377240" y="2265840"/>
              <a:chExt cx="885960" cy="62964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4377240" y="2265840"/>
                <a:ext cx="885960" cy="629640"/>
                <a:chOff x="4377240" y="2265840"/>
                <a:chExt cx="885960" cy="629640"/>
              </a:xfrm>
            </p:grpSpPr>
            <p:sp>
              <p:nvSpPr>
                <p:cNvPr id="479" name=""/>
                <p:cNvSpPr/>
                <p:nvPr/>
              </p:nvSpPr>
              <p:spPr>
                <a:xfrm rot="202800">
                  <a:off x="4843800" y="24609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2800">
                  <a:off x="4385160" y="25556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202800">
                  <a:off x="4397400" y="22903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4841280" y="2708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840560" y="24663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822920" y="2440440"/>
              <a:ext cx="887760" cy="631080"/>
              <a:chOff x="4822920" y="2440440"/>
              <a:chExt cx="887760" cy="63108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4822920" y="2440440"/>
                <a:ext cx="887760" cy="631080"/>
                <a:chOff x="4822920" y="2440440"/>
                <a:chExt cx="887760" cy="631080"/>
              </a:xfrm>
            </p:grpSpPr>
            <p:sp>
              <p:nvSpPr>
                <p:cNvPr id="486" name=""/>
                <p:cNvSpPr/>
                <p:nvPr/>
              </p:nvSpPr>
              <p:spPr>
                <a:xfrm rot="202800">
                  <a:off x="5290560" y="263592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202800">
                  <a:off x="4831200" y="273096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202800">
                  <a:off x="4843440" y="246492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5288040" y="2883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287320" y="264132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275200" y="2175480"/>
            <a:ext cx="2157480" cy="1316880"/>
            <a:chOff x="2275200" y="2175480"/>
            <a:chExt cx="2157480" cy="1316880"/>
          </a:xfrm>
        </p:grpSpPr>
        <p:grpSp>
          <p:nvGrpSpPr>
            <p:cNvPr id="492" name=""/>
            <p:cNvGrpSpPr/>
            <p:nvPr/>
          </p:nvGrpSpPr>
          <p:grpSpPr>
            <a:xfrm>
              <a:off x="3102480" y="2175480"/>
              <a:ext cx="885960" cy="628920"/>
              <a:chOff x="3102480" y="2175480"/>
              <a:chExt cx="885960" cy="62892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3102480" y="2175480"/>
                <a:ext cx="885960" cy="628920"/>
                <a:chOff x="3102480" y="2175480"/>
                <a:chExt cx="885960" cy="628920"/>
              </a:xfrm>
            </p:grpSpPr>
            <p:sp>
              <p:nvSpPr>
                <p:cNvPr id="494" name=""/>
                <p:cNvSpPr/>
                <p:nvPr/>
              </p:nvSpPr>
              <p:spPr>
                <a:xfrm rot="202800">
                  <a:off x="3569040" y="23702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202800">
                  <a:off x="3110400" y="24652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202800">
                  <a:off x="3122280" y="21999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3566520" y="261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565800" y="23760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692440" y="2431080"/>
              <a:ext cx="886320" cy="631080"/>
              <a:chOff x="2692440" y="2431080"/>
              <a:chExt cx="886320" cy="63108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2692440" y="2431080"/>
                <a:ext cx="886320" cy="631080"/>
                <a:chOff x="2692440" y="2431080"/>
                <a:chExt cx="886320" cy="631080"/>
              </a:xfrm>
            </p:grpSpPr>
            <p:sp>
              <p:nvSpPr>
                <p:cNvPr id="501" name=""/>
                <p:cNvSpPr/>
                <p:nvPr/>
              </p:nvSpPr>
              <p:spPr>
                <a:xfrm rot="202800">
                  <a:off x="3159360" y="262656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202800">
                  <a:off x="2700720" y="272160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02800">
                  <a:off x="2712960" y="245556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3156840" y="2874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156120" y="263196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75200" y="2688120"/>
              <a:ext cx="885960" cy="629640"/>
              <a:chOff x="2275200" y="2688120"/>
              <a:chExt cx="885960" cy="62964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2275200" y="2688120"/>
                <a:ext cx="885960" cy="629640"/>
                <a:chOff x="2275200" y="2688120"/>
                <a:chExt cx="885960" cy="629640"/>
              </a:xfrm>
            </p:grpSpPr>
            <p:sp>
              <p:nvSpPr>
                <p:cNvPr id="508" name=""/>
                <p:cNvSpPr/>
                <p:nvPr/>
              </p:nvSpPr>
              <p:spPr>
                <a:xfrm rot="202800">
                  <a:off x="2741760" y="288324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202800">
                  <a:off x="2283120" y="297792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202800">
                  <a:off x="2295360" y="271260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2739240" y="3130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2738520" y="28886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546720" y="2350080"/>
              <a:ext cx="885960" cy="628920"/>
              <a:chOff x="3546720" y="2350080"/>
              <a:chExt cx="885960" cy="62892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3546720" y="2350080"/>
                <a:ext cx="885960" cy="628920"/>
                <a:chOff x="3546720" y="2350080"/>
                <a:chExt cx="885960" cy="628920"/>
              </a:xfrm>
            </p:grpSpPr>
            <p:sp>
              <p:nvSpPr>
                <p:cNvPr id="515" name=""/>
                <p:cNvSpPr/>
                <p:nvPr/>
              </p:nvSpPr>
              <p:spPr>
                <a:xfrm rot="202800">
                  <a:off x="4013280" y="25448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202800">
                  <a:off x="3554640" y="26398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202800">
                  <a:off x="3566520" y="23745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4010760" y="2792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010040" y="25506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137040" y="2605680"/>
              <a:ext cx="887760" cy="631080"/>
              <a:chOff x="3137040" y="2605680"/>
              <a:chExt cx="887760" cy="63108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137040" y="2605680"/>
                <a:ext cx="887760" cy="631080"/>
                <a:chOff x="3137040" y="2605680"/>
                <a:chExt cx="887760" cy="631080"/>
              </a:xfrm>
            </p:grpSpPr>
            <p:sp>
              <p:nvSpPr>
                <p:cNvPr id="522" name=""/>
                <p:cNvSpPr/>
                <p:nvPr/>
              </p:nvSpPr>
              <p:spPr>
                <a:xfrm rot="202800">
                  <a:off x="3604680" y="280116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202800">
                  <a:off x="3145320" y="289620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202800">
                  <a:off x="3157560" y="263016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602160" y="3049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601440" y="280656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719800" y="2862360"/>
              <a:ext cx="889560" cy="630000"/>
              <a:chOff x="2719800" y="2862360"/>
              <a:chExt cx="889560" cy="6300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2719800" y="2862360"/>
                <a:ext cx="889560" cy="630000"/>
                <a:chOff x="2719800" y="2862360"/>
                <a:chExt cx="889560" cy="630000"/>
              </a:xfrm>
            </p:grpSpPr>
            <p:sp>
              <p:nvSpPr>
                <p:cNvPr id="529" name=""/>
                <p:cNvSpPr/>
                <p:nvPr/>
              </p:nvSpPr>
              <p:spPr>
                <a:xfrm rot="202800">
                  <a:off x="3188160" y="3057840"/>
                  <a:ext cx="4089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202800">
                  <a:off x="2727720" y="3152520"/>
                  <a:ext cx="4579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202800">
                  <a:off x="2739960" y="2886840"/>
                  <a:ext cx="8503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3185640" y="3305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84920" y="3063240"/>
                <a:ext cx="4082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3134160" y="2523240"/>
            <a:ext cx="2158920" cy="1316880"/>
            <a:chOff x="3134160" y="2523240"/>
            <a:chExt cx="2158920" cy="1316880"/>
          </a:xfrm>
        </p:grpSpPr>
        <p:grpSp>
          <p:nvGrpSpPr>
            <p:cNvPr id="535" name=""/>
            <p:cNvGrpSpPr/>
            <p:nvPr/>
          </p:nvGrpSpPr>
          <p:grpSpPr>
            <a:xfrm>
              <a:off x="3961080" y="2523240"/>
              <a:ext cx="885960" cy="628920"/>
              <a:chOff x="3961080" y="2523240"/>
              <a:chExt cx="885960" cy="62892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3961080" y="2523240"/>
                <a:ext cx="885960" cy="628920"/>
                <a:chOff x="3961080" y="2523240"/>
                <a:chExt cx="885960" cy="628920"/>
              </a:xfrm>
            </p:grpSpPr>
            <p:sp>
              <p:nvSpPr>
                <p:cNvPr id="537" name=""/>
                <p:cNvSpPr/>
                <p:nvPr/>
              </p:nvSpPr>
              <p:spPr>
                <a:xfrm rot="202800">
                  <a:off x="4427640" y="271800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202800">
                  <a:off x="3969000" y="281304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202800">
                  <a:off x="3980880" y="254772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4425120" y="2965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4424400" y="27237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551400" y="2778840"/>
              <a:ext cx="886320" cy="631080"/>
              <a:chOff x="3551400" y="2778840"/>
              <a:chExt cx="886320" cy="63108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3551400" y="2778840"/>
                <a:ext cx="886320" cy="631080"/>
                <a:chOff x="3551400" y="2778840"/>
                <a:chExt cx="886320" cy="631080"/>
              </a:xfrm>
            </p:grpSpPr>
            <p:sp>
              <p:nvSpPr>
                <p:cNvPr id="544" name=""/>
                <p:cNvSpPr/>
                <p:nvPr/>
              </p:nvSpPr>
              <p:spPr>
                <a:xfrm rot="202800">
                  <a:off x="4018320" y="29743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02800">
                  <a:off x="3559680" y="30693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202800">
                  <a:off x="3571920" y="28033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4015800" y="3222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4015080" y="29797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134160" y="3035880"/>
              <a:ext cx="885960" cy="628920"/>
              <a:chOff x="3134160" y="3035880"/>
              <a:chExt cx="885960" cy="62892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3134160" y="3035880"/>
                <a:ext cx="885960" cy="628920"/>
                <a:chOff x="3134160" y="3035880"/>
                <a:chExt cx="885960" cy="628920"/>
              </a:xfrm>
            </p:grpSpPr>
            <p:sp>
              <p:nvSpPr>
                <p:cNvPr id="551" name=""/>
                <p:cNvSpPr/>
                <p:nvPr/>
              </p:nvSpPr>
              <p:spPr>
                <a:xfrm rot="202800">
                  <a:off x="3600720" y="32306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202800">
                  <a:off x="3142080" y="33256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202800">
                  <a:off x="3153960" y="30603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3598200" y="3477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597480" y="32364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405680" y="2697840"/>
              <a:ext cx="887400" cy="628920"/>
              <a:chOff x="4405680" y="2697840"/>
              <a:chExt cx="887400" cy="6289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4405680" y="2697840"/>
                <a:ext cx="887400" cy="628920"/>
                <a:chOff x="4405680" y="2697840"/>
                <a:chExt cx="887400" cy="628920"/>
              </a:xfrm>
            </p:grpSpPr>
            <p:sp>
              <p:nvSpPr>
                <p:cNvPr id="558" name=""/>
                <p:cNvSpPr/>
                <p:nvPr/>
              </p:nvSpPr>
              <p:spPr>
                <a:xfrm rot="202800">
                  <a:off x="4872960" y="289260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2800">
                  <a:off x="4413600" y="298764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202800">
                  <a:off x="4425480" y="272232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870440" y="3139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4869720" y="289836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996000" y="2954880"/>
              <a:ext cx="888120" cy="629640"/>
              <a:chOff x="3996000" y="2954880"/>
              <a:chExt cx="888120" cy="62964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3996000" y="2954880"/>
                <a:ext cx="888120" cy="629640"/>
                <a:chOff x="3996000" y="2954880"/>
                <a:chExt cx="888120" cy="629640"/>
              </a:xfrm>
            </p:grpSpPr>
            <p:sp>
              <p:nvSpPr>
                <p:cNvPr id="565" name=""/>
                <p:cNvSpPr/>
                <p:nvPr/>
              </p:nvSpPr>
              <p:spPr>
                <a:xfrm rot="202800">
                  <a:off x="4463640" y="3150000"/>
                  <a:ext cx="40824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202800">
                  <a:off x="4003920" y="3244680"/>
                  <a:ext cx="45720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202800">
                  <a:off x="4016160" y="2979360"/>
                  <a:ext cx="8488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4461120" y="3397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4460400" y="31554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78760" y="3210480"/>
              <a:ext cx="887400" cy="629640"/>
              <a:chOff x="3578760" y="3210480"/>
              <a:chExt cx="887400" cy="6296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3578760" y="3210480"/>
                <a:ext cx="887400" cy="629640"/>
                <a:chOff x="3578760" y="3210480"/>
                <a:chExt cx="887400" cy="629640"/>
              </a:xfrm>
            </p:grpSpPr>
            <p:sp>
              <p:nvSpPr>
                <p:cNvPr id="572" name=""/>
                <p:cNvSpPr/>
                <p:nvPr/>
              </p:nvSpPr>
              <p:spPr>
                <a:xfrm rot="202800">
                  <a:off x="4046040" y="340560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202800">
                  <a:off x="3586680" y="350028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202800">
                  <a:off x="3598920" y="323496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4043520" y="3652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042800" y="34110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"/>
          <p:cNvGrpSpPr/>
          <p:nvPr/>
        </p:nvGrpSpPr>
        <p:grpSpPr>
          <a:xfrm>
            <a:off x="1038600" y="2943720"/>
            <a:ext cx="2159280" cy="1318680"/>
            <a:chOff x="1038600" y="2943720"/>
            <a:chExt cx="2159280" cy="1318680"/>
          </a:xfrm>
        </p:grpSpPr>
        <p:grpSp>
          <p:nvGrpSpPr>
            <p:cNvPr id="578" name=""/>
            <p:cNvGrpSpPr/>
            <p:nvPr/>
          </p:nvGrpSpPr>
          <p:grpSpPr>
            <a:xfrm>
              <a:off x="1865520" y="2943720"/>
              <a:ext cx="885960" cy="631080"/>
              <a:chOff x="1865520" y="2943720"/>
              <a:chExt cx="885960" cy="63108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865520" y="2943720"/>
                <a:ext cx="885960" cy="631080"/>
                <a:chOff x="1865520" y="2943720"/>
                <a:chExt cx="885960" cy="631080"/>
              </a:xfrm>
            </p:grpSpPr>
            <p:sp>
              <p:nvSpPr>
                <p:cNvPr id="580" name=""/>
                <p:cNvSpPr/>
                <p:nvPr/>
              </p:nvSpPr>
              <p:spPr>
                <a:xfrm rot="202800">
                  <a:off x="2332080" y="31392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02800">
                  <a:off x="1873800" y="3234240"/>
                  <a:ext cx="45576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202800">
                  <a:off x="1886040" y="2968200"/>
                  <a:ext cx="8467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2329560" y="338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328480" y="3144600"/>
                <a:ext cx="40644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2311920" y="3120120"/>
              <a:ext cx="885960" cy="628920"/>
              <a:chOff x="2311920" y="3120120"/>
              <a:chExt cx="885960" cy="62892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311920" y="3120120"/>
                <a:ext cx="885960" cy="628920"/>
                <a:chOff x="2311920" y="3120120"/>
                <a:chExt cx="885960" cy="628920"/>
              </a:xfrm>
            </p:grpSpPr>
            <p:sp>
              <p:nvSpPr>
                <p:cNvPr id="587" name=""/>
                <p:cNvSpPr/>
                <p:nvPr/>
              </p:nvSpPr>
              <p:spPr>
                <a:xfrm rot="202800">
                  <a:off x="2778480" y="33148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202800">
                  <a:off x="2319840" y="34099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02800">
                  <a:off x="2331720" y="31446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775960" y="3562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75240" y="33206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455840" y="3201120"/>
              <a:ext cx="887760" cy="631080"/>
              <a:chOff x="1455840" y="3201120"/>
              <a:chExt cx="887760" cy="631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1455840" y="3201120"/>
                <a:ext cx="887760" cy="631080"/>
                <a:chOff x="1455840" y="3201120"/>
                <a:chExt cx="887760" cy="631080"/>
              </a:xfrm>
            </p:grpSpPr>
            <p:sp>
              <p:nvSpPr>
                <p:cNvPr id="594" name=""/>
                <p:cNvSpPr/>
                <p:nvPr/>
              </p:nvSpPr>
              <p:spPr>
                <a:xfrm rot="202800">
                  <a:off x="1923480" y="339660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202800">
                  <a:off x="1464120" y="349164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202800">
                  <a:off x="1476360" y="322560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1920960" y="3644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1920240" y="340200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038600" y="3458160"/>
              <a:ext cx="887400" cy="628920"/>
              <a:chOff x="1038600" y="3458160"/>
              <a:chExt cx="887400" cy="6289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1038600" y="3458160"/>
                <a:ext cx="887400" cy="628920"/>
                <a:chOff x="1038600" y="3458160"/>
                <a:chExt cx="887400" cy="628920"/>
              </a:xfrm>
            </p:grpSpPr>
            <p:sp>
              <p:nvSpPr>
                <p:cNvPr id="601" name=""/>
                <p:cNvSpPr/>
                <p:nvPr/>
              </p:nvSpPr>
              <p:spPr>
                <a:xfrm rot="202800">
                  <a:off x="1505880" y="365292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202800">
                  <a:off x="1046520" y="374796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202800">
                  <a:off x="1058400" y="348264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1503360" y="390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1502640" y="365868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901880" y="3375720"/>
              <a:ext cx="886320" cy="631080"/>
              <a:chOff x="1901880" y="3375720"/>
              <a:chExt cx="886320" cy="63108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1901880" y="3375720"/>
                <a:ext cx="886320" cy="631080"/>
                <a:chOff x="1901880" y="3375720"/>
                <a:chExt cx="886320" cy="631080"/>
              </a:xfrm>
            </p:grpSpPr>
            <p:sp>
              <p:nvSpPr>
                <p:cNvPr id="608" name=""/>
                <p:cNvSpPr/>
                <p:nvPr/>
              </p:nvSpPr>
              <p:spPr>
                <a:xfrm rot="202800">
                  <a:off x="2368800" y="35712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202800">
                  <a:off x="1910160" y="36662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202800">
                  <a:off x="1922400" y="34002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366280" y="3819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365560" y="35766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484280" y="3631320"/>
              <a:ext cx="886320" cy="631080"/>
              <a:chOff x="1484280" y="3631320"/>
              <a:chExt cx="886320" cy="6310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1484280" y="3631320"/>
                <a:ext cx="886320" cy="631080"/>
                <a:chOff x="1484280" y="3631320"/>
                <a:chExt cx="886320" cy="631080"/>
              </a:xfrm>
            </p:grpSpPr>
            <p:sp>
              <p:nvSpPr>
                <p:cNvPr id="615" name=""/>
                <p:cNvSpPr/>
                <p:nvPr/>
              </p:nvSpPr>
              <p:spPr>
                <a:xfrm rot="202800">
                  <a:off x="1951200" y="38268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202800">
                  <a:off x="1492560" y="39218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202800">
                  <a:off x="1504800" y="36558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1948680" y="4074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947960" y="38322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" name=""/>
          <p:cNvGrpSpPr/>
          <p:nvPr/>
        </p:nvGrpSpPr>
        <p:grpSpPr>
          <a:xfrm>
            <a:off x="1899000" y="3291480"/>
            <a:ext cx="2157480" cy="1317960"/>
            <a:chOff x="1899000" y="3291480"/>
            <a:chExt cx="2157480" cy="1317960"/>
          </a:xfrm>
        </p:grpSpPr>
        <p:grpSp>
          <p:nvGrpSpPr>
            <p:cNvPr id="621" name=""/>
            <p:cNvGrpSpPr/>
            <p:nvPr/>
          </p:nvGrpSpPr>
          <p:grpSpPr>
            <a:xfrm>
              <a:off x="2724120" y="3291480"/>
              <a:ext cx="887760" cy="631080"/>
              <a:chOff x="2724120" y="3291480"/>
              <a:chExt cx="887760" cy="63108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2724120" y="3291480"/>
                <a:ext cx="887760" cy="631080"/>
                <a:chOff x="2724120" y="3291480"/>
                <a:chExt cx="887760" cy="631080"/>
              </a:xfrm>
            </p:grpSpPr>
            <p:sp>
              <p:nvSpPr>
                <p:cNvPr id="623" name=""/>
                <p:cNvSpPr/>
                <p:nvPr/>
              </p:nvSpPr>
              <p:spPr>
                <a:xfrm rot="202800">
                  <a:off x="3191760" y="348696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202800">
                  <a:off x="2732400" y="358200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202800">
                  <a:off x="2744640" y="331596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3189240" y="3735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188520" y="349236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170160" y="3467520"/>
              <a:ext cx="886320" cy="631080"/>
              <a:chOff x="3170160" y="3467520"/>
              <a:chExt cx="886320" cy="63108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3170160" y="3467520"/>
                <a:ext cx="886320" cy="631080"/>
                <a:chOff x="3170160" y="3467520"/>
                <a:chExt cx="886320" cy="631080"/>
              </a:xfrm>
            </p:grpSpPr>
            <p:sp>
              <p:nvSpPr>
                <p:cNvPr id="630" name=""/>
                <p:cNvSpPr/>
                <p:nvPr/>
              </p:nvSpPr>
              <p:spPr>
                <a:xfrm rot="202800">
                  <a:off x="3637080" y="36630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202800">
                  <a:off x="3178440" y="37580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202800">
                  <a:off x="3190680" y="34920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3634560" y="3911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633840" y="36684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314800" y="3550320"/>
              <a:ext cx="888120" cy="628920"/>
              <a:chOff x="2314800" y="3550320"/>
              <a:chExt cx="888120" cy="62892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314800" y="3550320"/>
                <a:ext cx="888120" cy="628920"/>
                <a:chOff x="2314800" y="3550320"/>
                <a:chExt cx="888120" cy="628920"/>
              </a:xfrm>
            </p:grpSpPr>
            <p:sp>
              <p:nvSpPr>
                <p:cNvPr id="637" name=""/>
                <p:cNvSpPr/>
                <p:nvPr/>
              </p:nvSpPr>
              <p:spPr>
                <a:xfrm rot="202800">
                  <a:off x="2782440" y="3745080"/>
                  <a:ext cx="40824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202800">
                  <a:off x="2322720" y="3840120"/>
                  <a:ext cx="45720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202800">
                  <a:off x="2334600" y="3574800"/>
                  <a:ext cx="8488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2779920" y="3992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779200" y="375084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899000" y="3805920"/>
              <a:ext cx="885960" cy="628920"/>
              <a:chOff x="1899000" y="3805920"/>
              <a:chExt cx="885960" cy="62892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1899000" y="3805920"/>
                <a:ext cx="885960" cy="628920"/>
                <a:chOff x="1899000" y="3805920"/>
                <a:chExt cx="885960" cy="628920"/>
              </a:xfrm>
            </p:grpSpPr>
            <p:sp>
              <p:nvSpPr>
                <p:cNvPr id="644" name=""/>
                <p:cNvSpPr/>
                <p:nvPr/>
              </p:nvSpPr>
              <p:spPr>
                <a:xfrm rot="202800">
                  <a:off x="2365560" y="40006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202800">
                  <a:off x="1906920" y="40957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202800">
                  <a:off x="1918800" y="38304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363040" y="424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2362320" y="40064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761200" y="3724920"/>
              <a:ext cx="887400" cy="628920"/>
              <a:chOff x="2761200" y="3724920"/>
              <a:chExt cx="887400" cy="62892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2761200" y="3724920"/>
                <a:ext cx="887400" cy="628920"/>
                <a:chOff x="2761200" y="3724920"/>
                <a:chExt cx="887400" cy="628920"/>
              </a:xfrm>
            </p:grpSpPr>
            <p:sp>
              <p:nvSpPr>
                <p:cNvPr id="651" name=""/>
                <p:cNvSpPr/>
                <p:nvPr/>
              </p:nvSpPr>
              <p:spPr>
                <a:xfrm rot="202800">
                  <a:off x="3228480" y="391968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202800">
                  <a:off x="2769120" y="401472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202800">
                  <a:off x="2781000" y="374940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225960" y="4167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3225240" y="392544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2343600" y="3980520"/>
              <a:ext cx="885960" cy="628920"/>
              <a:chOff x="2343600" y="3980520"/>
              <a:chExt cx="885960" cy="62892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2343600" y="3980520"/>
                <a:ext cx="885960" cy="628920"/>
                <a:chOff x="2343600" y="3980520"/>
                <a:chExt cx="885960" cy="628920"/>
              </a:xfrm>
            </p:grpSpPr>
            <p:sp>
              <p:nvSpPr>
                <p:cNvPr id="658" name=""/>
                <p:cNvSpPr/>
                <p:nvPr/>
              </p:nvSpPr>
              <p:spPr>
                <a:xfrm rot="202800">
                  <a:off x="2810160" y="41752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202800">
                  <a:off x="2351520" y="42703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02800">
                  <a:off x="2363400" y="40050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807640" y="442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2806920" y="41810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2816280" y="2254320"/>
            <a:ext cx="3025800" cy="1444320"/>
            <a:chOff x="2816280" y="2254320"/>
            <a:chExt cx="3025800" cy="1444320"/>
          </a:xfrm>
        </p:grpSpPr>
        <p:sp>
          <p:nvSpPr>
            <p:cNvPr id="664" name=""/>
            <p:cNvSpPr/>
            <p:nvPr/>
          </p:nvSpPr>
          <p:spPr>
            <a:xfrm>
              <a:off x="2816280" y="2992320"/>
              <a:ext cx="1728720" cy="7063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59000" y="2254320"/>
              <a:ext cx="1783080" cy="70596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308320" y="2203560"/>
            <a:ext cx="3025800" cy="1444320"/>
            <a:chOff x="2308320" y="2203560"/>
            <a:chExt cx="3025800" cy="1444320"/>
          </a:xfrm>
        </p:grpSpPr>
        <p:sp>
          <p:nvSpPr>
            <p:cNvPr id="667" name=""/>
            <p:cNvSpPr/>
            <p:nvPr/>
          </p:nvSpPr>
          <p:spPr>
            <a:xfrm>
              <a:off x="2308320" y="2941560"/>
              <a:ext cx="1728720" cy="7063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51040" y="2203560"/>
              <a:ext cx="1783080" cy="70596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 flipH="1">
            <a:off x="1891800" y="1739880"/>
            <a:ext cx="3759480" cy="2336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0" y="0"/>
            <a:ext cx="4822920" cy="6858000"/>
            <a:chOff x="0" y="0"/>
            <a:chExt cx="4822920" cy="6858000"/>
          </a:xfrm>
        </p:grpSpPr>
        <p:pic>
          <p:nvPicPr>
            <p:cNvPr id="671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98712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"/>
            <a:stretch/>
          </p:blipFill>
          <p:spPr>
            <a:xfrm>
              <a:off x="0" y="1746360"/>
              <a:ext cx="887400" cy="14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6"/>
            <a:stretch/>
          </p:blipFill>
          <p:spPr>
            <a:xfrm>
              <a:off x="0" y="3576600"/>
              <a:ext cx="992160" cy="16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7"/>
            <a:stretch/>
          </p:blipFill>
          <p:spPr>
            <a:xfrm>
              <a:off x="0" y="5462640"/>
              <a:ext cx="95400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8"/>
            <a:stretch/>
          </p:blipFill>
          <p:spPr>
            <a:xfrm>
              <a:off x="1955880" y="5403960"/>
              <a:ext cx="887400" cy="14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9"/>
            <a:stretch/>
          </p:blipFill>
          <p:spPr>
            <a:xfrm>
              <a:off x="3835440" y="5232240"/>
              <a:ext cx="987480" cy="162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7" name=""/>
          <p:cNvGrpSpPr/>
          <p:nvPr/>
        </p:nvGrpSpPr>
        <p:grpSpPr>
          <a:xfrm>
            <a:off x="6948360" y="189000"/>
            <a:ext cx="647640" cy="1439280"/>
            <a:chOff x="6948360" y="189000"/>
            <a:chExt cx="647640" cy="1439280"/>
          </a:xfrm>
        </p:grpSpPr>
        <p:sp>
          <p:nvSpPr>
            <p:cNvPr id="678" name=""/>
            <p:cNvSpPr txBox="1"/>
            <p:nvPr/>
          </p:nvSpPr>
          <p:spPr>
            <a:xfrm>
              <a:off x="7092720" y="18900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7092720" y="105372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48360" y="90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020000" y="1773360"/>
            <a:ext cx="647640" cy="1439280"/>
            <a:chOff x="7020000" y="1773360"/>
            <a:chExt cx="647640" cy="1439280"/>
          </a:xfrm>
        </p:grpSpPr>
        <p:sp>
          <p:nvSpPr>
            <p:cNvPr id="682" name=""/>
            <p:cNvSpPr txBox="1"/>
            <p:nvPr/>
          </p:nvSpPr>
          <p:spPr>
            <a:xfrm>
              <a:off x="7164360" y="177336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7164360" y="263808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20000" y="2493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093080" y="3357720"/>
            <a:ext cx="647640" cy="1439280"/>
            <a:chOff x="7093080" y="3357720"/>
            <a:chExt cx="647640" cy="1439280"/>
          </a:xfrm>
        </p:grpSpPr>
        <p:sp>
          <p:nvSpPr>
            <p:cNvPr id="686" name=""/>
            <p:cNvSpPr txBox="1"/>
            <p:nvPr/>
          </p:nvSpPr>
          <p:spPr>
            <a:xfrm>
              <a:off x="7237440" y="335772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237440" y="422244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93080" y="407808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187280" y="189000"/>
            <a:ext cx="647640" cy="1439280"/>
            <a:chOff x="1187280" y="189000"/>
            <a:chExt cx="647640" cy="1439280"/>
          </a:xfrm>
        </p:grpSpPr>
        <p:sp>
          <p:nvSpPr>
            <p:cNvPr id="690" name=""/>
            <p:cNvSpPr txBox="1"/>
            <p:nvPr/>
          </p:nvSpPr>
          <p:spPr>
            <a:xfrm>
              <a:off x="1331640" y="18900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1331640" y="105372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87280" y="90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971640" y="1700280"/>
            <a:ext cx="647640" cy="1439280"/>
            <a:chOff x="971640" y="1700280"/>
            <a:chExt cx="647640" cy="1439280"/>
          </a:xfrm>
        </p:grpSpPr>
        <p:sp>
          <p:nvSpPr>
            <p:cNvPr id="694" name=""/>
            <p:cNvSpPr txBox="1"/>
            <p:nvPr/>
          </p:nvSpPr>
          <p:spPr>
            <a:xfrm>
              <a:off x="1116000" y="170028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1116000" y="256500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71640" y="242064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826920" y="3716280"/>
            <a:ext cx="647640" cy="1440000"/>
            <a:chOff x="826920" y="3716280"/>
            <a:chExt cx="647640" cy="1440000"/>
          </a:xfrm>
        </p:grpSpPr>
        <p:sp>
          <p:nvSpPr>
            <p:cNvPr id="698" name=""/>
            <p:cNvSpPr txBox="1"/>
            <p:nvPr/>
          </p:nvSpPr>
          <p:spPr>
            <a:xfrm>
              <a:off x="971280" y="371628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971280" y="458136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6920" y="44370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971640" y="5418000"/>
            <a:ext cx="647640" cy="1440000"/>
            <a:chOff x="971640" y="5418000"/>
            <a:chExt cx="647640" cy="1440000"/>
          </a:xfrm>
        </p:grpSpPr>
        <p:sp>
          <p:nvSpPr>
            <p:cNvPr id="702" name=""/>
            <p:cNvSpPr txBox="1"/>
            <p:nvPr/>
          </p:nvSpPr>
          <p:spPr>
            <a:xfrm>
              <a:off x="1116000" y="541800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1116000" y="628308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71640" y="6138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3059280" y="5418000"/>
            <a:ext cx="647640" cy="1440000"/>
            <a:chOff x="3059280" y="5418000"/>
            <a:chExt cx="647640" cy="1440000"/>
          </a:xfrm>
        </p:grpSpPr>
        <p:sp>
          <p:nvSpPr>
            <p:cNvPr id="706" name=""/>
            <p:cNvSpPr txBox="1"/>
            <p:nvPr/>
          </p:nvSpPr>
          <p:spPr>
            <a:xfrm>
              <a:off x="3203640" y="541800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3203640" y="628308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59280" y="6138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932360" y="5418000"/>
            <a:ext cx="647640" cy="1440000"/>
            <a:chOff x="4932360" y="5418000"/>
            <a:chExt cx="647640" cy="1440000"/>
          </a:xfrm>
        </p:grpSpPr>
        <p:sp>
          <p:nvSpPr>
            <p:cNvPr id="710" name=""/>
            <p:cNvSpPr txBox="1"/>
            <p:nvPr/>
          </p:nvSpPr>
          <p:spPr>
            <a:xfrm>
              <a:off x="5076720" y="541800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5076720" y="628308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32360" y="6138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411280" y="1773360"/>
            <a:ext cx="1152360" cy="2015280"/>
            <a:chOff x="2411280" y="1773360"/>
            <a:chExt cx="1152360" cy="2015280"/>
          </a:xfrm>
        </p:grpSpPr>
        <p:sp>
          <p:nvSpPr>
            <p:cNvPr id="714" name=""/>
            <p:cNvSpPr txBox="1"/>
            <p:nvPr/>
          </p:nvSpPr>
          <p:spPr>
            <a:xfrm>
              <a:off x="2667960" y="1773360"/>
              <a:ext cx="38412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2667960" y="2984040"/>
              <a:ext cx="641160" cy="80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1280" y="2782080"/>
              <a:ext cx="115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788000" y="1773360"/>
            <a:ext cx="1007640" cy="2015280"/>
            <a:chOff x="4788000" y="1773360"/>
            <a:chExt cx="1007640" cy="2015280"/>
          </a:xfrm>
        </p:grpSpPr>
        <p:sp>
          <p:nvSpPr>
            <p:cNvPr id="718" name=""/>
            <p:cNvSpPr txBox="1"/>
            <p:nvPr/>
          </p:nvSpPr>
          <p:spPr>
            <a:xfrm>
              <a:off x="5012640" y="1773360"/>
              <a:ext cx="3358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5012640" y="2984040"/>
              <a:ext cx="560520" cy="80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782080"/>
              <a:ext cx="100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779640" y="2254680"/>
            <a:ext cx="956880" cy="935280"/>
            <a:chOff x="3779640" y="2254680"/>
            <a:chExt cx="956880" cy="935280"/>
          </a:xfrm>
        </p:grpSpPr>
        <p:sp>
          <p:nvSpPr>
            <p:cNvPr id="722" name=""/>
            <p:cNvSpPr/>
            <p:nvPr/>
          </p:nvSpPr>
          <p:spPr>
            <a:xfrm flipV="1">
              <a:off x="3779640" y="2254680"/>
              <a:ext cx="912600" cy="4971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79640" y="2751840"/>
              <a:ext cx="956880" cy="43812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0.13055 -0.14444 E">
                                      <p:cBhvr>
                                        <p:cTn id="53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35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44167 0.13703 E">
                                      <p:cBhvr>
                                        <p:cTn id="537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-0.175 0.28518 E">
                                      <p:cBhvr>
                                        <p:cTn id="578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-0.07222 0.07408 E">
                                      <p:cBhvr>
                                        <p:cTn id="580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-0.16945 -0.05555 E">
                                      <p:cBhvr>
                                        <p:cTn id="582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10277 0.39259 E">
                                      <p:cBhvr>
                                        <p:cTn id="584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-0.00278 0.50741 E">
                                      <p:cBhvr>
                                        <p:cTn id="586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0.29444 -0.17778 E">
                                      <p:cBhvr>
                                        <p:cTn id="588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59:26Z</dcterms:created>
  <dc:creator>Ирина</dc:creator>
  <dc:description/>
  <dc:language>en-US</dc:language>
  <cp:lastModifiedBy>Ирина</cp:lastModifiedBy>
  <dcterms:modified xsi:type="dcterms:W3CDTF">2009-01-24T10:21:27Z</dcterms:modified>
  <cp:revision>6</cp:revision>
  <dc:subject/>
  <dc:title>Урок математики 3 класс</dc:title>
</cp:coreProperties>
</file>