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426-5A58-40AF-8490-EE474540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2D6-8318-4A65-8D33-30D29605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25A-006A-4A54-88C7-48011C81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A2F-0E76-44AB-8BF7-7FBBF2C4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0274-18E2-4A0E-A44D-A6E525CA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3053-15E7-48FD-A15C-8B21D283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AE27-1FB6-4B12-B844-3F15BF94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B50E-6650-4B45-9D4A-842AC921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E59-9461-401E-9A11-C9F552D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0334-1961-4EC5-A9C5-C1B231E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4A08-EA32-4C57-8E79-C29936B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D9E-7D11-4FC0-8789-E6EB772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E645-6020-4BE9-BDEF-DFABF9F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3B56-4D87-4A5D-895C-0BC2762F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19B7-FFFD-4BC8-9547-52BDE4C4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BC0-5F29-4D20-80F1-2D51D9AD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DA9-11DC-42AE-A2CB-5D6FF975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7C7-0A07-4408-9556-25783855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1B5-023A-4AD8-AB86-330F412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849-BA57-4288-BD46-A6296E77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97A-A66B-42F5-ACA6-92A543E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574-4C54-46D0-8E8F-D54A94B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530-3C51-4AE1-83D7-71C09ABC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911-CBB6-49B4-8650-7F5CB21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008-E4F1-4F88-A476-23897F87C8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D01-14DD-41E0-9F32-22599CC09A8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Ваш ребенок пойдет в школу…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0920" y="3213000"/>
            <a:ext cx="64008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оступление в школу –чрезвычайно ответственный момент как для самого ребенка, так и для родителей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Как мыслит ваш ребенок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! Различные  игры, конструирование, лепка, рисование, развивают у ребенка мыслительные операции(обобщение , сравнение, классификация,установление причинно-следственных связей, способность рассуждать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пражнения на развитие скорости мыш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ите поиграть в такую игру: Вы будете начинать слово, произнося первый слог, а он заканчива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о, на, за, ми, му, до, че, пры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Фиксируйте время, которое является показателем скорости мыслительных процессов, сообразительности и речевой актив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Найди лишнее слов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читайте ребенку серию слов из 4 слов, 3 слова могут быть объединены по общему для них признаку, а од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лово отличается от н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Храбрый, злой, смелый, отваж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Яблоко, слива, огурец, груш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ас, минута, лето, секу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819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гибкости у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звать больше слов, обозначающих какое-либо понятие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Назови слова ,обозначающие деревья, относящиеся к спорту, обозначающих зверей, домашних животных, транспорт, овощи, фрук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Определи понятие», «Как бы ты объяснил это слово?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05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Как это можно использовать?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Наоборот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Бывает- не бывает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Угадай загадк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Хорошая ли у вашего ребенка память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, развивающие памя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ложите ребенку 8-10 хорошо знакомых   с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Повтори за мной с 1 слова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Ребенок 6-7 лет правильно воспроизводит ряд из 5-6 с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гра «Фотоаппара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Повтори фразу, небольшой рассказ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Хорошо ли развита у ребенка тонкая моторика пальцев ру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Что дает развитие мелкой мотори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здействие на активные точки, связанный с корой головного мозга, центрами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свенное воздействие на общее интеллектуальное развитие ребе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готовка к овладению навыком пись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чень полезны (лепка, рисование, аппликации, работа с ножницами, вышивание, пришивание пуговиц, нанизывание бус, сбор ягод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Хорошо ли развита у вашего ребенка речь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яти года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у ребенка должно быть сформировано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авильное произношение всех звуков родного язы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Не стоит говорить о том, насколько важно для ребенка, его будущего звуковая культура речи. Даже незначительные дефекты могут повлиять очень сильно, в частности, на выбор профессии, карье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определенной части детей, поступающих в школу, имеются выраженные недостатки речи, которые затрагивают не только произносительную сторону речи, но и слуховую дифференцировку зву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результате возникают трудности в различии близких по звучанию фонем, в овладении звуковым анализом и синтезом. Все это снижает возможности полноценного овладения навыками письма и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нормальном речевом развитии ребенок 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зрасте 5-6 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полноценно общаясь с окружающими, достаточно прочно осваивает звуки родного языка, не смешивает слова, отличающиеся одним звуком (близкими по звучанию, но разными по смыслу: кот-год, лук-люк). У таких детей во многом спонтанно формируется готовность к овладению элементами грамот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школьник, самостоятельно овладевший правильным произношением, после небольшого обучения может сознательно улавливать в звучащем слове отдельные звуки, определять количество и последовательность звуков в слове, местоположение звука (в начале, конце слова), выделять гласные и согласные из слога и слова, дифференцировать согласные по принципу мягкости – твердости, глухости – звонк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ости в овладени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вуковым составом слов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 обыденном общении редко улавливаются взрослыми. Они возникают на первом году обучения ребенка в школе, когда усложняют усвоение письма и чтения. При письме дети допускают смещение букв, обозначающих свистящие и шипящие, звонкие и глухие, сонорные звуки; пропускают, перестанавливают буквы и целые слоги (коршун – «крошун», шоколад – «кошолад»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яду с отставанием в усвоении письма дети с фонетико-фонематическим недоразвитием не овладевают в полном объеме и навыками чтения. При внешне неплохом чтении допускают ошибки типа: угадывающего или побуквенного чтения, замены и перестановки бук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Таким образом, полноценно развитый фонематический слух и фонематическое восприятие являются одним из показателей успешной подготовленности ребенка к школьному обу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560" y="549000"/>
            <a:ext cx="74278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хотеть идти в школу, значит должен иметь мотивацию к обучен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взаимодействовать со сверстниками, выполнять требования учителя, контролировать свое повед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быть здоровым, выносливым, иначе ему будет трудно выдержать нагруз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Соответствующее умственное и речевое развитие, которое является основой для успешного овладения школьными знаниями, умениями и навы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жно не только умение ребенка пользоваться большим количеством слов, но и владени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выками слово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различных частей речи в уменьшительно-ласкательной форме (ведро-ведерко, синий – синенький, легко - легонько и т.п.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слов с помощью приставок и суффиксов (шел, вышел, пришел; сахар, сахарница; шахматы, шахматист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сложных слов путем слияния двух простых (кофе молоть – кофемолка, снег чистить – снегоочистительная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одних частей речи от других (дерево – деревянный, веселый – весел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рамматический стро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 процессе становления речи усваивается детьми самостоятельно, благодаря подражанию речи окружающи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воение грамматического строя языка продолжается в период с 4-х до 7 лет. При этом важную роль играют благоприятные условия воспитания, наличие активной речевой прак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ледует отметить, что понимание смысла грамматических значений родного языка есть процесс становления и развития интеллекта ребенка, хотя это идет на бессознательном уров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Ребенок, не усвоивший в практической речи грамматического строя языка до школы, впоследствии испытывает затруднения в усвоении учеб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 семи годам, как правило, формируется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интаксический строй реч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в своих высказываниях широко используют различные типы предложений: простые, сложные, сложносочиненные и сложноподчиненные с союзами «чтобы», «поэтому», «потому что», предложения с однородными член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развитии речи детей 6-7 лет особое значение приобретает формирование основных качеств связной речи: достоверности, точности, полноты, логичности. Под достоверностью понимается умение в соответствии с заданной темой отобрать для рассказа факты, правильно отражающие окружающую действительность. Последовательность изложения мыслей, умение строить несложные суждения, умозаключения, выводы являются показателями логичности связн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Если к пяти годам дети пересказывают только что прочитанные короткие рассказы, прослушав их два раза, то после пяти лет эти дети способны рассказать об увиденном, объяснить причинно-следственные отношения, составить рассказ по картине, по серии сюжетных картинок, отличить фантастическое содержание сказки от обычного рассказа. В старшем дошкольном возрасте дети довольно охотно сами придумывают рассказы, сказки, включая туда нередко эпизоды из собственной жиз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им показателем речевой готовности ребенка к школе является уровен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звития словаря дошкольни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его количественные и качественные показате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ет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-7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жны овладеть примерно тридцатью обобщающими понятиями (посуда, мебель, транспорт, насекомые, одежда, инструменты и др.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этом возрасте дети уверенно выделяют и правильно называют части предметов, явления природы, названия профессий взрослых. Они могут подобрать синонимы (слова, близкие по значению) и антонимы (слова с противоположным значением) к различным частям речи. Например: веселый – радостный,  идти – шагать, печаль – грусть, высоко – низко, широкий – узкий, жара – холод и т.п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Родители должны всячески содействовать обогащению и активизации словаря ребенка. Во время прогулок, совместных путешествий необходимо расширять кругозор ребенка, знакомить его с новыми словами, понятиями. В течение недели ребенок 6-7 лет способен усвоить около 30 новых сл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ует отметить, что бедный словарный запас является одной из причин орфографических ошибок младших школьников, т.к. дети не могут подобрать проверочное слово в ситуации написания слов с безударной гласно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Эффективным средством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огащения словар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дошкольника является чтение произведений художественной литературы. Очень важно научить ребенка спрашивать о непонятных словах. Без словарной работы, без объяснения и уточнения непонятных слов и выражений чтение книг будет бессмысленным. Новое слово сначала откладывается в пассивный словарь, а затем может использоваться в активной речи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одителям следует помнить: чем шире и богаче словарный запас ребенка, тем глубже его мыш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На занятии с ребенком.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нтерес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Повторяйте упражнения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Будьте терпеливы не спешите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Нужна мера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гровая форма занятий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Развитие навыков общения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збегайте неодобрительной оценк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нимателен ли ваш ребено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е на развитие способности к переключению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зывайте ребенку различные слова: стол, кровать, чашка, карандаш, книга. По договоренности он должен отреагировать на определенные сл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Это развивает внимательность, быстроту распределения и переключения внимания, расширяет кругозор и познавательную активность ребе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7869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е на развитие концентрации  внима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ложить ребенку по 2 пары картинок по 10-15 различий, несколько неоконченных рисунков с нелепым содержа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ебенок должен сравнить, найти различия, найти что не дорисовано на рисунке. Оценить результатив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317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устойчивости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дложите ребенку небольшой текст, просматривая каждую строчку, нужно зачеркивать букву «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Фиксируйте время и количество ошибок(отмечайте ,как отличается результативность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произвольного вним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листе бумаги цветными карандашами просят ребенка  нарисовать 10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Будь внимателен ,заштрихуй красным карандашом 3,7,9 треугольник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Развито ли у ребенка восприятие?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 на развитие способностей к фонематическому различ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Определи звук», «Поймай звук», «Пиши кружочками»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 на развитие восприятия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рисуй фигуры», «Дорисуй фигуры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цветоразли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зови цвет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9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представлений о временах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учите с ребенком  стихотворения, покажите картинки, расспросите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наблюда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Внимательно осмотри комнату и найди предметы, в которых есть круг, окружность и т. 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18:13Z</dcterms:created>
  <dc:creator>Admin</dc:creator>
  <dc:description/>
  <dc:language>en-US</dc:language>
  <cp:lastModifiedBy>Admin</cp:lastModifiedBy>
  <dcterms:modified xsi:type="dcterms:W3CDTF">2012-12-10T13:55:14Z</dcterms:modified>
  <cp:revision>8</cp:revision>
  <dc:subject/>
  <dc:title>Ваш ребенок пойдет в школу….</dc:title>
</cp:coreProperties>
</file>