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6D7-37B6-4DB4-9225-AC87D9DD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3FB-26A1-447B-A819-35D4A1CD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964-62F2-463B-B49A-FED9A809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C44-1EF3-4E1B-A8C9-E1673031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8B75-37B4-4138-B7B2-3EF4F384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E937-B470-41C9-98EE-6FB9A7E2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1F04-7D09-44DC-BA74-0B18E17B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8F06-9140-4A73-B3FA-4579110E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37CA-190B-4248-A72B-9C5F99C1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6A9A-7707-44F5-A1DD-B12B5F9A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4C25-A4C8-40EC-B20F-52136BAF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AD7-44FA-474F-91D9-745A2EBC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1CF8-A8C2-4CA7-9A3D-7E362ED9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CACD-B182-4AF7-9FD3-E8917788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B46C-F774-4B4A-966C-BE53F8C5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03C7-76E7-4EAF-A9E0-FCEBE7CD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878B-1F91-4CF8-840F-C5AD84AF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F65-AB43-472B-BC9B-9FA1C770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E40-980D-4763-AFD8-3D2672BB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BBE-0208-476E-A322-595737EE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356-F6F0-4421-B1AE-62956EB6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A87-BB13-4026-BBE1-7448F106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013-B69B-49F4-9F22-28BB497B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A80-77B5-4504-A243-429C981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18F0-909B-4534-8877-AB3212665A1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113B-59D9-4947-B2C0-045A99F469C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Ваш ребенок пойдет в школу…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050920" y="3213000"/>
            <a:ext cx="64008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оступление в школу –чрезвычайно ответственный момент как для самого ребенка, так и для родителей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Как мыслит ваш ребенок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! Различные  игры, конструирование, лепка, рисование, развивают у ребенка мыслительные операции(обобщение , сравнение, классификация,установление причинно-следственных связей, способность рассуждать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пражнения на развитие скорости мыш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ите поиграть в такую игру: Вы будете начинать слово, произнося первый слог, а он заканчива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по, на, за, ми, му, до, че, пры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!Фиксируйте время, которое является показателем скорости мыслительных процессов, сообразительности и речевой актив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Найди лишнее слово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Зачитайте ребенку серию слов из 4 слов, 3 слова могут быть объединены по общему для них признаку, а од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лово отличается от н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Храбрый, злой, смелый, отважны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Яблоко, слива, огурец, груш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Час, минута, лето, секун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5819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пражнения на развитие гибкости у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звать больше слов, обозначающих какое-либо понятие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Назови слова ,обозначающие деревья, относящиеся к спорту, обозначающих зверей, домашних животных, транспорт, овощи, фрук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Определи понятие», «Как бы ты объяснил это слово?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05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гра «Как это можно использовать?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гра «Наоборот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гра «Бывает- не бывает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Угадай загадк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Хорошая ли у вашего ребенка память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Упражнения, развивающие памя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ложите ребенку 8-10 хорошо знакомых   сл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Повтори за мной с 1 слова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Ребенок 6-7 лет правильно воспроизводит ряд из 5-6 сл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гра «Фотоаппара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Повтори фразу, небольшой рассказ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Хорошо ли развита у ребенка тонкая моторика пальцев ру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Что дает развитие мелкой мотори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оздействие на активные точки, связанный с корой головного мозга, центрами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свенное воздействие на общее интеллектуальное развитие ребе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дготовка к овладению навыком пись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чень полезны (лепка, рисование, аппликации, работа с ножницами, вышивание, пришивание пуговиц, нанизывание бус, сбор ягод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Хорошо ли развита у вашего ребенка речь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яти года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у ребенка должно быть сформировано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равильное произношение всех звуков родного язы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Не стоит говорить о том, насколько важно для ребенка, его будущего звуковая культура речи. Даже незначительные дефекты могут повлиять очень сильно, в частности, на выбор профессии, карьер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 определенной части детей, поступающих в школу, имеются выраженные недостатки речи, которые затрагивают не только произносительную сторону речи, но и слуховую дифференцировку зву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 результате возникают трудности в различии близких по звучанию фонем, в овладении звуковым анализом и синтезом. Все это снижает возможности полноценного овладения навыками письма и чт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 нормальном речевом развитии ребенок 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зрасте 5-6 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полноценно общаясь с окружающими, достаточно прочно осваивает звуки родного языка, не смешивает слова, отличающиеся одним звуком (близкими по звучанию, но разными по смыслу: кот-год, лук-люк). У таких детей во многом спонтанно формируется готовность к овладению элементами грамот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школьник, самостоятельно овладевший правильным произношением, после небольшого обучения может сознательно улавливать в звучащем слове отдельные звуки, определять количество и последовательность звуков в слове, местоположение звука (в начале, конце слова), выделять гласные и согласные из слога и слова, дифференцировать согласные по принципу мягкости – твердости, глухости – звонк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ности в овладении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вуковым составом слов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 обыденном общении редко улавливаются взрослыми. Они возникают на первом году обучения ребенка в школе, когда усложняют усвоение письма и чтения. При письме дети допускают смещение букв, обозначающих свистящие и шипящие, звонкие и глухие, сонорные звуки; пропускают, перестанавливают буквы и целые слоги (коршун – «крошун», шоколад – «кошолад»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яду с отставанием в усвоении письма дети с фонетико-фонематическим недоразвитием не овладевают в полном объеме и навыками чтения. При внешне неплохом чтении допускают ошибки типа: угадывающего или побуквенного чтения, замены и перестановки бук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Таким образом, полноценно развитый фонематический слух и фонематическое восприятие являются одним из показателей успешной подготовленности ребенка к школьному обу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58560" y="549000"/>
            <a:ext cx="74278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Ребенок должен хотеть идти в школу, значит должен иметь мотивацию к обучению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Ребенок должен взаимодействовать со сверстниками, выполнять требования учителя, контролировать свое повед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Ребенок должен быть здоровым, выносливым, иначе ему будет трудно выдержать нагрузк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Соответствующее умственное и речевое развитие, которое является основой для успешного овладения школьными знаниями, умениями и навы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ажно не только умение ребенка пользоваться большим количеством слов, но и владение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выками словообраз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образование различных частей речи в уменьшительно-ласкательной форме (ведро-ведерко, синий – синенький, легко - легонько и т.п.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образование слов с помощью приставок и суффиксов (шел, вышел, пришел; сахар, сахарница; шахматы, шахматист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образование сложных слов путем слияния двух простых (кофе молоть – кофемолка, снег чистить – снегоочистительная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образование одних частей речи от других (дерево – деревянный, веселый – весел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Грамматический стро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в процессе становления речи усваивается детьми самостоятельно, благодаря подражанию речи окружающи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своение грамматического строя языка продолжается в период с 4-х до 7 лет. При этом важную роль играют благоприятные условия воспитания, наличие активной речевой прак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ледует отметить, что понимание смысла грамматических значений родного языка есть процесс становления и развития интеллекта ребенка, хотя это идет на бессознательном уровн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Ребенок, не усвоивший в практической речи грамматического строя языка до школы, впоследствии испытывает затруднения в усвоении учебно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 семи годам, как правило, формируется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интаксический строй реч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ети в своих высказываниях широко используют различные типы предложений: простые, сложные, сложносочиненные и сложноподчиненные с союзами «чтобы», «поэтому», «потому что», предложения с однородными член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развитии речи детей 6-7 лет особое значение приобретает формирование основных качеств связной речи: достоверности, точности, полноты, логичности. Под достоверностью понимается умение в соответствии с заданной темой отобрать для рассказа факты, правильно отражающие окружающую действительность. Последовательность изложения мыслей, умение строить несложные суждения, умозаключения, выводы являются показателями логичности связн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Если к пяти годам дети пересказывают только что прочитанные короткие рассказы, прослушав их два раза, то после пяти лет эти дети способны рассказать об увиденном, объяснить причинно-следственные отношения, составить рассказ по картине, по серии сюжетных картинок, отличить фантастическое содержание сказки от обычного рассказа. В старшем дошкольном возрасте дети довольно охотно сами придумывают рассказы, сказки, включая туда нередко эпизоды из собственной жизн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гим показателем речевой готовности ребенка к школе является уровень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звития словаря дошкольни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его количественные и качественные показате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ет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-7 ле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жны овладеть примерно тридцатью обобщающими понятиями (посуда, мебель, транспорт, насекомые, одежда, инструменты и др.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 этом возрасте дети уверенно выделяют и правильно называют части предметов, явления природы, названия профессий взрослых. Они могут подобрать синонимы (слова, близкие по значению) и антонимы (слова с противоположным значением) к различным частям речи. Например: веселый – радостный,  идти – шагать, печаль – грусть, высоко – низко, широкий – узкий, жара – холод и т.п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Родители должны всячески содействовать обогащению и активизации словаря ребенка. Во время прогулок, совместных путешествий необходимо расширять кругозор ребенка, знакомить его с новыми словами, понятиями. В течение недели ребенок 6-7 лет способен усвоить около 30 новых сл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ледует отметить, что бедный словарный запас является одной из причин орфографических ошибок младших школьников, т.к. дети не могут подобрать проверочное слово в ситуации написания слов с безударной гласно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Эффективным средством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богащения словар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дошкольника является чтение произведений художественной литературы. Очень важно научить ребенка спрашивать о непонятных словах. Без словарной работы, без объяснения и уточнения непонятных слов и выражений чтение книг будет бессмысленным. Новое слово сначала откладывается в пассивный словарь, а затем может использоваться в активной речи ребе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одителям следует помнить: чем шире и богаче словарный запас ребенка, тем глубже его мышл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На занятии с ребенком.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Интерес 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Повторяйте упражнения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Будьте терпеливы не спешите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Нужна мера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Игровая форма занятий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Развитие навыков общения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«Избегайте неодобрительной оценк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нимателен ли ваш ребенок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пражнение на развитие способности к переключению вним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зывайте ребенку различные слова: стол, кровать, чашка, карандаш, книга. По договоренности он должен отреагировать на определенные сло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Это развивает внимательность, быстроту распределения и переключения внимания, расширяет кругозор и познавательную активность ребе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78692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пражнение на развитие концентрации  внима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ложить ребенку по 2 пары картинок по 10-15 различий, несколько неоконченных рисунков с нелепым содержа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Ребенок должен сравнить, найти различия, найти что не дорисовано на рисунке. Оценить результатив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83170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пражнения на развитие устойчивости вним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едложите ребенку небольшой текст, просматривая каждую строчку, нужно зачеркивать букву «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Фиксируйте время и количество ошибок(отмечайте ,как отличается результативность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Упражнения на развитие произвольного внима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 листе бумаги цветными карандашами просят ребенка  нарисовать 10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Будь внимателен ,заштрихуй красным карандашом 3,7,9 треугольник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Развито ли у ребенка восприятие?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Упражнения на развитие способностей к фонематическому различе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Определи звук», «Поймай звук», «Пиши кружочками»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Упражнения на развитие восприятия геометрических фигу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Нарисуй фигуры», «Дорисуй фигуры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пражнения на развитие цветоразли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Назови цвет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9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Упражнения на развитие представлений о временах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учите с ребенком  стихотворения, покажите картинки, расспросите ребе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пражнения на развитие наблюда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Внимательно осмотри комнату и найди предметы, в которых есть круг, окружность и т. д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18:13Z</dcterms:created>
  <dc:creator>Admin</dc:creator>
  <dc:description/>
  <dc:language>en-US</dc:language>
  <cp:lastModifiedBy>Admin</cp:lastModifiedBy>
  <dcterms:modified xsi:type="dcterms:W3CDTF">2012-12-10T13:55:14Z</dcterms:modified>
  <cp:revision>8</cp:revision>
  <dc:subject/>
  <dc:title>Ваш ребенок пойдет в школу….</dc:title>
</cp:coreProperties>
</file>