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4.wmf" ContentType="image/x-wmf"/>
  <Override PartName="/ppt/media/image27.png" ContentType="image/png"/>
  <Override PartName="/ppt/media/image12.wmf" ContentType="image/x-wmf"/>
  <Override PartName="/ppt/media/image5.jpeg" ContentType="image/jpeg"/>
  <Override PartName="/ppt/media/image8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19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1D6-4E30-46C5-943C-C7D57BA8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026-B962-4BBC-B4FE-67B38E7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1C6-9D06-470D-B674-29ED1091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9BC-9422-4BD8-AB5E-7956B693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D38-606E-46A5-A66E-5243CF3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CB7-0A1D-441D-B08B-74124818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A4E-978A-464B-9DD9-D53291D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16C-75E0-441C-91A0-69E45061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B9C-8661-4971-AA65-7FB9036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A35-3810-4DDA-8966-538AE33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856-2215-4A0F-8042-4DFB499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DB6-9BCD-4AA0-9805-A021E94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2BD-32AD-48E6-A8EC-EAF01916CE6A}" type="slidenum">
              <a:rPr b="0" lang="en-US" sz="14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2.nnm.ru/4/e/3/f/3/61d2dbd05cb11d0155586282a8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literatura/Romantizm/0002-006-V.A.-ZHukovskij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4205/svetikhr.dc/0_35d7d_ccd05434_XL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academic.ru/pictures/enwiki/84/Taleoftsarsaltan2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az-pushkina.ru/ill/b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ir.ru/handlers/animg.ashx?id=4117091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dmir.ru/handlers/animg.ashx?id=411709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img0.liveinternet.ru/images/attach/b/3/27/452/27452764_1213814891_Kuindzhi_YEl_brus1908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akulizm.ru/akula-v-literature/full/akula-tolstogo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padabum.com/info/&#1061;&#1091;&#1076;&#1086;&#1078;&#1077;&#1089;&#1090;&#1074;&#1077;&#1085;&#1085;&#1072;&#1103;%20&#1083;&#1080;&#1090;&#1077;&#1088;&#1072;&#1090;&#1091;&#1088;&#1072;/&#1056;&#1091;&#1089;&#1089;&#1082;&#1072;&#1103;%20&#1082;&#1083;&#1072;&#1089;&#1089;&#1080;&#1095;&#1077;&#1089;&#1082;&#1072;&#1103;%20&#1087;&#1088;&#1086;&#1079;&#1072;/&#1058;&#1086;&#1083;&#1089;&#1090;&#1086;&#1081;%20&#1053;&#1080;&#1082;&#1086;&#1083;&#1072;&#1077;&#1074;&#1080;&#1095;%20&#1051;&#1077;&#1074;/&#1055;&#1088;&#1099;&#1078;&#1086;&#1082;%20%28&#1058;&#1086;&#1083;&#1089;&#1090;&#1086;&#1081;%20&#1053;&#1080;&#1082;&#1086;&#1083;&#1072;&#1077;&#1074;&#1080;&#1095;%20&#1051;&#1077;&#1074;%29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ffinity4you.dreamwidth.org/2010/01/11/" TargetMode="External"/><Relationship Id="rId3" Type="http://schemas.openxmlformats.org/officeDocument/2006/relationships/hyperlink" Target="http://affinity4you.dreamwidth.org/2010/01/11/" TargetMode="External"/><Relationship Id="rId4" Type="http://schemas.openxmlformats.org/officeDocument/2006/relationships/hyperlink" Target="http://biblioteka-g10.ucoz.ru/index/krylov_i_a/0-38" TargetMode="External"/><Relationship Id="rId5" Type="http://schemas.openxmlformats.org/officeDocument/2006/relationships/hyperlink" Target="http://tolstoy.lit-info.ru/review/tolstoy/007/619.htm" TargetMode="External"/><Relationship Id="rId6" Type="http://schemas.openxmlformats.org/officeDocument/2006/relationships/hyperlink" Target="http://900igr.net/fotografii/literatura/Romantizm/006-V.A.-ZHukovskij.html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digest.ru/?big_pict=1&amp;pict_id=102143" TargetMode="External"/><Relationship Id="rId3" Type="http://schemas.openxmlformats.org/officeDocument/2006/relationships/hyperlink" Target="http://www.prodigest.ru/?big_pict=1&amp;pict_id=102143" TargetMode="External"/><Relationship Id="rId4" Type="http://schemas.openxmlformats.org/officeDocument/2006/relationships/hyperlink" Target="http://www.prodigest.ru/?big_pict=1&amp;pict_id=102143" TargetMode="External"/><Relationship Id="rId5" Type="http://schemas.openxmlformats.org/officeDocument/2006/relationships/hyperlink" Target="http://www.prodigest.ru/?big_pict=1&amp;pict_id=102143" TargetMode="External"/><Relationship Id="rId6" Type="http://schemas.openxmlformats.org/officeDocument/2006/relationships/hyperlink" Target="http://turtleland.livejournal.com/" TargetMode="External"/><Relationship Id="rId7" Type="http://schemas.openxmlformats.org/officeDocument/2006/relationships/hyperlink" Target="http://turtleland.livejournal.com/" TargetMode="External"/><Relationship Id="rId8" Type="http://schemas.openxmlformats.org/officeDocument/2006/relationships/hyperlink" Target="http://turtleland.livejournal.com/" TargetMode="External"/><Relationship Id="rId9" Type="http://schemas.openxmlformats.org/officeDocument/2006/relationships/hyperlink" Target="http://www.teremok.in/" TargetMode="External"/><Relationship Id="rId10" Type="http://schemas.openxmlformats.org/officeDocument/2006/relationships/hyperlink" Target="http://www.teremok.in/Pisateli/Rus_Pisateli/Sbornik_pis/Zerkalo_obezjana.htm" TargetMode="External"/><Relationship Id="rId11" Type="http://schemas.openxmlformats.org/officeDocument/2006/relationships/hyperlink" Target="http://www.teremok.in/Pisateli/Rus_Pisateli/Sbornik_pis/Zerkalo_obezjana.htm" TargetMode="External"/><Relationship Id="rId12" Type="http://schemas.openxmlformats.org/officeDocument/2006/relationships/hyperlink" Target="http://www.teremok.in/Pisateli/Rus_Pisateli/Sbornik_pis/Zerkalo_obezjana.htm" TargetMode="External"/><Relationship Id="rId13" Type="http://schemas.openxmlformats.org/officeDocument/2006/relationships/hyperlink" Target="http://www.teremok.in/Pisateli/Rus_Pisateli/Sbornik_pis/Zerkalo_obezjana.htm" TargetMode="External"/><Relationship Id="rId14" Type="http://schemas.openxmlformats.org/officeDocument/2006/relationships/hyperlink" Target="http://www.teremok.in/Pisateli/Rus_Pisateli/Sbornik_pis/Zerkalo_obezjana.htm" TargetMode="External"/><Relationship Id="rId15" Type="http://schemas.openxmlformats.org/officeDocument/2006/relationships/hyperlink" Target="http://www.teremok.in/Pisateli/Rus_Pisateli/Sbornik_pis/Zerkalo_obezjana.htm" TargetMode="External"/><Relationship Id="rId16" Type="http://schemas.openxmlformats.org/officeDocument/2006/relationships/hyperlink" Target="http://www.teremok.in/Pisateli/Rus_Pisateli/Sbornik_pis/Zerkalo_obezjana.htm" TargetMode="External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nais.info/art/taxonomy/term/228?page=6" TargetMode="External"/><Relationship Id="rId3" Type="http://schemas.openxmlformats.org/officeDocument/2006/relationships/hyperlink" Target="http://rusklarom.narod.ru/" TargetMode="External"/><Relationship Id="rId4" Type="http://schemas.openxmlformats.org/officeDocument/2006/relationships/hyperlink" Target="http://rusklarom.narod.ru/lermontov.htm" TargetMode="External"/><Relationship Id="rId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0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1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2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3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4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900igr.net/datai/literatura/Romantizm/0002-006-V.A.-ZHukovskij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kinderlibrary.files.wordpress.com/2011/10/d0bad180d18bd0bbd0bed0b2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g12.nnm.ru/4/e/3/f/3/61d2dbd05cb11d0155586282a87.jpg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kinderlibrary.files.wordpress.com/2011/10/d0bad180d18bd0bbd0bed0b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www.hrono.info/img/pisateli/push_kipr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img12.nnm.ru/4/e/3/f/3/61d2dbd05cb11d0155586282a87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900igr.net/datai/literatura/Romantizm/0002-006-V.A.-ZHukovskij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280" y="2420640"/>
            <a:ext cx="45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000" y="404280"/>
            <a:ext cx="6335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" descr="Картинка 7 из 190637"/>
          <p:cNvPicPr/>
          <p:nvPr/>
        </p:nvPicPr>
        <p:blipFill>
          <a:blip r:embed="rId2"/>
          <a:stretch/>
        </p:blipFill>
        <p:spPr>
          <a:xfrm>
            <a:off x="0" y="0"/>
            <a:ext cx="483552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140360" y="2276640"/>
            <a:ext cx="4572000" cy="36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атели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ице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306864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етербургская  публичная  библиотек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етний сад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9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1877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ойна и мир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2" name="" descr="Картинка 9 из 329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Горные  вершины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анкт – Петербургская  офицерская  школ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5" name="" descr="Картинка 7 из 208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4076640"/>
            <a:ext cx="1998720" cy="234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Три девицы под окном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яли поздно вечерком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одна дев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крещёный мир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иготовила б я пир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её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бы мир одна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ткала я полотна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ретья молвила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Я б для батюшки-царя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одила богатыря»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8" name="" descr="Картинка 72 из 7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916280"/>
            <a:ext cx="5761080" cy="434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Ель растёт перед дворцом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под ней хрустальный дом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там живёт ручная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затейница какая!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песенки по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орешки всё грыз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орешки не прос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сё скорлупки золо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Ядра — чистый изумруд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Слуги белку стерегут».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89000"/>
            <a:ext cx="604836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 синем небе звёзды блещу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В синем море волны хлещут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уча по небу идё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Бочка по морю плывёт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ловно горькая вдовица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лачет, бьётся в ней царица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 растёт ребёнок там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Не по дням, а по часам».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4" name="" descr="Картинка 32 из 75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16280"/>
            <a:ext cx="6048360" cy="42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Великий  баснописец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не слыхал его живого слова,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в жизни с ним не встретился своей?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ссмертные творения Крылова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ы с каждым годом любим все сильней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7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989000"/>
            <a:ext cx="3375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908360" cy="1781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557360" cy="1656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5076720" y="1989000"/>
            <a:ext cx="2881440" cy="18702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059280" y="4149720"/>
            <a:ext cx="1871640" cy="17589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5364000" y="3860640"/>
            <a:ext cx="1729080" cy="1525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V="1">
            <a:off x="2195640" y="3357720"/>
            <a:ext cx="3600360" cy="1295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43280" y="2492280"/>
            <a:ext cx="574560" cy="21600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788000" y="4868640"/>
            <a:ext cx="576000" cy="14436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835280" y="2708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Уж  сколько  раз  твердили  мир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то  лесть  гнусна,  вред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о  только  всё  не  впр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И  в  сердце  льстец  всегда  отыщет  уголо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8281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то  хоче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говаривать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Тот  должен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говарива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ё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 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нятно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Чтоб  было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сем 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понятно!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600360" cy="18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69228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Ворона  и Лисиц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2" name="Содержимое 10" descr="img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1916280"/>
            <a:ext cx="3782880" cy="4464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4" dur="indefinite" restart="never" nodeType="tmRoot">
          <p:childTnLst>
            <p:seq>
              <p:cTn id="7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2672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7632720" cy="43275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116000" y="306864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Чем кумушек считать  труди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 лучше  ль на себя,  кума,  оборотиться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Зеркало  и Обезьян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9" name="" descr="Зеркало и обезьяна. Басни Крылова"/>
          <p:cNvPicPr/>
          <p:nvPr/>
        </p:nvPicPr>
        <p:blipFill>
          <a:blip r:embed="rId2"/>
          <a:stretch/>
        </p:blipFill>
        <p:spPr>
          <a:xfrm>
            <a:off x="3348000" y="3068640"/>
            <a:ext cx="2571840" cy="1952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Зеркало и обезьяна. Басни Крылова"/>
          <p:cNvPicPr/>
          <p:nvPr/>
        </p:nvPicPr>
        <p:blipFill>
          <a:blip r:embed="rId3"/>
          <a:stretch/>
        </p:blipFill>
        <p:spPr>
          <a:xfrm>
            <a:off x="611280" y="1989000"/>
            <a:ext cx="2571480" cy="1952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Зеркало и обезьяна. Басни Крылова"/>
          <p:cNvPicPr/>
          <p:nvPr/>
        </p:nvPicPr>
        <p:blipFill>
          <a:blip r:embed="rId4"/>
          <a:stretch/>
        </p:blipFill>
        <p:spPr>
          <a:xfrm>
            <a:off x="6084720" y="4221000"/>
            <a:ext cx="257184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619280" y="31417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 несчастью, то  ж  бывает у  люд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к  ни  полезна  вещь, -  цены  не  зная  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вежда  про неё свой  то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сё  к  худу  клонит;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 Крылов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Мартышка  и  Очки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ого  из великих  русских  писателей вы  вспомнили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7" name="" descr="Картинка 8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916280"/>
            <a:ext cx="3063960" cy="4032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Картинка 8 из 1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916280"/>
            <a:ext cx="3017880" cy="3970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Картинка 8 из 27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2133720"/>
            <a:ext cx="2521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Лев  Николаевич  Толстой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РТИЛЛЕРИСТ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3527280" cy="2187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1729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84000" y="11970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787640" y="11253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Картинка 1 из 9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765000"/>
            <a:ext cx="3305160" cy="4249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Картинка 3 из 12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8360" y="1628640"/>
            <a:ext cx="30178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  какому  рассказу  относятся  эти  слова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3132000" y="2924280"/>
            <a:ext cx="3810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ПИТАН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И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УЖЬЁ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Картинка 3 из 123"/>
          <p:cNvPicPr/>
          <p:nvPr/>
        </p:nvPicPr>
        <p:blipFill>
          <a:blip r:embed="rId4"/>
          <a:stretch/>
        </p:blipFill>
        <p:spPr>
          <a:xfrm>
            <a:off x="6588000" y="1268280"/>
            <a:ext cx="1724040" cy="2303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Картинка 1 из 99"/>
          <p:cNvPicPr/>
          <p:nvPr/>
        </p:nvPicPr>
        <p:blipFill>
          <a:blip r:embed="rId5"/>
          <a:stretch/>
        </p:blipFill>
        <p:spPr>
          <a:xfrm>
            <a:off x="179280" y="119700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5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9" dur="2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3" dur="2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77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1" dur="2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5" dur="2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9" dur="2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20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цениваем  свою  работу!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116000" y="2349360"/>
            <a:ext cx="436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908000" y="2492280"/>
            <a:ext cx="64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 было  интересно, у  меня  всё получилось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42920" y="3645000"/>
            <a:ext cx="57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692360" y="3716280"/>
            <a:ext cx="662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понравилось,  у  меня  всё  хорош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42920" y="4869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692360" y="4797360"/>
            <a:ext cx="65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я  работа  может  быть  лучше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-171360"/>
            <a:ext cx="63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116000" y="692280"/>
            <a:ext cx="6695640" cy="4055400"/>
            <a:chOff x="1116000" y="692280"/>
            <a:chExt cx="6695640" cy="4055400"/>
          </a:xfrm>
        </p:grpSpPr>
        <p:grpSp>
          <p:nvGrpSpPr>
            <p:cNvPr id="51" name=""/>
            <p:cNvGrpSpPr/>
            <p:nvPr/>
          </p:nvGrpSpPr>
          <p:grpSpPr>
            <a:xfrm>
              <a:off x="1125360" y="692280"/>
              <a:ext cx="6676560" cy="4040640"/>
              <a:chOff x="1125360" y="692280"/>
              <a:chExt cx="6676560" cy="4040640"/>
            </a:xfrm>
          </p:grpSpPr>
          <p:sp>
            <p:nvSpPr>
              <p:cNvPr id="52" name=""/>
              <p:cNvSpPr/>
              <p:nvPr/>
            </p:nvSpPr>
            <p:spPr>
              <a:xfrm>
                <a:off x="4597200" y="99576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23600" y="1558440"/>
                <a:ext cx="17643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19880" y="1847880"/>
                <a:ext cx="408204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12400" y="213552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97200" y="21355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12400" y="24246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47120" y="242460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97200" y="24246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26200" y="2712960"/>
                <a:ext cx="3176280" cy="301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12400" y="3002040"/>
                <a:ext cx="29556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47120" y="3002040"/>
                <a:ext cx="28620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15440" y="300204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25360" y="3564720"/>
                <a:ext cx="14590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47120" y="356472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015440" y="35647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2400" y="385416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47120" y="385416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15440" y="385416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2400" y="41418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15440" y="41418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12400" y="443088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721400" y="73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61960" y="1585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2652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4780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61960" y="2162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39280" y="2451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54480" y="27399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58560" y="35917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25360" y="7063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25360" y="7063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26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1760" y="692280"/>
                <a:ext cx="2862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888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25360" y="9957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25360" y="995760"/>
                <a:ext cx="3462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9720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97200" y="706320"/>
                <a:ext cx="936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6560" y="981360"/>
                <a:ext cx="295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9276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92760" y="706320"/>
                <a:ext cx="972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25360" y="12693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25360" y="1269360"/>
                <a:ext cx="3462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6560" y="126936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06560" y="1269360"/>
                <a:ext cx="2768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25360" y="155844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25360" y="1558440"/>
                <a:ext cx="228888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236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36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988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988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01544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1544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110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10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87480" y="981360"/>
                <a:ext cx="19080" cy="59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3400" y="1008360"/>
                <a:ext cx="19080" cy="56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33320" y="1544040"/>
                <a:ext cx="17546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17896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7896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25360" y="184788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5360" y="1847880"/>
                <a:ext cx="228888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14240" y="1544040"/>
                <a:ext cx="19080" cy="31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1988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988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1544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1544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10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100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972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9720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276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276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69240" y="1572840"/>
                <a:ext cx="19080" cy="28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5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5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6108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6108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757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757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619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619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77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477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339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339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20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20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063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063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33320" y="1833480"/>
                <a:ext cx="43686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9220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9220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5360" y="21355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5360" y="21355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240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12400" y="720720"/>
                <a:ext cx="936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21760" y="2121120"/>
                <a:ext cx="2862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9824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98240" y="720720"/>
                <a:ext cx="972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7960" y="2135520"/>
                <a:ext cx="14018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7960" y="2135520"/>
                <a:ext cx="140184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016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1544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1544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110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100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972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9720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92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2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78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789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65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6108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6108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757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757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619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19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47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47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33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39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20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20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63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063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29240" y="2121120"/>
                <a:ext cx="407268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8284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25360" y="242460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25360" y="2424600"/>
                <a:ext cx="87732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21760" y="242460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21760" y="2424600"/>
                <a:ext cx="2671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7960" y="242460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07960" y="2424600"/>
                <a:ext cx="829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47120" y="706320"/>
                <a:ext cx="0" cy="17042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47120" y="706320"/>
                <a:ext cx="9720" cy="17042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56840" y="2410560"/>
                <a:ext cx="2764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3600" y="1860480"/>
                <a:ext cx="0" cy="5500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23600" y="1860480"/>
                <a:ext cx="9720" cy="5500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3320" y="2424600"/>
                <a:ext cx="1153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3320" y="2424600"/>
                <a:ext cx="1153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06560" y="242460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06560" y="2424600"/>
                <a:ext cx="2768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25360" y="271296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5360" y="2712960"/>
                <a:ext cx="591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2620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2620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02680" y="2121120"/>
                <a:ext cx="19080" cy="605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88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7508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7508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6092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60920" y="706320"/>
                <a:ext cx="972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35560" y="2698200"/>
                <a:ext cx="142128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56840" y="271296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56840" y="2712960"/>
                <a:ext cx="257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1988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988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1544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44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1100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11000" y="2149920"/>
                <a:ext cx="972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874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33320" y="2698200"/>
                <a:ext cx="14688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5360" y="300204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5360" y="3002040"/>
                <a:ext cx="591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16480" y="2698200"/>
                <a:ext cx="19080" cy="31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0124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124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824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9824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750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750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6092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5560" y="2987640"/>
                <a:ext cx="14212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56840" y="300204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56840" y="300204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198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198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3320" y="2987640"/>
                <a:ext cx="5911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24800" y="300204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24800" y="3002040"/>
                <a:ext cx="27684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972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972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20720" y="2987640"/>
                <a:ext cx="5817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83400" y="2149920"/>
                <a:ext cx="1908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25360" y="327708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25360" y="3277080"/>
                <a:ext cx="8773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21760" y="327708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21760" y="3277080"/>
                <a:ext cx="2671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07960" y="327708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7960" y="3277080"/>
                <a:ext cx="82980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56840" y="327708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6840" y="327708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3320" y="3277080"/>
                <a:ext cx="5720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33320" y="3277080"/>
                <a:ext cx="57204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024800" y="3277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24800" y="327708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536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25360" y="706320"/>
              <a:ext cx="936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00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0000" y="706320"/>
              <a:ext cx="972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620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620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26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88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34720" y="3550320"/>
              <a:ext cx="144972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7508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508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4440" y="356508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4440" y="3565080"/>
              <a:ext cx="553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7200" y="356508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57200" y="3565080"/>
              <a:ext cx="257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3680" y="356508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356508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4800" y="3565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24800" y="356508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6000" y="3550320"/>
              <a:ext cx="18720" cy="31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0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4000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262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62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24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124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9824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824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4720" y="3840120"/>
              <a:ext cx="14497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5360" y="3579480"/>
              <a:ext cx="190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4440" y="385452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84440" y="3854520"/>
              <a:ext cx="5533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57200" y="385452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57200" y="3854520"/>
              <a:ext cx="2574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3680" y="385452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33680" y="3854520"/>
              <a:ext cx="57204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24800" y="385452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24800" y="385452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5360" y="414216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5360" y="4142160"/>
              <a:ext cx="877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1760" y="414216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1760" y="4142160"/>
              <a:ext cx="267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07960" y="4142160"/>
              <a:ext cx="8298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07960" y="4142160"/>
              <a:ext cx="82980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120" y="2410920"/>
              <a:ext cx="19080" cy="17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57200" y="4129560"/>
              <a:ext cx="2764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14600" y="2437920"/>
              <a:ext cx="19080" cy="17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33680" y="414216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33680" y="414216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24800" y="414216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24800" y="414216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25360" y="4431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5360" y="4431240"/>
              <a:ext cx="8773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21760" y="443124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1760" y="4431240"/>
              <a:ext cx="267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7960" y="4431240"/>
              <a:ext cx="16974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7960" y="4431240"/>
              <a:ext cx="16974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0572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24800" y="4417200"/>
              <a:ext cx="2959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0164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25360" y="4719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25360" y="4719240"/>
              <a:ext cx="87732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026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1760" y="4706280"/>
              <a:ext cx="286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88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2536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536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000" y="3867120"/>
              <a:ext cx="180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0000" y="3867120"/>
              <a:ext cx="972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2620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620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2400" y="473328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2400" y="47332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98240" y="47332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98240" y="4733280"/>
              <a:ext cx="97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7508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508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61280" y="3014640"/>
              <a:ext cx="180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128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4748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4748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396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396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988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1988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5440" y="4444200"/>
              <a:ext cx="144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5440" y="4444200"/>
              <a:ext cx="936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1000" y="4444200"/>
              <a:ext cx="180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1000" y="4444200"/>
              <a:ext cx="972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756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756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9312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9312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93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793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5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5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10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610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75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5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22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22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481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481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43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0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20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6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06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9256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9256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7960" y="706320"/>
              <a:ext cx="549432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7960" y="706320"/>
              <a:ext cx="550368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2840" y="9957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2840" y="99576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840" y="12693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2840" y="12693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88680" y="1558440"/>
              <a:ext cx="26136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8680" y="1558440"/>
              <a:ext cx="26229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02280" y="1847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02280" y="1847880"/>
              <a:ext cx="936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02280" y="2135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280" y="21358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2840" y="242496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02840" y="2424960"/>
              <a:ext cx="29088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02840" y="27129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840" y="27129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2840" y="300204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840" y="300204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20720" y="327708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0720" y="327708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20720" y="356508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0720" y="356508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0720" y="385452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0720" y="385452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0720" y="414216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20720" y="414216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0720" y="443124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0720" y="4431240"/>
              <a:ext cx="34909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7960" y="4719240"/>
              <a:ext cx="549432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7960" y="4719240"/>
              <a:ext cx="550368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90000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2076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горизонтал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: </a:t>
            </a:r>
            <a:r>
              <a:rPr b="1" lang="ru-RU" sz="1800" spc="-1" strike="noStrike" u="sng">
                <a:solidFill>
                  <a:srgbClr val="222268"/>
                </a:solidFill>
                <a:uFillTx/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</a:rPr>
              <a:t>Чувство, которое вы испытывали при чтении стихов М.Ю.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баснях рассказывается о недостатках людей не прямо,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aa168e"/>
                </a:solidFill>
                <a:uFillTx/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aa168e"/>
                </a:solidFill>
                <a:latin typeface="Times New Roman"/>
              </a:rPr>
              <a:t>Назовите язык, которым первым овладел А.С.Пушкин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Небольшое произведение, написанное стихами или прозой, в котором высмеиваются пороки и недостатки люде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35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48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2436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00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70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64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51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1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3200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4328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836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7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92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36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7964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8472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0328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3429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79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79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79640" y="429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83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32000" y="3722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3429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314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59280" y="285264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32000" y="2276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95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95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12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8920" y="511812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вертикали</a:t>
            </a: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Русский поэт. Учился в Московском университете. Окончил Санкт-Петербургскую школу гвардейских прапорщиков и кавалерийских юнк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73"/>
                </a:solidFill>
                <a:uFillTx/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 У этого поэта была любимая няня, о которой знают вс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7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Этот писатель переводил стихи и прозу, великолепно знал литературу, интересовался теат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26"/>
                </a:solidFill>
                <a:uFillTx/>
                <a:latin typeface="Times New Roman"/>
              </a:rPr>
              <a:t>8.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ногие его рассказы и басни вошли в его же книгу «Азбу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ома: 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аписать  письмо  в прошлое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За  что  я  бы поблагодарил  великих  русских  писателей?»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640" y="620640"/>
            <a:ext cx="77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агодарю за  сотрудничеств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6" name="" descr="Картинка 7 из 190637"/>
          <p:cNvPicPr/>
          <p:nvPr/>
        </p:nvPicPr>
        <p:blipFill>
          <a:blip r:embed="rId3"/>
          <a:stretch/>
        </p:blipFill>
        <p:spPr>
          <a:xfrm>
            <a:off x="826920" y="2060640"/>
            <a:ext cx="3600720" cy="3800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3780000" y="4869000"/>
            <a:ext cx="18730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affinity4you.dreamwidth.org/2010/01/11/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biblioteka-g10.ucoz.ru/index/krylov_i_a/0-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360" y="29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tolstoy.lit-info.ru/review/tolstoy/007/619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335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900igr.net/fotografii/literatura/Romantizm/006-V.A.-ZHukovskij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4360" y="407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hop.armada.ru/genres/2038/?order=price&amp;wa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&amp;page=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prodigest.ru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?big_pict=1&amp;pict_id=102143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826920" y="277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turtleland.livejournal.co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01440" y="3284280"/>
            <a:ext cx="59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teremok.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isatel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…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pi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Zerkal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obezja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0000" y="3460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6480" y="4076640"/>
            <a:ext cx="666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http://www.baku.ru/frmpst-view.php?frmp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id=15067781&amp;id=838860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60" y="4941720"/>
            <a:ext cx="748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kulizm.ru/akula-v-literature/akula-tolstogo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61128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anais.info/art/taxonomy/term/228?page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17640" y="2060280"/>
            <a:ext cx="442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usklarom.narod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ermontov.h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16000" y="256392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9280" y="3139200"/>
            <a:ext cx="75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padabum.com/download.php?ur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=data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Художественн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литература/Рус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классиче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проза/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Лев/Прыжо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 Лев).fb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Александр Сергеевич  Пушкин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Лев Николаевич Толсто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99"/>
                </a:solidFill>
                <a:latin typeface="Times New Roman"/>
              </a:rPr>
              <a:t>Великие русские  писатели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1297080" cy="113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Times New Roman"/>
              </a:rPr>
              <a:t>Узнай  портрет!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557360"/>
            <a:ext cx="1917720" cy="234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85800" y="2349360"/>
            <a:ext cx="193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Картинка 7 из 208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557360"/>
            <a:ext cx="1806480" cy="241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374880" y="22766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Картинка 0 из 4514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3280" y="4221000"/>
            <a:ext cx="1949400" cy="2376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56000" y="4724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Картинка 9 из 3290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4292640"/>
            <a:ext cx="1865160" cy="2305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588720" y="4797360"/>
            <a:ext cx="196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ереводил стихи  и прозу,  великолепно  знал  литературу, интересовался  театром. Более тридцати  лет проработал  в Петербургской  публичной  библиотеке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Картинка 0 из 451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508640"/>
            <a:ext cx="1625760" cy="1981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359240" y="5465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Стихи он  начал  сочинять, когда  был  совсем маленьким. Его  первое  стихотворение  написано  по-французски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Картинка 3 из 843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05360"/>
            <a:ext cx="1889280" cy="23050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352320" y="508464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«Мы  даже устроили игру  в  муравейные братья ...  Я,  помню,  испытывал  особенное чувство  любви и умиления  и очень любил  эту  игру»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439640" cy="125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Картинка 9 из 32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4365720"/>
            <a:ext cx="1681200" cy="2160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782880" y="530064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Что же  мама  не  идёт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едь Мишель всё ждёт  и ждёт».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1440000" cy="12542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Картинка 7 из 208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789360"/>
            <a:ext cx="1941840" cy="2305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487600" y="4890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5:57:43Z</dcterms:created>
  <dc:creator>Лариса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рщь</cp:lastModifiedBy>
  <dcterms:modified xsi:type="dcterms:W3CDTF">2012-12-10T12:03:0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Natural</vt:lpwstr>
  </property>
</Properties>
</file>