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FED4-C90D-4650-91CE-BA0356CA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3F22-0FCC-4139-8BE5-59001369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0059-7B2F-4629-AF39-86779BA9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9278-FC6A-46CC-8C1B-DC5117AF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0D08-F44D-4655-B9A4-032B4983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479-B885-4FAD-BD21-1EB5644D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B1A-8060-4DD4-A3E2-A32235A2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9B09-55D9-4791-885A-58221F43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BDB4-2DC5-4EEE-8C79-C0E35A87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BDC-9BDA-49DD-8BB6-9AC5E1FF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2E92-532C-4945-BD4C-D0EF40BB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AD5D-5A4A-4374-9D37-4FD2BF1B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EAA9-A247-4FAD-B3DF-7CEBE59887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971640" y="981000"/>
            <a:ext cx="7561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100000">
                      <a:srgbClr val="a20000"/>
                    </a:gs>
                  </a:gsLst>
                  <a:lin ang="5400000"/>
                </a:gradFill>
                <a:latin typeface="Georgia"/>
              </a:rPr>
              <a:t>Интеллектуальная</a:t>
            </a:r>
            <a:endParaRPr b="0" i="1" lang="en-US" sz="54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20000"/>
                  </a:gs>
                  <a:gs pos="100000">
                    <a:srgbClr val="a20000"/>
                  </a:gs>
                </a:gsLst>
                <a:lin ang="54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100000">
                      <a:srgbClr val="a20000"/>
                    </a:gs>
                  </a:gsLst>
                  <a:lin ang="5400000"/>
                </a:gradFill>
                <a:latin typeface="Georgia"/>
              </a:rPr>
              <a:t>ярмарка</a:t>
            </a:r>
            <a:endParaRPr b="0" i="1" lang="en-US" sz="54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20000"/>
                  </a:gs>
                  <a:gs pos="100000">
                    <a:srgbClr val="a20000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8"/>
          <p:cNvSpPr/>
          <p:nvPr/>
        </p:nvSpPr>
        <p:spPr>
          <a:xfrm>
            <a:off x="395280" y="1557360"/>
            <a:ext cx="8352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7. Семь бед – один отве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о семи определениям надо узнать название сказк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орзина, волк, зубы, бабушка, охотник, тропинка, лес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(Красная шапочка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бал, принц, туфелька, сестры, мачеха, фея-крестная, полночь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(Золушка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есса, сон, веретено, проклятье, принц, феи, поцелу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(Спящая красавица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8"/>
          <p:cNvSpPr/>
          <p:nvPr/>
        </p:nvSpPr>
        <p:spPr>
          <a:xfrm>
            <a:off x="395280" y="1052640"/>
            <a:ext cx="8352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8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«Гонка за лидером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то помог Дюймовочке спастись от крота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Что  первое просил старик у золотой рыбки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какой сказке старик и старуха начинают плакать после проделки маленького зверька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к звали детей из сказки «Снежная королева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кой сказочный доктор лечит зверей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какой сказке пироги, блины, да сушёные грибы использовались не по назначению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то является хозяйкой Артемона в сказке А. Толстого «Золотой ключик»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Железные зубы, костяная нога, это….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звание цветка в котором родилась Дюймовочка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8"/>
          <p:cNvSpPr/>
          <p:nvPr/>
        </p:nvSpPr>
        <p:spPr>
          <a:xfrm>
            <a:off x="395280" y="1916280"/>
            <a:ext cx="820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алатка 3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«Ребусная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8"/>
          <p:cNvSpPr/>
          <p:nvPr/>
        </p:nvSpPr>
        <p:spPr>
          <a:xfrm>
            <a:off x="395280" y="1916280"/>
            <a:ext cx="820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алатка 4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«Экологическая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8"/>
          <p:cNvSpPr/>
          <p:nvPr/>
        </p:nvSpPr>
        <p:spPr>
          <a:xfrm>
            <a:off x="395280" y="1916280"/>
            <a:ext cx="820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алатка 5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«Математическая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8"/>
          <p:cNvSpPr/>
          <p:nvPr/>
        </p:nvSpPr>
        <p:spPr>
          <a:xfrm>
            <a:off x="395280" y="1052640"/>
            <a:ext cx="8352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1 задач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ед, баба, внучка, Жучка, кошка, мышка тянули репку и наконец вытянули. Сколько глаз увидели репку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2 задач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 морю плыли 9 акул. Они увидели косяк рыб и нырнули в глубину. Сколько акул осталось в море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3 задач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ступил долгожданный январь. Сначала зацвела 1 яблоня, а потом – 3 сливы. Сколько деревьев зацвело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88000" cy="4265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539640" y="692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колько треугольников на рисунке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539640" y="692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тиц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116000" y="1628640"/>
            <a:ext cx="6840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епоседа пестрая, птица длиннохвоста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тица говорливая, самая болтливая (Сорока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рач деревьев, мой приятел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то черный пестрый … (Дятел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зорной мальчишк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сером армячишк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 двору шныряет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рохи собирает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Воробей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684360" y="692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Звер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1116000" y="1628640"/>
            <a:ext cx="68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то с высоких тёмных сосен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ребятишек шишку бросил?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 в кусты через пенёк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мелькнул, как огонёк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Хозяин лесной, просыпается весной,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 зимой, под вьюжный вой,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пит в избушке снегово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Хитрая плутовка, рыжая головка,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Хвост пушистый - краса!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 зовут её..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539640" y="692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еревь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1042920" y="1557360"/>
            <a:ext cx="68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 меня длинней иголки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Чем у ёлк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чень прямо я расту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высоту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удри в речку опустил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 о чём-то загрустила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 о чём она грустит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икому не говорит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Что же это за девица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е швея, не мастерица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ичего сама не шьёт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 в иголках круглый год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5"/>
          <p:cNvSpPr/>
          <p:nvPr/>
        </p:nvSpPr>
        <p:spPr>
          <a:xfrm>
            <a:off x="826920" y="907920"/>
            <a:ext cx="2881440" cy="432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4284720" y="1052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згадайте шифр и узнаете кто пришел к нам на ярмарку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extBox 4" descr=""/>
          <p:cNvPicPr/>
          <p:nvPr/>
        </p:nvPicPr>
        <p:blipFill>
          <a:blip r:embed="rId1"/>
          <a:stretch/>
        </p:blipFill>
        <p:spPr>
          <a:xfrm>
            <a:off x="-189000" y="2011320"/>
            <a:ext cx="79678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8"/>
          <p:cNvSpPr/>
          <p:nvPr/>
        </p:nvSpPr>
        <p:spPr>
          <a:xfrm>
            <a:off x="395280" y="1916280"/>
            <a:ext cx="82072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Палатка 1 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«Словесная»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611280" y="1125360"/>
            <a:ext cx="80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йти в слове другое слово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удоч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Гроз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Градусни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Расшифруй слова и найди лишнее. Почему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ЖЫИ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НС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ЬОНИ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ОЛС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539640" y="549360"/>
            <a:ext cx="80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Исправь ошибку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ша Маша громко плаче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ронила в речку мячик (Таня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дет медведь, качается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здыхает на ходу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«Ох, доска кончается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ейчас я упаду». (Бычок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Зайку бросила лентяй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д дождем остался зайк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о скамейки слезть не смог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есь до ниточки промок. (Хозяйка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8"/>
          <p:cNvSpPr/>
          <p:nvPr/>
        </p:nvSpPr>
        <p:spPr>
          <a:xfrm>
            <a:off x="395280" y="1557360"/>
            <a:ext cx="8352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. Раскрой смысл выраж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рудиться, засучив рукав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кусить язы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и пуха, ни пер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8"/>
          <p:cNvSpPr/>
          <p:nvPr/>
        </p:nvSpPr>
        <p:spPr>
          <a:xfrm>
            <a:off x="395280" y="1916280"/>
            <a:ext cx="820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алатка 2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«Сказочная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8"/>
          <p:cNvSpPr/>
          <p:nvPr/>
        </p:nvSpPr>
        <p:spPr>
          <a:xfrm>
            <a:off x="395280" y="1557360"/>
            <a:ext cx="8352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5.  Как зовут этого сказочного геро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оявилась я в чашке цветка, а была чуть больше ноготка (Дюймовочка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укла с голубыми волосами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(Мальвина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Я большой друг Чебурашки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(Крокодил Гена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8"/>
          <p:cNvSpPr/>
          <p:nvPr/>
        </p:nvSpPr>
        <p:spPr>
          <a:xfrm>
            <a:off x="395280" y="1557360"/>
            <a:ext cx="8352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6. Сказочные путешествия: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на чем или на ком совершали путешествия герои сказок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Емеля к царю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(печка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Дюймовочка в теплые кра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(ласточка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Иван-царевич за жар-птице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(конек-горбунок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08:50:27Z</dcterms:created>
  <dc:creator>Елена</dc:creator>
  <dc:description/>
  <dc:language>en-US</dc:language>
  <cp:lastModifiedBy>Ксения</cp:lastModifiedBy>
  <dcterms:modified xsi:type="dcterms:W3CDTF">2012-04-22T17:58:57Z</dcterms:modified>
  <cp:revision>22</cp:revision>
  <dc:subject/>
  <dc:title>Слайд 1</dc:title>
</cp:coreProperties>
</file>