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507-4671-48C7-914E-DD151174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C09-7890-4894-B614-5852EE16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C31-BDE0-4DE3-9524-A74D67FF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2A6-FD1A-4E72-8BAE-A1CD1B33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C15-8454-484A-9478-21B03880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B53-A318-4316-9513-9054C8C6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9D2-387E-41C1-9B45-7DD1C9C1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E85-2565-4B60-B593-5CE35A8A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FC4-0ED0-4B86-AD71-9B3C1538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9D3-4141-4A37-83C8-B484356E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956-A287-4CDA-AC6C-6204D709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60D-AE57-4CAB-9C5B-B26456E8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EEE5-BD14-49CB-B6D5-BE272C94AB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71640" y="981000"/>
            <a:ext cx="7561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Интеллектуальная</a:t>
            </a:r>
            <a:endParaRPr b="0" i="1" lang="en-US" sz="5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a20000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ярмарка</a:t>
            </a:r>
            <a:endParaRPr b="0" i="1" lang="en-US" sz="5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a2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8"/>
          <p:cNvSpPr/>
          <p:nvPr/>
        </p:nvSpPr>
        <p:spPr>
          <a:xfrm>
            <a:off x="395280" y="1557360"/>
            <a:ext cx="8352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7. Семь бед – один отве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 семи определениям надо узнать название сказ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орзина, волк, зубы, бабушка, охотник, тропинка, лес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Красная шапочк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бал, принц, туфелька, сестры, мачеха, фея-крестная, полноч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Золушк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есса, сон, веретено, проклятье, принц, феи, поцелу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Спящая красавиц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8"/>
          <p:cNvSpPr/>
          <p:nvPr/>
        </p:nvSpPr>
        <p:spPr>
          <a:xfrm>
            <a:off x="395280" y="1052640"/>
            <a:ext cx="8352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8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Гонка за лидером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то помог Дюймовочке спастись от крота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то  первое просил старик у золотой рыбки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какой сказке старик и старуха начинают плакать после проделки маленького зверька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 звали детей из сказки «Снежная королева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ой сказочный доктор лечит зверей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какой сказке пироги, блины, да сушёные грибы использовались не по назначению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то является хозяйкой Артемона в сказке А. Толстого «Золотой ключик»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Железные зубы, костяная нога, это….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звание цветка в котором родилась Дюймовочка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8"/>
          <p:cNvSpPr/>
          <p:nvPr/>
        </p:nvSpPr>
        <p:spPr>
          <a:xfrm>
            <a:off x="395280" y="1916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алатка 3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«Ребусная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8"/>
          <p:cNvSpPr/>
          <p:nvPr/>
        </p:nvSpPr>
        <p:spPr>
          <a:xfrm>
            <a:off x="395280" y="1916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алатка 4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«Экологическая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8"/>
          <p:cNvSpPr/>
          <p:nvPr/>
        </p:nvSpPr>
        <p:spPr>
          <a:xfrm>
            <a:off x="395280" y="1916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алатка 5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«Математическая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8"/>
          <p:cNvSpPr/>
          <p:nvPr/>
        </p:nvSpPr>
        <p:spPr>
          <a:xfrm>
            <a:off x="395280" y="1052640"/>
            <a:ext cx="8352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1 задач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ед, баба, внучка, Жучка, кошка, мышка тянули репку и наконец вытянули. Сколько глаз увидели репку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2 задач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 морю плыли 9 акул. Они увидели косяк рыб и нырнули в глубину. Сколько акул осталось в море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3 задач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ступил долгожданный январь. Сначала зацвела 1 яблоня, а потом – 3 сливы. Сколько деревьев зацвело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39640" y="692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колько треугольников на рисунк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539640" y="692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116000" y="1628640"/>
            <a:ext cx="684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поседа пестрая, птица длиннохвоста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тица говорливая, самая болтливая (Сорока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рач деревьев, мой приятел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о черный пестрый … (Дятел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зорной мальчишк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сером армячишк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 двору шныряет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рохи собирает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Воробей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684360" y="692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Звер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116000" y="1628640"/>
            <a:ext cx="68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то с высоких тёмных сосен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ребятишек шишку бросил?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 в кусты через пенёк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мелькнул, как огонёк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Хозяин лесной, просыпается весной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 зимой, под вьюжный вой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пит в избушке снегово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Хитрая плутовка, рыжая головка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Хвост пушистый - краса!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 зовут её..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539640" y="692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ревь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042920" y="1557360"/>
            <a:ext cx="68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 меня длинней иголки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ем у ёлк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чень прямо я раст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высоту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удри в речку опустил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 о чём-то загрустила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 о чём она грустит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икому не говорит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то же это за девица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 швея, не мастерица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ичего сама не шьёт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 в иголках круглый год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5"/>
          <p:cNvSpPr/>
          <p:nvPr/>
        </p:nvSpPr>
        <p:spPr>
          <a:xfrm>
            <a:off x="826920" y="907920"/>
            <a:ext cx="2881440" cy="43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284720" y="1052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гадайте шифр и узнаете кто пришел к нам на ярмарк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extBox 4" descr=""/>
          <p:cNvPicPr/>
          <p:nvPr/>
        </p:nvPicPr>
        <p:blipFill>
          <a:blip r:embed="rId1"/>
          <a:stretch/>
        </p:blipFill>
        <p:spPr>
          <a:xfrm>
            <a:off x="-189000" y="2011320"/>
            <a:ext cx="79678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8"/>
          <p:cNvSpPr/>
          <p:nvPr/>
        </p:nvSpPr>
        <p:spPr>
          <a:xfrm>
            <a:off x="395280" y="1916280"/>
            <a:ext cx="82072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Палатка 1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«Словесная»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611280" y="112536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ти в слове другое слово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удоч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оз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адусни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Расшифруй слова и найди лишнее. Почему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ЖЫИ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НС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ЬОНИ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ОЛ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539640" y="549360"/>
            <a:ext cx="80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Исправь ошибку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ша Маша громко плаче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ронила в речку мячик (Тан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дет медведь, качается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дыхает на ходу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«Ох, доска кончается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ейчас я упаду». (Бычок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йку бросила лентяй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д дождем остался зай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 скамейки слезть не смог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есь до ниточки промок. (Хозяйка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8"/>
          <p:cNvSpPr/>
          <p:nvPr/>
        </p:nvSpPr>
        <p:spPr>
          <a:xfrm>
            <a:off x="395280" y="1557360"/>
            <a:ext cx="8352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 Раскрой смысл выраж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удиться, засучив рукав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кусить язы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и пуха, ни пе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8"/>
          <p:cNvSpPr/>
          <p:nvPr/>
        </p:nvSpPr>
        <p:spPr>
          <a:xfrm>
            <a:off x="395280" y="1916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алатка 2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«Сказочная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8"/>
          <p:cNvSpPr/>
          <p:nvPr/>
        </p:nvSpPr>
        <p:spPr>
          <a:xfrm>
            <a:off x="395280" y="1557360"/>
            <a:ext cx="8352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5.  Как зовут этого сказочного геро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явилась я в чашке цветка, а была чуть больше ноготка (Дюймовочк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укла с голубыми волосам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Мальвин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Я большой друг Чебурашк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Крокодил Ген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8"/>
          <p:cNvSpPr/>
          <p:nvPr/>
        </p:nvSpPr>
        <p:spPr>
          <a:xfrm>
            <a:off x="395280" y="1557360"/>
            <a:ext cx="8352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6. Сказочные путешествия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а чем или на ком совершали путешествия герои сказок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меля к царю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печк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Дюймовочка в теплые кра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ласточк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ван-царевич за жар-птиц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конек-горбунок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50:27Z</dcterms:created>
  <dc:creator>Елена</dc:creator>
  <dc:description/>
  <dc:language>en-US</dc:language>
  <cp:lastModifiedBy>Ксения</cp:lastModifiedBy>
  <dcterms:modified xsi:type="dcterms:W3CDTF">2012-04-22T17:58:57Z</dcterms:modified>
  <cp:revision>22</cp:revision>
  <dc:subject/>
  <dc:title>Слайд 1</dc:title>
</cp:coreProperties>
</file>