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4D2-3108-47B5-8E37-33BB2AA1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798-82F0-487D-B81A-A9F24BB3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344-85F0-4961-B5CC-225620A0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062-EBE9-422A-ABFE-34A595C7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305C-F95A-4CB4-94B9-05180DDD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EF6-C0AB-4986-9FD5-6C3EC4D2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4193-5E96-4097-8536-AFF0507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D022-A624-487B-8CA7-01321354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9863-7128-4010-8327-92CA02D8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E260-F4C6-4EAF-AB2B-96CB675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3FAA-CE14-4447-9191-462B256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CA8-952A-4FFE-AED8-409ACC51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B4E4-AC1F-4B7B-A6F4-150076B0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FB50-8B04-41F0-B006-8333F9C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0B60-C995-40CD-97CB-2CBE6BE3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CC58-B0FE-47F8-BC4E-CE74A410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3261-6709-49DC-A8D8-7EBE4E04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C83-F2B3-463E-B0ED-E1E8B559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9E9-F34B-4C0D-A8E4-3DC5E34D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5CB-4016-4FC9-AA57-554E5FC0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5EC-36A7-4924-A201-A004345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FF1-F624-4A1D-9D04-ED49EFF4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A0E-5CD2-4A8A-8876-9E796B64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3A9-3C22-4D71-B838-151DD358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9C54-4872-41CE-871B-7E37E7D951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5F12-3AF8-447C-8820-C61F5B1BE5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499920"/>
            <a:ext cx="82072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бота в лавке занимала всё свободное время детей, чередуясь с  гимназией и спевками церковного хора. Часто делать уроки братьям приходилось за конторкой, не прерывая торговли.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В лавке собирались купцы и горожане. Услышанные от них истории легли в основу некоторых ранних рассказов А.П.Чехова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16" descr="PDVD_023"/>
          <p:cNvPicPr/>
          <p:nvPr/>
        </p:nvPicPr>
        <p:blipFill>
          <a:blip r:embed="rId1"/>
          <a:srcRect l="3445" t="3937" r="3445" b="3937"/>
          <a:stretch/>
        </p:blipFill>
        <p:spPr>
          <a:xfrm>
            <a:off x="777960" y="620640"/>
            <a:ext cx="4348080" cy="2881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5435640" y="765000"/>
            <a:ext cx="3457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детств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 нас не было детства…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.П.Чех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14800" y="1285920"/>
            <a:ext cx="564336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итератор – человек, обязанный,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законтрактированный сознанием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своего долга и совестью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А.П.Чехов     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278136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28760" y="300024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 1885 года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начали появляться в печати первые зрелые рассказы. В них юмор играет новую роль: он или ещё больше усиливает, оттеняет трагическое, или «смягчает» трагедию мудрой улыбкой. Задача автора- изображение жизни во всём богатстве её красок и мотивов. Отвращение  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любому насилию удерживает его от морализирования и подсказок читател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86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Чехов начинает сотрудничать с газетой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«Новое время»,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где подписывается настоящим имен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C:\Documents and Settings\SERG\Рабочий стол\21693s.jpg"/>
          <p:cNvPicPr/>
          <p:nvPr/>
        </p:nvPicPr>
        <p:blipFill>
          <a:blip r:embed="rId1"/>
          <a:stretch/>
        </p:blipFill>
        <p:spPr>
          <a:xfrm>
            <a:off x="785880" y="214200"/>
            <a:ext cx="2214360" cy="281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11280" y="285264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Основная мысль рассказов, повестей, пьес Чехова– это жизнь обыкновенных людей, современников писателя. Он пишет о заблуждениях, ложных представлениях судьбы, выбранной геро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не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литературе не было миниатюрного рассказа, наполненного философским, психологическим и художественным содержанием, где трагическое, переплетаясь с комическим, заставляет читателей думать о жизни, о людях, о себ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276720" y="692280"/>
            <a:ext cx="53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900000" y="260280"/>
            <a:ext cx="2016360" cy="2521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8" descr="шд"/>
          <p:cNvPicPr/>
          <p:nvPr/>
        </p:nvPicPr>
        <p:blipFill>
          <a:blip r:embed="rId1"/>
          <a:stretch/>
        </p:blipFill>
        <p:spPr>
          <a:xfrm>
            <a:off x="971640" y="333360"/>
            <a:ext cx="1871640" cy="2374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3132000" y="33336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Художественная литература потому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 называется художественной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исует жизнь такой, какова о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сть на самом деле. Её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азначение – правда.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.П.Чех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76720" y="259920"/>
            <a:ext cx="5472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84360" y="285264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усские писатели тепло встретили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изведения Чехова. Посвятив своё творчество борьбе за человеческое в человеке, он стал последователем М.Е.Салтыкова-Щедрина, к которому относился с глубоким уважени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второв сближает тема обличения российской действительности и такие приёмы творчества, как говорящие фамилии, гротеск, контрастное сопоставление образов и событ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03640" y="4762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76720" y="692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419640" y="62064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Чехове Россия полюб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ебя. Никто так не выраз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ё собирательный тип, как он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Л.Калюж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8" descr="C:\Documents and Settings\SERG\Рабочий стол\000004.jpg"/>
          <p:cNvPicPr/>
          <p:nvPr/>
        </p:nvPicPr>
        <p:blipFill>
          <a:blip r:embed="rId1"/>
          <a:stretch/>
        </p:blipFill>
        <p:spPr>
          <a:xfrm>
            <a:off x="714240" y="214200"/>
            <a:ext cx="221472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32000" y="2133360"/>
            <a:ext cx="55548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Чехов – это Пушкин в прозе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Л.Н.Толстой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В русской литературе     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блеснул  ум удивительный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И.А.Бунин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81471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«Конечно, премия - большая штука, и не для меня одного. Я счастлив, что указал путь многим толстым журналам. Написанное мною забудется через 5-10 лет, но пути, мною проложенные, будут целы и невредимы - в этом моя единственная заслуга», - писал А.П.Чех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0" y="2287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11280" y="18900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1888 году за сборник «Сумерки» Чехову была присуждена Пушкинская премия Академии на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C:\Documents and Settings\SERG\Рабочий стол\clip_image002.jpg"/>
          <p:cNvPicPr/>
          <p:nvPr/>
        </p:nvPicPr>
        <p:blipFill>
          <a:blip r:embed="rId1"/>
          <a:stretch/>
        </p:blipFill>
        <p:spPr>
          <a:xfrm>
            <a:off x="500040" y="1444680"/>
            <a:ext cx="2643120" cy="284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86080" y="1557000"/>
            <a:ext cx="5572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следствие разницы климатов,  умов, возрастов равенство среди людей  невозможно. Но мы можем сделать неравенство незаметным…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этом отношении многое сделают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оспитание и   культура.      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А.П.Чехов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3857400"/>
            <a:ext cx="806436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.П.Чехов остро чувствовал отдалённость русского народа в просвещении и культуре, отсутствие уважения к человеческому достоинству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исатель активно занимался общественной деятельностью.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На собственные деньги он построил четыре шко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3" descr="C:\Documents and Settings\SERG\Рабочий стол\anton_chekhov.jpg"/>
          <p:cNvPicPr/>
          <p:nvPr/>
        </p:nvPicPr>
        <p:blipFill>
          <a:blip r:embed="rId1"/>
          <a:stretch/>
        </p:blipFill>
        <p:spPr>
          <a:xfrm>
            <a:off x="500040" y="571680"/>
            <a:ext cx="2571840" cy="299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Для меня не было и не будет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души прекраснее чеховской.</a:t>
            </a:r>
            <a:br>
              <a:rPr sz="2800"/>
            </a:b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К.И.Чуковски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3929040" y="2143080"/>
            <a:ext cx="47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родном Таганроге писатель создал богатую библиотеку. В период с 1890 по 1904 год он прислал для неё около двух тысяч бесценных кни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В 1894 году Чехову присвоено звание попечителя Таганрогской библиотеки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, которым он  очень гордился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C:\Documents and Settings\SERG\Рабочий стол\265843.jpg"/>
          <p:cNvPicPr/>
          <p:nvPr/>
        </p:nvPicPr>
        <p:blipFill>
          <a:blip r:embed="rId1"/>
          <a:stretch/>
        </p:blipFill>
        <p:spPr>
          <a:xfrm>
            <a:off x="214200" y="1143000"/>
            <a:ext cx="3143520" cy="479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31640" y="835200"/>
            <a:ext cx="547236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Душа у меня кипит, но я рад,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что в моём беллетристическом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гардеробе будет висеть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арестантский халат. Пусть висит!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А.П.Чех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684360" y="285768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90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писатель совершил долгое и трудное путешествие на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Сахалин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, где изучал жизнь каторжан и ссыльных. В очерковой книге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«Остров Сахалин»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запечатлены местные нравы, начальники и надзиратели, которые «в обращении с низшими не признают ничего, кроме кулаков, розг и извозчичьей брани», сцены жестоких наказаний и казней.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сле увиденного на «каторжном острове» Чехов стал резче и беспощаднее относиться ко многим явлениям российской действи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:\Documents and Settings\SERG\Рабочий стол\30.jpg"/>
          <p:cNvPicPr/>
          <p:nvPr/>
        </p:nvPicPr>
        <p:blipFill>
          <a:blip r:embed="rId1"/>
          <a:stretch/>
        </p:blipFill>
        <p:spPr>
          <a:xfrm>
            <a:off x="785880" y="357120"/>
            <a:ext cx="2286000" cy="256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14960" y="1341360"/>
            <a:ext cx="32148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сли я врач, то мне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ужны больные и больница, если я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итератор, то мне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нужно жить среди народа…    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А.П.Чехов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95280" y="328608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92 году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исатель поселился в подмосковной усадьбе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Мелихово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Он принимал больных, участвовал в борьбе с эпидемией холеры, строил школы и церкви, организовывал помощь голодающим. На впечатлениях тех лет основаны рассказы, которые сам автор называл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«повести из народной жизн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октор Чехов любил выписывать рецепты, а Чехов-художник готовых рецептов не предлагает, оставляя простор для размышления самим читател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6" descr="C:\Documents and Settings\SERG\Рабочий стол\mel_1.jpg"/>
          <p:cNvPicPr/>
          <p:nvPr/>
        </p:nvPicPr>
        <p:blipFill>
          <a:blip r:embed="rId1"/>
          <a:stretch/>
        </p:blipFill>
        <p:spPr>
          <a:xfrm>
            <a:off x="357120" y="285840"/>
            <a:ext cx="474192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755640" y="321300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последние годы жизни пришёлся расцвет Чехова-драматург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 1896 по 1903 го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ы новаторские по дух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 стилю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ьесы: «Дядя Ваня»,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«Чайка», «Три сестры», «Вишнёвый сад»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раматургия Чехова стала необычайно популярна благодаря Московскому художественному театру и завоевала театральные подмостки вс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419640" y="836640"/>
            <a:ext cx="54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611280" y="206064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492360" y="476280"/>
            <a:ext cx="53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релесть пьес Чехова в то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е передаётся словами, а скрыто под ними или в паузах, или во взглядах актёров, в излуч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х внутреннего чув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.К.Станисла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611280" y="404640"/>
            <a:ext cx="2376360" cy="2664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5" descr="ч2"/>
          <p:cNvPicPr/>
          <p:nvPr/>
        </p:nvPicPr>
        <p:blipFill>
          <a:blip r:embed="rId1"/>
          <a:stretch/>
        </p:blipFill>
        <p:spPr>
          <a:xfrm>
            <a:off x="684360" y="476280"/>
            <a:ext cx="226512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7840" y="1499760"/>
            <a:ext cx="428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Большая любовь входила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жизнь Антона Павловича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в общей атмосфере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расоты, волнующего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жидания праздника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скусства…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В.Ермил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3429000"/>
            <a:ext cx="836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сентябре 1898 года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репетиции «Чайки» Чехов познакомился со своей будущей женой, ведущей актрисой Московского художественного театра Ольгой Книппер. Антон Павлович вспоминал: «Меня приятно тронула интеллигентность тона, и со сцены повеяло настоящим искусством. Голос, задушевность, благородство - так хорошо..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2600" indent="-10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C:\Documents and Settings\SERG\Рабочий стол\ольга.jpg"/>
          <p:cNvPicPr/>
          <p:nvPr/>
        </p:nvPicPr>
        <p:blipFill>
          <a:blip r:embed="rId1"/>
          <a:srcRect l="-659" t="0" r="0" b="0"/>
          <a:stretch/>
        </p:blipFill>
        <p:spPr>
          <a:xfrm>
            <a:off x="214200" y="214200"/>
            <a:ext cx="4543560" cy="308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4221000"/>
            <a:ext cx="80643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читалась идеальной с точки зрения царского министерства народного просвещения. Это была настоящая фабрика рабов, где учеников стремились забить до состояния трепета и угодливости, уничтожив в них сознание собственного достоинства.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PDVD_016"/>
          <p:cNvPicPr/>
          <p:nvPr/>
        </p:nvPicPr>
        <p:blipFill>
          <a:blip r:embed="rId1"/>
          <a:srcRect l="3445" t="5249" r="3445" b="5249"/>
          <a:stretch/>
        </p:blipFill>
        <p:spPr>
          <a:xfrm>
            <a:off x="1116000" y="836640"/>
            <a:ext cx="6551640" cy="3456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2071800" y="857160"/>
            <a:ext cx="66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76520" y="189000"/>
            <a:ext cx="51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аганрогская гимна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28760" y="1571400"/>
            <a:ext cx="396396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Я как в изгнании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Чувствую, как мимо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меня уходит жизнь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 как я не вижу много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ого, что как литератор должен бы видеть…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А.П.Чехов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39640" y="342900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97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из-за обострения болезни Чехов уезжает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Ялт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. Отъезд томил его оторванностью от событий, происходивших в стране. За несколько месяцев до смерти, не имея шансов на выздоровление, писател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меревался ехать в действующую армию врач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етом 1904 года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О.Книппер – Чехова увезла муж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Баденвейлер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, маленький курорт на юге Герм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C:\Documents and Settings\SERG\Рабочий стол\10402.jpg"/>
          <p:cNvPicPr/>
          <p:nvPr/>
        </p:nvPicPr>
        <p:blipFill>
          <a:blip r:embed="rId1"/>
          <a:stretch/>
        </p:blipFill>
        <p:spPr>
          <a:xfrm>
            <a:off x="214200" y="214200"/>
            <a:ext cx="4429080" cy="293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3320" y="2785680"/>
            <a:ext cx="35715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нтон Павлович Чехов скончался в Баденвейлере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в ночь с 1 на 2 июля 1904 года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хоронен в Москве на Новодевичьем кладбище. Рядом находится могила отца писателя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6" name="Picture 5" descr="C:\Documents and Settings\SERG\Рабочий стол\bimg091.jpg"/>
          <p:cNvPicPr/>
          <p:nvPr/>
        </p:nvPicPr>
        <p:blipFill>
          <a:blip r:embed="rId1"/>
          <a:stretch/>
        </p:blipFill>
        <p:spPr>
          <a:xfrm>
            <a:off x="285840" y="571680"/>
            <a:ext cx="462924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91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Домашнее задание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Письменный ответ на вопрос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(по выбору учащихся)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2286000" y="836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395280" y="2276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5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 чём бы я спросил (за что бы поблагодарил) А.П.Чехова, если бы встретился с ним?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2. Какая черта характера особенно привлекает вас в личности А.П.Чехова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715920"/>
            <a:ext cx="80647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детские и отроческие годы театр был самым сильным увлечением Антона. Гимназистам не разрешалось без письменного разрешения начальства посещать спектакли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Чехову приходилось переодеваться и накладывать грим, чтобы в нём не узнали ученика гимназии. Он был блестящим мастером импровизации, умел быстро менять облик и интонации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8" descr="PDVD_008"/>
          <p:cNvPicPr/>
          <p:nvPr/>
        </p:nvPicPr>
        <p:blipFill>
          <a:blip r:embed="rId1"/>
          <a:srcRect l="3937" t="8530" r="6398" b="5249"/>
          <a:stretch/>
        </p:blipFill>
        <p:spPr>
          <a:xfrm>
            <a:off x="428760" y="857160"/>
            <a:ext cx="3929040" cy="2457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-252360" y="18900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аганрогский драматический теа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4500720" y="112536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юбовь к театру ст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дной из самых ярких радостей в жизни Чех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.Роск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65300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76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Чеховы разорились и вынуждены были перебраться в Москву. Антон один остался в Таганроге  заканчивать гимназию. Он распродавал мебель и высылал деньги родителям, старался помочь семье частными уроками.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Жить ему пришлось в родном доме, ставшем теперь чужим. Новые хозяева предложили угол, платой за который были занятия с их ребёнком.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3" descr="PDVD_007"/>
          <p:cNvPicPr/>
          <p:nvPr/>
        </p:nvPicPr>
        <p:blipFill>
          <a:blip r:embed="rId1"/>
          <a:srcRect l="2953" t="3281" r="2953" b="13123"/>
          <a:stretch/>
        </p:blipFill>
        <p:spPr>
          <a:xfrm>
            <a:off x="539640" y="260280"/>
            <a:ext cx="4176720" cy="2881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932360" y="189000"/>
            <a:ext cx="38876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Шестнадцатилетний юноша из разорившейся семьи держался с безупречным достоинством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.Ермилов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714840"/>
            <a:ext cx="8424720" cy="25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79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Антон, переехал в Москву и поступил на медицинский факультет Московского университета. В доме родителей он застал тесноту, бедность, ссоры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Годы одиночества сделали его душу сильной, поэтому спокойно и твёрдо он дал понять отцу, что с окриками и телесными наказаниями покончено. Антон взял на себя заботу о матери и младших детях: плату за квартиру и обучение, долги в лавке.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 в 19 лет Чехов стал главой и кормильцем семьи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780000" y="620640"/>
            <a:ext cx="50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2987640" y="476280"/>
            <a:ext cx="59770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т природы характер у меня резк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я вспыльчив… Но я привы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держиваться, ибо распускать себ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рядочному человеку не подобает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.П.Чех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C:\Documents and Settings\SERG\Рабочий стол\597821852.jpg"/>
          <p:cNvPicPr/>
          <p:nvPr/>
        </p:nvPicPr>
        <p:blipFill>
          <a:blip r:embed="rId1"/>
          <a:stretch/>
        </p:blipFill>
        <p:spPr>
          <a:xfrm>
            <a:off x="571680" y="285840"/>
            <a:ext cx="26366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00040" y="3214800"/>
            <a:ext cx="803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 период безденежья, желая заработать деньги на празднование именин матери, Антон написал рассказ «Письмо к учёному соседу» и отправил его в журнал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«Стрекоза»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На полученный гонорар был устроен семейный праздн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том Чехов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печатался в журналах «Осколки», «Зритель», «Будильник», «Сверчок»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Он работал в жанре короткого юмористического рассказа, пародии и даже сочинял подписи к карикатур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143240" y="549360"/>
            <a:ext cx="4389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е понимает человек шутки – пиши пропало!.. Это уже не настоящий ум, будь он  хоть семи пядей во лбу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.П.Чех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0" descr="11"/>
          <p:cNvPicPr/>
          <p:nvPr/>
        </p:nvPicPr>
        <p:blipFill>
          <a:blip r:embed="rId1"/>
          <a:srcRect l="0" t="0" r="0" b="11198"/>
          <a:stretch/>
        </p:blipFill>
        <p:spPr>
          <a:xfrm>
            <a:off x="1143000" y="285840"/>
            <a:ext cx="250020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9000" y="1499760"/>
            <a:ext cx="5286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Юный Чехов обнажал смешную, жалкую сущность самых страшных своих врагов – деспотизма, рабства, лжи, ханжества. И враги переставали казаться непобедимыми.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.Ермилов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3796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42960" y="3143160"/>
            <a:ext cx="7921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«Крохотные рассказы Чехонте засверкали на газетных листах, как рассыпанные на сером листе алмазы», -</a:t>
            </a: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спомин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временники писате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Читатели отмечали удивительную способность Чехова, рассказывая о разных персонажах, «говорить и думать в их тоне, чувствовать в их духе»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последствии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втор сам удивлялся «целым горам» рассказов, написанным им в студенческие годы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C:\Documents and Settings\SERG\Рабочий стол\579451265.jpg"/>
          <p:cNvPicPr/>
          <p:nvPr/>
        </p:nvPicPr>
        <p:blipFill>
          <a:blip r:embed="rId1"/>
          <a:stretch/>
        </p:blipFill>
        <p:spPr>
          <a:xfrm>
            <a:off x="285840" y="285840"/>
            <a:ext cx="278604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720" y="38088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11280" y="335772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Чехов стал творцом нового вида литературы – маленького рассказа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, вбирающего в себя повесть и роман, добился небывалой ёмкости, вместительности формы. За короткими пейзажами, диалогами, маленькими деталями и незначительными репликами читатель всегда угадывает не названные автором, но ясно видные глубины жизни. Необходимость сокращать превратилась в закон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3564000" y="3284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00040" y="620640"/>
            <a:ext cx="46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Умею кратко писать о длинных вещ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скусство писать – это искусство сокращ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раткость – сестра талан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C:\Documents and Settings\SERG\Рабочий стол\36021510_27.jpg"/>
          <p:cNvPicPr/>
          <p:nvPr/>
        </p:nvPicPr>
        <p:blipFill>
          <a:blip r:embed="rId1"/>
          <a:stretch/>
        </p:blipFill>
        <p:spPr>
          <a:xfrm>
            <a:off x="5786280" y="357120"/>
            <a:ext cx="2428920" cy="29494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7"/>
          <p:cNvSpPr/>
          <p:nvPr/>
        </p:nvSpPr>
        <p:spPr>
          <a:xfrm>
            <a:off x="3948120" y="264312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А.П.Чех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16360" y="692280"/>
            <a:ext cx="5184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ы поразил меня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   как пейзажист…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.И.Левитан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263700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84 г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исатель приехал в подмосковный город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оскресенск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Здесь развилась любовь к среднерусской природе, сделавшая его мастером пейзажа, и началась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дружба И.И.Левитаном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Чехов ввёл в литературу новый пейзаж, отказавшись от описания подробностей и заменив их одной наиболее характерной деталью. Он говорил: «Для описания лунной ночи достаточно того, чтобы на плотине  блестело горлышко от разбитой бутылки и чернела тень от мельничного колес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71640" y="260280"/>
            <a:ext cx="2016000" cy="22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3" descr="Левитан"/>
          <p:cNvPicPr/>
          <p:nvPr/>
        </p:nvPicPr>
        <p:blipFill>
          <a:blip r:embed="rId1"/>
          <a:stretch/>
        </p:blipFill>
        <p:spPr>
          <a:xfrm>
            <a:off x="1042920" y="333360"/>
            <a:ext cx="18748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7:06:53Z</dcterms:created>
  <dc:creator>52</dc:creator>
  <dc:description/>
  <dc:language>en-US</dc:language>
  <cp:lastModifiedBy>SERG</cp:lastModifiedBy>
  <dcterms:modified xsi:type="dcterms:W3CDTF">2012-12-11T14:10:09Z</dcterms:modified>
  <cp:revision>122</cp:revision>
  <dc:subject/>
  <dc:title>Слайд 1</dc:title>
</cp:coreProperties>
</file>