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5A86-B627-435E-9A9C-4A96C4237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010B-BF91-4A74-B125-0B88138E7D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ACC-8C49-48E7-A974-3884B0070D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298-B950-48EB-9E35-560B6A36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ED4-CE1B-457C-AF56-E8E3DC7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FF6-B437-4FC3-AE89-2D88C22D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1EA-9AB6-4F59-9C75-1B7692D8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8570-0EA7-40FF-9E3E-7C5EFBF7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097-8513-4D95-97EA-059E2A13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AED-5006-4703-98D1-0EEC112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58AF-F188-45EA-AA81-7ADC4AF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FC69-7D09-4C5E-9E8D-6B745ED9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4DA5-B5C3-420C-9E02-7FF394F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DED2-0B80-4108-BFD8-387B184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174-D13D-4072-B544-19D0C5A5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E23-DC6E-4474-B43F-9563FC15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1250-2E4E-4BFD-8FDD-FC0941C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522B-3B30-4348-B9FE-F646BA29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131A-6D2F-4297-B760-BE5764F3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7644-22EA-4766-A2C8-8C1C2434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B9A-154C-4987-931A-AFB9EC3F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FEA-22E1-4BA0-8CAE-99B30FB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1C8-0E8A-4738-B6D9-0C1DD0BB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1AC-36A4-4B4A-BF6B-35F5AE5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F1F-57C5-4B33-BD73-4FF27BF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B2A-5660-49C3-99E8-1CF84CC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3BA-EAEE-44CC-8B2B-9B8E9941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8272-E791-40C2-AC7A-2C249F2D4997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F94-A7D7-4155-B373-5102AD09F97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A3D-F387-422B-AF6D-78EEA6F6B481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8E42-B8CD-44A0-8704-D81B91E627D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414324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Garamond"/>
              </a:rPr>
              <a:t>Семья.</a:t>
            </a:r>
            <a:br>
              <a:rPr sz="4600"/>
            </a:br>
            <a:r>
              <a:rPr b="1" lang="en-US" sz="4600" spc="-1" strike="noStrike">
                <a:solidFill>
                  <a:srgbClr val="cc0000"/>
                </a:solidFill>
                <a:latin typeface="Garamond"/>
              </a:rPr>
              <a:t>Семейные отношения.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572000" y="5805360"/>
            <a:ext cx="500040" cy="53496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Garamond"/>
              </a:rPr>
              <a:t>Разговор хором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635280" y="5373720"/>
            <a:ext cx="1152720" cy="80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95280" y="5589720"/>
            <a:ext cx="1152360" cy="803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7812000" y="5445000"/>
            <a:ext cx="1152720" cy="80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8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1258920" y="5950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7451640" y="5877000"/>
            <a:ext cx="500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ЕОБХОДИМО НЕ ТОЛЬКО ГОВОРИТЬ, НО И СЛУШАТЬ ДРУГ ДРУ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ЧЛЕНЫ СЕМЬИ ДОЛЖНЫ УВАЖИТЕЛЬНО ОТНОСИТЬСЯ ДРУГ К ДРУГУ И БЫТЬ ВЗАИМОВЕЖЛИВ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924360" y="5516640"/>
            <a:ext cx="942840" cy="65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0" y="544500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7380360" y="537372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11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57200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8101080" y="5661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3564000" y="573408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20050723222919_photoblog_daisy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24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20050723222919_photoblog_daisy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СЕМЬЕ НАМ ПРИХОДИТЬСЯ ПОДСТРАИВАТЬСЯ ДРУГ ПОД ДРУГА, УЧИТЫВАТЬ НЕ ТОЛЬКО СВОИ ЖЕЛАНИЯ, НО И ЧУВСТВА ДРУГИ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34800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7451640" y="414972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5867280" y="5661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0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97164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7885080" y="465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7308720" y="4869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6372360" y="595008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427640" y="5734080"/>
            <a:ext cx="4093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780000" y="551664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172360" y="5589720"/>
            <a:ext cx="743040" cy="981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4464360" cy="32688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ава и обязанности в семь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7667640" y="558972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250920" y="5373720"/>
            <a:ext cx="760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семья0010"/>
          <p:cNvPicPr/>
          <p:nvPr/>
        </p:nvPicPr>
        <p:blipFill>
          <a:blip r:embed="rId1"/>
          <a:stretch/>
        </p:blipFill>
        <p:spPr>
          <a:xfrm>
            <a:off x="1116000" y="189000"/>
            <a:ext cx="6985080" cy="460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042920" y="5084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бери, чему ты хотел науч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каждой семьи, а что бы сдел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-сво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КАЖДОГО ЧЛЕНА СЕМЬ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СТЬ СВОИ ПРАВА И ОБЯЗАННОСТ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348000" y="544500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395280" y="573408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5724360" y="5805360"/>
            <a:ext cx="685800" cy="73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8172360" y="530064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1042920" y="6093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3059280" y="5805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6227640" y="602136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7956720" y="580536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8000" y="5661000"/>
            <a:ext cx="4032360" cy="828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4869000"/>
            <a:ext cx="18702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869000"/>
            <a:ext cx="208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4076640"/>
            <a:ext cx="18720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4076640"/>
            <a:ext cx="208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3213000"/>
            <a:ext cx="1366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213000"/>
            <a:ext cx="12733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2349360"/>
            <a:ext cx="1366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2349360"/>
            <a:ext cx="12733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1557360"/>
            <a:ext cx="403236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340000" y="259920"/>
            <a:ext cx="187164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211280" y="259920"/>
            <a:ext cx="208908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95640" y="5445000"/>
            <a:ext cx="439092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797360"/>
            <a:ext cx="201600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ВЕР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797360"/>
            <a:ext cx="2447640" cy="698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4076640"/>
            <a:ext cx="2016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МОЩЬ ДР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РУ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4076640"/>
            <a:ext cx="237492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ЧЕСТНОСТ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284640"/>
            <a:ext cx="143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284640"/>
            <a:ext cx="1346400" cy="7696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565360"/>
            <a:ext cx="143964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2565360"/>
            <a:ext cx="1346400" cy="7192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1773360"/>
            <a:ext cx="439236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ЗАИМОПОНИМ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2781360"/>
            <a:ext cx="1368360" cy="1225440"/>
          </a:xfrm>
          <a:custGeom>
            <a:avLst/>
            <a:gdLst>
              <a:gd name="textAreaLeft" fmla="*/ 321480 w 1368360"/>
              <a:gd name="textAreaRight" fmla="*/ 1045800 w 136836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95640" y="259920"/>
            <a:ext cx="223200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260280"/>
            <a:ext cx="216036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5292720" y="260280"/>
            <a:ext cx="3851280" cy="1139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79280" y="5877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7524720" y="566100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8458200" y="5661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659640" y="58770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900000" y="5734080"/>
            <a:ext cx="836640" cy="895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611280" y="6237360"/>
            <a:ext cx="579240" cy="620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172360" y="632304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45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2872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38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2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572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7308720" y="5013360"/>
            <a:ext cx="743040" cy="98100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Письмо себе в будущее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3780000" y="5516640"/>
            <a:ext cx="942840" cy="657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971640" y="5661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468360" y="5661000"/>
            <a:ext cx="500040" cy="5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4944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ВЫВОД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АЖНО ПРАВИЛЬНО ОТНОСИТЬСЯ К ВОЗНИКАЮЩИМ ТРУДНОСТЯМ И СТРЕМИТЬСЯ ИХ ПРЕОДОЛЕТЬ, НЕ ОБИДЕВ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ОБХОДИМО НЕ ТОЛЬКО ГОВОРИТЬ, НО И СЛУШАТЬ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 ЧЛЕНЫ СЕМЬИ ДОЛЖНЫ УВАЖИТЕЛЬНО ОТНОСИТЬСЯ ДРУГ К ДРУГУ И БЫТЬ ВЗАИМОВЕЖЛИ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СЕМЬЕ НАМ ПРИХОДИТЬСЯ ПОДСТРАИВАТЬСЯ ДРУГ ПОД ДРУГА, УЧИТЫВАТЬ НЕ ТОЛЬКО СВОИ ЖЕЛАНИЯ, НО И ЧУВСТВА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a1a"/>
                </a:solidFill>
                <a:latin typeface="Garamond"/>
              </a:rPr>
              <a:t>Р</a:t>
            </a:r>
            <a:r>
              <a:rPr b="1" lang="en-US" sz="4800" spc="-1" strike="noStrike">
                <a:solidFill>
                  <a:srgbClr val="8eb4e3"/>
                </a:solidFill>
                <a:latin typeface="Garamond"/>
              </a:rPr>
              <a:t>А</a:t>
            </a:r>
            <a:r>
              <a:rPr b="1" lang="en-US" sz="4800" spc="-1" strike="noStrike">
                <a:solidFill>
                  <a:srgbClr val="953735"/>
                </a:solidFill>
                <a:latin typeface="Garamond"/>
              </a:rPr>
              <a:t>З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Н</a:t>
            </a:r>
            <a:r>
              <a:rPr b="1" lang="en-US" sz="4800" spc="-1" strike="noStrike">
                <a:solidFill>
                  <a:srgbClr val="00b050"/>
                </a:solidFill>
                <a:latin typeface="Garamond"/>
              </a:rPr>
              <a:t>О</a:t>
            </a:r>
            <a:r>
              <a:rPr b="1" lang="en-US" sz="4800" spc="-1" strike="noStrike">
                <a:solidFill>
                  <a:srgbClr val="00b0f0"/>
                </a:solidFill>
                <a:latin typeface="Garamond"/>
              </a:rPr>
              <a:t>Ц</a:t>
            </a:r>
            <a:r>
              <a:rPr b="1" lang="en-US" sz="4800" spc="-1" strike="noStrike">
                <a:solidFill>
                  <a:srgbClr val="0070c0"/>
                </a:solidFill>
                <a:latin typeface="Garamond"/>
              </a:rPr>
              <a:t>В</a:t>
            </a:r>
            <a:r>
              <a:rPr b="1" lang="en-US" sz="4800" spc="-1" strike="noStrike">
                <a:solidFill>
                  <a:srgbClr val="002060"/>
                </a:solidFill>
                <a:latin typeface="Garamond"/>
              </a:rPr>
              <a:t>Е</a:t>
            </a:r>
            <a:r>
              <a:rPr b="1" lang="en-US" sz="4800" spc="-1" strike="noStrike">
                <a:solidFill>
                  <a:srgbClr val="7030a0"/>
                </a:solidFill>
                <a:latin typeface="Garamond"/>
              </a:rPr>
              <a:t>Т</a:t>
            </a:r>
            <a:r>
              <a:rPr b="1" lang="en-US" sz="4800" spc="-1" strike="noStrike">
                <a:solidFill>
                  <a:srgbClr val="33cc33"/>
                </a:solidFill>
                <a:latin typeface="Garamond"/>
              </a:rPr>
              <a:t>Н</a:t>
            </a:r>
            <a:r>
              <a:rPr b="1" lang="en-US" sz="4800" spc="-1" strike="noStrike">
                <a:solidFill>
                  <a:srgbClr val="ff1a1a"/>
                </a:solidFill>
                <a:latin typeface="Garamond"/>
              </a:rPr>
              <a:t>А</a:t>
            </a:r>
            <a:r>
              <a:rPr b="1" lang="en-US" sz="4800" spc="-1" strike="noStrike">
                <a:solidFill>
                  <a:srgbClr val="00b0f0"/>
                </a:solidFill>
                <a:latin typeface="Garamond"/>
              </a:rPr>
              <a:t>Я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e46c0a"/>
                </a:solidFill>
                <a:latin typeface="Garamond"/>
              </a:rPr>
              <a:t>С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Е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М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en-US" sz="4800" spc="-1" strike="noStrike">
                <a:solidFill>
                  <a:srgbClr val="7030a0"/>
                </a:solidFill>
                <a:latin typeface="Garamond"/>
              </a:rPr>
              <a:t>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дной коробке с карандашами родился маленький карандашик. Взрослые карандаши - мама, папа, бабушка и дедушка - были цветными. Причем у каждого из них был свой цвет. Маленький карандашик еще не имел своего цвета, ему еще предстояло стать цветным. Каждый день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иня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ма учила его, как быть синим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па - как окраситься в красный цвет, потому что его выбирают чаще всего, рисуя прекрасные картины.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д спорил со всеми, говоря о важности желтого цвета, а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зелёна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абушка брала внука за руку, и на какое-то мгновение он зеленел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проходил день за днем, и во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4" descr="%F0%E8%F1%F3%ED%EE%EA%20%20%F1%E5%EC%FC%FF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8980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907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45"/>
          <p:cNvPicPr/>
          <p:nvPr/>
        </p:nvPicPr>
        <p:blipFill>
          <a:blip r:embed="rId1"/>
          <a:stretch/>
        </p:blipFill>
        <p:spPr>
          <a:xfrm>
            <a:off x="179280" y="268200"/>
            <a:ext cx="8785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У каждого свое представление о семье.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Какие ассоциации с этим словом возникают у вас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постройка, то кака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цвет, то какой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музыка, то кака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геометрическая фигура, т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а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семья — это настроение, то како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ОСЛОВИЦ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ПОСЛОВИЦ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Где любовь и совет, там и горя н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 что клад, когда в семье ла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емья в куче, не страшна и туч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семью, где лад, счастье дорогу не забыв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 хорошей семье и дети хорошие раст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ся семья вместе, так и душа на мес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емья как печка: как холодно все к ней собирают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берите из следующих качеств те, которые особенно нужны: хорошему семьянину – мужчине, хранительнице очага- женщине, ребенку:</a:t>
            </a:r>
            <a:br>
              <a:rPr sz="2800"/>
            </a:b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Смелость, ответственность, мягкость, послушность, честность, заботливость, верность, красота, мужественность, скромность, бережливость, щедрость, чувство юмора, совесть, любовь к детям,</a:t>
            </a:r>
            <a:r>
              <a:rPr b="1" lang="en-US" sz="2800" spc="-1" strike="noStrike">
                <a:solidFill>
                  <a:srgbClr val="cc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ум,</a:t>
            </a:r>
            <a:r>
              <a:rPr b="1" lang="en-US" sz="2800" spc="-1" strike="noStrike">
                <a:solidFill>
                  <a:srgbClr val="cc99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cc9900"/>
                </a:solidFill>
                <a:latin typeface="Garamond"/>
              </a:rPr>
              <a:t>сильная воля.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2268360" y="476280"/>
            <a:ext cx="571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60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5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2411280" y="1989000"/>
            <a:ext cx="4000680" cy="228600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Копилка трудност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067280" y="5734080"/>
            <a:ext cx="86364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АЖНО ПРАВИЛЬНО ОТНОСИТЬСЯ К ВОЗНИКАЮЩИМ ТРУДНОСТЯМ И СТРЕМИТЬСЯ ИХ ПРЕОДОЛЕТЬ, НЕ ОБИДЕВ ДРУГ ДРУ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042920" y="58053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804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8317080" y="5157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16436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532720" y="551664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428472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3419640" y="5950080"/>
            <a:ext cx="409320" cy="28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2:11:19Z</dcterms:created>
  <dc:creator>Майкл</dc:creator>
  <dc:description>http://aida.ucoz.ru</dc:description>
  <dc:language>en-US</dc:language>
  <cp:lastModifiedBy>Admin</cp:lastModifiedBy>
  <dcterms:modified xsi:type="dcterms:W3CDTF">2012-11-27T18:23:01Z</dcterms:modified>
  <cp:revision>33</cp:revision>
  <dc:subject/>
  <dc:title>Семейные ценности в современном обществе</dc:title>
</cp:coreProperties>
</file>