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C9A-BCB0-476E-9257-653A796E16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9DC4-9018-4E00-AC06-D5D3891F33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FB43-12EA-42E9-9E3D-5062E7602A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DF8-D9F0-4BC3-9155-9061FC0A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C67-A471-443F-A1C0-10CCF092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3AD-E35E-4724-BCB3-0C955467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C73-1374-4420-917B-047B2368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DFE1-2C3D-4F4F-BEB7-09DA2B5E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B64-8E3F-4C68-A66E-EDC32CC7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78B3-8F34-4D83-B78C-16E6682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41F1-F416-4EA4-9AA6-9B397EDB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7C87-C49F-4390-8F2B-D4356BAE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1198-9CD6-47FB-A0B0-B75E1200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993A-894F-4559-84D9-06DBBAA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8F7-BB43-4C95-994F-AD8DED97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313A-6ADB-490B-BA77-79C80E7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B46-BAD3-4083-947B-C4EEAB8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421A-0334-45B2-BDDB-8E4EFC27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246-32B0-4F16-8700-106EF92A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8A00-C4D8-4CF1-8DFE-50008B36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392-3717-4A18-BD23-585DEB49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96B-F61E-47FB-8BD3-A28D5D99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E8E-12AF-42EB-BABA-CBE2C965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97E-0546-4591-A930-C15CBF2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D68-A977-49EF-A0F6-07B29932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946-95BB-4B5C-BC17-41C57641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B9A-60C6-4172-B92B-1438FE6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6ABE-BBBA-4E97-9955-A28246EF73A0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2AC-0F5D-4E38-9600-9ED5AF40FF4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3C4A-8D5E-4B2D-9BF9-31F4AEA7AEC9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2F5A-BB91-4D6E-8524-AD478831873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414324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Garamond"/>
              </a:rPr>
              <a:t>Семья.</a:t>
            </a:r>
            <a:br>
              <a:rPr sz="4600"/>
            </a:br>
            <a:r>
              <a:rPr b="1" lang="en-US" sz="4600" spc="-1" strike="noStrike">
                <a:solidFill>
                  <a:srgbClr val="cc0000"/>
                </a:solidFill>
                <a:latin typeface="Garamond"/>
              </a:rPr>
              <a:t>Семейные отношения.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572000" y="580536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1"/>
          <p:cNvSpPr/>
          <p:nvPr/>
        </p:nvSpPr>
        <p:spPr>
          <a:xfrm>
            <a:off x="2411280" y="198900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Garamond"/>
              </a:rPr>
              <a:t>Разговор хором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3635280" y="5373720"/>
            <a:ext cx="1152720" cy="80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95280" y="5589720"/>
            <a:ext cx="1152360" cy="80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7812000" y="5445000"/>
            <a:ext cx="1152720" cy="80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859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1258920" y="5950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7451640" y="5877000"/>
            <a:ext cx="500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ЕОБХОДИМО НЕ ТОЛЬКО ГОВОРИТЬ, НО И СЛУШАТЬ ДРУГ ДРУГ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ЧЛЕНЫ СЕМЬИ ДОЛЖНЫ УВАЖИТЕЛЬНО ОТНОСИТЬСЯ ДРУГ К ДРУГУ И БЫТЬ ВЗАИМОВЕЖЛИВ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924360" y="5516640"/>
            <a:ext cx="942840" cy="65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0" y="544500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7380360" y="537372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11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57200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8101080" y="5661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3564000" y="573408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20050723222919_photoblog_daisy_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24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20050723222919_photoblog_daisy_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 СЕМЬЕ НАМ ПРИХОДИТЬСЯ ПОДСТРАИВАТЬСЯ ДРУГ ПОД ДРУГА, УЧИТЫВАТЬ НЕ ТОЛЬКО СВОИ ЖЕЛАНИЯ, НО И ЧУВСТВА ДРУГИ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348000" y="544500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539640" y="544500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7451640" y="414972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5867280" y="5661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059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97164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7885080" y="4653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7308720" y="4869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6372360" y="595008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427640" y="5734080"/>
            <a:ext cx="4093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3780000" y="551664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172360" y="5589720"/>
            <a:ext cx="743040" cy="981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4464360" cy="32688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ава и обязанности в семь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7667640" y="558972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250920" y="5373720"/>
            <a:ext cx="760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семья0010"/>
          <p:cNvPicPr/>
          <p:nvPr/>
        </p:nvPicPr>
        <p:blipFill>
          <a:blip r:embed="rId1"/>
          <a:stretch/>
        </p:blipFill>
        <p:spPr>
          <a:xfrm>
            <a:off x="1116000" y="189000"/>
            <a:ext cx="6985080" cy="460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1042920" y="5084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бери, чему ты хотел науч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каждой семьи, а что бы сдел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-сво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 КАЖДОГО ЧЛЕНА СЕМЬ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СТЬ СВОИ ПРАВА И ОБЯЗАННОСТ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348000" y="544500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395280" y="573408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5724360" y="580536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8172360" y="530064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1042920" y="6093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3059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6227640" y="6021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7956720" y="580536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68000" y="5661000"/>
            <a:ext cx="4032360" cy="828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4869000"/>
            <a:ext cx="187020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869000"/>
            <a:ext cx="208764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4076640"/>
            <a:ext cx="187200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4076640"/>
            <a:ext cx="208764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3213000"/>
            <a:ext cx="13669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3213000"/>
            <a:ext cx="12733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2349360"/>
            <a:ext cx="13669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2349360"/>
            <a:ext cx="12733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1557360"/>
            <a:ext cx="403236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340000" y="259920"/>
            <a:ext cx="187164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211280" y="259920"/>
            <a:ext cx="208908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95640" y="5445000"/>
            <a:ext cx="43909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4797360"/>
            <a:ext cx="201600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ВЕР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797360"/>
            <a:ext cx="244764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4076640"/>
            <a:ext cx="201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МОЩЬ ДР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РУ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4076640"/>
            <a:ext cx="237492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ЧЕСТНОСТ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284640"/>
            <a:ext cx="143964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3284640"/>
            <a:ext cx="1346400" cy="7696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565360"/>
            <a:ext cx="143964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ВА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2565360"/>
            <a:ext cx="1346400" cy="7192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Е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1773360"/>
            <a:ext cx="439236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ЗАИМОПОНИМ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0000" y="2781360"/>
            <a:ext cx="1368360" cy="1225440"/>
          </a:xfrm>
          <a:custGeom>
            <a:avLst/>
            <a:gdLst>
              <a:gd name="textAreaLeft" fmla="*/ 321480 w 1368360"/>
              <a:gd name="textAreaRight" fmla="*/ 1045800 w 1368360"/>
              <a:gd name="textAreaTop" fmla="*/ 144000 h 1225440"/>
              <a:gd name="textAreaBottom" fmla="*/ 768600 h 122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95640" y="259920"/>
            <a:ext cx="223200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260280"/>
            <a:ext cx="216036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5292720" y="260280"/>
            <a:ext cx="3851280" cy="1139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179280" y="5877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7524720" y="566100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8458200" y="5661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659640" y="5877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900000" y="5734080"/>
            <a:ext cx="836640" cy="895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611280" y="6237360"/>
            <a:ext cx="579240" cy="620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8172360" y="632304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4" descr="45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2872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38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57200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7308720" y="5013360"/>
            <a:ext cx="743040" cy="98100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2411280" y="198900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Письмо себе в будущее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3780000" y="5516640"/>
            <a:ext cx="942840" cy="657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971640" y="5661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468360" y="566100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4944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ВЫВОД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АЖНО ПРАВИЛЬНО ОТНОСИТЬСЯ К ВОЗНИКАЮЩИМ ТРУДНОСТЯМ И СТРЕМИТЬСЯ ИХ ПРЕОДОЛЕТЬ, НЕ ОБИДЕВ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ОБХОДИМО НЕ ТОЛЬКО ГОВОРИТЬ, НО И СЛУШАТЬ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 ЧЛЕНЫ СЕМЬИ ДОЛЖНЫ УВАЖИТЕЛЬНО ОТНОСИТЬСЯ ДРУГ К ДРУГУ И БЫТЬ ВЗАИМОВЕЖЛИ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СЕМЬЕ НАМ ПРИХОДИТЬСЯ ПОДСТРАИВАТЬСЯ ДРУГ ПОД ДРУГА, УЧИТЫВАТЬ НЕ ТОЛЬКО СВОИ ЖЕЛАНИЯ, НО И ЧУВСТВА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a1a"/>
                </a:solidFill>
                <a:latin typeface="Garamond"/>
              </a:rPr>
              <a:t>Р</a:t>
            </a:r>
            <a:r>
              <a:rPr b="1" lang="en-US" sz="4800" spc="-1" strike="noStrike">
                <a:solidFill>
                  <a:srgbClr val="8eb4e3"/>
                </a:solidFill>
                <a:latin typeface="Garamond"/>
              </a:rPr>
              <a:t>А</a:t>
            </a:r>
            <a:r>
              <a:rPr b="1" lang="en-US" sz="4800" spc="-1" strike="noStrike">
                <a:solidFill>
                  <a:srgbClr val="953735"/>
                </a:solidFill>
                <a:latin typeface="Garamond"/>
              </a:rPr>
              <a:t>З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Н</a:t>
            </a:r>
            <a:r>
              <a:rPr b="1" lang="en-US" sz="4800" spc="-1" strike="noStrike">
                <a:solidFill>
                  <a:srgbClr val="00b050"/>
                </a:solidFill>
                <a:latin typeface="Garamond"/>
              </a:rPr>
              <a:t>О</a:t>
            </a:r>
            <a:r>
              <a:rPr b="1" lang="en-US" sz="4800" spc="-1" strike="noStrike">
                <a:solidFill>
                  <a:srgbClr val="00b0f0"/>
                </a:solidFill>
                <a:latin typeface="Garamond"/>
              </a:rPr>
              <a:t>Ц</a:t>
            </a:r>
            <a:r>
              <a:rPr b="1" lang="en-US" sz="4800" spc="-1" strike="noStrike">
                <a:solidFill>
                  <a:srgbClr val="0070c0"/>
                </a:solidFill>
                <a:latin typeface="Garamond"/>
              </a:rPr>
              <a:t>В</a:t>
            </a:r>
            <a:r>
              <a:rPr b="1" lang="en-US" sz="4800" spc="-1" strike="noStrike">
                <a:solidFill>
                  <a:srgbClr val="002060"/>
                </a:solidFill>
                <a:latin typeface="Garamond"/>
              </a:rPr>
              <a:t>Е</a:t>
            </a:r>
            <a:r>
              <a:rPr b="1" lang="en-US" sz="4800" spc="-1" strike="noStrike">
                <a:solidFill>
                  <a:srgbClr val="7030a0"/>
                </a:solidFill>
                <a:latin typeface="Garamond"/>
              </a:rPr>
              <a:t>Т</a:t>
            </a:r>
            <a:r>
              <a:rPr b="1" lang="en-US" sz="4800" spc="-1" strike="noStrike">
                <a:solidFill>
                  <a:srgbClr val="33cc33"/>
                </a:solidFill>
                <a:latin typeface="Garamond"/>
              </a:rPr>
              <a:t>Н</a:t>
            </a:r>
            <a:r>
              <a:rPr b="1" lang="en-US" sz="4800" spc="-1" strike="noStrike">
                <a:solidFill>
                  <a:srgbClr val="ff1a1a"/>
                </a:solidFill>
                <a:latin typeface="Garamond"/>
              </a:rPr>
              <a:t>А</a:t>
            </a:r>
            <a:r>
              <a:rPr b="1" lang="en-US" sz="4800" spc="-1" strike="noStrike">
                <a:solidFill>
                  <a:srgbClr val="00b0f0"/>
                </a:solidFill>
                <a:latin typeface="Garamond"/>
              </a:rPr>
              <a:t>Я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e46c0a"/>
                </a:solidFill>
                <a:latin typeface="Garamond"/>
              </a:rPr>
              <a:t>С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Е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М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en-US" sz="4800" spc="-1" strike="noStrike">
                <a:solidFill>
                  <a:srgbClr val="7030a0"/>
                </a:solidFill>
                <a:latin typeface="Garamond"/>
              </a:rPr>
              <a:t>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дной коробке с карандашами родился маленький карандашик. Взрослые карандаши - мама, папа, бабушка и дедушка - были цветными. Причем у каждого из них был свой цвет. Маленький карандашик еще не имел своего цвета, ему еще предстояло стать цветным. Каждый день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иня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ма учила его, как быть синим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рас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па - как окраситься в красный цвет, потому что его выбирают чаще всего, рисуя прекрасные картины.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д спорил со всеми, говоря о важности желтого цвета, а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зелёна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абушка брала внука за руку, и на какое-то мгновение он зеленел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проходил день за днем, и вот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4" descr="%F0%E8%F1%F3%ED%EE%EA%20%20%F1%E5%EC%FC%FF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8980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907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" descr="45"/>
          <p:cNvPicPr/>
          <p:nvPr/>
        </p:nvPicPr>
        <p:blipFill>
          <a:blip r:embed="rId1"/>
          <a:stretch/>
        </p:blipFill>
        <p:spPr>
          <a:xfrm>
            <a:off x="179280" y="268200"/>
            <a:ext cx="8785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У каждого свое представление о семье.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Какие ассоциации с этим словом возникают у вас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постройка, то какая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цвет, то какой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музыка, то кака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геометрическая фигура, т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ая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настроение, то како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ОСЛОВИЦ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ОСЛОВИЦ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Где любовь и совет, там и горя н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 что клад, когда в семье ла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емья в куче, не страшна и туч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 семью, где лад, счастье дорогу не забыв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 хорошей семье и дети хорошие раст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ся семья вместе, так и душа на мес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емья как печка: как холодно все к ней собирают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берите из следующих качеств те, которые особенно нужны: хорошему семьянину – мужчине, хранительнице очага- женщине, ребенку:</a:t>
            </a:r>
            <a:br>
              <a:rPr sz="2800"/>
            </a:br>
            <a:r>
              <a:rPr b="1" lang="ru-RU" sz="2800" spc="-1" strike="noStrike">
                <a:solidFill>
                  <a:srgbClr val="cc9900"/>
                </a:solidFill>
                <a:latin typeface="Garamond"/>
              </a:rPr>
              <a:t>Смелость, ответственность, мягкость, послушность, честность, заботливость, верность, красота, мужественность, скромность, бережливость, щедрость, чувство юмора, совесть, любовь к детям,</a:t>
            </a:r>
            <a:r>
              <a:rPr b="1" lang="en-US" sz="2800" spc="-1" strike="noStrike">
                <a:solidFill>
                  <a:srgbClr val="cc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cc9900"/>
                </a:solidFill>
                <a:latin typeface="Garamond"/>
              </a:rPr>
              <a:t>ум,</a:t>
            </a:r>
            <a:r>
              <a:rPr b="1" lang="en-US" sz="2800" spc="-1" strike="noStrike">
                <a:solidFill>
                  <a:srgbClr val="cc99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cc9900"/>
                </a:solidFill>
                <a:latin typeface="Garamond"/>
              </a:rPr>
              <a:t>сильная воля.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2268360" y="476280"/>
            <a:ext cx="571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60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5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2411280" y="198900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Копилка трудност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067280" y="5734080"/>
            <a:ext cx="8636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АЖНО ПРАВИЛЬНО ОТНОСИТЬСЯ К ВОЗНИКАЮЩИМ ТРУДНОСТЯМ И СТРЕМИТЬСЯ ИХ ПРЕОДОЛЕТЬ, НЕ ОБИДЕВ ДРУГ ДРУГ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1042920" y="58053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53964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80400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8317080" y="5157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716436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8532720" y="551664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428472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3419640" y="5950080"/>
            <a:ext cx="409320" cy="28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2:11:19Z</dcterms:created>
  <dc:creator>Майкл</dc:creator>
  <dc:description>http://aida.ucoz.ru</dc:description>
  <dc:language>en-US</dc:language>
  <cp:lastModifiedBy>Admin</cp:lastModifiedBy>
  <dcterms:modified xsi:type="dcterms:W3CDTF">2012-11-27T18:23:01Z</dcterms:modified>
  <cp:revision>33</cp:revision>
  <dc:subject/>
  <dc:title>Семейные ценности в современном обществе</dc:title>
</cp:coreProperties>
</file>