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802A-D781-4BE7-9425-6156B9C8F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D327-BFD9-4BA5-9570-FF80CD77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2683-57C7-40EB-A274-E331AD3E9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AAAC-2BA2-48AE-8367-BC3EF85B4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342A-A96C-43C2-9DC5-46699F17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E428-9BB5-4D77-885B-51BFC32E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2AD6-436F-4393-89D6-98B0199F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8151-6EA8-473B-8E72-8D10059C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4881-771C-4DF7-8F49-7D09FF66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A626-1EA3-4A49-A556-0D2A3288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0018-7A2A-48CA-873F-AA03E9F9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E8AC-E288-4253-96AB-07284339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FD94-8B23-4AF7-A5C9-B44C35B0CA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2.gif"/><Relationship Id="rId3" Type="http://schemas.openxmlformats.org/officeDocument/2006/relationships/slide" Target="slide19.xml"/><Relationship Id="rId4" Type="http://schemas.openxmlformats.org/officeDocument/2006/relationships/image" Target="../media/image2.gif"/><Relationship Id="rId5" Type="http://schemas.openxmlformats.org/officeDocument/2006/relationships/slide" Target="slide18.xml"/><Relationship Id="rId6" Type="http://schemas.openxmlformats.org/officeDocument/2006/relationships/image" Target="../media/image2.gif"/><Relationship Id="rId7" Type="http://schemas.openxmlformats.org/officeDocument/2006/relationships/slide" Target="slide21.xml"/><Relationship Id="rId8" Type="http://schemas.openxmlformats.org/officeDocument/2006/relationships/image" Target="../media/image2.gif"/><Relationship Id="rId9" Type="http://schemas.openxmlformats.org/officeDocument/2006/relationships/slide" Target="slide25.xml"/><Relationship Id="rId10" Type="http://schemas.openxmlformats.org/officeDocument/2006/relationships/image" Target="../media/image2.gif"/><Relationship Id="rId11" Type="http://schemas.openxmlformats.org/officeDocument/2006/relationships/slide" Target="slide27.xml"/><Relationship Id="rId12" Type="http://schemas.openxmlformats.org/officeDocument/2006/relationships/image" Target="../media/image2.gif"/><Relationship Id="rId13" Type="http://schemas.openxmlformats.org/officeDocument/2006/relationships/slide" Target="slide26.xml"/><Relationship Id="rId14" Type="http://schemas.openxmlformats.org/officeDocument/2006/relationships/image" Target="../media/image2.gif"/><Relationship Id="rId15" Type="http://schemas.openxmlformats.org/officeDocument/2006/relationships/slide" Target="slide24.xml"/><Relationship Id="rId16" Type="http://schemas.openxmlformats.org/officeDocument/2006/relationships/image" Target="../media/image2.gif"/><Relationship Id="rId17" Type="http://schemas.openxmlformats.org/officeDocument/2006/relationships/slide" Target="slide23.xml"/><Relationship Id="rId18" Type="http://schemas.openxmlformats.org/officeDocument/2006/relationships/image" Target="../media/image2.gif"/><Relationship Id="rId19" Type="http://schemas.openxmlformats.org/officeDocument/2006/relationships/slide" Target="slide22.xml"/><Relationship Id="rId20" Type="http://schemas.openxmlformats.org/officeDocument/2006/relationships/image" Target="../media/image2.gif"/><Relationship Id="rId21" Type="http://schemas.openxmlformats.org/officeDocument/2006/relationships/slide" Target="slide28.xml"/><Relationship Id="rId2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" Target="slide17.xml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561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00000"/>
                </a:solidFill>
                <a:latin typeface="Times New Roman"/>
              </a:rPr>
              <a:t>ЧТО? ГДЕ? КОГДА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85880" y="2071800"/>
            <a:ext cx="5929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г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0 кла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http://img0.liveinternet.ru/images/attach/c/0/38/268/38268272_Wise20Owl.gif"/>
          <p:cNvPicPr/>
          <p:nvPr/>
        </p:nvPicPr>
        <p:blipFill>
          <a:blip r:embed="rId1"/>
          <a:stretch/>
        </p:blipFill>
        <p:spPr>
          <a:xfrm>
            <a:off x="3714840" y="3071880"/>
            <a:ext cx="28861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Чем больше из неё берешь, тем больше она становит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221720" y="221472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ЯМ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Не вода и не суша, на лодке не уплывешь, и ногами не пройдеш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2996640" y="2928960"/>
            <a:ext cx="219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ОЛОТ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Это слово имеет латинское происхождение, означающее «лён, льняная нить, шнур, верёвка». Назовите это слово в том значении, в каком мы употребляем его сейчас в математик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2939760" y="41432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И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 При каком царе впервые русские меры (верста, сажень, аршин, вершок, дюйм, фут, пуд, фунт, золотник) были приведены в определённую систему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2724840" y="3857760"/>
            <a:ext cx="17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ЁТР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) В школе 370 учеников. Найдётся ли среди них хотя бы 2 ученика, день рождения которых приходится на одну и ту же дату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2089080" y="3643200"/>
            <a:ext cx="40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А, 370 &gt; 365 (36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) Где пересекаются высоты прямоугольного треугольника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978480" y="2500200"/>
            <a:ext cx="58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ЕРШИНА ПРЯМОГО УГ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3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 ИГРА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2" descr="http://img0.liveinternet.ru/images/attach/c/0/38/268/38268272_Wise20Owl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143680" y="1357200"/>
            <a:ext cx="1571400" cy="1816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ttp://img0.liveinternet.ru/images/attach/c/0/38/268/38268272_Wise20Owl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000240" y="1357200"/>
            <a:ext cx="1571760" cy="1816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://img0.liveinternet.ru/images/attach/c/0/38/268/38268272_Wise20Owl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071720" y="1285920"/>
            <a:ext cx="1571400" cy="1816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http://img0.liveinternet.ru/images/attach/c/0/38/268/38268272_Wise20Owl.gi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072200" y="1357200"/>
            <a:ext cx="1571760" cy="1816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http://img0.liveinternet.ru/images/attach/c/0/38/268/38268272_Wise20Owl.gif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29240" y="2928960"/>
            <a:ext cx="1571760" cy="1816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://img0.liveinternet.ru/images/attach/c/0/38/268/38268272_Wise20Owl.gif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143680" y="4357800"/>
            <a:ext cx="1571400" cy="1815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http://img0.liveinternet.ru/images/attach/c/0/38/268/38268272_Wise20Owl.gif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071880" y="4286160"/>
            <a:ext cx="1571400" cy="1816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://img0.liveinternet.ru/images/attach/c/0/38/268/38268272_Wise20Owl.gif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143240" y="2857680"/>
            <a:ext cx="1571760" cy="1815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ttp://img0.liveinternet.ru/images/attach/c/0/38/268/38268272_Wise20Owl.gif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2214720" y="2928960"/>
            <a:ext cx="1571400" cy="1816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http://img0.liveinternet.ru/images/attach/c/0/38/268/38268272_Wise20Owl.gif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428760" y="2928960"/>
            <a:ext cx="1571400" cy="1816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13"/>
          <p:cNvSpPr/>
          <p:nvPr/>
        </p:nvSpPr>
        <p:spPr>
          <a:xfrm>
            <a:off x="1717920" y="20718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4"/>
          <p:cNvSpPr/>
          <p:nvPr/>
        </p:nvSpPr>
        <p:spPr>
          <a:xfrm>
            <a:off x="3646440" y="20718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15"/>
          <p:cNvSpPr/>
          <p:nvPr/>
        </p:nvSpPr>
        <p:spPr>
          <a:xfrm>
            <a:off x="5789520" y="20718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16"/>
          <p:cNvSpPr/>
          <p:nvPr/>
        </p:nvSpPr>
        <p:spPr>
          <a:xfrm>
            <a:off x="7718400" y="20718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17"/>
          <p:cNvSpPr/>
          <p:nvPr/>
        </p:nvSpPr>
        <p:spPr>
          <a:xfrm>
            <a:off x="1146240" y="37148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18"/>
          <p:cNvSpPr/>
          <p:nvPr/>
        </p:nvSpPr>
        <p:spPr>
          <a:xfrm>
            <a:off x="2860920" y="36432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19"/>
          <p:cNvSpPr/>
          <p:nvPr/>
        </p:nvSpPr>
        <p:spPr>
          <a:xfrm>
            <a:off x="4789440" y="35719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20"/>
          <p:cNvSpPr/>
          <p:nvPr/>
        </p:nvSpPr>
        <p:spPr>
          <a:xfrm>
            <a:off x="7147080" y="36432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21"/>
          <p:cNvSpPr/>
          <p:nvPr/>
        </p:nvSpPr>
        <p:spPr>
          <a:xfrm>
            <a:off x="3718080" y="50007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22"/>
          <p:cNvSpPr/>
          <p:nvPr/>
        </p:nvSpPr>
        <p:spPr>
          <a:xfrm>
            <a:off x="5718960" y="5072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Управляющая кнопка: звук 22">
            <a:hlinkClick r:id="rId21" action="ppaction://hlinksldjump"/>
          </p:cNvPr>
          <p:cNvSpPr/>
          <p:nvPr/>
        </p:nvSpPr>
        <p:spPr>
          <a:xfrm>
            <a:off x="642960" y="571680"/>
            <a:ext cx="500040" cy="57132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320"/>
              <a:gd name="textAreaBottom" fmla="*/ 538920 h 571320"/>
            </a:gdLst>
            <a:ahLst/>
            <a:rect l="textAreaLeft" t="textAreaTop" r="textAreaRight" b="textAreaBottom"/>
            <a:pathLst>
              <a:path w="21600" h="24677">
                <a:moveTo>
                  <a:pt x="0" y="0"/>
                </a:moveTo>
                <a:lnTo>
                  <a:pt x="21600" y="0"/>
                </a:lnTo>
                <a:lnTo>
                  <a:pt x="21600" y="24677"/>
                </a:lnTo>
                <a:lnTo>
                  <a:pt x="0" y="24677"/>
                </a:lnTo>
                <a:close/>
              </a:path>
              <a:path fill="lightenLess" w="21600" h="24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7">
                <a:moveTo>
                  <a:pt x="21600" y="0"/>
                </a:moveTo>
                <a:lnTo>
                  <a:pt x="21600" y="24677"/>
                </a:lnTo>
                <a:lnTo>
                  <a:pt x="20200" y="23277"/>
                </a:lnTo>
                <a:lnTo>
                  <a:pt x="20200" y="1400"/>
                </a:lnTo>
                <a:close/>
              </a:path>
              <a:path fill="darkenLess" w="21600" h="24677">
                <a:moveTo>
                  <a:pt x="21600" y="24677"/>
                </a:moveTo>
                <a:lnTo>
                  <a:pt x="0" y="24677"/>
                </a:lnTo>
                <a:lnTo>
                  <a:pt x="1400" y="23277"/>
                </a:lnTo>
                <a:lnTo>
                  <a:pt x="20200" y="23277"/>
                </a:lnTo>
                <a:close/>
              </a:path>
              <a:path fill="lighten" w="21600" h="24677">
                <a:moveTo>
                  <a:pt x="0" y="24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7"/>
                </a:lnTo>
                <a:close/>
              </a:path>
              <a:path fill="darken" w="21600" h="24677">
                <a:moveTo>
                  <a:pt x="3794" y="9945"/>
                </a:moveTo>
                <a:lnTo>
                  <a:pt x="8224" y="9945"/>
                </a:lnTo>
                <a:lnTo>
                  <a:pt x="12645" y="5332"/>
                </a:lnTo>
                <a:lnTo>
                  <a:pt x="12645" y="19345"/>
                </a:lnTo>
                <a:lnTo>
                  <a:pt x="8224" y="14732"/>
                </a:lnTo>
                <a:lnTo>
                  <a:pt x="3794" y="14732"/>
                </a:lnTo>
                <a:close/>
              </a:path>
              <a:path fill="darken" w="21600" h="24677">
                <a:moveTo>
                  <a:pt x="14299" y="12338"/>
                </a:moveTo>
                <a:lnTo>
                  <a:pt x="17806" y="12338"/>
                </a:lnTo>
              </a:path>
              <a:path fill="darken" w="21600" h="24677">
                <a:moveTo>
                  <a:pt x="14299" y="9945"/>
                </a:moveTo>
                <a:lnTo>
                  <a:pt x="17806" y="7177"/>
                </a:lnTo>
              </a:path>
              <a:path fill="darken" w="21600" h="24677">
                <a:moveTo>
                  <a:pt x="14299" y="14732"/>
                </a:moveTo>
                <a:lnTo>
                  <a:pt x="17806" y="17500"/>
                </a:lnTo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2803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Вопрос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14200" y="1285920"/>
            <a:ext cx="835344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Что представляет собой график уравнения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х² + у² ≤ 47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1285920" y="3500280"/>
            <a:ext cx="1839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http://img0.liveinternet.ru/images/attach/c/0/38/268/38268272_Wise20Owl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86760" y="0"/>
            <a:ext cx="1571400" cy="18162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9"/>
          <p:cNvSpPr/>
          <p:nvPr/>
        </p:nvSpPr>
        <p:spPr>
          <a:xfrm>
            <a:off x="3859920" y="4572000"/>
            <a:ext cx="16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РУ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Вопрос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ой зверь не кусается, ни на кого не бросается, а живет выше всех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2134440" y="2857680"/>
            <a:ext cx="463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«Большая медведица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http://img0.liveinternet.ru/images/attach/c/0/38/268/38268272_Wise20Owl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43840" y="214200"/>
            <a:ext cx="157140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Вопрос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 мальчика столько же сестер, сколько и братьев. А у его сестры вдвое меньше сестер, чем братьев. Сколько в этой семье мальчиков и сколько девочек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2209320" y="3786120"/>
            <a:ext cx="47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4 мальчика и 3 девоч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2" descr="http://img0.liveinternet.ru/images/attach/c/0/38/268/38268272_Wise20Owl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43840" y="214200"/>
            <a:ext cx="150012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Вопрос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то утром ходит на четырех ногах, днем на двух, а вечером на трех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2079720" y="2643120"/>
            <a:ext cx="5207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Человек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бёнком – на четвереньк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молодости – на двух ног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тарости – с палочк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" descr="http://img0.liveinternet.ru/images/attach/c/0/38/268/38268272_Wise20Owl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43840" y="142920"/>
            <a:ext cx="152856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Вопрос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и курицы за 3 дня снесли три яйца. Сколько яиц снесут 12 кур за 12 дней, если они будут нести такое же количество яиц за один и тот же промежуток времени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2727000" y="3429000"/>
            <a:ext cx="465228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48 яиц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 куры - 3 дня – 3 яй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 куры – 12 дней – 12 яи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2 кур – 12 дней – 48 яи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Прямая соединительная линия 5"/>
          <p:cNvSpPr/>
          <p:nvPr/>
        </p:nvSpPr>
        <p:spPr>
          <a:xfrm>
            <a:off x="4286160" y="4500720"/>
            <a:ext cx="1071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Прямая соединительная линия 6"/>
          <p:cNvSpPr/>
          <p:nvPr/>
        </p:nvSpPr>
        <p:spPr>
          <a:xfrm>
            <a:off x="4429080" y="5000760"/>
            <a:ext cx="1071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Прямая соединительная линия 7"/>
          <p:cNvSpPr/>
          <p:nvPr/>
        </p:nvSpPr>
        <p:spPr>
          <a:xfrm>
            <a:off x="5715000" y="4500720"/>
            <a:ext cx="1071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Прямая соединительная линия 8"/>
          <p:cNvSpPr/>
          <p:nvPr/>
        </p:nvSpPr>
        <p:spPr>
          <a:xfrm>
            <a:off x="6215040" y="5000760"/>
            <a:ext cx="1071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Прямая соединительная линия 9"/>
          <p:cNvSpPr/>
          <p:nvPr/>
        </p:nvSpPr>
        <p:spPr>
          <a:xfrm>
            <a:off x="2786040" y="5000760"/>
            <a:ext cx="1071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Прямая соединительная линия 10"/>
          <p:cNvSpPr/>
          <p:nvPr/>
        </p:nvSpPr>
        <p:spPr>
          <a:xfrm>
            <a:off x="2786040" y="5572080"/>
            <a:ext cx="10717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ая соединительная линия 11"/>
          <p:cNvSpPr/>
          <p:nvPr/>
        </p:nvSpPr>
        <p:spPr>
          <a:xfrm>
            <a:off x="6143760" y="5500800"/>
            <a:ext cx="1071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2" descr="http://img0.liveinternet.ru/images/attach/c/0/38/268/38268272_Wise20Owl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15120" y="285840"/>
            <a:ext cx="1285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Вопрос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вершинах квадратной клумбы растут цветы – всего 4 куста. Площадь клумбы увеличили в два раза, не выкапывая кустов. Расширенная клумба то же квадратная, и внутри неё кусов нет. Как это сделать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Прямоугольник 3"/>
          <p:cNvSpPr/>
          <p:nvPr/>
        </p:nvSpPr>
        <p:spPr>
          <a:xfrm>
            <a:off x="3929040" y="4643280"/>
            <a:ext cx="914400" cy="914400"/>
          </a:xfrm>
          <a:prstGeom prst="rect">
            <a:avLst/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Овал 4"/>
          <p:cNvSpPr/>
          <p:nvPr/>
        </p:nvSpPr>
        <p:spPr>
          <a:xfrm>
            <a:off x="4714920" y="5429160"/>
            <a:ext cx="214200" cy="214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Овал 5"/>
          <p:cNvSpPr/>
          <p:nvPr/>
        </p:nvSpPr>
        <p:spPr>
          <a:xfrm>
            <a:off x="3857760" y="5429160"/>
            <a:ext cx="214200" cy="214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Овал 7"/>
          <p:cNvSpPr/>
          <p:nvPr/>
        </p:nvSpPr>
        <p:spPr>
          <a:xfrm>
            <a:off x="3857760" y="4572000"/>
            <a:ext cx="214200" cy="2142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Овал 8"/>
          <p:cNvSpPr/>
          <p:nvPr/>
        </p:nvSpPr>
        <p:spPr>
          <a:xfrm>
            <a:off x="4714920" y="4572000"/>
            <a:ext cx="214200" cy="2142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Прямая соединительная линия 10"/>
          <p:cNvSpPr/>
          <p:nvPr/>
        </p:nvSpPr>
        <p:spPr>
          <a:xfrm flipH="1">
            <a:off x="3499920" y="4214880"/>
            <a:ext cx="785880" cy="9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Прямая соединительная линия 11"/>
          <p:cNvSpPr/>
          <p:nvPr/>
        </p:nvSpPr>
        <p:spPr>
          <a:xfrm flipH="1" flipV="1">
            <a:off x="3499920" y="5143680"/>
            <a:ext cx="1000440" cy="785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Прямая соединительная линия 13"/>
          <p:cNvSpPr/>
          <p:nvPr/>
        </p:nvSpPr>
        <p:spPr>
          <a:xfrm flipH="1" flipV="1">
            <a:off x="4286160" y="4214520"/>
            <a:ext cx="100008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Прямая соединительная линия 18"/>
          <p:cNvSpPr/>
          <p:nvPr/>
        </p:nvSpPr>
        <p:spPr>
          <a:xfrm flipV="1">
            <a:off x="4500720" y="5000400"/>
            <a:ext cx="785520" cy="92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Прямая соединительная линия 31"/>
          <p:cNvSpPr/>
          <p:nvPr/>
        </p:nvSpPr>
        <p:spPr>
          <a:xfrm flipH="1">
            <a:off x="3928680" y="4754520"/>
            <a:ext cx="817560" cy="74628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http://img0.liveinternet.ru/images/attach/c/0/38/268/38268272_Wise20Owl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58040" y="285840"/>
            <a:ext cx="121464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Вопрос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икто не богат настолько, чтобы обойтись без неё, и нет такого бедняка, который не стал бы от неё бога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3297240" y="3071880"/>
            <a:ext cx="2661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лыб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йл Карнег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2" descr="http://img0.liveinternet.ru/images/attach/c/0/38/268/38268272_Wise20Owl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86760" y="214200"/>
            <a:ext cx="142848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Вопрос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больше :                          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1" descr=""/>
          <p:cNvPicPr/>
          <p:nvPr/>
        </p:nvPicPr>
        <p:blipFill>
          <a:blip r:embed="rId1"/>
          <a:stretch/>
        </p:blipFill>
        <p:spPr>
          <a:xfrm>
            <a:off x="3500280" y="1643040"/>
            <a:ext cx="2267280" cy="4287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0" y="885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8" descr=""/>
          <p:cNvPicPr/>
          <p:nvPr/>
        </p:nvPicPr>
        <p:blipFill>
          <a:blip r:embed="rId2"/>
          <a:stretch/>
        </p:blipFill>
        <p:spPr>
          <a:xfrm>
            <a:off x="2571840" y="3357720"/>
            <a:ext cx="4486320" cy="485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3"/>
          <a:stretch/>
        </p:blipFill>
        <p:spPr>
          <a:xfrm>
            <a:off x="2143080" y="4000680"/>
            <a:ext cx="4962600" cy="4856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9" descr=""/>
          <p:cNvPicPr/>
          <p:nvPr/>
        </p:nvPicPr>
        <p:blipFill>
          <a:blip r:embed="rId4"/>
          <a:stretch/>
        </p:blipFill>
        <p:spPr>
          <a:xfrm>
            <a:off x="3786120" y="2643120"/>
            <a:ext cx="2019240" cy="4860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1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2" descr="http://img0.liveinternet.ru/images/attach/c/0/38/268/38268272_Wise20Owl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143840" y="285840"/>
            <a:ext cx="142884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Вопрос 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олько надо всего цифровых знаков, чтобы пронумеровать книгу, в которой 100 страниц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2224440" y="3071880"/>
            <a:ext cx="5746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92 зна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9 страниц – 9× 1 = 9 зна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90 страниц – 90 ×2 = 180 зна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 страница – 1×3 = 3зна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2" descr="http://img0.liveinternet.ru/images/attach/c/0/38/268/38268272_Wise20Owl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86760" y="357120"/>
            <a:ext cx="12366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Вопрос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йдите сумму чисел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 + 4 + 6 + … + 2008 + 2010 + 201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1314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5"/>
          <p:cNvSpPr/>
          <p:nvPr/>
        </p:nvSpPr>
        <p:spPr>
          <a:xfrm>
            <a:off x="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2" descr="http://img0.liveinternet.ru/images/attach/c/0/38/268/38268272_Wise20Owl.gif"/>
          <p:cNvPicPr/>
          <p:nvPr/>
        </p:nvPicPr>
        <p:blipFill>
          <a:blip r:embed="rId1"/>
          <a:stretch/>
        </p:blipFill>
        <p:spPr>
          <a:xfrm>
            <a:off x="7286760" y="357120"/>
            <a:ext cx="1428480" cy="16509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4"/>
          <p:cNvSpPr/>
          <p:nvPr/>
        </p:nvSpPr>
        <p:spPr>
          <a:xfrm>
            <a:off x="2377800" y="2928960"/>
            <a:ext cx="4324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012 чисе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006 четных чисе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03 пары четных чисе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2 + 2012) · 503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1 013 04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Спасибо за игру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2" descr="http://img0.liveinternet.ru/images/attach/c/0/38/268/38268272_Wise20Owl.gif"/>
          <p:cNvPicPr/>
          <p:nvPr/>
        </p:nvPicPr>
        <p:blipFill>
          <a:blip r:embed="rId1"/>
          <a:stretch/>
        </p:blipFill>
        <p:spPr>
          <a:xfrm>
            <a:off x="2928960" y="2071800"/>
            <a:ext cx="28861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зентацию подготови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тель математ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БОУ «Гимназия № 41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рка С. 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. Кемеро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) Чем больше из неё берешь, тем больше она становитс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00000"/>
                </a:solidFill>
                <a:latin typeface="Times New Roman"/>
              </a:rPr>
              <a:t>Интернет-ресурс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468360" y="1700280"/>
            <a:ext cx="756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рандаш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драя со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иркул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н "тетрадная клетка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1042920" y="765000"/>
            <a:ext cx="705636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втор шаблона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нько Елена Алексеевн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АОУ лицей №21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. Ивано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2) Не вода и не суша, на лодке не уплывешь, и ногами не пройдешь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2876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) Это слово имеет латинское происхождение, означающее «лён, льняная нить, шнур, верёвка». Назовите это слово в том значении, в каком мы употребляем его сейчас в математике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4) При каком царе впервые русские меры (верста, сажень, аршин, вершок, дюйм, фут, пуд, фунт, золотник) были приведены в определённую систему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5) В школе 370 учеников. Найдётся ли среди них хотя бы 2 ученика, день рождения которых приходится на одну и ту же дату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6) Где пересекаются высоты прямоугольного треугольника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веты на разминку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жды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авильный ответ – 1 бал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Sveta</cp:lastModifiedBy>
  <dcterms:modified xsi:type="dcterms:W3CDTF">2012-12-11T15:31:58Z</dcterms:modified>
  <cp:revision>64</cp:revision>
  <dc:subject/>
  <dc:title>Слайд 1</dc:title>
</cp:coreProperties>
</file>