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7EA-A070-4D9B-873C-1D4B9648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D43-F4A6-4458-BD8A-BD7046F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16A-B84B-485B-8C47-CEC883B3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957-0D0A-4B81-87F2-E162EABD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C65-7FA8-405C-AB8A-CF354F64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8FE-2397-422B-A1C6-C2498E8C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A04-64E7-45BE-912F-46EA8A38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07F-9D09-4DD4-9BC9-0E84B24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DD8-8B8C-40BC-AE64-0918853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059-83CC-4190-A916-63A9E22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12E-9B11-4057-8360-5E53B4EF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6C3-DD71-4E34-985C-01EBD2F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E9C-DE46-4C22-868F-821C6F1A8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gif"/><Relationship Id="rId3" Type="http://schemas.openxmlformats.org/officeDocument/2006/relationships/slide" Target="slide19.xml"/><Relationship Id="rId4" Type="http://schemas.openxmlformats.org/officeDocument/2006/relationships/image" Target="../media/image2.gif"/><Relationship Id="rId5" Type="http://schemas.openxmlformats.org/officeDocument/2006/relationships/slide" Target="slide18.xml"/><Relationship Id="rId6" Type="http://schemas.openxmlformats.org/officeDocument/2006/relationships/image" Target="../media/image2.gif"/><Relationship Id="rId7" Type="http://schemas.openxmlformats.org/officeDocument/2006/relationships/slide" Target="slide21.xml"/><Relationship Id="rId8" Type="http://schemas.openxmlformats.org/officeDocument/2006/relationships/image" Target="../media/image2.gif"/><Relationship Id="rId9" Type="http://schemas.openxmlformats.org/officeDocument/2006/relationships/slide" Target="slide25.xml"/><Relationship Id="rId10" Type="http://schemas.openxmlformats.org/officeDocument/2006/relationships/image" Target="../media/image2.gif"/><Relationship Id="rId11" Type="http://schemas.openxmlformats.org/officeDocument/2006/relationships/slide" Target="slide27.xml"/><Relationship Id="rId12" Type="http://schemas.openxmlformats.org/officeDocument/2006/relationships/image" Target="../media/image2.gif"/><Relationship Id="rId13" Type="http://schemas.openxmlformats.org/officeDocument/2006/relationships/slide" Target="slide26.xml"/><Relationship Id="rId14" Type="http://schemas.openxmlformats.org/officeDocument/2006/relationships/image" Target="../media/image2.gif"/><Relationship Id="rId15" Type="http://schemas.openxmlformats.org/officeDocument/2006/relationships/slide" Target="slide24.xml"/><Relationship Id="rId16" Type="http://schemas.openxmlformats.org/officeDocument/2006/relationships/image" Target="../media/image2.gif"/><Relationship Id="rId17" Type="http://schemas.openxmlformats.org/officeDocument/2006/relationships/slide" Target="slide23.xml"/><Relationship Id="rId18" Type="http://schemas.openxmlformats.org/officeDocument/2006/relationships/image" Target="../media/image2.gif"/><Relationship Id="rId19" Type="http://schemas.openxmlformats.org/officeDocument/2006/relationships/slide" Target="slide22.xml"/><Relationship Id="rId20" Type="http://schemas.openxmlformats.org/officeDocument/2006/relationships/image" Target="../media/image2.gif"/><Relationship Id="rId21" Type="http://schemas.openxmlformats.org/officeDocument/2006/relationships/slide" Target="slide28.xml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17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ЧТО? ГДЕ? КОГД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2071800"/>
            <a:ext cx="592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http://img0.liveinternet.ru/images/attach/c/0/38/268/38268272_Wise20Owl.gif"/>
          <p:cNvPicPr/>
          <p:nvPr/>
        </p:nvPicPr>
        <p:blipFill>
          <a:blip r:embed="rId1"/>
          <a:stretch/>
        </p:blipFill>
        <p:spPr>
          <a:xfrm>
            <a:off x="3714840" y="3071880"/>
            <a:ext cx="2886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Чем больше из неё берешь, тем больше она станов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221720" y="2214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Не вода и не суша, на лодке не уплывешь, и ногами не пройдеш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996640" y="292896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Это слово имеет латинское происхождение, означающее «лён, льняная нить, шнур, верёвка». Назовите это слово в том значении, в каком мы употребляем его сейчас в математи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939760" y="41432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При каком царе впервые русские меры (верста, сажень, аршин, вершок, дюйм, фут, пуд, фунт, золотник) были приведены в определённую сист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724840" y="385776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ЁТР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В школе 370 учеников. Найдётся ли среди них хотя бы 2 ученика, день рождения которых приходится на одну и ту же дату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2089080" y="3643200"/>
            <a:ext cx="40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А, 370 &gt; 365 (36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Где пересекаются высоты прямоугольного треугольник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978480" y="2500200"/>
            <a:ext cx="58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ШИНА ПРЯМОГО УГ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ИГР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3680" y="1357200"/>
            <a:ext cx="1571400" cy="181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img0.liveinternet.ru/images/attach/c/0/38/268/38268272_Wise20Owl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00240" y="13572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img0.liveinternet.ru/images/attach/c/0/38/268/38268272_Wise20Owl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71720" y="1285920"/>
            <a:ext cx="1571400" cy="181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g0.liveinternet.ru/images/attach/c/0/38/268/38268272_Wise20Owl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072200" y="13572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mg0.liveinternet.ru/images/attach/c/0/38/268/38268272_Wise20Owl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29240" y="292896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img0.liveinternet.ru/images/attach/c/0/38/268/38268272_Wise20Owl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143680" y="4357800"/>
            <a:ext cx="1571400" cy="181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img0.liveinternet.ru/images/attach/c/0/38/268/38268272_Wise20Owl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071880" y="4286160"/>
            <a:ext cx="1571400" cy="1816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img0.liveinternet.ru/images/attach/c/0/38/268/38268272_Wise20Owl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43240" y="2857680"/>
            <a:ext cx="1571760" cy="181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img0.liveinternet.ru/images/attach/c/0/38/268/38268272_Wise20Owl.gif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214720" y="2928960"/>
            <a:ext cx="1571400" cy="181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mg0.liveinternet.ru/images/attach/c/0/38/268/38268272_Wise20Owl.gi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28760" y="2928960"/>
            <a:ext cx="1571400" cy="181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1717920" y="20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646440" y="20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5789520" y="20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7718400" y="20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1146240" y="3714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2860920" y="36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4789440" y="3571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147080" y="36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3718080" y="5000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5718960" y="507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Управляющая кнопка: звук 22">
            <a:hlinkClick r:id="rId21" action="ppaction://hlinksldjump"/>
          </p:cNvPr>
          <p:cNvSpPr/>
          <p:nvPr/>
        </p:nvSpPr>
        <p:spPr>
          <a:xfrm>
            <a:off x="642960" y="571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3794" y="9945"/>
                </a:moveTo>
                <a:lnTo>
                  <a:pt x="8224" y="9945"/>
                </a:lnTo>
                <a:lnTo>
                  <a:pt x="12645" y="5332"/>
                </a:lnTo>
                <a:lnTo>
                  <a:pt x="12645" y="19345"/>
                </a:lnTo>
                <a:lnTo>
                  <a:pt x="8224" y="14732"/>
                </a:lnTo>
                <a:lnTo>
                  <a:pt x="3794" y="14732"/>
                </a:lnTo>
                <a:close/>
              </a:path>
              <a:path fill="darken" w="21600" h="24677">
                <a:moveTo>
                  <a:pt x="14299" y="12338"/>
                </a:moveTo>
                <a:lnTo>
                  <a:pt x="17806" y="12338"/>
                </a:lnTo>
              </a:path>
              <a:path fill="darken" w="21600" h="24677">
                <a:moveTo>
                  <a:pt x="14299" y="9945"/>
                </a:moveTo>
                <a:lnTo>
                  <a:pt x="17806" y="7177"/>
                </a:lnTo>
              </a:path>
              <a:path fill="darken" w="21600" h="24677">
                <a:moveTo>
                  <a:pt x="14299" y="14732"/>
                </a:moveTo>
                <a:lnTo>
                  <a:pt x="17806" y="175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3534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то представляет собой график уравнени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х² + у² ≤ 47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285920" y="350028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86760" y="0"/>
            <a:ext cx="1571400" cy="1816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3859920" y="4572000"/>
            <a:ext cx="16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 зверь не кусается, ни на кого не бросается, а живет выше все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134440" y="2857680"/>
            <a:ext cx="46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«Большая медведиц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3840" y="214200"/>
            <a:ext cx="1571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альчика столько же сестер, сколько и братьев. А у его сестры вдвое меньше сестер, чем братьев. Сколько в этой семье мальчиков и сколько девоче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209320" y="378612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4 мальчика и 3 дев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3840" y="214200"/>
            <a:ext cx="15001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утром ходит на четырех ногах, днем на двух, а вечером на тре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079720" y="2643120"/>
            <a:ext cx="520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Челов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ком – на четвереньк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лодости – на двух ног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тарости – с палоч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3840" y="142920"/>
            <a:ext cx="15285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 курицы за 3 дня снесли три яйца. Сколько яиц снесут 12 кур за 12 дней, если они будут нести такое же количество яиц за один и тот же промежуток времен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7000" y="3429000"/>
            <a:ext cx="46522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48 яиц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куры - 3 дня – 3 яй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куры – 12 дней – 12 я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 кур – 12 дней – 48 я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ая соединительная линия 5"/>
          <p:cNvSpPr/>
          <p:nvPr/>
        </p:nvSpPr>
        <p:spPr>
          <a:xfrm>
            <a:off x="4286160" y="450072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ая соединительная линия 6"/>
          <p:cNvSpPr/>
          <p:nvPr/>
        </p:nvSpPr>
        <p:spPr>
          <a:xfrm>
            <a:off x="4429080" y="500076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7"/>
          <p:cNvSpPr/>
          <p:nvPr/>
        </p:nvSpPr>
        <p:spPr>
          <a:xfrm>
            <a:off x="5715000" y="450072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ая соединительная линия 8"/>
          <p:cNvSpPr/>
          <p:nvPr/>
        </p:nvSpPr>
        <p:spPr>
          <a:xfrm>
            <a:off x="6215040" y="500076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2786040" y="5000760"/>
            <a:ext cx="1071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10"/>
          <p:cNvSpPr/>
          <p:nvPr/>
        </p:nvSpPr>
        <p:spPr>
          <a:xfrm>
            <a:off x="2786040" y="5572080"/>
            <a:ext cx="1071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11"/>
          <p:cNvSpPr/>
          <p:nvPr/>
        </p:nvSpPr>
        <p:spPr>
          <a:xfrm>
            <a:off x="6143760" y="5500800"/>
            <a:ext cx="1071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15120" y="285840"/>
            <a:ext cx="1285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вершинах квадратной клумбы растут цветы – всего 4 куста. Площадь клумбы увеличили в два раза, не выкапывая кустов. Расширенная клумба то же квадратная, и внутри неё кусов нет. Как это сделать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3929040" y="4643280"/>
            <a:ext cx="914400" cy="914400"/>
          </a:xfrm>
          <a:prstGeom prst="rect">
            <a:avLst/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Овал 4"/>
          <p:cNvSpPr/>
          <p:nvPr/>
        </p:nvSpPr>
        <p:spPr>
          <a:xfrm>
            <a:off x="4714920" y="542916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Овал 5"/>
          <p:cNvSpPr/>
          <p:nvPr/>
        </p:nvSpPr>
        <p:spPr>
          <a:xfrm>
            <a:off x="3857760" y="542916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3857760" y="457200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4714920" y="457200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>
            <a:off x="3499920" y="4214880"/>
            <a:ext cx="785880" cy="9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 flipH="1" flipV="1">
            <a:off x="3499920" y="5143680"/>
            <a:ext cx="1000440" cy="78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ая соединительная линия 13"/>
          <p:cNvSpPr/>
          <p:nvPr/>
        </p:nvSpPr>
        <p:spPr>
          <a:xfrm flipH="1" flipV="1">
            <a:off x="4286160" y="4214520"/>
            <a:ext cx="100008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ая соединительная линия 18"/>
          <p:cNvSpPr/>
          <p:nvPr/>
        </p:nvSpPr>
        <p:spPr>
          <a:xfrm flipV="1">
            <a:off x="4500720" y="5000400"/>
            <a:ext cx="785520" cy="9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31"/>
          <p:cNvSpPr/>
          <p:nvPr/>
        </p:nvSpPr>
        <p:spPr>
          <a:xfrm flipH="1">
            <a:off x="3928680" y="4754520"/>
            <a:ext cx="817560" cy="74628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8040" y="285840"/>
            <a:ext cx="1214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кто не богат настолько, чтобы обойтись без неё, и нет такого бедняка, который не стал бы от неё бог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3297240" y="3071880"/>
            <a:ext cx="2661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лыб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л Карнег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86760" y="214200"/>
            <a:ext cx="14284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больше :                   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3500280" y="1643040"/>
            <a:ext cx="2267280" cy="428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885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4486320" cy="48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2143080" y="4000680"/>
            <a:ext cx="4962600" cy="485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4"/>
          <a:stretch/>
        </p:blipFill>
        <p:spPr>
          <a:xfrm>
            <a:off x="3786120" y="2643120"/>
            <a:ext cx="2019240" cy="486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http://img0.liveinternet.ru/images/attach/c/0/38/268/38268272_Wise20Owl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43840" y="285840"/>
            <a:ext cx="14288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надо всего цифровых знаков, чтобы пронумеровать книгу, в которой 100 страниц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2224440" y="3071880"/>
            <a:ext cx="5746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92 зна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страниц – 9× 1 = 9 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0 страниц – 90 ×2 = 180 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страница – 1×3 = 3зн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img0.liveinternet.ru/images/attach/c/0/38/268/38268272_Wise20Owl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86760" y="357120"/>
            <a:ext cx="1236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сумму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+ 4 + 6 + … + 2008 + 2010 + 20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http://img0.liveinternet.ru/images/attach/c/0/38/268/38268272_Wise20Owl.gif"/>
          <p:cNvPicPr/>
          <p:nvPr/>
        </p:nvPicPr>
        <p:blipFill>
          <a:blip r:embed="rId1"/>
          <a:stretch/>
        </p:blipFill>
        <p:spPr>
          <a:xfrm>
            <a:off x="7286760" y="357120"/>
            <a:ext cx="1428480" cy="16509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2377800" y="2928960"/>
            <a:ext cx="43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2 чисе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06 четны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03 пары четны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2 + 2012) · 503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013 0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Спасибо за игру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http://img0.liveinternet.ru/images/attach/c/0/38/268/38268272_Wise20Owl.gif"/>
          <p:cNvPicPr/>
          <p:nvPr/>
        </p:nvPicPr>
        <p:blipFill>
          <a:blip r:embed="rId1"/>
          <a:stretch/>
        </p:blipFill>
        <p:spPr>
          <a:xfrm>
            <a:off x="2928960" y="2071800"/>
            <a:ext cx="2886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ОУ «Гимназия № 41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рка С. 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Кемер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) Чем больше из неё берешь, тем больше она становит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8360" y="170028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андаш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драя с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042920" y="765000"/>
            <a:ext cx="705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) Не вода и не суша, на лодке не уплывешь, и ногами не пройдеш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Это слово имеет латинское происхождение, означающее «лён, льняная нить, шнур, верёвка». Назовите это слово в том значении, в каком мы употребляем его сейчас в математик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) При каком царе впервые русские меры (верста, сажень, аршин, вершок, дюйм, фут, пуд, фунт, золотник) были приведены в определённую систему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) В школе 370 учеников. Найдётся ли среди них хотя бы 2 ученика, день рождения которых приходится на одну и ту же дату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) Где пересекаются высоты прямоугольного треугольника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веты на разминк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жд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ильный ответ – 1 бал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veta</cp:lastModifiedBy>
  <dcterms:modified xsi:type="dcterms:W3CDTF">2012-12-11T15:31:58Z</dcterms:modified>
  <cp:revision>64</cp:revision>
  <dc:subject/>
  <dc:title>Слайд 1</dc:title>
</cp:coreProperties>
</file>