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gif" ContentType="image/gif"/>
  <Override PartName="/ppt/media/image8.jpeg" ContentType="image/jpeg"/>
  <Override PartName="/ppt/media/image5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FA2D-02F8-4798-960C-98B1011A6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9B4F-44ED-4E4E-9891-BA19BA688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9A87-E1FB-4291-8139-67BFC7DFA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7FEF-50E8-4F1B-BA7F-DABE87336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4B563-FBAC-426B-9BCC-8455D7BE2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4D16D-37A3-4124-BB20-9415C5D38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45E70-BB5E-4937-9B45-370E28DD8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C2D61-9F84-4D0D-A710-E775EA519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4660D-4F14-4B0D-9541-F8C014585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72D15-2E39-48B4-8236-FFF9603A7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228B7-800E-4790-BDD9-9AE8382B6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F45E-50A0-4369-B16B-4E9F65791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8A417-8DD8-46F9-9D78-CA3FA1ED4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8DA6C-9C37-4FD7-8BE2-E24EEBD8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86ADB-3930-415D-A9F5-17514617A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D4569-72A9-49F6-8A00-4FA6D86C4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4177E-36F2-4F1A-9946-AB7F67BA2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45B2-0283-468E-BBCC-4D8A103F8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18FB-5EB2-46FA-A5EE-03D89380D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7E2A-7073-4807-9BC6-A90D530A0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AEA1-8493-4AE9-8592-45B6A34A5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BC8D-BB53-49A2-83B0-78B4D062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0326-E18C-47A1-B50D-D1949DE73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8BB5-D6F9-4943-91FC-F96E875D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00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2e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7c6cad"/>
                </a:gs>
                <a:gs pos="50000">
                  <a:srgbClr val="9280cc"/>
                </a:gs>
                <a:gs pos="100000">
                  <a:srgbClr val="7c6ca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824f99"/>
                </a:gs>
                <a:gs pos="50000">
                  <a:srgbClr val="cc66ff"/>
                </a:gs>
                <a:gs pos="100000">
                  <a:srgbClr val="824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7254b"/>
                </a:gs>
                <a:gs pos="50000">
                  <a:srgbClr val="bd51a1"/>
                </a:gs>
                <a:gs pos="100000">
                  <a:srgbClr val="57254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824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824f99"/>
                </a:gs>
                <a:gs pos="50000">
                  <a:srgbClr val="cc66ff"/>
                </a:gs>
                <a:gs pos="100000">
                  <a:srgbClr val="824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50000">
                  <a:srgbClr val="824f99"/>
                </a:gs>
                <a:gs pos="100000">
                  <a:srgbClr val="0033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00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bc4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2C9D3-D6A8-4D20-A9E0-7A82D7D5575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00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2e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7c6cad"/>
                </a:gs>
                <a:gs pos="50000">
                  <a:srgbClr val="9280cc"/>
                </a:gs>
                <a:gs pos="100000">
                  <a:srgbClr val="7c6ca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824f99"/>
                </a:gs>
                <a:gs pos="50000">
                  <a:srgbClr val="cc66ff"/>
                </a:gs>
                <a:gs pos="100000">
                  <a:srgbClr val="824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7254b"/>
                </a:gs>
                <a:gs pos="50000">
                  <a:srgbClr val="bd51a1"/>
                </a:gs>
                <a:gs pos="100000">
                  <a:srgbClr val="57254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824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824f99"/>
                </a:gs>
                <a:gs pos="50000">
                  <a:srgbClr val="cc66ff"/>
                </a:gs>
                <a:gs pos="100000">
                  <a:srgbClr val="824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50000">
                  <a:srgbClr val="824f99"/>
                </a:gs>
                <a:gs pos="100000">
                  <a:srgbClr val="0033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00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bc4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52DD4-43F1-46B0-BAD0-74B5C4F593A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69660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4bc4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4bc40"/>
                </a:solidFill>
                <a:latin typeface="Times New Roman"/>
              </a:rPr>
              <a:t>Дружат дети на планете!</a:t>
            </a:r>
            <a:endParaRPr b="0" lang="en-US" sz="4800" spc="-1" strike="noStrike">
              <a:solidFill>
                <a:srgbClr val="f4bc40"/>
              </a:solidFill>
              <a:latin typeface="Arial"/>
            </a:endParaRPr>
          </a:p>
        </p:txBody>
      </p:sp>
      <p:pic>
        <p:nvPicPr>
          <p:cNvPr id="193" name="Picture 5" descr="x_41463ab7"/>
          <p:cNvPicPr/>
          <p:nvPr/>
        </p:nvPicPr>
        <p:blipFill>
          <a:blip r:embed="rId1"/>
          <a:stretch/>
        </p:blipFill>
        <p:spPr>
          <a:xfrm rot="20811000">
            <a:off x="533160" y="2666880"/>
            <a:ext cx="4533840" cy="302580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3962160" y="5334120"/>
            <a:ext cx="380988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ыполнили : уч-ся 1 «А» и «Г» классо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уководители : Кузина Т.Л. , Плеханова Т.В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263520" y="609480"/>
            <a:ext cx="7386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А с кем вы дружите?                                                                  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Дружите ли вы со своими родителями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ак вы думаете, дружить можно только с людьми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Дружите ли вы с животными, природой, книгами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560" y="227160"/>
            <a:ext cx="7467480" cy="36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4bc40"/>
                </a:solidFill>
                <a:latin typeface="Arial"/>
              </a:rPr>
              <a:t>С дружбой приходится сталкиваться в жизни каждому человеку. Когда у человека есть настоящие друзья, это сильно влияет даже на то, насколько счастливым он себя чувствует.</a:t>
            </a:r>
            <a:r>
              <a:rPr b="0" lang="ru-RU" sz="3600" spc="-1" strike="noStrike">
                <a:solidFill>
                  <a:srgbClr val="f4bc4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4bc40"/>
              </a:solidFill>
              <a:latin typeface="Arial"/>
            </a:endParaRPr>
          </a:p>
        </p:txBody>
      </p:sp>
      <p:pic>
        <p:nvPicPr>
          <p:cNvPr id="215" name="Picture 5" descr="i?id=557030998-38-72&amp;n=21"/>
          <p:cNvPicPr/>
          <p:nvPr/>
        </p:nvPicPr>
        <p:blipFill>
          <a:blip r:embed="rId1"/>
          <a:stretch/>
        </p:blipFill>
        <p:spPr>
          <a:xfrm>
            <a:off x="4952880" y="4648320"/>
            <a:ext cx="2143080" cy="14284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x_ce60a684"/>
          <p:cNvPicPr/>
          <p:nvPr/>
        </p:nvPicPr>
        <p:blipFill>
          <a:blip r:embed="rId2"/>
          <a:stretch/>
        </p:blipFill>
        <p:spPr>
          <a:xfrm>
            <a:off x="609480" y="4495680"/>
            <a:ext cx="304812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WordArt 4"/>
          <p:cNvSpPr txBox="1"/>
          <p:nvPr/>
        </p:nvSpPr>
        <p:spPr>
          <a:xfrm>
            <a:off x="228600" y="1295280"/>
            <a:ext cx="65563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304560"/>
            <a:ext cx="7476840" cy="23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4bc40"/>
                </a:solidFill>
                <a:latin typeface="Arial"/>
              </a:rPr>
              <a:t>«Друг». «Подружиться». «Дружба». Какой смысл Вы вкладываете в эти слова? </a:t>
            </a:r>
            <a:r>
              <a:rPr b="0" lang="ru-RU" sz="4000" spc="-1" strike="noStrike">
                <a:solidFill>
                  <a:srgbClr val="f4bc4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pic>
        <p:nvPicPr>
          <p:cNvPr id="196" name="Picture 5" descr="20fc39f7dff6"/>
          <p:cNvPicPr/>
          <p:nvPr/>
        </p:nvPicPr>
        <p:blipFill>
          <a:blip r:embed="rId1"/>
          <a:stretch/>
        </p:blipFill>
        <p:spPr>
          <a:xfrm>
            <a:off x="1600200" y="2514600"/>
            <a:ext cx="57150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263520" y="990360"/>
            <a:ext cx="73864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репко – накрепко дружить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 детства дружбой дорожи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Учат в школе, учат в школе, учат в школе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5" descr="1533"/>
          <p:cNvPicPr/>
          <p:nvPr/>
        </p:nvPicPr>
        <p:blipFill>
          <a:blip r:embed="rId1"/>
          <a:stretch/>
        </p:blipFill>
        <p:spPr>
          <a:xfrm>
            <a:off x="3733920" y="3429000"/>
            <a:ext cx="37717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4bc40"/>
                </a:solidFill>
                <a:latin typeface="Arial"/>
              </a:rPr>
              <a:t>Каким же должен быть настоящий друг? </a:t>
            </a:r>
            <a:r>
              <a:rPr b="0" lang="ru-RU" sz="3600" spc="-1" strike="noStrike">
                <a:solidFill>
                  <a:srgbClr val="f4bc4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66ff"/>
                </a:solidFill>
                <a:latin typeface="Arial"/>
              </a:rPr>
              <a:t>             </a:t>
            </a:r>
            <a:r>
              <a:rPr b="1" lang="ru-RU" sz="3600" spc="-1" strike="noStrike">
                <a:solidFill>
                  <a:srgbClr val="cc66ff"/>
                </a:solidFill>
                <a:latin typeface="Arial"/>
              </a:rPr>
              <a:t>Если Вы хотите иметь         настоящего друга, прежде всего сами станьте таким настоящим другом!</a:t>
            </a:r>
            <a:r>
              <a:rPr b="0" lang="ru-RU" sz="3600" spc="-1" strike="noStrike">
                <a:solidFill>
                  <a:srgbClr val="cc66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то сам хороший друг, тот имеет и много хороших друзей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icture 5" descr="1224009357324980"/>
          <p:cNvPicPr/>
          <p:nvPr/>
        </p:nvPicPr>
        <p:blipFill>
          <a:blip r:embed="rId1"/>
          <a:stretch/>
        </p:blipFill>
        <p:spPr>
          <a:xfrm>
            <a:off x="4343400" y="5334120"/>
            <a:ext cx="28162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9240" y="53316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4bc40"/>
                </a:solidFill>
                <a:latin typeface="Arial"/>
              </a:rPr>
              <a:t>Личные качества, полезные для дружбы:</a:t>
            </a:r>
            <a:br>
              <a:rPr sz="3600"/>
            </a:br>
            <a:endParaRPr b="0" lang="en-US" sz="36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·  Искренность, открытость;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·  Сочувствие;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·  Умение выслушать;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·  Интерес к делам и переживаниям другого;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·  Готовность прийти на помощь, быть рядом в трудную минуту;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·  Готовность прощать;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·  Умение признавать свои ошибки;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·  Умение принимать советы;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·  Умение хранить секре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7391160" cy="98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4bc40"/>
                </a:solidFill>
                <a:latin typeface="Arial"/>
              </a:rPr>
              <a:t>Не пытайтесь завести дружбу с человеком, если он:</a:t>
            </a:r>
            <a:br>
              <a:rPr sz="3600"/>
            </a:br>
            <a:endParaRPr b="0" lang="en-US" sz="36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219320"/>
            <a:ext cx="7386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· 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меет низкие нравственные ценности или известен своим аморальным поведением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· 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носится к Вам заведомо неуважительно, например, унижает и оскорбляет наедине или в присутствии других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· 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звестен нехорошим отношением с другими людьми, особенно с теми, от кого он ничего не надеется получить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сли человек не проявляет по отношению к другим такие качества, как честность, преданность, терпение и сочувствие, то разве можно ожидать, что он будет проявлять их по отношению к Вам? А если он и проявляет их к Вам, то, может быть, он делает это из корысти, надеясь получить от Вас что-то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263520" y="304920"/>
            <a:ext cx="738648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4bc40"/>
                </a:solidFill>
                <a:latin typeface="Arial"/>
              </a:rPr>
              <a:t>Такие отношения заведомо обречены на провал!!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4bc40"/>
                </a:solidFill>
                <a:latin typeface="Arial"/>
              </a:rPr>
              <a:t>Ищите себе достойных друзей, пусть даже это потребует больше времени и усилий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Picture 5" descr="5f78047a5be9"/>
          <p:cNvPicPr/>
          <p:nvPr/>
        </p:nvPicPr>
        <p:blipFill>
          <a:blip r:embed="rId1"/>
          <a:stretch/>
        </p:blipFill>
        <p:spPr>
          <a:xfrm>
            <a:off x="4267080" y="4267080"/>
            <a:ext cx="34290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676520"/>
            <a:ext cx="66294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ru-RU" sz="4000" spc="-1" strike="noStrike">
                <a:solidFill>
                  <a:srgbClr val="f4bc40"/>
                </a:solidFill>
                <a:latin typeface="Arial"/>
              </a:rPr>
              <a:t>Игра                               «Кто с кем дружит?»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1909800" y="2427120"/>
            <a:ext cx="53262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6" descr="47148965_32492476_1481"/>
          <p:cNvPicPr/>
          <p:nvPr/>
        </p:nvPicPr>
        <p:blipFill>
          <a:blip r:embed="rId1"/>
          <a:stretch/>
        </p:blipFill>
        <p:spPr>
          <a:xfrm>
            <a:off x="1219320" y="3295800"/>
            <a:ext cx="43434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263520" y="304920"/>
            <a:ext cx="738648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. Зелёный крокодил Гена и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. Доверчивый Буратино и …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 Смешной мишка Винни-Пух и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. Мальчик по имени Малыш и …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. Забавные Бурундуки Чип и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6. Добрая Белоснежка и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5" descr="393439"/>
          <p:cNvPicPr/>
          <p:nvPr/>
        </p:nvPicPr>
        <p:blipFill>
          <a:blip r:embed="rId1"/>
          <a:stretch/>
        </p:blipFill>
        <p:spPr>
          <a:xfrm>
            <a:off x="4648320" y="3822840"/>
            <a:ext cx="385740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2-11T17:15:20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