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2D9-3702-41EE-BFC8-CA3B2F4F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76D-B9AB-4457-B840-BB342E4F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394-8567-459F-9470-3DE9AC30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5DC-CF3B-48DA-B08A-1E19E239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C5AF-91CA-4DD5-BCB3-E3C653E7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7E69-B1C2-4198-9B7F-9CF9FEA5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3D9B-B478-49E5-BA05-647AA67F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77B7-DB2D-457D-BDA4-FACAEF04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6CD4-24A3-4723-AF92-2ECD0063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A58E-4B93-45D7-9554-530FEA96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3C4A-C29B-497C-9A1D-E1B3A8ED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E77-9B62-457B-9AFA-DBD8D548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4163-A945-4618-989F-380B1D9E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9ED3-66FA-4E1F-81FB-AA0167F2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E857-C1CE-4ACC-AF61-FA284FE4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028C-3AF2-4C56-B5E3-AF1D9487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F0F5-8C54-4F95-A682-88465520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8B90-BD16-4D14-8A45-F0759942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7FC-453C-464B-BDD4-97C8196C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46D-8E67-45AE-8AFD-DE425654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702-2DFC-417B-BD62-B8EC5F5B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5E7-CB99-4BBA-8B88-1C4BCD9E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234-B3E5-43BE-B96F-A0E776B0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CCA-1301-4AB2-86E2-9F8CC858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6851-D09F-4332-9FDE-E9A02B4D1D9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4BF0-726C-401D-BEFE-0AA06EFB8C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6966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4bc40"/>
                </a:solidFill>
                <a:latin typeface="Times New Roman"/>
              </a:rPr>
              <a:t>Дружат дети на планете!</a:t>
            </a:r>
            <a:endParaRPr b="0" lang="en-US" sz="48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193" name="Picture 5" descr="x_41463ab7"/>
          <p:cNvPicPr/>
          <p:nvPr/>
        </p:nvPicPr>
        <p:blipFill>
          <a:blip r:embed="rId1"/>
          <a:stretch/>
        </p:blipFill>
        <p:spPr>
          <a:xfrm rot="20811000">
            <a:off x="533160" y="2666880"/>
            <a:ext cx="4533840" cy="30258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962160" y="53341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и : уч-ся 1 «А» и «Г» класс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ководители : Кузина Т.Л. , Плеханова Т.В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 с кем вы дружите?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ружите ли вы со своими родителями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вы думаете, дружить можно только с людь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ружите ли вы с животными, природой, книг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227160"/>
            <a:ext cx="746748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Arial"/>
              </a:rPr>
              <a:t>С дружбой приходится сталкиваться в жизни каждому человеку. Когда у человека есть настоящие друзья, это сильно влияет даже на то, насколько счастливым он себя чувствует.</a:t>
            </a:r>
            <a:r>
              <a:rPr b="0" lang="ru-RU" sz="3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215" name="Picture 5" descr="i?id=557030998-38-72&amp;n=21"/>
          <p:cNvPicPr/>
          <p:nvPr/>
        </p:nvPicPr>
        <p:blipFill>
          <a:blip r:embed="rId1"/>
          <a:stretch/>
        </p:blipFill>
        <p:spPr>
          <a:xfrm>
            <a:off x="4952880" y="464832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x_ce60a684"/>
          <p:cNvPicPr/>
          <p:nvPr/>
        </p:nvPicPr>
        <p:blipFill>
          <a:blip r:embed="rId2"/>
          <a:stretch/>
        </p:blipFill>
        <p:spPr>
          <a:xfrm>
            <a:off x="609480" y="4495680"/>
            <a:ext cx="30481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228600" y="1295280"/>
            <a:ext cx="6556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304560"/>
            <a:ext cx="747684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«Друг». «Подружиться». «Дружба». Какой смысл Вы вкладываете в эти слова? </a:t>
            </a:r>
            <a:r>
              <a:rPr b="0" lang="ru-RU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196" name="Picture 5" descr="20fc39f7dff6"/>
          <p:cNvPicPr/>
          <p:nvPr/>
        </p:nvPicPr>
        <p:blipFill>
          <a:blip r:embed="rId1"/>
          <a:stretch/>
        </p:blipFill>
        <p:spPr>
          <a:xfrm>
            <a:off x="1600200" y="2514600"/>
            <a:ext cx="5715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990360"/>
            <a:ext cx="7386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епко – накрепко дружит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 детства дружбой дорож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ат в школе, учат в школе, учат в школ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1533"/>
          <p:cNvPicPr/>
          <p:nvPr/>
        </p:nvPicPr>
        <p:blipFill>
          <a:blip r:embed="rId1"/>
          <a:stretch/>
        </p:blipFill>
        <p:spPr>
          <a:xfrm>
            <a:off x="3733920" y="3429000"/>
            <a:ext cx="3771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bc40"/>
                </a:solidFill>
                <a:latin typeface="Arial"/>
              </a:rPr>
              <a:t>Каким же должен быть настоящий друг? </a:t>
            </a:r>
            <a:r>
              <a:rPr b="0" lang="ru-RU" sz="3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cc66ff"/>
                </a:solidFill>
                <a:latin typeface="Arial"/>
              </a:rPr>
              <a:t>Если Вы хотите иметь         настоящего друга, прежде всего сами станьте таким настоящим другом!</a:t>
            </a:r>
            <a:r>
              <a:rPr b="0" lang="ru-RU" sz="36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то сам хороший друг, тот имеет и много хороших друзе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1224009357324980"/>
          <p:cNvPicPr/>
          <p:nvPr/>
        </p:nvPicPr>
        <p:blipFill>
          <a:blip r:embed="rId1"/>
          <a:stretch/>
        </p:blipFill>
        <p:spPr>
          <a:xfrm>
            <a:off x="4343400" y="5334120"/>
            <a:ext cx="2816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9240" y="53316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Arial"/>
              </a:rPr>
              <a:t>Личные качества, полезные для дружбы:</a:t>
            </a:r>
            <a:br>
              <a:rPr sz="3600"/>
            </a:b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Искренность, открытость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Сочувствие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Умение выслушать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Интерес к делам и переживаниям другого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Готовность прийти на помощь, быть рядом в трудную минуту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Готовность прощать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Умение признавать свои ошибки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Умение принимать советы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·  Умение хранить секр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391160" cy="9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Arial"/>
              </a:rPr>
              <a:t>Не пытайтесь завести дружбу с человеком, если он:</a:t>
            </a:r>
            <a:br>
              <a:rPr sz="3600"/>
            </a:b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21932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 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еет низкие нравственные ценности или известен своим аморальным поведением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 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сится к Вам заведомо неуважительно, например, унижает и оскорбляет наедине или в присутствии других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 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вестен нехорошим отношением с другими людьми, особенно с теми, от кого он ничего не надеется получить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человек не проявляет по отношению к другим такие качества, как честность, преданность, терпение и сочувствие, то разве можно ожидать, что он будет проявлять их по отношению к Вам? А если он и проявляет их к Вам, то, может быть, он делает это из корысти, надеясь получить от Вас что-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Такие отношения заведомо обречены на провал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Ищите себе достойных друзей, пусть даже это потребует больше времени и усилий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5" descr="5f78047a5be9"/>
          <p:cNvPicPr/>
          <p:nvPr/>
        </p:nvPicPr>
        <p:blipFill>
          <a:blip r:embed="rId1"/>
          <a:stretch/>
        </p:blipFill>
        <p:spPr>
          <a:xfrm>
            <a:off x="4267080" y="426708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6765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f4bc40"/>
                </a:solidFill>
                <a:latin typeface="Arial"/>
              </a:rPr>
              <a:t>Игра                               «Кто с кем дружит?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909800" y="2427120"/>
            <a:ext cx="532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6" descr="47148965_32492476_1481"/>
          <p:cNvPicPr/>
          <p:nvPr/>
        </p:nvPicPr>
        <p:blipFill>
          <a:blip r:embed="rId1"/>
          <a:stretch/>
        </p:blipFill>
        <p:spPr>
          <a:xfrm>
            <a:off x="1219320" y="3295800"/>
            <a:ext cx="4343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Зелёный крокодил Гена и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Доверчивый Буратино и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Смешной мишка Винни-Пух и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Мальчик по имени Малыш и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 Забавные Бурундуки Чип и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. Добрая Белоснежка 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393439"/>
          <p:cNvPicPr/>
          <p:nvPr/>
        </p:nvPicPr>
        <p:blipFill>
          <a:blip r:embed="rId1"/>
          <a:stretch/>
        </p:blipFill>
        <p:spPr>
          <a:xfrm>
            <a:off x="4648320" y="3822840"/>
            <a:ext cx="38574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1T17:15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