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gif" ContentType="image/gif"/>
  <Override PartName="/ppt/media/image6.png" ContentType="image/png"/>
  <Override PartName="/ppt/media/image7.jpeg" ContentType="image/jpeg"/>
  <Override PartName="/ppt/media/image3.gif" ContentType="image/gif"/>
  <Override PartName="/ppt/media/image4.gif" ContentType="image/gif"/>
  <Override PartName="/ppt/media/image5.gif" ContentType="image/gif"/>
  <Override PartName="/ppt/media/image8.jpeg" ContentType="image/jpeg"/>
  <Override PartName="/ppt/media/image9.jpeg" ContentType="image/jpeg"/>
  <Override PartName="/ppt/media/image10.png" ContentType="image/png"/>
  <Override PartName="/ppt/media/image11.gif" ContentType="image/gif"/>
  <Override PartName="/ppt/media/image12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3C0C83-E916-449F-A6DD-CC9DEF530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7C6EE7-2B7D-4565-9BF0-62D3CA091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CB9D2D-2A5A-43A4-83F7-3B2D928C3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9DC625-FB2F-4F0D-91BB-9BF70CEAE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2D5EE-F2AC-4501-AC07-FF2D701A0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6D5D5-1DD5-4E0D-B8DE-1246D1233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58876-03CF-44EA-A3FB-5C747E117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AA39C-D672-4470-A24D-6D0999A42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73AF5-398E-4C27-87CE-895369BD2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67063-F119-492A-AE94-0B0F753B1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7BFEC-1E7D-4FC9-B4B4-B1F512E73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858B7B-4962-4F8C-B417-56C55220B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20A05-67F5-41B7-8147-0D096F61D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AC202-6215-46FF-861A-E7C8209DA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B0939-EE78-4F12-939F-BED88B021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4FB90-3855-4F41-B35D-AEC714EAC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C451E-2444-4659-9F4C-DB0C32C15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87402E-F241-46C8-B169-C55F97CB3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E4E1C6-2565-4132-8003-2B7BF8316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FCAA88-E46F-432D-9999-F8197EDCB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102523-9B3D-46D6-96A1-B9B7907D2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66DBF2-87A1-497D-8A9A-7F8F70F2B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D4398D-B9C4-47DA-8E0D-1D01497E7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066E60-BCE0-4A61-89D9-8CC521755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A18F9-7D2D-413F-AD3E-A2FE0EAEAEF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4F81F-94C7-413C-B7EB-DBBDAFDE6C1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image" Target="../media/image5.gi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1143000" y="838080"/>
            <a:ext cx="7315200" cy="4953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лассный час:</a:t>
            </a:r>
            <a:endParaRPr b="0" lang="en-US" sz="1800" spc="1" strike="noStrike">
              <a:ln w="19080">
                <a:solidFill>
                  <a:srgbClr val="ff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РАВИЛА ДОРОЖНОГО</a:t>
            </a:r>
            <a:endParaRPr b="0" lang="en-US" sz="1800" spc="1" strike="noStrike">
              <a:ln w="19080">
                <a:solidFill>
                  <a:srgbClr val="ff0000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0000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19080">
                  <a:solidFill>
                    <a:srgbClr val="ff0000"/>
                  </a:solidFill>
                  <a:miter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ВИЖЕНИЯ</a:t>
            </a:r>
            <a:endParaRPr b="0" lang="en-US" sz="1800" spc="1" strike="noStrike">
              <a:ln w="19080">
                <a:solidFill>
                  <a:srgbClr val="ff0000"/>
                </a:solidFill>
                <a:miter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417960" y="152280"/>
            <a:ext cx="7483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3. Знак, которым оборудован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транспорт, перевозящий детей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38280" y="1905120"/>
            <a:ext cx="2485800" cy="2019240"/>
            <a:chOff x="638280" y="1905120"/>
            <a:chExt cx="2485800" cy="2019240"/>
          </a:xfrm>
        </p:grpSpPr>
        <p:sp>
          <p:nvSpPr>
            <p:cNvPr id="175" name=""/>
            <p:cNvSpPr/>
            <p:nvPr/>
          </p:nvSpPr>
          <p:spPr>
            <a:xfrm>
              <a:off x="638280" y="1905120"/>
              <a:ext cx="577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 Black"/>
                </a:rPr>
                <a:t>А.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76" name="" descr=""/>
            <p:cNvPicPr/>
            <p:nvPr/>
          </p:nvPicPr>
          <p:blipFill>
            <a:blip r:embed="rId1"/>
            <a:stretch/>
          </p:blipFill>
          <p:spPr>
            <a:xfrm>
              <a:off x="1295280" y="2286000"/>
              <a:ext cx="1828800" cy="1638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7" name=""/>
          <p:cNvGrpSpPr/>
          <p:nvPr/>
        </p:nvGrpSpPr>
        <p:grpSpPr>
          <a:xfrm>
            <a:off x="5900040" y="3733920"/>
            <a:ext cx="2710440" cy="1904760"/>
            <a:chOff x="5900040" y="3733920"/>
            <a:chExt cx="2710440" cy="1904760"/>
          </a:xfrm>
        </p:grpSpPr>
        <p:sp>
          <p:nvSpPr>
            <p:cNvPr id="178" name=""/>
            <p:cNvSpPr/>
            <p:nvPr/>
          </p:nvSpPr>
          <p:spPr>
            <a:xfrm>
              <a:off x="5900040" y="4800600"/>
              <a:ext cx="569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 Black"/>
                </a:rPr>
                <a:t>В.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79" name="" descr=""/>
            <p:cNvPicPr/>
            <p:nvPr/>
          </p:nvPicPr>
          <p:blipFill>
            <a:blip r:embed="rId2"/>
            <a:srcRect l="13043" t="35334" r="-4840" b="36804"/>
            <a:stretch/>
          </p:blipFill>
          <p:spPr>
            <a:xfrm>
              <a:off x="6781680" y="3733920"/>
              <a:ext cx="1828800" cy="1904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563760" y="1066680"/>
            <a:ext cx="76604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4. По загородной дороге, двигаясь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группой нужно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А. идти навстречу движению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транспорт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В. по направлению движ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транспорт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472680" y="1371600"/>
            <a:ext cx="78663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5. Если сменился сигнал светофора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а часть группы находится н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проезжей части, нужно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А. вернуться назад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В. остановитьс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С. продолжить переход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533520"/>
            <a:ext cx="73152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роверим себя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3" name=""/>
          <p:cNvSpPr/>
          <p:nvPr/>
        </p:nvSpPr>
        <p:spPr>
          <a:xfrm>
            <a:off x="898560" y="28684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1295280" y="2133720"/>
          <a:ext cx="6096240" cy="4063680"/>
        </p:xfrm>
        <a:graphic>
          <a:graphicData uri="http://schemas.openxmlformats.org/drawingml/2006/table">
            <a:tbl>
              <a:tblPr/>
              <a:tblGrid>
                <a:gridCol w="1219320"/>
                <a:gridCol w="1219320"/>
                <a:gridCol w="1218960"/>
                <a:gridCol w="1219320"/>
                <a:gridCol w="1219320"/>
              </a:tblGrid>
              <a:tr h="20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</a:t>
                      </a:r>
                      <a:r>
                        <a:rPr b="1" lang="en-US" sz="5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.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</a:t>
                      </a:r>
                      <a:r>
                        <a:rPr b="1" lang="en-US" sz="5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.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</a:t>
                      </a:r>
                      <a:r>
                        <a:rPr b="1" lang="en-US" sz="5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.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</a:t>
                      </a:r>
                      <a:r>
                        <a:rPr b="1" lang="en-US" sz="5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4. 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</a:t>
                      </a:r>
                      <a:r>
                        <a:rPr b="1" lang="en-US" sz="5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5.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</a:t>
                      </a:r>
                      <a:r>
                        <a:rPr b="1" lang="en-US" sz="6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А</a:t>
                      </a:r>
                      <a:endParaRPr b="0" lang="en-US" sz="6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</a:t>
                      </a:r>
                      <a:r>
                        <a:rPr b="1" lang="en-US" sz="6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В</a:t>
                      </a:r>
                      <a:endParaRPr b="0" lang="en-US" sz="6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В</a:t>
                      </a:r>
                      <a:endParaRPr b="0" lang="en-US" sz="6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А</a:t>
                      </a:r>
                      <a:endParaRPr b="0" lang="en-US" sz="6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С</a:t>
                      </a:r>
                      <a:endParaRPr b="0" lang="en-US" sz="6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457200" y="914400"/>
            <a:ext cx="80773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МОЛОДЦЫ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238880" y="3048120"/>
            <a:ext cx="1657440" cy="165708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380880" y="4952880"/>
            <a:ext cx="1981440" cy="17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838080" y="1295280"/>
            <a:ext cx="7924680" cy="3657600"/>
            <a:chOff x="838080" y="1295280"/>
            <a:chExt cx="7924680" cy="3657600"/>
          </a:xfrm>
        </p:grpSpPr>
        <p:grpSp>
          <p:nvGrpSpPr>
            <p:cNvPr id="101" name=""/>
            <p:cNvGrpSpPr/>
            <p:nvPr/>
          </p:nvGrpSpPr>
          <p:grpSpPr>
            <a:xfrm>
              <a:off x="2666880" y="1295280"/>
              <a:ext cx="609480" cy="3657600"/>
              <a:chOff x="2666880" y="1295280"/>
              <a:chExt cx="609480" cy="3657600"/>
            </a:xfrm>
          </p:grpSpPr>
          <p:sp>
            <p:nvSpPr>
              <p:cNvPr id="102" name=""/>
              <p:cNvSpPr/>
              <p:nvPr/>
            </p:nvSpPr>
            <p:spPr>
              <a:xfrm>
                <a:off x="2666880" y="4343040"/>
                <a:ext cx="609480" cy="609840"/>
              </a:xfrm>
              <a:prstGeom prst="rect">
                <a:avLst/>
              </a:prstGeom>
              <a:solidFill>
                <a:srgbClr val="0099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 Black"/>
                  </a:rPr>
                  <a:t>А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2666880" y="3733560"/>
                <a:ext cx="609480" cy="609480"/>
              </a:xfrm>
              <a:prstGeom prst="rect">
                <a:avLst/>
              </a:prstGeom>
              <a:solidFill>
                <a:srgbClr val="0099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 Black"/>
                  </a:rPr>
                  <a:t>Г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2666880" y="3124080"/>
                <a:ext cx="609480" cy="609480"/>
              </a:xfrm>
              <a:prstGeom prst="rect">
                <a:avLst/>
              </a:prstGeom>
              <a:solidFill>
                <a:srgbClr val="0099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 Black"/>
                  </a:rPr>
                  <a:t>О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2666880" y="2514240"/>
                <a:ext cx="609480" cy="609840"/>
              </a:xfrm>
              <a:prstGeom prst="rect">
                <a:avLst/>
              </a:prstGeom>
              <a:solidFill>
                <a:srgbClr val="0099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 Black"/>
                  </a:rPr>
                  <a:t>Р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2666880" y="1904760"/>
                <a:ext cx="609480" cy="609480"/>
              </a:xfrm>
              <a:prstGeom prst="rect">
                <a:avLst/>
              </a:prstGeom>
              <a:solidFill>
                <a:srgbClr val="0099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 Black"/>
                  </a:rPr>
                  <a:t>О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2666880" y="1295280"/>
                <a:ext cx="609480" cy="609480"/>
              </a:xfrm>
              <a:prstGeom prst="rect">
                <a:avLst/>
              </a:prstGeom>
              <a:solidFill>
                <a:srgbClr val="0099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 Black"/>
                  </a:rPr>
                  <a:t>Д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8" name=""/>
            <p:cNvSpPr/>
            <p:nvPr/>
          </p:nvSpPr>
          <p:spPr>
            <a:xfrm>
              <a:off x="1447560" y="1295280"/>
              <a:ext cx="609480" cy="60948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057040" y="1295280"/>
              <a:ext cx="609840" cy="60948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4480" y="1295280"/>
              <a:ext cx="609480" cy="60948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714640" y="1295280"/>
              <a:ext cx="609840" cy="60948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105160" y="1295280"/>
              <a:ext cx="609480" cy="60948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495680" y="1295280"/>
              <a:ext cx="609480" cy="60948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885840" y="1295280"/>
              <a:ext cx="609840" cy="60948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360" y="1295280"/>
              <a:ext cx="609480" cy="60948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447560" y="1904760"/>
              <a:ext cx="609480" cy="60984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057040" y="1904760"/>
              <a:ext cx="609840" cy="60984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276360" y="1904760"/>
              <a:ext cx="609480" cy="60984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85840" y="1904760"/>
              <a:ext cx="609840" cy="60984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495680" y="1904760"/>
              <a:ext cx="609480" cy="60984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105160" y="1904760"/>
              <a:ext cx="609480" cy="60984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057040" y="2514600"/>
              <a:ext cx="609840" cy="60948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276360" y="2514600"/>
              <a:ext cx="609480" cy="60948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885840" y="2514600"/>
              <a:ext cx="609840" cy="60948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495680" y="2514600"/>
              <a:ext cx="609480" cy="60948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714640" y="2514600"/>
              <a:ext cx="609840" cy="60948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05160" y="2514600"/>
              <a:ext cx="609480" cy="60948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495680" y="3124080"/>
              <a:ext cx="609480" cy="60948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885840" y="3124080"/>
              <a:ext cx="609840" cy="60948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276360" y="3124080"/>
              <a:ext cx="609480" cy="60948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276360" y="3733560"/>
              <a:ext cx="609480" cy="60984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447560" y="3733560"/>
              <a:ext cx="609480" cy="60984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057040" y="3124080"/>
              <a:ext cx="609840" cy="60948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057040" y="3733560"/>
              <a:ext cx="609840" cy="60984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8153280" y="3733560"/>
              <a:ext cx="609480" cy="60984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543440" y="3733560"/>
              <a:ext cx="609840" cy="60984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933960" y="3733560"/>
              <a:ext cx="609480" cy="60984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324480" y="3733560"/>
              <a:ext cx="609480" cy="60984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714640" y="3733560"/>
              <a:ext cx="609840" cy="60984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105160" y="3733560"/>
              <a:ext cx="609480" cy="60984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495680" y="3733560"/>
              <a:ext cx="609480" cy="60984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885840" y="3733560"/>
              <a:ext cx="609840" cy="60984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714640" y="4343400"/>
              <a:ext cx="609840" cy="60948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105160" y="4343400"/>
              <a:ext cx="609480" cy="60948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495680" y="4343400"/>
              <a:ext cx="609480" cy="60948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885840" y="4343400"/>
              <a:ext cx="609840" cy="60948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276360" y="4343400"/>
              <a:ext cx="609480" cy="60948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838080" y="4343400"/>
              <a:ext cx="609480" cy="60948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447560" y="4343400"/>
              <a:ext cx="609480" cy="60948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057040" y="4343400"/>
              <a:ext cx="609840" cy="60948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1769400" y="1447920"/>
            <a:ext cx="457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П     О            З      Е    М     Н    Ы     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931400" y="1981080"/>
            <a:ext cx="327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О    Б            Ч     И    Н     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583720" y="2590920"/>
            <a:ext cx="334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Т            О     Т     У     А     Р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468160" y="3200400"/>
            <a:ext cx="229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Ш           С     С     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207160" y="3809880"/>
            <a:ext cx="591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Р     Е            У     Л     И    Р     О     В    Щ     И     К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526400" y="4467240"/>
            <a:ext cx="422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О    С     Т            Н     О     В    К     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762120" y="304920"/>
            <a:ext cx="1371600" cy="82368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6400800" y="2133720"/>
            <a:ext cx="2505240" cy="115236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3"/>
          <a:stretch/>
        </p:blipFill>
        <p:spPr>
          <a:xfrm>
            <a:off x="6019920" y="5067360"/>
            <a:ext cx="2209680" cy="145728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4"/>
          <a:stretch/>
        </p:blipFill>
        <p:spPr>
          <a:xfrm>
            <a:off x="457200" y="5181480"/>
            <a:ext cx="243828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990720" y="762120"/>
            <a:ext cx="739116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333399"/>
                  </a:solidFill>
                  <a:miter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вижение группой</a:t>
            </a:r>
            <a:endParaRPr b="0" lang="en-US" sz="1800" spc="1" strike="noStrike">
              <a:ln w="19080">
                <a:solidFill>
                  <a:srgbClr val="333399"/>
                </a:solidFill>
                <a:miter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1981080" y="2362320"/>
            <a:ext cx="4191120" cy="38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598320" y="685800"/>
            <a:ext cx="8283960" cy="57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 Black"/>
              </a:rPr>
              <a:t>Правила движения для группы дете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1. </a:t>
            </a:r>
            <a:r>
              <a:rPr b="1" lang="en-US" sz="2800" spc="-1" strike="noStrike">
                <a:solidFill>
                  <a:srgbClr val="ffffcc"/>
                </a:solidFill>
                <a:latin typeface="Arial Black"/>
              </a:rPr>
              <a:t>Двигаться парами, взявшись за руки</a:t>
            </a: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2. </a:t>
            </a:r>
            <a:r>
              <a:rPr b="1" lang="en-US" sz="2800" spc="-1" strike="noStrike">
                <a:solidFill>
                  <a:srgbClr val="ffcc00"/>
                </a:solidFill>
                <a:latin typeface="Arial Black"/>
              </a:rPr>
              <a:t>Идти по тротуару или по левой обочин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1" lang="en-US" sz="2800" spc="-1" strike="noStrike">
                <a:solidFill>
                  <a:srgbClr val="ffcc00"/>
                </a:solidFill>
                <a:latin typeface="Arial Black"/>
              </a:rPr>
              <a:t>навстречу движению транспорта</a:t>
            </a: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3. Впереди и сзади идут взрослы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с красным флажко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4. </a:t>
            </a:r>
            <a:r>
              <a:rPr b="1" lang="en-US" sz="2800" spc="-1" strike="noStrike">
                <a:solidFill>
                  <a:srgbClr val="ffcc00"/>
                </a:solidFill>
                <a:latin typeface="Arial Black"/>
              </a:rPr>
              <a:t>Переходить дорогу только п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1" lang="en-US" sz="2800" spc="-1" strike="noStrike">
                <a:solidFill>
                  <a:srgbClr val="ffcc00"/>
                </a:solidFill>
                <a:latin typeface="Arial Black"/>
              </a:rPr>
              <a:t>пешеходному переходу или 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1" lang="en-US" sz="2800" spc="-1" strike="noStrike">
                <a:solidFill>
                  <a:srgbClr val="ffcc00"/>
                </a:solidFill>
                <a:latin typeface="Arial Black"/>
              </a:rPr>
              <a:t>участке дороги, где она хорошо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1" lang="en-US" sz="2800" spc="-1" strike="noStrike">
                <a:solidFill>
                  <a:srgbClr val="ffcc00"/>
                </a:solidFill>
                <a:latin typeface="Arial Black"/>
              </a:rPr>
              <a:t>просматривается в обе сторон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1066680" y="228600"/>
            <a:ext cx="7162920" cy="285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333399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познавательный знак</a:t>
            </a:r>
            <a:endParaRPr b="0" lang="en-US" sz="1800" spc="1" strike="noStrike">
              <a:ln w="19080">
                <a:solidFill>
                  <a:srgbClr val="333399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81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333399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ранспортного средства,</a:t>
            </a:r>
            <a:endParaRPr b="0" lang="en-US" sz="1800" spc="1" strike="noStrike">
              <a:ln w="19080">
                <a:solidFill>
                  <a:srgbClr val="333399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81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333399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еревозящего группу </a:t>
            </a:r>
            <a:endParaRPr b="0" lang="en-US" sz="1800" spc="1" strike="noStrike">
              <a:ln w="19080">
                <a:solidFill>
                  <a:srgbClr val="333399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81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333399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етей</a:t>
            </a:r>
            <a:endParaRPr b="0" lang="en-US" sz="1800" spc="1" strike="noStrike">
              <a:ln w="19080">
                <a:solidFill>
                  <a:srgbClr val="333399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81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13043" t="35334" r="-4840" b="36804"/>
          <a:stretch/>
        </p:blipFill>
        <p:spPr>
          <a:xfrm>
            <a:off x="228600" y="2895480"/>
            <a:ext cx="2706840" cy="281952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2634120" y="3435480"/>
            <a:ext cx="6030000" cy="25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Garamond"/>
              </a:rPr>
              <a:t>«Перевозка детей»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— 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в виде квадрат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желтого цвета с каймой красного цвет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(сторона не менее 250 мм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ширина каймы —1/10 стороны), с черны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изображением  символа дорожного знак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1.23 — спереди и сзади транспортных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средств при организованной перевозк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групп дете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990720" y="762120"/>
            <a:ext cx="739116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333399"/>
                  </a:solidFill>
                  <a:miter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вижение в колонне</a:t>
            </a:r>
            <a:endParaRPr b="0" lang="en-US" sz="1800" spc="1" strike="noStrike">
              <a:ln w="19080">
                <a:solidFill>
                  <a:srgbClr val="333399"/>
                </a:solidFill>
                <a:miter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2514600" y="2514600"/>
            <a:ext cx="36576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82800" y="685800"/>
            <a:ext cx="8913600" cy="46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 Black"/>
              </a:rPr>
              <a:t>Правила движения в колонн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1. </a:t>
            </a:r>
            <a:r>
              <a:rPr b="1" lang="en-US" sz="3200" spc="-1" strike="noStrike">
                <a:solidFill>
                  <a:srgbClr val="ffcc00"/>
                </a:solidFill>
                <a:latin typeface="Arial Black"/>
              </a:rPr>
              <a:t>Идти по 4 человека в ряду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2. Придерживаться правой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стороны проезжей части по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направлению движ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транспорт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3. </a:t>
            </a:r>
            <a:r>
              <a:rPr b="1" lang="en-US" sz="3200" spc="-1" strike="noStrike">
                <a:solidFill>
                  <a:srgbClr val="ffcc00"/>
                </a:solidFill>
                <a:latin typeface="Arial Black"/>
              </a:rPr>
              <a:t>Спереди и сзади идут взрослые с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 Black"/>
              </a:rPr>
              <a:t>    </a:t>
            </a:r>
            <a:r>
              <a:rPr b="1" lang="en-US" sz="3200" spc="-1" strike="noStrike">
                <a:solidFill>
                  <a:srgbClr val="ffcc00"/>
                </a:solidFill>
                <a:latin typeface="Arial Black"/>
              </a:rPr>
              <a:t>красными флажкам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990720" y="1219320"/>
            <a:ext cx="6172200" cy="419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Тес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52280" y="563400"/>
            <a:ext cx="87631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 Black"/>
              </a:rPr>
              <a:t>1. Если вы идете группой,надо идти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 Black"/>
              </a:rPr>
              <a:t>А.   по 2 челове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 Black"/>
              </a:rPr>
              <a:t>В.   по 4 челове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871560" y="3276720"/>
            <a:ext cx="77641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2.</a:t>
            </a:r>
            <a:r>
              <a:rPr b="1" lang="en-US" sz="36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Двигаться в колонне нужно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А. навстречу движения транспорт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В. по направлению движения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Лазуткины</cp:lastModifiedBy>
  <dcterms:modified xsi:type="dcterms:W3CDTF">2009-11-23T17:42:52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