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8.jpeg" ContentType="image/jpeg"/>
  <Override PartName="/ppt/media/image9.jpeg" ContentType="image/jpeg"/>
  <Override PartName="/ppt/media/image10.png" ContentType="image/png"/>
  <Override PartName="/ppt/media/image11.gif" ContentType="image/gif"/>
  <Override PartName="/ppt/media/image12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1DB67-66B1-4F6D-ACA4-CB0514DC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4DAA1-623D-4476-928E-9B9EF6D0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1B1C8-8AAC-401D-9AFF-510665D4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4011D-A29B-48B0-8B57-E0A4E8BB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09F5-A251-456A-B4E6-170809EE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BAD7-D449-4E2F-8FF6-AD94438A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E65A-DDAC-4921-873F-48894D66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D583-8918-4792-82A8-CF69F8A4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7180-BD78-469B-9EA3-CCF9B962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D239-F8E5-4075-B793-F4E072F8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54B5-37D5-475A-85C4-4F91F3E3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79179-C8FD-4E8D-A2C3-6E29E7D5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6F5C-FA74-4066-B993-3B6EC392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6F2D-A51C-4983-93BB-9E3F40C3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BAD8-BC36-4687-8375-7B3332F7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6FA4-2C1F-4740-BA41-79BE6074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A751-9F82-4E10-AEB0-99A1D3B4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4AAA8-ED9F-468D-AD66-BDFDECA6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4AA99-5552-4E80-BBCE-7E4AADC1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7DDCF-1BE7-4160-B808-7C8D82D6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C5F9D-C2A6-4ED3-B502-D263088E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BDCD1-9693-4049-91CD-F5B85D19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CE09A-0E7A-41D5-A1E7-ED894020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486BC-AE30-4227-94D8-EEFC2C0A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6483-ABE1-4620-BA03-31DDECC24C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95FA-39CF-4D70-B06C-EB781D5881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143000" y="838080"/>
            <a:ext cx="731520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лассный час: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ИЛА ДОРОЖНОГО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ВИЖЕНИЯ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17960" y="152280"/>
            <a:ext cx="748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. Знак, которым оборудова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транспорт, перевозящий дете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38280" y="1905120"/>
            <a:ext cx="2485800" cy="2019240"/>
            <a:chOff x="638280" y="1905120"/>
            <a:chExt cx="2485800" cy="2019240"/>
          </a:xfrm>
        </p:grpSpPr>
        <p:sp>
          <p:nvSpPr>
            <p:cNvPr id="175" name=""/>
            <p:cNvSpPr/>
            <p:nvPr/>
          </p:nvSpPr>
          <p:spPr>
            <a:xfrm>
              <a:off x="638280" y="1905120"/>
              <a:ext cx="57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 Black"/>
                </a:rPr>
                <a:t>А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1295280" y="2286000"/>
              <a:ext cx="1828800" cy="163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5900040" y="3733920"/>
            <a:ext cx="2710440" cy="1904760"/>
            <a:chOff x="5900040" y="3733920"/>
            <a:chExt cx="2710440" cy="1904760"/>
          </a:xfrm>
        </p:grpSpPr>
        <p:sp>
          <p:nvSpPr>
            <p:cNvPr id="178" name=""/>
            <p:cNvSpPr/>
            <p:nvPr/>
          </p:nvSpPr>
          <p:spPr>
            <a:xfrm>
              <a:off x="5900040" y="4800600"/>
              <a:ext cx="56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 Black"/>
                </a:rPr>
                <a:t>В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2"/>
            <a:srcRect l="13043" t="35334" r="-4840" b="36804"/>
            <a:stretch/>
          </p:blipFill>
          <p:spPr>
            <a:xfrm>
              <a:off x="6781680" y="3733920"/>
              <a:ext cx="1828800" cy="1904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63760" y="1066680"/>
            <a:ext cx="7660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4. По загородной дороге, двигаяс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группой нуж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А. идти навстречу движе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транспор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В. по направлению дви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транспор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72680" y="1371600"/>
            <a:ext cx="786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5. Если сменился сигнал светофор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а часть группы находится 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проезжей части, нуж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А. вернуться наз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В. останови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С. продолжить перех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53352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им себ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898560" y="2868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295280" y="2133720"/>
          <a:ext cx="6096240" cy="40636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 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.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6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6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</a:t>
                      </a:r>
                      <a:endParaRPr b="0" lang="en-US" sz="6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914400"/>
            <a:ext cx="80773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238880" y="304812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198144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838080" y="1295280"/>
            <a:ext cx="7924680" cy="3657600"/>
            <a:chOff x="838080" y="1295280"/>
            <a:chExt cx="7924680" cy="3657600"/>
          </a:xfrm>
        </p:grpSpPr>
        <p:grpSp>
          <p:nvGrpSpPr>
            <p:cNvPr id="101" name=""/>
            <p:cNvGrpSpPr/>
            <p:nvPr/>
          </p:nvGrpSpPr>
          <p:grpSpPr>
            <a:xfrm>
              <a:off x="2666880" y="1295280"/>
              <a:ext cx="609480" cy="3657600"/>
              <a:chOff x="2666880" y="1295280"/>
              <a:chExt cx="609480" cy="3657600"/>
            </a:xfrm>
          </p:grpSpPr>
          <p:sp>
            <p:nvSpPr>
              <p:cNvPr id="102" name=""/>
              <p:cNvSpPr/>
              <p:nvPr/>
            </p:nvSpPr>
            <p:spPr>
              <a:xfrm>
                <a:off x="2666880" y="4343040"/>
                <a:ext cx="609480" cy="6098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Black"/>
                  </a:rPr>
                  <a:t>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66880" y="3733560"/>
                <a:ext cx="609480" cy="60948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Black"/>
                  </a:rPr>
                  <a:t>Г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66880" y="3124080"/>
                <a:ext cx="609480" cy="60948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Black"/>
                  </a:rPr>
                  <a:t>О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666880" y="2514240"/>
                <a:ext cx="609480" cy="6098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Black"/>
                  </a:rPr>
                  <a:t>Р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666880" y="1904760"/>
                <a:ext cx="609480" cy="60948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Black"/>
                  </a:rPr>
                  <a:t>О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666880" y="1295280"/>
                <a:ext cx="609480" cy="60948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Black"/>
                  </a:rPr>
                  <a:t>Д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447560" y="1295280"/>
              <a:ext cx="60948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57040" y="1295280"/>
              <a:ext cx="60984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4480" y="1295280"/>
              <a:ext cx="60948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14640" y="1295280"/>
              <a:ext cx="60984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05160" y="1295280"/>
              <a:ext cx="60948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95680" y="1295280"/>
              <a:ext cx="60948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85840" y="1295280"/>
              <a:ext cx="60984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360" y="1295280"/>
              <a:ext cx="60948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47560" y="1904760"/>
              <a:ext cx="60948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57040" y="1904760"/>
              <a:ext cx="60984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76360" y="1904760"/>
              <a:ext cx="60948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85840" y="1904760"/>
              <a:ext cx="60984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95680" y="1904760"/>
              <a:ext cx="60948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05160" y="1904760"/>
              <a:ext cx="60948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57040" y="2514600"/>
              <a:ext cx="60984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76360" y="2514600"/>
              <a:ext cx="60948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5840" y="2514600"/>
              <a:ext cx="60984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95680" y="2514600"/>
              <a:ext cx="60948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14640" y="2514600"/>
              <a:ext cx="60984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05160" y="2514600"/>
              <a:ext cx="60948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5680" y="3124080"/>
              <a:ext cx="60948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85840" y="3124080"/>
              <a:ext cx="60984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76360" y="3124080"/>
              <a:ext cx="60948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76360" y="3733560"/>
              <a:ext cx="60948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47560" y="3733560"/>
              <a:ext cx="60948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57040" y="3124080"/>
              <a:ext cx="60984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57040" y="3733560"/>
              <a:ext cx="60984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53280" y="3733560"/>
              <a:ext cx="60948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43440" y="3733560"/>
              <a:ext cx="60984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33960" y="3733560"/>
              <a:ext cx="60948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24480" y="3733560"/>
              <a:ext cx="60948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14640" y="3733560"/>
              <a:ext cx="60984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05160" y="3733560"/>
              <a:ext cx="60948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95680" y="3733560"/>
              <a:ext cx="60948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85840" y="3733560"/>
              <a:ext cx="60984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4640" y="4343400"/>
              <a:ext cx="60984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05160" y="4343400"/>
              <a:ext cx="60948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95680" y="4343400"/>
              <a:ext cx="60948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85840" y="4343400"/>
              <a:ext cx="60984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76360" y="4343400"/>
              <a:ext cx="60948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8080" y="4343400"/>
              <a:ext cx="60948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47560" y="4343400"/>
              <a:ext cx="60948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57040" y="4343400"/>
              <a:ext cx="60984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769400" y="144792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П     О            З      Е    М     Н    Ы     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31400" y="198108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О    Б            Ч     И    Н     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83720" y="2590920"/>
            <a:ext cx="33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Т            О     Т     У     А     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8160" y="3200400"/>
            <a:ext cx="22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Ш           С     С     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07160" y="3809880"/>
            <a:ext cx="591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Р     Е            У     Л     И    Р     О     В    Щ     И     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6400" y="4467240"/>
            <a:ext cx="42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О    С     Т            Н     О     В    К     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1371600" cy="823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400800" y="2133720"/>
            <a:ext cx="2505240" cy="1152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019920" y="5067360"/>
            <a:ext cx="2209680" cy="1457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57200" y="5181480"/>
            <a:ext cx="2438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990720" y="762120"/>
            <a:ext cx="7391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вижение группой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419112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98320" y="685800"/>
            <a:ext cx="828396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Правила движения для группы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1. </a:t>
            </a:r>
            <a:r>
              <a:rPr b="1" lang="en-US" sz="2800" spc="-1" strike="noStrike">
                <a:solidFill>
                  <a:srgbClr val="ffffcc"/>
                </a:solidFill>
                <a:latin typeface="Arial Black"/>
              </a:rPr>
              <a:t>Двигаться парами, взявшись за руки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2.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Идти по тротуару или по левой обочи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навстречу движению транспорта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. Впереди и сзади идут взросл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с красным флаж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.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Переходить дорогу только п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пешеходному переходу или 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участке дороги, где она хорош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просматривается в обе сторо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66680" y="228600"/>
            <a:ext cx="716292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познавательный знак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анспортного средства,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евозящего группу 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ей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13043" t="35334" r="-4840" b="36804"/>
          <a:stretch/>
        </p:blipFill>
        <p:spPr>
          <a:xfrm>
            <a:off x="228600" y="2895480"/>
            <a:ext cx="2706840" cy="2819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634120" y="3435480"/>
            <a:ext cx="60300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«Перевозка детей»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в виде квадр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желтого цвета с каймой красного цве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(сторона не менее 250 м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ширина каймы —1/10 стороны), с черн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изображением  символа дорожного зна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.23 — спереди и сзади транспорт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средств при организованной перевоз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групп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990720" y="762120"/>
            <a:ext cx="7391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вижение в колонне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2800" y="685800"/>
            <a:ext cx="891360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Правила движения в колонн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1. 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Идти по 4 человека в ря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. Придерживаться прав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стороны проезжей части п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направлению дви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транспор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. 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Спереди и сзади идут взрослые 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красными флаж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990720" y="1219320"/>
            <a:ext cx="61722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е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52280" y="563400"/>
            <a:ext cx="876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1. Если вы идете группой,надо ид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А.   по 2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В.   по 4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71560" y="3276720"/>
            <a:ext cx="7764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Двигаться в колонне нуж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А. навстречу движения транспор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В. по направлению движ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зуткины</cp:lastModifiedBy>
  <dcterms:modified xsi:type="dcterms:W3CDTF">2009-11-23T17:42:5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