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E3ED-5FCE-46E9-A58D-070E0256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997-E402-487A-AEA3-54410BF6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C94-5F2D-4350-A03A-FF46B82B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A07-1035-4734-BD5F-B37E78C9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677B-0284-40F4-B0FC-0520D011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4E8A-5D89-4868-AE9E-D568C9F7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BA8F-6D03-4855-8E72-7B1475F7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CE56-945B-4A68-BB13-E8C8FD16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A34E-E0CD-4BCC-950C-CFF37D37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17E-6C5E-4FB5-80B4-29F2CD04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617-F111-44D7-AF65-A22738E5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0A1-B690-4E14-AD12-1B523776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66D4-B41F-481B-A3FE-8FE4AA843E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Этике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зентация к уроку №27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ул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«Основы светской эт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Этик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дном из торжественных приемов короля Франции Людовика XIV гостям вручили карточки с перечисленными правилами поведения. От французских карточек-этикеток произошло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кет – воспитанность, хорошие манеры, умение себя ве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Портрет Людовика XIV"/>
          <p:cNvPicPr/>
          <p:nvPr/>
        </p:nvPicPr>
        <p:blipFill>
          <a:blip r:embed="rId1"/>
          <a:stretch/>
        </p:blipFill>
        <p:spPr>
          <a:xfrm>
            <a:off x="5100480" y="1600200"/>
            <a:ext cx="313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древние греки"/>
          <p:cNvPicPr/>
          <p:nvPr/>
        </p:nvPicPr>
        <p:blipFill>
          <a:blip r:embed="rId1"/>
          <a:stretch/>
        </p:blipFill>
        <p:spPr>
          <a:xfrm>
            <a:off x="1619280" y="260280"/>
            <a:ext cx="5975280" cy="388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виз кажд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е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жить разумно, просто, избегать излишеств и крайностей во вс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9640" y="4436640"/>
            <a:ext cx="8229600" cy="17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виз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ыцар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ерность, мужество, отвага. Удел дамы - скромность, верность, покор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рыцарь на коне"/>
          <p:cNvPicPr/>
          <p:nvPr/>
        </p:nvPicPr>
        <p:blipFill>
          <a:blip r:embed="rId1"/>
          <a:stretch/>
        </p:blipFill>
        <p:spPr>
          <a:xfrm>
            <a:off x="1476360" y="404640"/>
            <a:ext cx="626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65160" y="1279440"/>
            <a:ext cx="425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чества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жентльмен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добродетель, мудрость, благовоспитан- ность и зн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джентльмен"/>
          <p:cNvPicPr/>
          <p:nvPr/>
        </p:nvPicPr>
        <p:blipFill>
          <a:blip r:embed="rId1"/>
          <a:stretch/>
        </p:blipFill>
        <p:spPr>
          <a:xfrm>
            <a:off x="5435640" y="1341360"/>
            <a:ext cx="3019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Юности честное зерцал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водчики” №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родителей речей перебивать не надлежит, не следует им прекословить… но ожидать пока они выговоря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водчики” №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ок должен быть весьма учтив и вежлив, как в словах, так и в делах: на руку не дерзок и не драчлив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водчики” №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шлять и подобные такие грубые действия в лице другого не чини, но всегда либо рукой закрой, или отворотя рот в сторону полотенцем прикрой, чтоб никого не коснутьс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водчики” №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прилично отрокам руками или ногами по столу везде колобродить, но нужно смирно себя вести; а вилками и ножиком по тарелкам не стучат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Пётр 1"/>
          <p:cNvPicPr/>
          <p:nvPr/>
        </p:nvPicPr>
        <p:blipFill>
          <a:blip r:embed="rId1"/>
          <a:stretch/>
        </p:blipFill>
        <p:spPr>
          <a:xfrm>
            <a:off x="4960800" y="1600200"/>
            <a:ext cx="341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дружбы и товари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друзьями разговаривай вежливо, приветл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й другу, не жди, когда он попросит тебя о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о искренне радоваться успехам товарищей – тебя будут считать хорошим другом, честным челове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елись с другом игрушками, книгами, яблоком, конфе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и товарища, если он поступает пло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у тебя были друзья, умей сам быть хорошим дру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свои ошибки отвечай сам, не перекладывай вину на друг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вила гостеприим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о уметь вежливо принимать г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поздравления и подарки благодар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зяин должен быть приветливым – радушно встретить гостя, помочь раздеться, пригласить в лучшую комнату, усадить поудобнее, развл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зяин должен быть внимательным, видеть всех своих гостей, уделять каждому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ь предупредительным – значит заранее подумать не только о том, чем угостить своих гостей, но и чем занять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о быть щедрым – не жалеть для гостей угощения, игрушек, времени, стараний, чтобы они остались дово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поведения за сто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щу надо брать с тарелки вилкой или лож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ешь, не откусывай больших кусков – это некрас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зговаривай с полным ртом, старайся кушать беззву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тебе нужно что-нибудь взять, не тянись через стол, а вежливо попроси перед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блюда бери ближний к себе кусок, не выби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гда не отзывайся плохо о блюде, которое едят твои соседи. Если ты сам его не любишь, не порть аппетит друг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иди боком к столу – это некрас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кроши хлеб, доедай кусок до конца. Не забывай, сколько людей трудилось, чтобы этот кусочек попал к тебе на с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поведения в автобу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ходе в автобус мальчик пропускает девочку вперед, а выходит пер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йдя из автобуса, мальчик подает руку девочке, а также маме, бабуш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адшие уступают место старшим, мужчины – женщи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анспорте нельзя громко смеяться и разговаривать. Нельзя кушать, так как можно запачкать друг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льзя бросать мусор в окно, оставлять на сиденье, бросать на 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твердо знать, что на сиденье сидят, а не сто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нужно взять билет, то вежливо просят делать это пассажиров, стоящих ря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икет в пословиц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его в другом не любишь, того и сам не дел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Береги платье снову, а честь смо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У Сидора обычай, у Карпа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В чужой монастырь со своим уставом не ход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Мил тот гость, что недолго гос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Не думай быть нарядным, а думай быть опрят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Сердитый мальчик"/>
          <p:cNvPicPr/>
          <p:nvPr/>
        </p:nvPicPr>
        <p:blipFill>
          <a:blip r:embed="rId1"/>
          <a:stretch/>
        </p:blipFill>
        <p:spPr>
          <a:xfrm>
            <a:off x="2843280" y="620640"/>
            <a:ext cx="4032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о свидания, Петя! Мы рады знакомству с тобой! До новых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стреч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51577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Ешь культур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мать"/>
          <p:cNvPicPr/>
          <p:nvPr/>
        </p:nvPicPr>
        <p:blipFill>
          <a:blip r:embed="rId1"/>
          <a:stretch/>
        </p:blipFill>
        <p:spPr>
          <a:xfrm>
            <a:off x="2484360" y="1600200"/>
            <a:ext cx="410364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б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ак ты разговариваеш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бабушка"/>
          <p:cNvPicPr/>
          <p:nvPr/>
        </p:nvPicPr>
        <p:blipFill>
          <a:blip r:embed="rId1"/>
          <a:stretch/>
        </p:blipFill>
        <p:spPr>
          <a:xfrm>
            <a:off x="2268360" y="1557360"/>
            <a:ext cx="4248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ивыкай к хорошим манера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отец"/>
          <p:cNvPicPr/>
          <p:nvPr/>
        </p:nvPicPr>
        <p:blipFill>
          <a:blip r:embed="rId1"/>
          <a:stretch/>
        </p:blipFill>
        <p:spPr>
          <a:xfrm>
            <a:off x="2195640" y="1341360"/>
            <a:ext cx="4392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т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А кому нужны эти хорошие манер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Не все ли равно, как е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И вообще, кто все это выдума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Сердитый мальчик"/>
          <p:cNvPicPr/>
          <p:nvPr/>
        </p:nvPicPr>
        <p:blipFill>
          <a:blip r:embed="rId1"/>
          <a:stretch/>
        </p:blipFill>
        <p:spPr>
          <a:xfrm>
            <a:off x="5524560" y="1844640"/>
            <a:ext cx="28638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тветим на вопро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Хотели бы вы чувствовать себя свободно в любом обществ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Хотели бы вы нравиться себе и окружающ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Хотели бы вы иметь хорошие манеры, широкий круг интересных знакомых и быть “душой компании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ЭТИКЕ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4:45:41Z</dcterms:created>
  <dc:creator>users</dc:creator>
  <dc:description/>
  <dc:language>en-US</dc:language>
  <cp:lastModifiedBy> </cp:lastModifiedBy>
  <dcterms:modified xsi:type="dcterms:W3CDTF">2012-12-11T11:13:47Z</dcterms:modified>
  <cp:revision>34</cp:revision>
  <dc:subject/>
  <dc:title>Этикет</dc:title>
</cp:coreProperties>
</file>