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203-3BE5-456F-8035-113B732B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CC1-3458-4605-A1CF-F29C2DDF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9B1-9B4A-4087-AA3D-B63918D9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D9C-BF83-4911-9BE6-19A9532A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BBD-68DD-4EBE-B0B8-7CB6FF98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5E7-CE33-4160-95B1-119B7101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F9C-7E70-4AA8-BA68-1EBCC532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0C0-5323-4B28-83F9-2969C13B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4A7-48C9-4F77-A6CF-1227D669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6C2-3923-4B90-BBF4-BB43329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2E9-6756-4AFD-A396-E902D37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FDA-C2FE-43FF-BE9B-E99995A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D01B-2FF7-4A32-9CC5-AB2094650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к уроку №27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у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«Основы светской эт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м из торжественных приемов короля Франции Людовика XIV гостям вручили карточки с перечисленными правилами поведения. От французских карточек-этикеток произошло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кет – воспитанность, хорошие манеры, умение себя ве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Портрет Людовика XIV"/>
          <p:cNvPicPr/>
          <p:nvPr/>
        </p:nvPicPr>
        <p:blipFill>
          <a:blip r:embed="rId1"/>
          <a:stretch/>
        </p:blipFill>
        <p:spPr>
          <a:xfrm>
            <a:off x="5100480" y="1600200"/>
            <a:ext cx="31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древние греки"/>
          <p:cNvPicPr/>
          <p:nvPr/>
        </p:nvPicPr>
        <p:blipFill>
          <a:blip r:embed="rId1"/>
          <a:stretch/>
        </p:blipFill>
        <p:spPr>
          <a:xfrm>
            <a:off x="1619280" y="260280"/>
            <a:ext cx="5975280" cy="388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из кажд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жить разумно, просто, избегать излишеств и крайностей во вс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443664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цар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ерность, мужество, отвага. Удел дамы - скромность, верность, покор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рыцарь на коне"/>
          <p:cNvPicPr/>
          <p:nvPr/>
        </p:nvPicPr>
        <p:blipFill>
          <a:blip r:embed="rId1"/>
          <a:stretch/>
        </p:blipFill>
        <p:spPr>
          <a:xfrm>
            <a:off x="1476360" y="40464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65160" y="1279440"/>
            <a:ext cx="425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честв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ентльме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добродетель, мудрость, благовоспитан- ность и зн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жентльмен"/>
          <p:cNvPicPr/>
          <p:nvPr/>
        </p:nvPicPr>
        <p:blipFill>
          <a:blip r:embed="rId1"/>
          <a:stretch/>
        </p:blipFill>
        <p:spPr>
          <a:xfrm>
            <a:off x="5435640" y="134136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Юности честное зерцал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водчики” №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родителей речей перебивать не надлежит, не следует им прекословить… но ожидать пока они выговоря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водчики” №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ок должен быть весьма учтив и вежлив, как в словах, так и в делах: на руку не дерзок и не драчлив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водчики” №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шлять и подобные такие грубые действия в лице другого не чини, но всегда либо рукой закрой, или отворотя рот в сторону полотенцем прикрой, чтоб никого не коснуть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водчики” №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илично отрокам руками или ногами по столу везде колобродить, но нужно смирно себя вести; а вилками и ножиком по тарелкам не стуча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Пётр 1"/>
          <p:cNvPicPr/>
          <p:nvPr/>
        </p:nvPicPr>
        <p:blipFill>
          <a:blip r:embed="rId1"/>
          <a:stretch/>
        </p:blipFill>
        <p:spPr>
          <a:xfrm>
            <a:off x="4960800" y="1600200"/>
            <a:ext cx="341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дружбы и товари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рузьями разговаривай вежливо, приветл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й другу, не жди, когда он попросит тебя о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искренне радоваться успехам товарищей – тебя будут считать хорошим другом, честным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елись с другом игрушками, книгами, яблоком, конф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 товарища, если он поступает пло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у тебя были друзья, умей сам быть хорошим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свои ошибки отвечай сам, не перекладывай вину на друг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 гостеприим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уметь вежливо принимать г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оздравления и подарки благодар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зяин должен быть приветливым – радушно встретить гостя, помочь раздеться, пригласить в лучшую комнату, усадить поудобнее, развл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зяин должен быть внимательным, видеть всех своих гостей, уделять каждому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предупредительным – значит заранее подумать не только о том, чем угостить своих гостей, но и чем заня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быть щедрым – не жалеть для гостей угощения, игрушек, времени, стараний, чтобы они остались дово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поведения за сто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у надо брать с тарелки вилкой или лож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ешь, не откусывай больших кусков – это некрас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говаривай с полным ртом, старайся кушать беззву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ебе нужно что-нибудь взять, не тянись через стол, а вежливо попроси пере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люда бери ближний к себе кусок, не выби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е отзывайся плохо о блюде, которое едят твои соседи. Если ты сам его не любишь, не порть аппетит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иди боком к столу – это некрас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роши хлеб, доедай кусок до конца. Не забывай, сколько людей трудилось, чтобы этот кусочек попал к тебе на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поведения в автобу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ходе в автобус мальчик пропускает девочку вперед, а выходит пер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йдя из автобуса, мальчик подает руку девочке, а также маме, баб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адшие уступают место старшим, мужчины – женщи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нспорте нельзя громко смеяться и разговаривать. Нельзя кушать, так как можно запачкать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бросать мусор в окно, оставлять на сиденье, бросать на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твердо знать, что на сиденье сидят, а не сто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ужно взять билет, то вежливо просят делать это пассажиров, стоящих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икет в послов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го в другом не любишь, того и сам не дел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Береги платье снову, а честь смо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 Сидора обычай, у Карпа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чужой монастырь со своим уставом не 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Мил тот гость, что недолго гос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е думай быть нарядным, а думай быть опрят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Сердитый мальчик"/>
          <p:cNvPicPr/>
          <p:nvPr/>
        </p:nvPicPr>
        <p:blipFill>
          <a:blip r:embed="rId1"/>
          <a:stretch/>
        </p:blipFill>
        <p:spPr>
          <a:xfrm>
            <a:off x="2843280" y="620640"/>
            <a:ext cx="4032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о свидания, Петя! Мы рады знакомству с тобой! До новых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стреч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Ешь культу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мать"/>
          <p:cNvPicPr/>
          <p:nvPr/>
        </p:nvPicPr>
        <p:blipFill>
          <a:blip r:embed="rId1"/>
          <a:stretch/>
        </p:blipFill>
        <p:spPr>
          <a:xfrm>
            <a:off x="2484360" y="1600200"/>
            <a:ext cx="41036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ак ты разговариваеш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бабушка"/>
          <p:cNvPicPr/>
          <p:nvPr/>
        </p:nvPicPr>
        <p:blipFill>
          <a:blip r:embed="rId1"/>
          <a:stretch/>
        </p:blipFill>
        <p:spPr>
          <a:xfrm>
            <a:off x="2268360" y="1557360"/>
            <a:ext cx="4248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выкай к хорошим манер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отец"/>
          <p:cNvPicPr/>
          <p:nvPr/>
        </p:nvPicPr>
        <p:blipFill>
          <a:blip r:embed="rId1"/>
          <a:stretch/>
        </p:blipFill>
        <p:spPr>
          <a:xfrm>
            <a:off x="2195640" y="1341360"/>
            <a:ext cx="4392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А кому нужны эти хорошие мане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Не все ли равно, как е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 вообще, кто все это выдума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Сердитый мальчик"/>
          <p:cNvPicPr/>
          <p:nvPr/>
        </p:nvPicPr>
        <p:blipFill>
          <a:blip r:embed="rId1"/>
          <a:stretch/>
        </p:blipFill>
        <p:spPr>
          <a:xfrm>
            <a:off x="5524560" y="1844640"/>
            <a:ext cx="2863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тим на 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Хотели бы вы чувствовать себя свободно в любом общест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Хотели бы вы нравиться себе и окружающ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Хотели бы вы иметь хорошие манеры, широкий круг интересных знакомых и быть “душой компании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4:45:41Z</dcterms:created>
  <dc:creator>users</dc:creator>
  <dc:description/>
  <dc:language>en-US</dc:language>
  <cp:lastModifiedBy> </cp:lastModifiedBy>
  <dcterms:modified xsi:type="dcterms:W3CDTF">2012-12-11T11:13:47Z</dcterms:modified>
  <cp:revision>34</cp:revision>
  <dc:subject/>
  <dc:title>Этикет</dc:title>
</cp:coreProperties>
</file>