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792A-8345-4D5C-8ED3-A7A7E447E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5B82-4A3A-4D2E-812C-8B5F7F34B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E397-D5E1-4C50-9985-1652095B2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D076-74E3-43A4-B65D-76D6AFE03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50733-2602-4595-B8C2-2DA42A055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ED64B-164B-4382-BC65-AEA4C3795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96190-7BCA-4A67-99A8-B3F556929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273FE-5D67-4FCA-9FA2-5F809A3F1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AF675-EA0D-4EC1-B4DE-D36DA0586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4CE59-B6AC-4530-BB15-1F11A5D02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05CCB-5AD7-4B4A-BC8E-2D787C20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7EDC-EFB9-43B6-B57B-C706465CF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20249-F8E1-4CC9-8EFE-8B4B3B57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29D1B-DB6D-4887-A63F-79D99AF8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6C85F-1B52-474E-8BE5-5AFAD443B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40291-D471-4EAC-8064-35B6E43FB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EC8D9-2BD2-4E80-A330-7A9F5D497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2277-8143-4581-AE80-DF00686F9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947B-1920-41B0-9A7B-8EF1350A3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F234-29A7-44D6-9B6C-4D9BE5B50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17DC-D0A5-477D-BF91-57D84D500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0D22-0901-4B2E-9C70-88DE29EC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2B3A-694E-433D-81D4-2FA4AD42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1D6C-7E24-4C47-BE33-7725ED4F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1218F-7B0D-4EE1-99B2-39831CA2AB0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8B708-2E97-499C-8FD8-B7A5AB29215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76080" y="1217520"/>
            <a:ext cx="683748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ookman Old Style"/>
              </a:rPr>
              <a:t>Microsoft Excel</a:t>
            </a:r>
            <a:br>
              <a:rPr sz="4400"/>
            </a:br>
            <a:endParaRPr b="0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55640" y="2707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Использование встроенных функций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65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Формулы, их копирование, расчеты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414972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ыполнила ученица 10 класса Образцова Надеж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81075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Формулы: Замена значениям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635120" y="1983960"/>
            <a:ext cx="7042320" cy="35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Формулу на рабочем листе можно заменить её значением, если в дальнейшем понадобится только результат а, а не сама формула.  Для этого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Webdings"/>
                <a:ea typeface="Webdings"/>
              </a:rPr>
              <a:t>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ыделите ячейку с формулой, которую нужно преобразо- вать в значение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Webdings"/>
                <a:ea typeface="Webdings"/>
              </a:rPr>
              <a:t>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Щелкните на кнопке 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Копировать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на стандартной панели инструментов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Webdings"/>
                <a:ea typeface="Webdings"/>
              </a:rPr>
              <a:t>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ыберите 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Правка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Специальная вставка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и щелкните на строке 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Значения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. Щелкните на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ОК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Webdings"/>
                <a:ea typeface="Webdings"/>
              </a:rPr>
              <a:t>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ажмите 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Enter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, чтобы убрать «муравьиную дорожку» вокруг ячейки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2580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2580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15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8183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Формулы: создание текстовой строк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5122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Иногда бывает нужно объединить содержимое двух ячеек. В Excel  такая операция называется конкатенация. Для этого:                                                     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ru-RU" sz="2100" spc="-1" strike="noStrike">
                <a:solidFill>
                  <a:srgbClr val="000000"/>
                </a:solidFill>
                <a:latin typeface="Webdings"/>
                <a:ea typeface="Webdings"/>
              </a:rPr>
              <a:t>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ыделите ячейку, в  которую  нужно поместить формулу и введите знак равенства (=), чтобы начать ввод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Webdings"/>
                <a:ea typeface="Webdings"/>
              </a:rPr>
              <a:t>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ведите адрес или имя или щелкните на  ячейке на рабочем листе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Webdings"/>
                <a:ea typeface="Webdings"/>
              </a:rPr>
              <a:t>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ведите оператор  конкатенации (&amp;), затем введите следующую ссылку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2100" spc="-1" strike="noStrike">
                <a:solidFill>
                  <a:srgbClr val="000000"/>
                </a:solidFill>
                <a:latin typeface="Webdings"/>
                <a:ea typeface="Webdings"/>
              </a:rPr>
              <a:t>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Если   необходимо, повторите    шаг 3. Не забывайте о том, что в формулу необходимо вставить кавычки с  пробелом между ними, чтобы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xcel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вставила пробел между двумя текстовыми фрагментами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ru-RU" sz="2100" spc="-1" strike="noStrike">
                <a:solidFill>
                  <a:srgbClr val="000000"/>
                </a:solidFill>
                <a:latin typeface="Webdings"/>
                <a:ea typeface="Webdings"/>
              </a:rPr>
              <a:t>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Чтобы закончить ввод формулы, нажмите 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Enter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15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324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Формулы: ссылки на ячейки из других рабочих листов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361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  организации  формул  возможно  ссылаться  на ячейки других рабочих листов. Для этого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Webdings"/>
                <a:ea typeface="Webdings"/>
              </a:rPr>
              <a:t>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делите ячейку, в которую нужно поместить формулу, и введите знак равенства (=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Webdings"/>
                <a:ea typeface="Webdings"/>
              </a:rPr>
              <a:t>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Щелкните на ярлычке листа, содержащего нужную ячейку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Webdings"/>
                <a:ea typeface="Webdings"/>
              </a:rPr>
              <a:t>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делите   ячейку  или   диапазон,  на   который   нужно установить ссылку. В строке формул появится полный адрес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Webdings"/>
                <a:ea typeface="Webdings"/>
              </a:rPr>
              <a:t>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вершите ввод формулы, затем нажмите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nter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мер: формула =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ист1!В6+Лист2!D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15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Все о функциях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63280" y="1854360"/>
            <a:ext cx="6907320" cy="40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Функциями называют встроенные в 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Excel 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формулы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Функций в 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Excel 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сотни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инженерные, информационные, логические, арифметические и тригонометрические, статистические, функции обработки текста, функции работы с датой и временем, функции работы с базами данных и многие-многие другие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Функции  можно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использовать как по отдельности, так и в сочетании с другими функциями и формулам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После имени каждой функции в ( ) задаются аргументы. Если функция не использует аргументы, то за её именем следуют пустые ( ) без пробела между ним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Аргументы перечисляются через запятую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Функция может иметь не более 30 аргументов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15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вод функци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42920" y="170028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Webdings"/>
                <a:ea typeface="Webdings"/>
              </a:rPr>
              <a:t>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Щелкните ячейку, в которую хотите ввести функцию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Webdings"/>
                <a:ea typeface="Webdings"/>
              </a:rPr>
              <a:t>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ведите знак равенства, название  функции (или выберите из Мастера функций) и открывающуюся круглую скобку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Webdings"/>
                <a:ea typeface="Webdings"/>
              </a:rPr>
              <a:t>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ведите аргумент или щелкните ячейку или диапазон, которые нужно использовать при вычислении функци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Webdings"/>
                <a:ea typeface="Webdings"/>
              </a:rPr>
              <a:t>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Щелкните  кнопку  ввода в строке формул или нажмите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Enter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Закрывающуюся скобку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xcel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ставит самостоятельно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15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7726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Самые популярные 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функции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Excel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109520" y="1477800"/>
          <a:ext cx="8034480" cy="478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9520" y="1477800"/>
                    <a:ext cx="8034480" cy="47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15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6920" y="24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8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6666"/>
                </a:solidFill>
                <a:uFillTx/>
                <a:latin typeface="Arial"/>
              </a:rPr>
              <a:t>Все о 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формулах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99"/>
              </a:buClr>
              <a:buSzPct val="70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Формула выполняет вычисления соответствующих заданий и отображает на листе окончательный результат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99"/>
              </a:buClr>
              <a:buSzPct val="70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В формулах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Excel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 можно использовать числа, знаки арифметических действий и ссылки на ячейки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99"/>
              </a:buClr>
              <a:buSzPct val="70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Формула </a:t>
            </a:r>
            <a:r>
              <a:rPr b="0" lang="ru-RU" sz="1900" spc="-1" strike="noStrike" u="sng">
                <a:solidFill>
                  <a:srgbClr val="000000"/>
                </a:solidFill>
                <a:uFillTx/>
                <a:latin typeface="Times New Roman"/>
              </a:rPr>
              <a:t>ВСЕГДА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начинается со знака равенства(=)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99"/>
              </a:buClr>
              <a:buSzPct val="70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По умолчанию формулы на экране не отображаются, но можно изменить режим работы программ, чтобы увидеть их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99"/>
              </a:buClr>
              <a:buSzPct val="70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Формулы могут включать обращение к одной или нескольким функциям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99"/>
              </a:buClr>
              <a:buSzPct val="70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В формулах недопустимы пробелы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99"/>
              </a:buClr>
              <a:buSzPct val="70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Длина формулы не должна превышать 1024 элементов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0099"/>
              </a:buClr>
              <a:buSzPct val="70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Нельзя вводить числа в форматах  даты и времени дня непосредственно в формулы. В формулах они могут быть введены только в виде текста, заключенного в двойные кавычки. Excel преобразует их в соответствующие числа при вычислении формулы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15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вод формулы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Щелкните ячейку, в которую нужно ввести формулу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75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Введите знак равенства - обязательное начало формулы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75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Введите первый </a:t>
            </a: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аргумент -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число или ссылку на ячейку. Адрес можно ввести вручную или вставить автоматически, щелкнув нужную ячейку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75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Введите знак арифметического действия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75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Введите следующий аргумент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75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Повторяя пункты 4 и 5, закончите ввод формулы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75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Нажмите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Enter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Обратите внимание, что  в ячейке отображается результат вычислений, а в строке формул - сама формул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15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Арифметические операторы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166760" y="2021040"/>
          <a:ext cx="7755120" cy="3770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6760" y="2021040"/>
                    <a:ext cx="775512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15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ывод формул на экран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42920" y="2204640"/>
            <a:ext cx="77421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1900" spc="-1" strike="noStrike">
                <a:solidFill>
                  <a:srgbClr val="000000"/>
                </a:solidFill>
                <a:latin typeface="Webdings"/>
                <a:ea typeface="Webdings"/>
              </a:rPr>
              <a:t>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Выберите из меню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900" spc="-1" strike="noStrike">
                <a:solidFill>
                  <a:srgbClr val="000000"/>
                </a:solidFill>
                <a:latin typeface="Times New Roman"/>
              </a:rPr>
              <a:t>Сервис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команду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900" spc="-1" strike="noStrike">
                <a:solidFill>
                  <a:srgbClr val="000000"/>
                </a:solidFill>
                <a:latin typeface="Times New Roman"/>
              </a:rPr>
              <a:t>Параметры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1900" spc="-1" strike="noStrike">
                <a:solidFill>
                  <a:srgbClr val="000000"/>
                </a:solidFill>
                <a:latin typeface="Webdings"/>
                <a:ea typeface="Webdings"/>
              </a:rPr>
              <a:t>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Щелкните вкладку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900" spc="-1" strike="noStrike">
                <a:solidFill>
                  <a:srgbClr val="000000"/>
                </a:solidFill>
                <a:latin typeface="Times New Roman"/>
              </a:rPr>
              <a:t>Вид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1900" spc="-1" strike="noStrike">
                <a:solidFill>
                  <a:srgbClr val="000000"/>
                </a:solidFill>
                <a:latin typeface="Webdings"/>
                <a:ea typeface="Webdings"/>
              </a:rPr>
              <a:t>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Установите флажок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900" spc="-1" strike="noStrike">
                <a:solidFill>
                  <a:srgbClr val="000000"/>
                </a:solidFill>
                <a:latin typeface="Times New Roman"/>
              </a:rPr>
              <a:t>Формулы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1900" spc="-1" strike="noStrike">
                <a:solidFill>
                  <a:srgbClr val="000000"/>
                </a:solidFill>
                <a:latin typeface="Webdings"/>
                <a:ea typeface="Webdings"/>
              </a:rPr>
              <a:t>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Щелкните</a:t>
            </a:r>
            <a:r>
              <a:rPr b="1" i="1" lang="ru-RU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OK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15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42920" y="1752480"/>
            <a:ext cx="7742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Times New Roman"/>
              </a:rPr>
              <a:t>Вычисление части формулы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При поиске ошибок в составленной формуле бывает удобно посмотреть результат вычисления какой-то части формулы. Для этого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1900" spc="-1" strike="noStrike">
                <a:solidFill>
                  <a:srgbClr val="000000"/>
                </a:solidFill>
                <a:latin typeface="Webdings"/>
                <a:ea typeface="Webdings"/>
              </a:rPr>
              <a:t>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Встать на ячейку, содержащую формулу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1900" spc="-1" strike="noStrike">
                <a:solidFill>
                  <a:srgbClr val="000000"/>
                </a:solidFill>
                <a:latin typeface="Webdings"/>
                <a:ea typeface="Webdings"/>
              </a:rPr>
              <a:t>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В строке формул выделить часть формулы, которую нужно вычислить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1900" spc="-1" strike="noStrike">
                <a:solidFill>
                  <a:srgbClr val="000000"/>
                </a:solidFill>
                <a:latin typeface="Webdings"/>
                <a:ea typeface="Webdings"/>
              </a:rPr>
              <a:t>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F9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- вычисление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Enter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результат вычисления выводит на экран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Esc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возврат формулы в исходное состояние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15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Совет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264080" cy="31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При вводе формул необходимо учитывать приоритет  арифметических операций.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xcel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порядок старшинства операций таков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ru-RU" sz="1700" spc="-1" strike="noStrike">
                <a:solidFill>
                  <a:srgbClr val="000000"/>
                </a:solidFill>
                <a:latin typeface="Webdings"/>
                <a:ea typeface="Webdings"/>
              </a:rPr>
              <a:t>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возведение в степень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ru-RU" sz="1700" spc="-1" strike="noStrike">
                <a:solidFill>
                  <a:srgbClr val="000000"/>
                </a:solidFill>
                <a:latin typeface="Webdings"/>
                <a:ea typeface="Webdings"/>
              </a:rPr>
              <a:t>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умножение и деление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ru-RU" sz="1700" spc="-1" strike="noStrike">
                <a:solidFill>
                  <a:srgbClr val="000000"/>
                </a:solidFill>
                <a:latin typeface="Webdings"/>
                <a:ea typeface="Webdings"/>
              </a:rPr>
              <a:t>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сложение и вычитание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         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Например: 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1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равно 29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19241" t="33494" r="48057" b="55960"/>
          <a:stretch/>
        </p:blipFill>
        <p:spPr>
          <a:xfrm>
            <a:off x="468360" y="4221000"/>
            <a:ext cx="7991280" cy="19321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259920"/>
            <a:ext cx="7696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иды ссылок на ячейк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153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формулах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cel обычно использует относительные ссылки.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сюда следует -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сылки в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ормулах автоматически изменяются при копировани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ормул в другое место. Например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если в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ячейк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B10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содержится формула = СУММ (В3:В9), то при копировании этой формулы в ячейку С10 она преобразуется в =СУММ (С3:С9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тобы ссылки в формуле не изменялись при копировании формулы в другую ячейку, необходимо использовать абсолютные ссылки. Абсолютная ссылка обозначается знаком доллара 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$)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который располагается перед номером строки или обозначением столбца. Например, комиссионный процент по продажам помещен в ячейку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7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тогда абсолютная ссылка на ячейку  должна выглядеть как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$D$7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бсолютная строка выглядит как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$7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бсолютный столбец выглядит как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$D7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15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еремещение и копирование формул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2598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Формула введена в ячейку. Её можно перенести или скопировать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При перемещении формулы в новое место таблицы ссылки в формуле не изменяются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При копировании формула перемещается в новое место таблицы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а) ссылки перенастраиваются при использовании относительных ячеек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б)  ссылки сохраняются при использовании абсолютных ячеек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15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1T07:19:55Z</dcterms:created>
  <dc:creator>shool</dc:creator>
  <dc:description/>
  <dc:language>en-US</dc:language>
  <cp:lastModifiedBy>shool</cp:lastModifiedBy>
  <dcterms:modified xsi:type="dcterms:W3CDTF">2012-12-11T07:28:08Z</dcterms:modified>
  <cp:revision>4</cp:revision>
  <dc:subject/>
  <dc:title>Слайд 1</dc:title>
</cp:coreProperties>
</file>