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3AF-353A-4D21-989D-B3141258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537-73B1-47DE-8CF7-B669BFEC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D1F-1F89-4115-ACA6-1C19C8B2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F32-9AC0-4D95-89C3-AE14AF0D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BB4F-D510-489F-989D-C18E28E2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50F9-1C9C-44A0-9830-F5C8A899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53BB-C846-47F3-98F2-5F654FAE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3AED-3B70-4711-865D-5CA67BE1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1B40-86B4-4488-A845-00F094FC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D87D-8096-4C08-B2AE-09EA2ACC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CC06-8BFC-492D-8859-DBA8987D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20B-B659-47A7-ACF0-FEDC507D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130E-43B2-4F5C-813B-7C665C04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EE51-74A6-4F24-B5F8-06171CC1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7089-8715-4876-ACBB-B570001D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CF8D-1F58-419F-BB14-D62DDFA3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15F4-8737-46E2-8078-D1EB3A42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71B-CA44-4A3C-BA52-A186C069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8A6-7115-4AB9-BB92-3853B906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C8E-675E-41C1-A989-C6954F28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FB1-A7FA-4C64-BD1D-B90996ED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6B8-63ED-42B9-AB53-6D180E0E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B71-DF82-4C56-B260-6C1FAB9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093-3BAE-4DF3-9D33-432D006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68F8-C1AE-4B36-AF8B-6C4BEDA921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5DBE-5354-49B7-8E9F-503CBD8FFB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76080" y="1217520"/>
            <a:ext cx="683748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Microsoft Excel</a:t>
            </a:r>
            <a:br>
              <a:rPr sz="4400"/>
            </a:b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2707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спользование встроенных функц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6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Формулы, их копирование, расчет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149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полнила ученица 10 класса Образцова На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107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улы: Замена значения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35120" y="1983960"/>
            <a:ext cx="704232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ормулу на рабочем листе можно заменить её значением, если в дальнейшем понадобится только результат а, а не сама формула.  Для этого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делите ячейку с формулой, которую нужно преобразо- вать в значение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Щелкните на кнопке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пировать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на стандартной панели инструментов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берите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Прав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Специальная встав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щелкните на строке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Щелкните на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жмите 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чтобы убрать «муравьиную дорожку» вокруг ячей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улы: создание текстовой стро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122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ногда бывает нужно объединить содержимое двух ячеек. В Excel  такая операция называется конкатенация. Для этого:   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делите ячейку, в  которую  нужно поместить формулу и введите знак равенства (=), чтобы начать ввод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ведите адрес или имя или щелкните на  ячейке на рабочем листе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ведите оператор  конкатенации (&amp;), затем введите следующую ссылку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Если   необходимо, повторите    шаг 3. Не забывайте о том, что в формулу необходимо вставить кавычки с  пробелом между ними, чтобы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ce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вставила пробел между двумя текстовыми фрагмента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Чтобы закончить ввод формулы, нажмите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улы: ссылки на ячейки из других рабочих листов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36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 организации  формул  возможно  ссылаться  на ячейки других рабочих листов. Для этого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делите ячейку, в которую нужно поместить формулу, и введите знак равенства (=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Щелкните на ярлычке листа, содержащего нужную ячейк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делите   ячейку  или   диапазон,  на   который   нужно установить ссылку. В строке формул появится полный адрес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вершите ввод формулы, затем нажмите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формула =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ист1!В6+Лист2!D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Все о функц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854360"/>
            <a:ext cx="690732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Функциями называют встроенные в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Excel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формулы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Функций в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Excel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сотни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инженерные, информационные, логические, арифметические и тригонометрические, статистические, функции обработки текста, функции работы с датой и временем, функции работы с базами данных и многие-многие другие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Функции  можно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использовать как по отдельности, так и в сочетании с другими функциями и формул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После имени каждой функции в ( ) задаются аргументы. Если функция не использует аргументы, то за её именем следуют пустые ( ) без пробела между ни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Аргументы перечисляются через запятую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Функция может иметь не более 30 аргумент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вод функ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Щелкните ячейку, в которую хотите ввести функцию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ведите знак равенства, название  функции (или выберите из Мастера функций) и открывающуюся круглую скоб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ведите аргумент или щелкните ячейку или диапазон, которые нужно использовать при вычислении функци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Щелкните  кнопку  ввода в строке формул или нажмите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крывающуюся скобку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cel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ставит самостоятельн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26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амые популярные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функции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c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09520" y="1477800"/>
          <a:ext cx="8034480" cy="47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477800"/>
                    <a:ext cx="80344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Все о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формула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Формула выполняет вычисления соответствующих заданий и отображает на листе окончательный результат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формулах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можно использовать числа, знаки арифметических действий и ссылки на ячейк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Формула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ВСЕГДА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чинается со знака равенства(=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о умолчанию формулы на экране не отображаются, но можно изменить режим работы программ, чтобы увидеть их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Формулы могут включать обращение к одной или нескольким функциям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формулах недопустимы пробелы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Длина формулы не должна превышать 1024 элемент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ельзя вводить числа в форматах  даты и времени дня непосредственно в формулы. В формулах они могут быть введены только в виде текста, заключенного в двойные кавычки. Excel преобразует их в соответствующие числа при вычислении формулы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вод формул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Щелкните ячейку, в которую нужно ввести формул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ведите знак равенства - обязательное начало формулы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ведите первый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аргумент 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число или ссылку на ячейку. Адрес можно ввести вручную или вставить автоматически, щелкнув нужную ячей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ведите знак арифметического действ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ведите следующий аргу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вторяя пункты 4 и 5, закончите ввод формулы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ажмите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братите внимание, что  в ячейке отображается результат вычислений, а в строке формул - сама формул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Арифметические оператор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66760" y="2021040"/>
          <a:ext cx="7755120" cy="377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2021040"/>
                    <a:ext cx="775512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 формул на экр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920" y="2204640"/>
            <a:ext cx="7742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берите из меню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ервис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оманду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Параметр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Щелкните вкладку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Установите флажок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Формул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Щелкните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42920" y="1752480"/>
            <a:ext cx="7742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Вычисление части формулы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поиске ошибок в составленной формуле бывает удобно посмотреть результат вычисления какой-то части формулы. Для этог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стать на ячейку, содержащую формул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строке формул выделить часть формулы, которую нужно вычисли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F9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- вычисле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зультат вычисления выводит на экран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Es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озврат формулы в исходное состояни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овет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26408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и вводе формул необходимо учитывать приоритет  арифметических операций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cel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рядок старшинства операций таков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7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ведение в степень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7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множение и делени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7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ение и вычитани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пример: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1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равно 29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9241" t="33494" r="48057" b="55960"/>
          <a:stretch/>
        </p:blipFill>
        <p:spPr>
          <a:xfrm>
            <a:off x="468360" y="4221000"/>
            <a:ext cx="7991280" cy="193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7696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иды ссылок на ячей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формулах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l обычно использует относительные ссылки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юда следует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сылки в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улах автоматически изменяются при копировани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ул в другое место. Например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если в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чейк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1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одержится формула = СУММ (В3:В9), то при копировании этой формулы в ячейку С10 она преобразуется в =СУММ (С3:С9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ссылки в формуле не изменялись при копировании формулы в другую ячейку, необходимо использовать абсолютные ссылки. Абсолютная ссылка обозначается знаком доллара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который располагается перед номером строки или обозначением столбца. Например, комиссионный процент по продажам помещен в ячейк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7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тогда абсолютная ссылка на ячейку  должна выглядеть как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D$7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бсолютная строка выглядит как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$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бсолютный столбец выглядит ка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$D7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емещение и копирование форму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59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ормула введена в ячейку. Её можно перенести или скопирова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 перемещении формулы в новое место таблицы ссылки в формуле не изменяютс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 копировании формула перемещается в новое место таблиц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) ссылки перенастраиваются при использовании относительных ячеек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)  ссылки сохраняются при использовании абсолютных ячеек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7:19:55Z</dcterms:created>
  <dc:creator>shool</dc:creator>
  <dc:description/>
  <dc:language>en-US</dc:language>
  <cp:lastModifiedBy>shool</cp:lastModifiedBy>
  <dcterms:modified xsi:type="dcterms:W3CDTF">2012-12-11T07:28:08Z</dcterms:modified>
  <cp:revision>4</cp:revision>
  <dc:subject/>
  <dc:title>Слайд 1</dc:title>
</cp:coreProperties>
</file>