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56A-C813-4970-88C6-4303BADB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9A4-5FA9-44C0-B597-B293298E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B7B-0EB2-408B-9FF6-69AD9B6B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5A3-A4A5-48FA-B134-FCCB64FD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749-E92C-493F-848E-6ADAA2BD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585-0A08-4968-900E-C8D8A55B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7A3-4E7E-4545-8BCD-DD84308F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758-ED51-4B50-966B-21CBA820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CE8-FA88-43E9-9287-5E151BE4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F39-6761-4774-9C4C-9B16DEEE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F90-A0F5-42D2-84B9-663E9D15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B2D-D4C9-4D38-8AC3-FA4FEA0D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8F7E-9C8D-4332-A989-4AA50FB24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125360"/>
            <a:ext cx="7345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TURE SIMP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УЩЕЕ ПРОСТОЕ ВРЕМ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значает действие, которое произойдет в будущ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ечия времен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omorr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в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x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едующ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day after tomorr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зав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.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ТВЕРДИТЕЛЬНАЯ ФОР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892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ubject +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WILL + V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7892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789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He will go for a walk tomorrow.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y will come to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I.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ТРИЦАТЕЛЬНАЯ ФОР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89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ct +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LL NOT (WON’T) + V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89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89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He won’t stay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89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e won’t buy a ti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II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ВОПРОСИТЕЛЬН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WILL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ubject +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ill you go for a wal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hat will Kate do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5:59:36Z</dcterms:created>
  <dc:creator>Вика</dc:creator>
  <dc:description/>
  <dc:language>en-US</dc:language>
  <cp:lastModifiedBy>Вика</cp:lastModifiedBy>
  <dcterms:modified xsi:type="dcterms:W3CDTF">2008-03-13T05:59:59Z</dcterms:modified>
  <cp:revision>1</cp:revision>
  <dc:subject/>
  <dc:title>Слайд 1</dc:title>
</cp:coreProperties>
</file>