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6B9-A6AD-4ADF-8B33-95CF6B86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092-1C30-477C-B2A3-BCA4B840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CBA-6540-494C-807A-DA35B1F4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21D-B455-4FBD-865A-6C646CA0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25E-F9A1-4F12-BA8E-0260F85D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B42-72AE-4AF3-BD04-C4E4CC01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3D16-91F1-494F-9090-0BD4F088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878-9160-4D1F-A71F-BC41B476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618-5E56-43C9-A145-EF2734D0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DF40-B3CC-4747-A778-F445EF82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C2CA-D9F3-4247-9288-5CC29B68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0BF-015A-4999-819C-FFB84812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206F-D35D-4920-83C9-CD1981B90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125360"/>
            <a:ext cx="7345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TURE SIMP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УЩЕЕ ПРОСТОЕ ВРЕМ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значает действие, которое произойдет в будущ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речия времен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omorr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в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ex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едующ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day after tomorr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зав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.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ТВЕРДИТЕЛЬНАЯ ФОР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892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ubject +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WILL + V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7892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789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He will go for a walk tomorrow.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y will come to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I.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ОТРИЦАТЕЛЬНАЯ ФОР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89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ject +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LL NOT (WON’T) + V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89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89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He won’t stay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89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e won’t buy a ti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II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ВОПРОСИТЕЛЬНАЯ 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WILL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ubject +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ill you go for a wal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hat will Kate do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5:59:36Z</dcterms:created>
  <dc:creator>Вика</dc:creator>
  <dc:description/>
  <dc:language>en-US</dc:language>
  <cp:lastModifiedBy>Вика</cp:lastModifiedBy>
  <dcterms:modified xsi:type="dcterms:W3CDTF">2008-03-13T05:59:59Z</dcterms:modified>
  <cp:revision>1</cp:revision>
  <dc:subject/>
  <dc:title>Слайд 1</dc:title>
</cp:coreProperties>
</file>