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3C0-6E93-42F8-ADD3-A949C780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909-4A6E-4518-BFEB-35A1866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D5F-6C7B-4524-A46E-9AD01EF6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5E9-A556-4DA4-AF0C-B5C4FB8B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C38-5D1A-4AF6-967A-99BEDD4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0C4-8F4D-451C-96E6-C608ED83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896-2814-465B-8FE2-AC4A72B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661-ADB5-41A1-A863-65FCF135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8A9-1773-4D72-879E-CF66EFD7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525-229E-47F1-A566-11B3EC4A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B43-0683-4C15-B500-C0E26C1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10F-9202-4A5D-8C94-47BD43A0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7B3A-6FFD-4967-81F7-E93BECE86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8040" y="227160"/>
            <a:ext cx="770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 u="sng">
                <a:solidFill>
                  <a:srgbClr val="0000ff"/>
                </a:solidFill>
                <a:uFillTx/>
                <a:latin typeface="Times New Roman"/>
              </a:rPr>
              <a:t>Т </a:t>
            </a:r>
            <a:r>
              <a:rPr b="1" i="1" lang="ru-RU" sz="8800" spc="-1" strike="noStrike" u="sng">
                <a:solidFill>
                  <a:srgbClr val="ff0000"/>
                </a:solidFill>
                <a:uFillTx/>
                <a:latin typeface="Times New Roman"/>
              </a:rPr>
              <a:t>е </a:t>
            </a:r>
            <a:r>
              <a:rPr b="1" i="1" lang="ru-RU" sz="8800" spc="-1" strike="noStrike" u="sng">
                <a:solidFill>
                  <a:srgbClr val="ffcc00"/>
                </a:solidFill>
                <a:uFillTx/>
                <a:latin typeface="Times New Roman"/>
              </a:rPr>
              <a:t>м </a:t>
            </a:r>
            <a:r>
              <a:rPr b="1" i="1" lang="ru-RU" sz="8800" spc="-1" strike="noStrike" u="sng">
                <a:solidFill>
                  <a:srgbClr val="00cc00"/>
                </a:solidFill>
                <a:uFillTx/>
                <a:latin typeface="Times New Roman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31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00"/>
                </a:solidFill>
                <a:latin typeface="Times New Roman"/>
              </a:rPr>
              <a:t>В. М. Гарш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«Сказ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00"/>
                </a:solidFill>
                <a:latin typeface="Times New Roman"/>
              </a:rPr>
              <a:t>жабе   </a:t>
            </a: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и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розе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3" descr="MCj03561630000[1]"/>
          <p:cNvPicPr/>
          <p:nvPr/>
        </p:nvPicPr>
        <p:blipFill>
          <a:blip r:embed="rId2"/>
          <a:stretch/>
        </p:blipFill>
        <p:spPr>
          <a:xfrm>
            <a:off x="7020000" y="2781360"/>
            <a:ext cx="1816200" cy="110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61af02a9427003c61827317d4ef1b004"/>
          <p:cNvPicPr/>
          <p:nvPr/>
        </p:nvPicPr>
        <p:blipFill>
          <a:blip r:embed="rId3"/>
          <a:stretch/>
        </p:blipFill>
        <p:spPr>
          <a:xfrm>
            <a:off x="579600" y="2687760"/>
            <a:ext cx="1968480" cy="159228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>
            <a:hlinkClick r:id="rId4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comic"/>
              </a:rPr>
              <a:t>II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. Кто стал часто посещать цветник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ем он там занимался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С кем подружился мальчик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ем зверёк его заинтересовал?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comic"/>
              </a:rPr>
              <a:t>III</a:t>
            </a: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. 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Почему в эту весну мальчик не смог выйти в свой любимый уголок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О чём он вспомина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comic"/>
              </a:rPr>
              <a:t>IV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. Какое желание зашевелилось в жабьем сердце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то она решила сделать? Почему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Как вела себя роза?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comic"/>
              </a:rPr>
              <a:t>V</a:t>
            </a: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. 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Как же дальше развивались события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то поняла ро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comic"/>
              </a:rPr>
              <a:t>VI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. Кто спас розу от страшной смерти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Почему её срезали недаром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то стало для неё лучшим подарком?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comic"/>
              </a:rPr>
              <a:t>Vii</a:t>
            </a: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. 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Как относится автор к мальчику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А к розе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Кого он им противопоставил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Почему писатель объединил истории розы и мальч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993300"/>
                </a:solidFill>
                <a:uFillTx/>
                <a:latin typeface="comic"/>
              </a:rPr>
              <a:t>Домашнее задание:</a:t>
            </a:r>
            <a:br>
              <a:rPr sz="6600"/>
            </a:br>
            <a:r>
              <a:rPr b="1" i="1" lang="ru-RU" sz="6600" spc="-1" strike="noStrike">
                <a:solidFill>
                  <a:srgbClr val="993300"/>
                </a:solidFill>
                <a:latin typeface="comic"/>
              </a:rPr>
              <a:t>составить план </a:t>
            </a:r>
            <a:r>
              <a:rPr b="1" i="1" lang="ru-RU" sz="8000" spc="-1" strike="noStrike">
                <a:solidFill>
                  <a:srgbClr val="ff0066"/>
                </a:solidFill>
                <a:latin typeface="comic"/>
              </a:rPr>
              <a:t>с</a:t>
            </a:r>
            <a:r>
              <a:rPr b="1" i="1" lang="ru-RU" sz="8000" spc="-1" strike="noStrike">
                <a:solidFill>
                  <a:srgbClr val="00cc00"/>
                </a:solidFill>
                <a:latin typeface="comic"/>
              </a:rPr>
              <a:t>к</a:t>
            </a:r>
            <a:r>
              <a:rPr b="1" i="1" lang="ru-RU" sz="8000" spc="-1" strike="noStrike">
                <a:solidFill>
                  <a:srgbClr val="ffcc00"/>
                </a:solidFill>
                <a:latin typeface="comic"/>
              </a:rPr>
              <a:t>а</a:t>
            </a:r>
            <a:r>
              <a:rPr b="1" i="1" lang="ru-RU" sz="8000" spc="-1" strike="noStrike">
                <a:solidFill>
                  <a:srgbClr val="ff33cc"/>
                </a:solidFill>
                <a:latin typeface="comic"/>
              </a:rPr>
              <a:t>з</a:t>
            </a:r>
            <a:r>
              <a:rPr b="1" i="1" lang="ru-RU" sz="8000" spc="-1" strike="noStrike">
                <a:solidFill>
                  <a:srgbClr val="0000ff"/>
                </a:solidFill>
                <a:latin typeface="comic"/>
              </a:rPr>
              <a:t>к</a:t>
            </a:r>
            <a:r>
              <a:rPr b="1" i="1" lang="ru-RU" sz="8000" spc="-1" strike="noStrike">
                <a:solidFill>
                  <a:srgbClr val="cc0099"/>
                </a:solidFill>
                <a:latin typeface="comic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14392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Тема мини-проекта</a:t>
            </a:r>
            <a:br>
              <a:rPr sz="5400"/>
            </a:b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« Смысл жизни»</a:t>
            </a:r>
            <a:br>
              <a:rPr sz="5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 </a:t>
            </a:r>
            <a:br>
              <a:rPr sz="4400"/>
            </a:b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Цель проекта-</a:t>
            </a:r>
            <a:br>
              <a:rPr sz="5400"/>
            </a:b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ответ на вопрос:</a:t>
            </a:r>
            <a:br>
              <a:rPr sz="5400"/>
            </a:b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«Для чего мы живём?»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48033524_roza_krasnaya_gif"/>
          <p:cNvPicPr/>
          <p:nvPr/>
        </p:nvPicPr>
        <p:blipFill>
          <a:blip r:embed="rId2"/>
          <a:stretch/>
        </p:blipFill>
        <p:spPr>
          <a:xfrm>
            <a:off x="-365040" y="1352520"/>
            <a:ext cx="4552920" cy="3225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1642680"/>
            <a:ext cx="77454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comic"/>
              </a:rPr>
              <a:t>План работы над проектом </a:t>
            </a: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1.Определение темы и цели проекта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2.Выбор лидера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3.Распределение обязанностей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4.Дружная работа по оформлению проекта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5.Защит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omic"/>
              </a:rPr>
              <a:t>красота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красота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сострадание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уродство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безобразнос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безразличие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скромнос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нежнос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вера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презрение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доброта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любов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3561630000[1]"/>
          <p:cNvPicPr/>
          <p:nvPr/>
        </p:nvPicPr>
        <p:blipFill>
          <a:blip r:embed="rId2"/>
          <a:stretch/>
        </p:blipFill>
        <p:spPr>
          <a:xfrm>
            <a:off x="6804000" y="3141720"/>
            <a:ext cx="1816200" cy="1104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-002_009"/>
          <p:cNvPicPr/>
          <p:nvPr/>
        </p:nvPicPr>
        <p:blipFill>
          <a:blip r:embed="rId3"/>
          <a:stretch/>
        </p:blipFill>
        <p:spPr>
          <a:xfrm>
            <a:off x="603360" y="2530440"/>
            <a:ext cx="204768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6800" y="188640"/>
            <a:ext cx="80614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6"/>
          <p:cNvGrpSpPr/>
          <p:nvPr/>
        </p:nvGrpSpPr>
        <p:grpSpPr>
          <a:xfrm>
            <a:off x="2000160" y="142920"/>
            <a:ext cx="5000760" cy="6715080"/>
            <a:chOff x="2000160" y="142920"/>
            <a:chExt cx="5000760" cy="6715080"/>
          </a:xfrm>
        </p:grpSpPr>
        <p:pic>
          <p:nvPicPr>
            <p:cNvPr id="88" name="Picture 4" descr="i104vtn"/>
            <p:cNvPicPr/>
            <p:nvPr/>
          </p:nvPicPr>
          <p:blipFill>
            <a:blip r:embed="rId2"/>
            <a:stretch/>
          </p:blipFill>
          <p:spPr>
            <a:xfrm>
              <a:off x="2000160" y="142920"/>
              <a:ext cx="5000760" cy="671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5" descr="6236052.gif"/>
            <p:cNvPicPr/>
            <p:nvPr/>
          </p:nvPicPr>
          <p:blipFill>
            <a:blip r:embed="rId3"/>
            <a:stretch/>
          </p:blipFill>
          <p:spPr>
            <a:xfrm rot="3143400">
              <a:off x="5261400" y="1994040"/>
              <a:ext cx="1230120" cy="795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050920" y="17733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39640" y="1125360"/>
            <a:ext cx="288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чело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жиз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крас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любов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веч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508720" y="1197000"/>
            <a:ext cx="338436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цве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жиз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крас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любов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уте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00"/>
                </a:solidFill>
                <a:latin typeface="comic"/>
              </a:rPr>
              <a:t>Почему так названо произведени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33cc"/>
                </a:solidFill>
                <a:uFillTx/>
                <a:latin typeface="Times New Roman"/>
              </a:rPr>
              <a:t>Вопрос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5168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Кем они являются в произвед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Какие чувства вызвало у вас это произ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К какому жанру его можно отне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Что позволило автору назвать свою историю сказк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Times New Roman"/>
              </a:rPr>
              <a:t>Олицетворение-</a:t>
            </a:r>
            <a:br>
              <a:rPr sz="6000"/>
            </a:b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наделение предметов,</a:t>
            </a:r>
            <a:br>
              <a:rPr sz="4800"/>
            </a:b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 явлений природы</a:t>
            </a:r>
            <a:br>
              <a:rPr sz="4800"/>
            </a:b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 чувствами, настроением, способностями, характером человека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333399"/>
                </a:solidFill>
                <a:uFillTx/>
                <a:latin typeface="Times New Roman"/>
              </a:rPr>
              <a:t>Словар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820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очень запущ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ердитый барб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ронизавшего с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лакать не от горя, а от счастья ж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разливать за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безобразны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воспрян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660066"/>
                </a:solidFill>
                <a:uFillTx/>
                <a:latin typeface="Times New Roman"/>
              </a:rPr>
              <a:t>Орфоэпический слова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0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жил,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жили, но ожил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сч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стлив, сч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стлива, но счастл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вые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00"/>
                </a:solidFill>
                <a:latin typeface="comic"/>
              </a:rPr>
              <a:t>Физкультурная минут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comic"/>
              </a:rPr>
              <a:t>I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comic"/>
              </a:rPr>
              <a:t>. Где расцвела роза? </a:t>
            </a: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Зачитайте.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-Когда распустилась роза? Как                             об этом сказано в тексте?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-Через что выражала роза свои чувства?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-Кто ещё жил в цветнике?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-Как автор описывает жа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0:35:30Z</dcterms:created>
  <dc:creator>DAN</dc:creator>
  <dc:description/>
  <dc:language>en-US</dc:language>
  <cp:lastModifiedBy>Owner</cp:lastModifiedBy>
  <dcterms:modified xsi:type="dcterms:W3CDTF">2012-06-06T08:47:36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