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AAB-47EC-4E2E-AD3D-00B8FE78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F88-2B6E-4610-8F82-B340DCD6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448-EF5C-411E-B742-27DCAC96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B4F-57E3-4BDA-B689-D79EFDFE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796-E31B-4272-9B31-B7BDA723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0BF-A9D1-4D12-850C-6D58B77D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4D7-59AE-48ED-94F7-94C6C32E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876-4296-4DEC-89C7-15EA0C33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520-E06C-452E-8502-75BF842F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997-2E9C-4345-9DB3-1E6513F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253-ABF6-40B6-AE0E-15A77CB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364-0A6F-4123-93C0-4C802B61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ABB6-61FC-4471-992D-ED351D0AA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ые и второстепенны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русского языка в 4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лежаще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53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й член предложения, который обозначает, о ком или о чём говорится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ние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о картинкам, о ком или о чём пойдет речь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3588"/>
          <p:cNvPicPr/>
          <p:nvPr/>
        </p:nvPicPr>
        <p:blipFill>
          <a:blip r:embed="rId1"/>
          <a:stretch/>
        </p:blipFill>
        <p:spPr>
          <a:xfrm>
            <a:off x="4716360" y="3860640"/>
            <a:ext cx="2016360" cy="259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44667045_zvezda"/>
          <p:cNvPicPr/>
          <p:nvPr/>
        </p:nvPicPr>
        <p:blipFill>
          <a:blip r:embed="rId2"/>
          <a:stretch/>
        </p:blipFill>
        <p:spPr>
          <a:xfrm>
            <a:off x="5724360" y="1197000"/>
            <a:ext cx="2953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10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й член предложения. Он обозначает, что говорится о подлежащ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ходящим по смыс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уе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шка …………..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йник ………….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нышко ………..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тички ………...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я ……………..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4859280" y="3357720"/>
            <a:ext cx="374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мматическая основа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4427640" y="2349360"/>
            <a:ext cx="4381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лежащее  + сказуемое =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10" descr="i-29"/>
          <p:cNvPicPr/>
          <p:nvPr/>
        </p:nvPicPr>
        <p:blipFill>
          <a:blip r:embed="rId1"/>
          <a:stretch/>
        </p:blipFill>
        <p:spPr>
          <a:xfrm>
            <a:off x="6084720" y="404640"/>
            <a:ext cx="2675160" cy="220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img2"/>
          <p:cNvPicPr/>
          <p:nvPr/>
        </p:nvPicPr>
        <p:blipFill>
          <a:blip r:embed="rId2"/>
          <a:stretch/>
        </p:blipFill>
        <p:spPr>
          <a:xfrm>
            <a:off x="3924360" y="2924280"/>
            <a:ext cx="2303280" cy="1920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artlib_gallery-130395-b"/>
          <p:cNvPicPr/>
          <p:nvPr/>
        </p:nvPicPr>
        <p:blipFill>
          <a:blip r:embed="rId3"/>
          <a:stretch/>
        </p:blipFill>
        <p:spPr>
          <a:xfrm>
            <a:off x="6732720" y="3141720"/>
            <a:ext cx="2050920" cy="346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20090905-b_965"/>
          <p:cNvPicPr/>
          <p:nvPr/>
        </p:nvPicPr>
        <p:blipFill>
          <a:blip r:embed="rId4"/>
          <a:stretch/>
        </p:blipFill>
        <p:spPr>
          <a:xfrm>
            <a:off x="3924360" y="5013360"/>
            <a:ext cx="2519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цвела 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ose01"/>
          <p:cNvPicPr/>
          <p:nvPr/>
        </p:nvPicPr>
        <p:blipFill>
          <a:blip r:embed="rId1"/>
          <a:stretch/>
        </p:blipFill>
        <p:spPr>
          <a:xfrm>
            <a:off x="5508720" y="692280"/>
            <a:ext cx="3324240" cy="3466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assol67"/>
          <p:cNvPicPr/>
          <p:nvPr/>
        </p:nvPicPr>
        <p:blipFill>
          <a:blip r:embed="rId2"/>
          <a:stretch/>
        </p:blipFill>
        <p:spPr>
          <a:xfrm>
            <a:off x="324000" y="692280"/>
            <a:ext cx="3809880" cy="333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0474444_Belaya_roza"/>
          <p:cNvPicPr/>
          <p:nvPr/>
        </p:nvPicPr>
        <p:blipFill>
          <a:blip r:embed="rId3"/>
          <a:stretch/>
        </p:blipFill>
        <p:spPr>
          <a:xfrm>
            <a:off x="3276720" y="3500280"/>
            <a:ext cx="316692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предел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всего обозначает признак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ияла яркая звёз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шёл первы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цвела душистая черём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л проливной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звонил мамин теле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бстоятельств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18456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140360" y="119700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цвела белая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140360" y="3141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цвела белая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635280" y="41497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цвела белая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643280" y="2276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цвела белая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843280" y="119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627280" y="227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лум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916360" y="31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ч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332000" y="4149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жида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50000" y="51753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1763640" y="5175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327480" y="5157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127480" y="51577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г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6784920" y="515772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2106360" y="6040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18720" y="5969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7220880" y="596916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 flipV="1">
            <a:off x="971280" y="5516280"/>
            <a:ext cx="143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 flipV="1">
            <a:off x="2411280" y="5589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 flipV="1">
            <a:off x="2411280" y="5516280"/>
            <a:ext cx="144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 flipH="1" flipV="1">
            <a:off x="5651280" y="551628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 flipH="1" flipV="1">
            <a:off x="7380000" y="551628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6" descr="20474444_Belaya_roza"/>
          <p:cNvPicPr/>
          <p:nvPr/>
        </p:nvPicPr>
        <p:blipFill>
          <a:blip r:embed="rId1"/>
          <a:stretch/>
        </p:blipFill>
        <p:spPr>
          <a:xfrm>
            <a:off x="108000" y="1159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полн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у мамы расцвела белая 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е разбор предложения по чл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грамматическую осн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ьте второстепенные чле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член предложения вы не смогли определ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йте к нему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ет на вопрос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ве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деж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делайте разбор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ть забрезжил рас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 над городом поползли беловат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 пойдёт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ружатся в прозрачном воздухе снеж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ицы примут ещё более нарядный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ведём и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5"/>
          <p:cNvGrpSpPr/>
          <p:nvPr/>
        </p:nvGrpSpPr>
        <p:grpSpPr>
          <a:xfrm>
            <a:off x="108000" y="620640"/>
            <a:ext cx="8927640" cy="5831280"/>
            <a:chOff x="108000" y="620640"/>
            <a:chExt cx="8927640" cy="5831280"/>
          </a:xfrm>
        </p:grpSpPr>
        <p:cxnSp>
          <p:nvCxnSpPr>
            <p:cNvPr id="92" name="_s1028"/>
            <p:cNvCxnSpPr>
              <a:stCxn id="93" idx="0"/>
              <a:endCxn id="94" idx="2"/>
            </p:cNvCxnSpPr>
            <p:nvPr/>
          </p:nvCxnSpPr>
          <p:spPr>
            <a:xfrm flipV="1" rot="16200000">
              <a:off x="6963840" y="3709800"/>
              <a:ext cx="729360" cy="183924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29"/>
            <p:cNvCxnSpPr>
              <a:stCxn id="96" idx="0"/>
              <a:endCxn id="94" idx="2"/>
            </p:cNvCxnSpPr>
            <p:nvPr/>
          </p:nvCxnSpPr>
          <p:spPr>
            <a:xfrm flipV="1" rot="16200000">
              <a:off x="6046920" y="4627440"/>
              <a:ext cx="729360" cy="396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30"/>
            <p:cNvCxnSpPr>
              <a:stCxn id="98" idx="0"/>
              <a:endCxn id="94" idx="2"/>
            </p:cNvCxnSpPr>
            <p:nvPr/>
          </p:nvCxnSpPr>
          <p:spPr>
            <a:xfrm flipH="1" flipV="1" rot="5400000">
              <a:off x="5126040" y="3710880"/>
              <a:ext cx="729360" cy="183708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1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1911600" y="4169520"/>
              <a:ext cx="729360" cy="91944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32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991440" y="4168800"/>
              <a:ext cx="729360" cy="92160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3"/>
            <p:cNvCxnSpPr>
              <a:stCxn id="94" idx="0"/>
              <a:endCxn id="105" idx="2"/>
            </p:cNvCxnSpPr>
            <p:nvPr/>
          </p:nvCxnSpPr>
          <p:spPr>
            <a:xfrm flipV="1" rot="16200000">
              <a:off x="4895280" y="1293120"/>
              <a:ext cx="729360" cy="229860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4"/>
            <p:cNvCxnSpPr>
              <a:stCxn id="101" idx="0"/>
              <a:endCxn id="105" idx="2"/>
            </p:cNvCxnSpPr>
            <p:nvPr/>
          </p:nvCxnSpPr>
          <p:spPr>
            <a:xfrm flipH="1" flipV="1" rot="5400000">
              <a:off x="2599200" y="1294920"/>
              <a:ext cx="729360" cy="229500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5"/>
            <p:cNvSpPr/>
            <p:nvPr/>
          </p:nvSpPr>
          <p:spPr>
            <a:xfrm>
              <a:off x="3323160" y="62064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ле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6"/>
            <p:cNvSpPr/>
            <p:nvPr/>
          </p:nvSpPr>
          <p:spPr>
            <a:xfrm>
              <a:off x="1026720" y="2807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ла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7"/>
            <p:cNvSpPr/>
            <p:nvPr/>
          </p:nvSpPr>
          <p:spPr>
            <a:xfrm>
              <a:off x="5621400" y="2807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торостеп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8"/>
            <p:cNvSpPr/>
            <p:nvPr/>
          </p:nvSpPr>
          <p:spPr>
            <a:xfrm>
              <a:off x="108000" y="4994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лежащ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9"/>
            <p:cNvSpPr/>
            <p:nvPr/>
          </p:nvSpPr>
          <p:spPr>
            <a:xfrm>
              <a:off x="1946520" y="4994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казуем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40"/>
            <p:cNvSpPr/>
            <p:nvPr/>
          </p:nvSpPr>
          <p:spPr>
            <a:xfrm>
              <a:off x="3785040" y="4994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41"/>
            <p:cNvSpPr/>
            <p:nvPr/>
          </p:nvSpPr>
          <p:spPr>
            <a:xfrm>
              <a:off x="5623560" y="4994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стоятель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2"/>
            <p:cNvSpPr/>
            <p:nvPr/>
          </p:nvSpPr>
          <p:spPr>
            <a:xfrm>
              <a:off x="7462080" y="4994280"/>
              <a:ext cx="157356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опол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8:30:23Z</dcterms:created>
  <dc:creator>Nazmiev</dc:creator>
  <dc:description/>
  <dc:language>en-US</dc:language>
  <cp:lastModifiedBy>Nazmiev</cp:lastModifiedBy>
  <dcterms:modified xsi:type="dcterms:W3CDTF">2010-04-29T16:12:28Z</dcterms:modified>
  <cp:revision>17</cp:revision>
  <dc:subject/>
  <dc:title>Главные и второстепенные члены предложения</dc:title>
</cp:coreProperties>
</file>