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34B-EA26-40BD-AF67-ACDCF694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FC7-6580-4644-80C5-E3B022DA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C18-F8AB-4813-9473-C88E3C95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D3E-18F9-46F6-901A-524D62C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B83-861A-41F1-B0AF-50433117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C12-F999-46AA-B79A-69ECCEC5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A6F-8F01-43AB-A60E-C852F62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239-E620-4201-B1D1-6FE75B0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55C-DAC9-4D1C-9BF7-4D41BC1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764-2ADC-49A1-BC42-6AD2906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10C-AE95-4A67-9F25-B2A40A5E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020-DE71-4A8F-92C3-5733455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81C-C4B3-44D0-8E25-52CB89A7D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533520" y="1522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19b40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5320" y="1447920"/>
            <a:ext cx="76132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 действием сл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2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48" name="Прямоугольник 5"/>
          <p:cNvGrpSpPr/>
          <p:nvPr/>
        </p:nvGrpSpPr>
        <p:grpSpPr>
          <a:xfrm>
            <a:off x="3365640" y="4462560"/>
            <a:ext cx="1230120" cy="1139760"/>
            <a:chOff x="3365640" y="4462560"/>
            <a:chExt cx="1230120" cy="1139760"/>
          </a:xfrm>
        </p:grpSpPr>
        <p:pic>
          <p:nvPicPr>
            <p:cNvPr id="14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365640" y="4462560"/>
              <a:ext cx="12301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429000" y="4500720"/>
              <a:ext cx="11127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оугольник 6"/>
          <p:cNvGrpSpPr/>
          <p:nvPr/>
        </p:nvGrpSpPr>
        <p:grpSpPr>
          <a:xfrm>
            <a:off x="3511440" y="5462640"/>
            <a:ext cx="1316160" cy="1176120"/>
            <a:chOff x="3511440" y="5462640"/>
            <a:chExt cx="1316160" cy="1176120"/>
          </a:xfrm>
        </p:grpSpPr>
        <p:pic>
          <p:nvPicPr>
            <p:cNvPr id="15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511440" y="5462640"/>
              <a:ext cx="13161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571920" y="550080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5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Прямоугольник 8" descr=""/>
          <p:cNvPicPr/>
          <p:nvPr/>
        </p:nvPicPr>
        <p:blipFill>
          <a:blip r:embed="rId6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9" descr=""/>
          <p:cNvPicPr/>
          <p:nvPr/>
        </p:nvPicPr>
        <p:blipFill>
          <a:blip r:embed="rId7"/>
          <a:stretch/>
        </p:blipFill>
        <p:spPr>
          <a:xfrm>
            <a:off x="2133720" y="5791320"/>
            <a:ext cx="13953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59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60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13" descr=""/>
          <p:cNvPicPr/>
          <p:nvPr/>
        </p:nvPicPr>
        <p:blipFill>
          <a:blip r:embed="rId9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4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65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68" name="Прямоугольник 10" descr=""/>
            <p:cNvPicPr/>
            <p:nvPr/>
          </p:nvPicPr>
          <p:blipFill>
            <a:blip r:embed="rId11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rg_hi" descr=""/>
          <p:cNvPicPr/>
          <p:nvPr/>
        </p:nvPicPr>
        <p:blipFill>
          <a:blip r:embed="rId12"/>
          <a:stretch/>
        </p:blipFill>
        <p:spPr>
          <a:xfrm>
            <a:off x="3657600" y="1981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440" y="2786040"/>
            <a:ext cx="8001000" cy="33400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2" descr=""/>
          <p:cNvPicPr/>
          <p:nvPr/>
        </p:nvPicPr>
        <p:blipFill>
          <a:blip r:embed="rId3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74" name="Прямоугольник 5"/>
          <p:cNvGrpSpPr/>
          <p:nvPr/>
        </p:nvGrpSpPr>
        <p:grpSpPr>
          <a:xfrm>
            <a:off x="3365640" y="4462560"/>
            <a:ext cx="1230120" cy="1139760"/>
            <a:chOff x="3365640" y="4462560"/>
            <a:chExt cx="1230120" cy="1139760"/>
          </a:xfrm>
        </p:grpSpPr>
        <p:pic>
          <p:nvPicPr>
            <p:cNvPr id="175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365640" y="4462560"/>
              <a:ext cx="12301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429000" y="4500720"/>
              <a:ext cx="11127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6"/>
          <p:cNvGrpSpPr/>
          <p:nvPr/>
        </p:nvGrpSpPr>
        <p:grpSpPr>
          <a:xfrm>
            <a:off x="3511440" y="5462640"/>
            <a:ext cx="1316160" cy="1176120"/>
            <a:chOff x="3511440" y="5462640"/>
            <a:chExt cx="1316160" cy="1176120"/>
          </a:xfrm>
        </p:grpSpPr>
        <p:pic>
          <p:nvPicPr>
            <p:cNvPr id="178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511440" y="5462640"/>
              <a:ext cx="13161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571920" y="550080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8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Прямоугольник 8" descr=""/>
          <p:cNvPicPr/>
          <p:nvPr/>
        </p:nvPicPr>
        <p:blipFill>
          <a:blip r:embed="rId7"/>
          <a:stretch/>
        </p:blipFill>
        <p:spPr>
          <a:xfrm>
            <a:off x="6870600" y="4151160"/>
            <a:ext cx="1121040" cy="131616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9" descr=""/>
          <p:cNvPicPr/>
          <p:nvPr/>
        </p:nvPicPr>
        <p:blipFill>
          <a:blip r:embed="rId8"/>
          <a:stretch/>
        </p:blipFill>
        <p:spPr>
          <a:xfrm>
            <a:off x="2133720" y="5791320"/>
            <a:ext cx="13953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Прямоугольник 11"/>
          <p:cNvGrpSpPr/>
          <p:nvPr/>
        </p:nvGrpSpPr>
        <p:grpSpPr>
          <a:xfrm>
            <a:off x="5778360" y="5529240"/>
            <a:ext cx="1189080" cy="1200240"/>
            <a:chOff x="5778360" y="5529240"/>
            <a:chExt cx="1189080" cy="1200240"/>
          </a:xfrm>
        </p:grpSpPr>
        <p:pic>
          <p:nvPicPr>
            <p:cNvPr id="186" name="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5778360" y="5529240"/>
              <a:ext cx="118908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857920" y="5572080"/>
              <a:ext cx="103644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2"/>
          <p:cNvSpPr/>
          <p:nvPr/>
        </p:nvSpPr>
        <p:spPr>
          <a:xfrm>
            <a:off x="4643280" y="4500720"/>
            <a:ext cx="990720" cy="9014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13" descr=""/>
          <p:cNvPicPr/>
          <p:nvPr/>
        </p:nvPicPr>
        <p:blipFill>
          <a:blip r:embed="rId10"/>
          <a:stretch/>
        </p:blipFill>
        <p:spPr>
          <a:xfrm>
            <a:off x="6437160" y="5353200"/>
            <a:ext cx="1859040" cy="1077840"/>
          </a:xfrm>
          <a:prstGeom prst="rect">
            <a:avLst/>
          </a:prstGeom>
          <a:ln w="0">
            <a:noFill/>
          </a:ln>
        </p:spPr>
      </p:pic>
      <p:grpSp>
        <p:nvGrpSpPr>
          <p:cNvPr id="190" name="Прямоугольник 14"/>
          <p:cNvGrpSpPr/>
          <p:nvPr/>
        </p:nvGrpSpPr>
        <p:grpSpPr>
          <a:xfrm>
            <a:off x="4724280" y="5462640"/>
            <a:ext cx="1231920" cy="1041480"/>
            <a:chOff x="4724280" y="5462640"/>
            <a:chExt cx="1231920" cy="1041480"/>
          </a:xfrm>
        </p:grpSpPr>
        <p:pic>
          <p:nvPicPr>
            <p:cNvPr id="191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4724280" y="5462640"/>
              <a:ext cx="12319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86200" y="5500800"/>
              <a:ext cx="1116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оугольник 10"/>
          <p:cNvGrpSpPr/>
          <p:nvPr/>
        </p:nvGrpSpPr>
        <p:grpSpPr>
          <a:xfrm>
            <a:off x="5657760" y="4462560"/>
            <a:ext cx="1133640" cy="1096920"/>
            <a:chOff x="5657760" y="4462560"/>
            <a:chExt cx="1133640" cy="1096920"/>
          </a:xfrm>
        </p:grpSpPr>
        <p:pic>
          <p:nvPicPr>
            <p:cNvPr id="194" name="Прямоугольник 10" descr=""/>
            <p:cNvPicPr/>
            <p:nvPr/>
          </p:nvPicPr>
          <p:blipFill>
            <a:blip r:embed="rId12"/>
            <a:stretch/>
          </p:blipFill>
          <p:spPr>
            <a:xfrm>
              <a:off x="5657760" y="4462560"/>
              <a:ext cx="11336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715000" y="4500720"/>
              <a:ext cx="10206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rg_hi" descr=""/>
          <p:cNvPicPr/>
          <p:nvPr/>
        </p:nvPicPr>
        <p:blipFill>
          <a:blip r:embed="rId13"/>
          <a:stretch/>
        </p:blipFill>
        <p:spPr>
          <a:xfrm>
            <a:off x="3886200" y="1828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7"/>
          <p:cNvSpPr txBox="1"/>
          <p:nvPr/>
        </p:nvSpPr>
        <p:spPr>
          <a:xfrm>
            <a:off x="3048120" y="2971800"/>
            <a:ext cx="25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8" name="Line 8"/>
          <p:cNvSpPr/>
          <p:nvPr/>
        </p:nvSpPr>
        <p:spPr>
          <a:xfrm flipH="1" flipV="1">
            <a:off x="2285640" y="2057040"/>
            <a:ext cx="934920" cy="6476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H="1">
            <a:off x="2362320" y="3962520"/>
            <a:ext cx="1008000" cy="5760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5638680" y="2133720"/>
            <a:ext cx="792360" cy="6458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5715000" y="4038480"/>
            <a:ext cx="1150920" cy="64944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5715000" y="1447920"/>
            <a:ext cx="28083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чил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1143000" y="1523880"/>
            <a:ext cx="25192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зн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5975280" y="4648320"/>
            <a:ext cx="3168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спомни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609480" y="4572000"/>
            <a:ext cx="31687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сдел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6330600">
            <a:off x="2797920" y="1665720"/>
            <a:ext cx="3009960" cy="205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87" y="21310"/>
                </a:moveTo>
                <a:arcTo wR="10800" hR="10800" stAng="4601277" swAng="21402366"/>
                <a:lnTo>
                  <a:pt x="10800" y="10800"/>
                </a:lnTo>
                <a:close/>
              </a:path>
              <a:path fill="none" w="21600" h="21600">
                <a:moveTo>
                  <a:pt x="13287" y="21310"/>
                </a:moveTo>
                <a:arcTo wR="10800" hR="10800" stAng="4601277" swAng="2140236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6861000">
            <a:off x="2026800" y="3644280"/>
            <a:ext cx="2920680" cy="159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74" y="182"/>
                </a:moveTo>
                <a:arcTo wR="10800" hR="10800" stAng="-4768047" swAng="7597716"/>
                <a:lnTo>
                  <a:pt x="10800" y="10800"/>
                </a:lnTo>
                <a:close/>
              </a:path>
              <a:path fill="none" w="21600" h="21600">
                <a:moveTo>
                  <a:pt x="12774" y="182"/>
                </a:moveTo>
                <a:arcTo wR="10800" hR="10800" stAng="-4768047" swAng="759771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457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b404"/>
                </a:solidFill>
                <a:latin typeface="Arial"/>
              </a:rPr>
              <a:t>Чист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1" descr="рука пишет"/>
          <p:cNvPicPr/>
          <p:nvPr/>
        </p:nvPicPr>
        <p:blipFill>
          <a:blip r:embed="rId2"/>
          <a:stretch/>
        </p:blipFill>
        <p:spPr>
          <a:xfrm>
            <a:off x="6553080" y="4419720"/>
            <a:ext cx="15843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533520" y="1522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хождение в тему урок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9b404"/>
                </a:solidFill>
                <a:latin typeface="Arial"/>
              </a:rPr>
              <a:t>Задайт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124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3       4       5        6       7       8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1        2        3        4        5       6       7       8    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62320" y="2895480"/>
            <a:ext cx="46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2  3  4  5  6  7  8  9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352680"/>
            <a:ext cx="215640" cy="21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429000"/>
            <a:ext cx="35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429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3760" y="2895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 rot="19834800">
            <a:off x="1904760" y="2819520"/>
            <a:ext cx="4286160" cy="14292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 rot="367800">
            <a:off x="2133720" y="4259160"/>
            <a:ext cx="6180120" cy="14760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"/>
          <p:cNvPicPr/>
          <p:nvPr/>
        </p:nvPicPr>
        <p:blipFill>
          <a:blip r:embed="rId2"/>
          <a:srcRect l="49921" t="75881" r="33461" b="10748"/>
          <a:stretch/>
        </p:blipFill>
        <p:spPr>
          <a:xfrm>
            <a:off x="3657600" y="32004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"/>
          <p:cNvPicPr/>
          <p:nvPr/>
        </p:nvPicPr>
        <p:blipFill>
          <a:blip r:embed="rId3"/>
          <a:srcRect l="49921" t="75881" r="33461" b="10748"/>
          <a:stretch/>
        </p:blipFill>
        <p:spPr>
          <a:xfrm>
            <a:off x="4495680" y="35053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74" name="il_fi" descr=""/>
          <p:cNvPicPr/>
          <p:nvPr/>
        </p:nvPicPr>
        <p:blipFill>
          <a:blip r:embed="rId4"/>
          <a:srcRect l="49921" t="75881" r="33461" b="10748"/>
          <a:stretch/>
        </p:blipFill>
        <p:spPr>
          <a:xfrm>
            <a:off x="4343400" y="28195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5" name="il_fi" descr=""/>
          <p:cNvPicPr/>
          <p:nvPr/>
        </p:nvPicPr>
        <p:blipFill>
          <a:blip r:embed="rId5"/>
          <a:srcRect l="49921" t="75881" r="33461" b="10748"/>
          <a:stretch/>
        </p:blipFill>
        <p:spPr>
          <a:xfrm>
            <a:off x="4876920" y="243828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76" name="il_fi" descr=""/>
          <p:cNvPicPr/>
          <p:nvPr/>
        </p:nvPicPr>
        <p:blipFill>
          <a:blip r:embed="rId6"/>
          <a:srcRect l="49921" t="75881" r="33461" b="10748"/>
          <a:stretch/>
        </p:blipFill>
        <p:spPr>
          <a:xfrm>
            <a:off x="6019920" y="35053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7" name="il_fi" descr=""/>
          <p:cNvPicPr/>
          <p:nvPr/>
        </p:nvPicPr>
        <p:blipFill>
          <a:blip r:embed="rId7"/>
          <a:srcRect l="49921" t="75881" r="33461" b="10748"/>
          <a:stretch/>
        </p:blipFill>
        <p:spPr>
          <a:xfrm>
            <a:off x="5715000" y="28195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8" name="il_fi" descr=""/>
          <p:cNvPicPr/>
          <p:nvPr/>
        </p:nvPicPr>
        <p:blipFill>
          <a:blip r:embed="rId8"/>
          <a:srcRect l="49921" t="75881" r="33461" b="10748"/>
          <a:stretch/>
        </p:blipFill>
        <p:spPr>
          <a:xfrm>
            <a:off x="5486400" y="21337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79" name="il_fi" descr=""/>
          <p:cNvPicPr/>
          <p:nvPr/>
        </p:nvPicPr>
        <p:blipFill>
          <a:blip r:embed="rId9"/>
          <a:srcRect l="49921" t="75881" r="33461" b="10748"/>
          <a:stretch/>
        </p:blipFill>
        <p:spPr>
          <a:xfrm>
            <a:off x="5334120" y="36576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0" name="il_fi" descr=""/>
          <p:cNvPicPr/>
          <p:nvPr/>
        </p:nvPicPr>
        <p:blipFill>
          <a:blip r:embed="rId10"/>
          <a:srcRect l="49921" t="75881" r="33461" b="10748"/>
          <a:stretch/>
        </p:blipFill>
        <p:spPr>
          <a:xfrm>
            <a:off x="5105520" y="32004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1" name="il_fi" descr=""/>
          <p:cNvPicPr/>
          <p:nvPr/>
        </p:nvPicPr>
        <p:blipFill>
          <a:blip r:embed="rId11"/>
          <a:srcRect l="49921" t="75881" r="33461" b="10748"/>
          <a:stretch/>
        </p:blipFill>
        <p:spPr>
          <a:xfrm>
            <a:off x="7086600" y="3886200"/>
            <a:ext cx="838080" cy="711360"/>
          </a:xfrm>
          <a:prstGeom prst="rect">
            <a:avLst/>
          </a:prstGeom>
          <a:ln w="0">
            <a:noFill/>
          </a:ln>
        </p:spPr>
      </p:pic>
      <p:pic>
        <p:nvPicPr>
          <p:cNvPr id="82" name="il_fi" descr=""/>
          <p:cNvPicPr/>
          <p:nvPr/>
        </p:nvPicPr>
        <p:blipFill>
          <a:blip r:embed="rId12"/>
          <a:srcRect l="49921" t="75881" r="33461" b="10748"/>
          <a:stretch/>
        </p:blipFill>
        <p:spPr>
          <a:xfrm>
            <a:off x="6629400" y="3276720"/>
            <a:ext cx="838080" cy="711000"/>
          </a:xfrm>
          <a:prstGeom prst="rect">
            <a:avLst/>
          </a:prstGeom>
          <a:ln w="0">
            <a:noFill/>
          </a:ln>
        </p:spPr>
      </p:pic>
      <p:pic>
        <p:nvPicPr>
          <p:cNvPr id="83" name="il_fi" descr=""/>
          <p:cNvPicPr/>
          <p:nvPr/>
        </p:nvPicPr>
        <p:blipFill>
          <a:blip r:embed="rId13"/>
          <a:srcRect l="49921" t="75881" r="33461" b="10748"/>
          <a:stretch/>
        </p:blipFill>
        <p:spPr>
          <a:xfrm>
            <a:off x="6324480" y="25909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84" name="il_fi" descr=""/>
          <p:cNvPicPr/>
          <p:nvPr/>
        </p:nvPicPr>
        <p:blipFill>
          <a:blip r:embed="rId14"/>
          <a:srcRect l="49921" t="75881" r="33461" b="10748"/>
          <a:stretch/>
        </p:blipFill>
        <p:spPr>
          <a:xfrm>
            <a:off x="6095880" y="1905120"/>
            <a:ext cx="83844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il_fi" descr=""/>
          <p:cNvPicPr/>
          <p:nvPr/>
        </p:nvPicPr>
        <p:blipFill>
          <a:blip r:embed="rId15"/>
          <a:srcRect l="49921" t="78031" r="33461" b="10748"/>
          <a:stretch/>
        </p:blipFill>
        <p:spPr>
          <a:xfrm>
            <a:off x="3048120" y="3505320"/>
            <a:ext cx="838080" cy="59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219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b404"/>
                </a:solidFill>
                <a:latin typeface="Arial"/>
              </a:rPr>
              <a:t>Задайт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6360" y="289512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с действием с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l_fi" descr=""/>
          <p:cNvPicPr/>
          <p:nvPr/>
        </p:nvPicPr>
        <p:blipFill>
          <a:blip r:embed="rId1"/>
          <a:srcRect l="8050" t="2978" r="75926" b="76251"/>
          <a:stretch/>
        </p:blipFill>
        <p:spPr>
          <a:xfrm>
            <a:off x="1676520" y="1905120"/>
            <a:ext cx="232416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il_fi" descr=""/>
          <p:cNvPicPr/>
          <p:nvPr/>
        </p:nvPicPr>
        <p:blipFill>
          <a:blip r:embed="rId2"/>
          <a:srcRect l="8050" t="2978" r="75926" b="76251"/>
          <a:stretch/>
        </p:blipFill>
        <p:spPr>
          <a:xfrm>
            <a:off x="4038480" y="1905120"/>
            <a:ext cx="2184480" cy="3124080"/>
          </a:xfrm>
          <a:prstGeom prst="rect">
            <a:avLst/>
          </a:prstGeom>
          <a:ln w="0">
            <a:noFill/>
          </a:ln>
        </p:spPr>
      </p:pic>
      <p:sp>
        <p:nvSpPr>
          <p:cNvPr id="94" name="Плюс 4"/>
          <p:cNvSpPr/>
          <p:nvPr/>
        </p:nvSpPr>
        <p:spPr>
          <a:xfrm>
            <a:off x="1676520" y="3657600"/>
            <a:ext cx="2643120" cy="2214720"/>
          </a:xfrm>
          <a:custGeom>
            <a:avLst/>
            <a:gdLst>
              <a:gd name="textAreaLeft" fmla="*/ 350280 w 2643120"/>
              <a:gd name="textAreaRight" fmla="*/ 2292840 w 2643120"/>
              <a:gd name="textAreaTop" fmla="*/ 846720 h 2214720"/>
              <a:gd name="textAreaBottom" fmla="*/ 1368000 h 2214720"/>
            </a:gdLst>
            <a:ahLst/>
            <a:rect l="textAreaLeft" t="textAreaTop" r="textAreaRight" b="textAreaBottom"/>
            <a:pathLst>
              <a:path w="2643206" h="2214578">
                <a:moveTo>
                  <a:pt x="350357" y="846855"/>
                </a:moveTo>
                <a:lnTo>
                  <a:pt x="1061169" y="846855"/>
                </a:lnTo>
                <a:lnTo>
                  <a:pt x="1061169" y="293542"/>
                </a:lnTo>
                <a:lnTo>
                  <a:pt x="1582037" y="293542"/>
                </a:lnTo>
                <a:lnTo>
                  <a:pt x="1582037" y="846855"/>
                </a:lnTo>
                <a:lnTo>
                  <a:pt x="2292849" y="846855"/>
                </a:lnTo>
                <a:lnTo>
                  <a:pt x="2292849" y="1367723"/>
                </a:lnTo>
                <a:lnTo>
                  <a:pt x="1582037" y="1367723"/>
                </a:lnTo>
                <a:lnTo>
                  <a:pt x="1582037" y="1921036"/>
                </a:lnTo>
                <a:lnTo>
                  <a:pt x="1061169" y="1921036"/>
                </a:lnTo>
                <a:lnTo>
                  <a:pt x="1061169" y="1367723"/>
                </a:lnTo>
                <a:lnTo>
                  <a:pt x="350357" y="1367723"/>
                </a:lnTo>
                <a:close/>
              </a:path>
            </a:pathLst>
          </a:custGeom>
          <a:solidFill>
            <a:srgbClr val="bbe0e3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люс 4"/>
          <p:cNvSpPr/>
          <p:nvPr/>
        </p:nvSpPr>
        <p:spPr>
          <a:xfrm>
            <a:off x="3581280" y="3657600"/>
            <a:ext cx="2795760" cy="2214720"/>
          </a:xfrm>
          <a:custGeom>
            <a:avLst/>
            <a:gdLst>
              <a:gd name="textAreaLeft" fmla="*/ 370440 w 2795760"/>
              <a:gd name="textAreaRight" fmla="*/ 2425320 w 2795760"/>
              <a:gd name="textAreaTop" fmla="*/ 846720 h 2214720"/>
              <a:gd name="textAreaBottom" fmla="*/ 1368000 h 2214720"/>
            </a:gdLst>
            <a:ahLst/>
            <a:rect l="textAreaLeft" t="textAreaTop" r="textAreaRight" b="textAreaBottom"/>
            <a:pathLst>
              <a:path w="2643206" h="2214578">
                <a:moveTo>
                  <a:pt x="350357" y="846855"/>
                </a:moveTo>
                <a:lnTo>
                  <a:pt x="1061169" y="846855"/>
                </a:lnTo>
                <a:lnTo>
                  <a:pt x="1061169" y="293542"/>
                </a:lnTo>
                <a:lnTo>
                  <a:pt x="1582037" y="293542"/>
                </a:lnTo>
                <a:lnTo>
                  <a:pt x="1582037" y="846855"/>
                </a:lnTo>
                <a:lnTo>
                  <a:pt x="2292849" y="846855"/>
                </a:lnTo>
                <a:lnTo>
                  <a:pt x="2292849" y="1367723"/>
                </a:lnTo>
                <a:lnTo>
                  <a:pt x="1582037" y="1367723"/>
                </a:lnTo>
                <a:lnTo>
                  <a:pt x="1582037" y="1921036"/>
                </a:lnTo>
                <a:lnTo>
                  <a:pt x="1061169" y="1921036"/>
                </a:lnTo>
                <a:lnTo>
                  <a:pt x="1061169" y="1367723"/>
                </a:lnTo>
                <a:lnTo>
                  <a:pt x="350357" y="1367723"/>
                </a:lnTo>
                <a:close/>
              </a:path>
            </a:pathLst>
          </a:custGeom>
          <a:solidFill>
            <a:srgbClr val="bbe0e3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Прямоугольник 5"/>
          <p:cNvGrpSpPr/>
          <p:nvPr/>
        </p:nvGrpSpPr>
        <p:grpSpPr>
          <a:xfrm>
            <a:off x="1695600" y="3365640"/>
            <a:ext cx="1223640" cy="1139760"/>
            <a:chOff x="1695600" y="3365640"/>
            <a:chExt cx="1223640" cy="1139760"/>
          </a:xfrm>
        </p:grpSpPr>
        <p:pic>
          <p:nvPicPr>
            <p:cNvPr id="97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695600" y="3365640"/>
              <a:ext cx="1223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52480" y="3403440"/>
              <a:ext cx="11131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6"/>
          <p:cNvGrpSpPr/>
          <p:nvPr/>
        </p:nvGrpSpPr>
        <p:grpSpPr>
          <a:xfrm>
            <a:off x="1176480" y="4383000"/>
            <a:ext cx="1317600" cy="1176480"/>
            <a:chOff x="1176480" y="4383000"/>
            <a:chExt cx="1317600" cy="1176480"/>
          </a:xfrm>
        </p:grpSpPr>
        <p:pic>
          <p:nvPicPr>
            <p:cNvPr id="100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76480" y="4383000"/>
              <a:ext cx="1317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36600" y="441972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рямоугольник 7"/>
          <p:cNvGrpSpPr/>
          <p:nvPr/>
        </p:nvGrpSpPr>
        <p:grpSpPr>
          <a:xfrm>
            <a:off x="1884240" y="1841400"/>
            <a:ext cx="1371600" cy="1206720"/>
            <a:chOff x="1884240" y="1841400"/>
            <a:chExt cx="1371600" cy="1206720"/>
          </a:xfrm>
        </p:grpSpPr>
        <p:pic>
          <p:nvPicPr>
            <p:cNvPr id="10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884240" y="1841400"/>
              <a:ext cx="137160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947960" y="187956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Прямоугольник 8" descr=""/>
          <p:cNvPicPr/>
          <p:nvPr/>
        </p:nvPicPr>
        <p:blipFill>
          <a:blip r:embed="rId4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9" descr=""/>
          <p:cNvPicPr/>
          <p:nvPr/>
        </p:nvPicPr>
        <p:blipFill>
          <a:blip r:embed="rId5"/>
          <a:stretch/>
        </p:blipFill>
        <p:spPr>
          <a:xfrm>
            <a:off x="811080" y="2676600"/>
            <a:ext cx="13957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07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08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13" descr=""/>
          <p:cNvPicPr/>
          <p:nvPr/>
        </p:nvPicPr>
        <p:blipFill>
          <a:blip r:embed="rId7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12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1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Прямоугольник 15" descr=""/>
          <p:cNvPicPr/>
          <p:nvPr/>
        </p:nvPicPr>
        <p:blipFill>
          <a:blip r:embed="rId9"/>
          <a:stretch/>
        </p:blipFill>
        <p:spPr>
          <a:xfrm>
            <a:off x="1809720" y="4267080"/>
            <a:ext cx="5754600" cy="3176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17" name="Прямоугольник 10" descr=""/>
            <p:cNvPicPr/>
            <p:nvPr/>
          </p:nvPicPr>
          <p:blipFill>
            <a:blip r:embed="rId10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rg_hi" descr=""/>
          <p:cNvPicPr/>
          <p:nvPr/>
        </p:nvPicPr>
        <p:blipFill>
          <a:blip r:embed="rId11"/>
          <a:stretch/>
        </p:blipFill>
        <p:spPr>
          <a:xfrm>
            <a:off x="3809880" y="19810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2" descr=""/>
          <p:cNvPicPr/>
          <p:nvPr/>
        </p:nvPicPr>
        <p:blipFill>
          <a:blip r:embed="rId12"/>
          <a:stretch/>
        </p:blipFill>
        <p:spPr>
          <a:xfrm>
            <a:off x="380880" y="2286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5" descr=""/>
          <p:cNvPicPr/>
          <p:nvPr/>
        </p:nvPicPr>
        <p:blipFill>
          <a:blip r:embed="rId1"/>
          <a:stretch/>
        </p:blipFill>
        <p:spPr>
          <a:xfrm>
            <a:off x="1865160" y="4254480"/>
            <a:ext cx="5596200" cy="300528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25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23" name="Прямоугольник 5"/>
          <p:cNvGrpSpPr/>
          <p:nvPr/>
        </p:nvGrpSpPr>
        <p:grpSpPr>
          <a:xfrm>
            <a:off x="1695600" y="3365640"/>
            <a:ext cx="1223640" cy="1139760"/>
            <a:chOff x="1695600" y="3365640"/>
            <a:chExt cx="1223640" cy="1139760"/>
          </a:xfrm>
        </p:grpSpPr>
        <p:pic>
          <p:nvPicPr>
            <p:cNvPr id="12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695600" y="3365640"/>
              <a:ext cx="1223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52480" y="3403440"/>
              <a:ext cx="11131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рямоугольник 6"/>
          <p:cNvGrpSpPr/>
          <p:nvPr/>
        </p:nvGrpSpPr>
        <p:grpSpPr>
          <a:xfrm>
            <a:off x="1176480" y="4383000"/>
            <a:ext cx="1317600" cy="1176480"/>
            <a:chOff x="1176480" y="4383000"/>
            <a:chExt cx="1317600" cy="1176480"/>
          </a:xfrm>
        </p:grpSpPr>
        <p:pic>
          <p:nvPicPr>
            <p:cNvPr id="12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176480" y="4383000"/>
              <a:ext cx="1317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36600" y="4419720"/>
              <a:ext cx="1201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рямоугольник 7"/>
          <p:cNvGrpSpPr/>
          <p:nvPr/>
        </p:nvGrpSpPr>
        <p:grpSpPr>
          <a:xfrm>
            <a:off x="2084400" y="4535640"/>
            <a:ext cx="1365120" cy="1199880"/>
            <a:chOff x="2084400" y="4535640"/>
            <a:chExt cx="1365120" cy="119988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84400" y="4535640"/>
              <a:ext cx="13651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143080" y="4572000"/>
              <a:ext cx="1252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Прямоугольник 8" descr=""/>
          <p:cNvPicPr/>
          <p:nvPr/>
        </p:nvPicPr>
        <p:blipFill>
          <a:blip r:embed="rId6"/>
          <a:stretch/>
        </p:blipFill>
        <p:spPr>
          <a:xfrm>
            <a:off x="7547040" y="3724200"/>
            <a:ext cx="1127160" cy="13176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" descr=""/>
          <p:cNvPicPr/>
          <p:nvPr/>
        </p:nvPicPr>
        <p:blipFill>
          <a:blip r:embed="rId7"/>
          <a:stretch/>
        </p:blipFill>
        <p:spPr>
          <a:xfrm>
            <a:off x="811080" y="2676600"/>
            <a:ext cx="13957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34" name="Прямоугольник 11"/>
          <p:cNvGrpSpPr/>
          <p:nvPr/>
        </p:nvGrpSpPr>
        <p:grpSpPr>
          <a:xfrm>
            <a:off x="7577280" y="2657520"/>
            <a:ext cx="1188720" cy="1195200"/>
            <a:chOff x="7577280" y="2657520"/>
            <a:chExt cx="1188720" cy="1195200"/>
          </a:xfrm>
        </p:grpSpPr>
        <p:pic>
          <p:nvPicPr>
            <p:cNvPr id="135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577280" y="2657520"/>
              <a:ext cx="1188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656480" y="2698920"/>
              <a:ext cx="103680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12"/>
          <p:cNvSpPr/>
          <p:nvPr/>
        </p:nvSpPr>
        <p:spPr>
          <a:xfrm>
            <a:off x="6405480" y="2247840"/>
            <a:ext cx="990720" cy="9018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13" descr=""/>
          <p:cNvPicPr/>
          <p:nvPr/>
        </p:nvPicPr>
        <p:blipFill>
          <a:blip r:embed="rId9"/>
          <a:stretch/>
        </p:blipFill>
        <p:spPr>
          <a:xfrm>
            <a:off x="7437600" y="1359000"/>
            <a:ext cx="1858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Прямоугольник 14"/>
          <p:cNvGrpSpPr/>
          <p:nvPr/>
        </p:nvGrpSpPr>
        <p:grpSpPr>
          <a:xfrm>
            <a:off x="6540480" y="3193920"/>
            <a:ext cx="1231920" cy="1043280"/>
            <a:chOff x="6540480" y="3193920"/>
            <a:chExt cx="1231920" cy="1043280"/>
          </a:xfrm>
        </p:grpSpPr>
        <p:pic>
          <p:nvPicPr>
            <p:cNvPr id="140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6540480" y="3193920"/>
              <a:ext cx="1231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99160" y="3232080"/>
              <a:ext cx="111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 10"/>
          <p:cNvGrpSpPr/>
          <p:nvPr/>
        </p:nvGrpSpPr>
        <p:grpSpPr>
          <a:xfrm>
            <a:off x="7095960" y="1749600"/>
            <a:ext cx="1140120" cy="1090440"/>
            <a:chOff x="7095960" y="1749600"/>
            <a:chExt cx="1140120" cy="1090440"/>
          </a:xfrm>
        </p:grpSpPr>
        <p:pic>
          <p:nvPicPr>
            <p:cNvPr id="143" name="Прямоугольник 10" descr=""/>
            <p:cNvPicPr/>
            <p:nvPr/>
          </p:nvPicPr>
          <p:blipFill>
            <a:blip r:embed="rId11"/>
            <a:stretch/>
          </p:blipFill>
          <p:spPr>
            <a:xfrm>
              <a:off x="7095960" y="1749600"/>
              <a:ext cx="11401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157880" y="1784520"/>
              <a:ext cx="1020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rg_hi" descr=""/>
          <p:cNvPicPr/>
          <p:nvPr/>
        </p:nvPicPr>
        <p:blipFill>
          <a:blip r:embed="rId12"/>
          <a:stretch/>
        </p:blipFill>
        <p:spPr>
          <a:xfrm>
            <a:off x="3657600" y="1981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riy</cp:lastModifiedBy>
  <dcterms:modified xsi:type="dcterms:W3CDTF">2012-12-11T08:29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