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7AF-5B7F-4F82-ABDF-07D6B9A4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B58B-21F9-4992-9003-D31732D6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C3C-9760-47CE-BAFE-099FBF68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FA0B-042D-4308-B888-AF13A118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C03F-BA95-438A-9D6D-42F5788A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0B7-C39B-4667-9F36-54625B4B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802B-E41F-4B89-BFAC-11ACE7F6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AE72-B9C2-4438-96A8-54FC22DD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370C-5FF2-4CAD-8DAA-0151C8E1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4D82-FFB6-461D-A089-E2343A5A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A4BD-58D0-4FFC-8046-485E084A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A115-D176-4F4A-B0FF-9C93CE76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37B9-10B4-46F3-8E8A-9996149790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050920" y="476280"/>
            <a:ext cx="453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 урока: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979640" y="2349360"/>
            <a:ext cx="489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диницы времени</a:t>
            </a:r>
            <a:endParaRPr b="0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2" descr="D:\Документы\Оксана\Мои рис\КОЛЛЕКЦИИ анимация\Анимации 2\bell1-a.gif"/>
          <p:cNvPicPr/>
          <p:nvPr/>
        </p:nvPicPr>
        <p:blipFill>
          <a:blip r:embed="rId1"/>
          <a:stretch/>
        </p:blipFill>
        <p:spPr>
          <a:xfrm>
            <a:off x="7315200" y="50292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D:\Документы\Оксана\Мои рис\КОЛЛЕКЦИИ анимация\Анимации 2\bell1-a.gif"/>
          <p:cNvPicPr/>
          <p:nvPr/>
        </p:nvPicPr>
        <p:blipFill>
          <a:blip r:embed="rId2"/>
          <a:stretch/>
        </p:blipFill>
        <p:spPr>
          <a:xfrm>
            <a:off x="7286760" y="507204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7120" y="92880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Для чего человеку нужно знать врем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99680" y="2142720"/>
            <a:ext cx="81867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222268"/>
                </a:solidFill>
                <a:latin typeface="Arial"/>
              </a:rPr>
              <a:t>8,  3, 24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500040"/>
            <a:ext cx="8229600" cy="56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Расставьте 8 стульев в прямоугольной комнате так, чтобы у каждой стенки стояло по 3 сту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аша, Коля и Дима собирают марки. У одного из них 3 марки, у другого-24. У третьего-8. У кого сколько марок, если известно, что у Коли не 3 марки, у Саши не 24, а у Димы не 8 марок, а меньш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Найди «лишний» ряд. Чем он отличается от других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1,2,4,8,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2,6,18,54,1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5,10,20,40,8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7,14,28,56,112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2268"/>
                </a:solidFill>
                <a:latin typeface="Arial"/>
              </a:rPr>
              <a:t>Какой рисунок следующий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D:\Documents and Settings\Жанна\Рабочий стол\интеллектуальные задания\сравнениек2.jpg"/>
          <p:cNvPicPr/>
          <p:nvPr/>
        </p:nvPicPr>
        <p:blipFill>
          <a:blip r:embed="rId1"/>
          <a:stretch/>
        </p:blipFill>
        <p:spPr>
          <a:xfrm>
            <a:off x="2357280" y="1428840"/>
            <a:ext cx="478656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Допиши ответ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Часть-целое, слагаемое - 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8-натуральное число, ½- 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Дерево- рубят, число- 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Стол-ножка, произведение-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Магазин-секция, число- 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Детектив-следствие, задача-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Слово-предложение, высказывание-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Н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река нил"/>
          <p:cNvPicPr/>
          <p:nvPr/>
        </p:nvPicPr>
        <p:blipFill>
          <a:blip r:embed="rId1"/>
          <a:stretch/>
        </p:blipFill>
        <p:spPr>
          <a:xfrm>
            <a:off x="1042920" y="1844640"/>
            <a:ext cx="6912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Сири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звезда Сириус"/>
          <p:cNvPicPr/>
          <p:nvPr/>
        </p:nvPicPr>
        <p:blipFill>
          <a:blip r:embed="rId1"/>
          <a:stretch/>
        </p:blipFill>
        <p:spPr>
          <a:xfrm>
            <a:off x="1187280" y="1628640"/>
            <a:ext cx="66978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Юлий Цез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юлий цезарь"/>
          <p:cNvPicPr/>
          <p:nvPr/>
        </p:nvPicPr>
        <p:blipFill>
          <a:blip r:embed="rId1"/>
          <a:stretch/>
        </p:blipFill>
        <p:spPr>
          <a:xfrm>
            <a:off x="1835280" y="2205000"/>
            <a:ext cx="5761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10920" y="119700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часа?              мину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3 года?                  ме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4 суток?             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/6 </a:t>
            </a: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часа?                мину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284720" y="1989000"/>
            <a:ext cx="15112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284720" y="2781360"/>
            <a:ext cx="1511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5"/>
          <p:cNvSpPr/>
          <p:nvPr/>
        </p:nvSpPr>
        <p:spPr>
          <a:xfrm>
            <a:off x="4643280" y="2924280"/>
            <a:ext cx="64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6"/>
          <p:cNvSpPr/>
          <p:nvPr/>
        </p:nvSpPr>
        <p:spPr>
          <a:xfrm>
            <a:off x="4716360" y="3573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7"/>
          <p:cNvSpPr/>
          <p:nvPr/>
        </p:nvSpPr>
        <p:spPr>
          <a:xfrm>
            <a:off x="4643280" y="198900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2"/>
          <p:cNvSpPr/>
          <p:nvPr/>
        </p:nvSpPr>
        <p:spPr>
          <a:xfrm>
            <a:off x="4911840" y="278136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3"/>
          <p:cNvSpPr/>
          <p:nvPr/>
        </p:nvSpPr>
        <p:spPr>
          <a:xfrm>
            <a:off x="4284720" y="4292640"/>
            <a:ext cx="1511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4"/>
          <p:cNvSpPr/>
          <p:nvPr/>
        </p:nvSpPr>
        <p:spPr>
          <a:xfrm>
            <a:off x="4626000" y="42829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45"/>
          <p:cNvSpPr txBox="1"/>
          <p:nvPr/>
        </p:nvSpPr>
        <p:spPr>
          <a:xfrm>
            <a:off x="1763640" y="620640"/>
            <a:ext cx="55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колько составляют:</a:t>
            </a:r>
            <a:endParaRPr b="0" lang="en-US" sz="1800" spc="1" strike="noStrike">
              <a:ln w="9360">
                <a:solidFill>
                  <a:srgbClr val="33cccc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От 12 ч дня понедельника до 13 ч дня сре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От 9 ч воскресенья до 9 ч утра следующего воскрес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От 10 ч утра вторника до 10 ч утра четверга следующей неде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826920" y="620640"/>
            <a:ext cx="770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Сколько суток пройдё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Кедровая шишка с семенами созревает 27 месяцев. Сколько это лет и месяцев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Серёжа ежемесячно исписывает 2 карандаша и 3 ручки. Подсчитай, сколько карандашей и ручек испишет Серёжа за учебный год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66"/>
                </a:solidFill>
                <a:latin typeface="Arial"/>
              </a:rPr>
              <a:t>Сравн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1 век      360 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1 год      360 су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1 мес. 7 сут.     27 су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1 сут. 20 ч        120 ч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4 мин 2 с          42 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3 ч 5 мин          35 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556000" y="1413000"/>
            <a:ext cx="503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484360" y="2205000"/>
            <a:ext cx="574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4211640" y="2997360"/>
            <a:ext cx="503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4211640" y="5373720"/>
            <a:ext cx="503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211640" y="4581360"/>
            <a:ext cx="50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4211640" y="3860640"/>
            <a:ext cx="50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859120" y="1546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2556000" y="1268280"/>
            <a:ext cx="3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2484360" y="1989000"/>
            <a:ext cx="48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4140360" y="278136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4140360" y="4437000"/>
            <a:ext cx="48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4211640" y="5157720"/>
            <a:ext cx="34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4211640" y="3645000"/>
            <a:ext cx="2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0:08:34Z</dcterms:created>
  <dc:creator>МОСШ №2 Многопрофиль</dc:creator>
  <dc:description/>
  <dc:language>en-US</dc:language>
  <cp:lastModifiedBy>МОСШ №2 Многопрофиль</cp:lastModifiedBy>
  <dcterms:modified xsi:type="dcterms:W3CDTF">2008-10-25T04:53:58Z</dcterms:modified>
  <cp:revision>15</cp:revision>
  <dc:subject/>
  <dc:title>Сколько минут составляют:</dc:title>
</cp:coreProperties>
</file>