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F1C-3B05-48F5-8A25-0FEA421E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154-2DD3-415A-A65D-98D3A2AF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48A-077B-49C8-9698-BC476756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CE2-0944-4486-901F-BDE7D7A1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639-95D4-4263-86F6-5A505749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53F-14DF-484F-A7B3-9997DE53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A8C-DA1F-4F6A-88DB-BF57D5F4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445-C623-4883-92AA-7F38D76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69E-DA5F-43AD-826E-C1A738F6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49E-8938-440B-A8DC-BAC08E6C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315-3534-4CEA-BD64-317A84AB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3CA-3A47-424F-B3FF-80D6BCCF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2B7F-C1B5-4845-834B-1B68B73F3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050920" y="476280"/>
            <a:ext cx="453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979640" y="2349360"/>
            <a:ext cx="489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времени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2" descr="D:\Документы\Оксана\Мои рис\КОЛЛЕКЦИИ анимация\Анимации 2\bell1-a.gif"/>
          <p:cNvPicPr/>
          <p:nvPr/>
        </p:nvPicPr>
        <p:blipFill>
          <a:blip r:embed="rId1"/>
          <a:stretch/>
        </p:blipFill>
        <p:spPr>
          <a:xfrm>
            <a:off x="7315200" y="5029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Документы\Оксана\Мои рис\КОЛЛЕКЦИИ анимация\Анимации 2\bell1-a.gif"/>
          <p:cNvPicPr/>
          <p:nvPr/>
        </p:nvPicPr>
        <p:blipFill>
          <a:blip r:embed="rId2"/>
          <a:stretch/>
        </p:blipFill>
        <p:spPr>
          <a:xfrm>
            <a:off x="7286760" y="507204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9288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Для чего человеку нужно знать врем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99680" y="2142720"/>
            <a:ext cx="81867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22268"/>
                </a:solidFill>
                <a:latin typeface="Arial"/>
              </a:rPr>
              <a:t>8,  3, 24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500040"/>
            <a:ext cx="8229600" cy="56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Расставьте 8 стульев в прямоугольной комнате так, чтобы у каждой стенки стояло по 3 сту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аша, Коля и Дима собирают марки. У одного из них 3 марки, у другого-24. У третьего-8. У кого сколько марок, если известно, что у Коли не 3 марки, у Саши не 24, а у Димы не 8 марок, а мень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Найди «лишний» ряд. Чем он отличается от других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1,2,4,8,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2,6,18,54,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5,10,20,40,8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7,14,28,56,112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Какой рисунок следующий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Documents and Settings\Жанна\Рабочий стол\интеллектуальные задания\сравнениек2.jpg"/>
          <p:cNvPicPr/>
          <p:nvPr/>
        </p:nvPicPr>
        <p:blipFill>
          <a:blip r:embed="rId1"/>
          <a:stretch/>
        </p:blipFill>
        <p:spPr>
          <a:xfrm>
            <a:off x="2357280" y="1428840"/>
            <a:ext cx="47865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Допиши 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Часть-целое, слагаемое -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8-натуральное число, ½- 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Дерево- рубят, число-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Стол-ножка, произведение-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Магазин-секция, число-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Детектив-следствие, задача-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Слово-предложение, высказывание-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Н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река нил"/>
          <p:cNvPicPr/>
          <p:nvPr/>
        </p:nvPicPr>
        <p:blipFill>
          <a:blip r:embed="rId1"/>
          <a:stretch/>
        </p:blipFill>
        <p:spPr>
          <a:xfrm>
            <a:off x="1042920" y="184464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ири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звезда Сириус"/>
          <p:cNvPicPr/>
          <p:nvPr/>
        </p:nvPicPr>
        <p:blipFill>
          <a:blip r:embed="rId1"/>
          <a:stretch/>
        </p:blipFill>
        <p:spPr>
          <a:xfrm>
            <a:off x="1187280" y="1628640"/>
            <a:ext cx="6697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Юлий Цез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юлий цезарь"/>
          <p:cNvPicPr/>
          <p:nvPr/>
        </p:nvPicPr>
        <p:blipFill>
          <a:blip r:embed="rId1"/>
          <a:stretch/>
        </p:blipFill>
        <p:spPr>
          <a:xfrm>
            <a:off x="1835280" y="2205000"/>
            <a:ext cx="576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10920" y="1197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аса?             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3 года?                  м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4 суток?            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6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аса?               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284720" y="1989000"/>
            <a:ext cx="1511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781360"/>
            <a:ext cx="1511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4643280" y="2924280"/>
            <a:ext cx="6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4716360" y="357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4643280" y="198900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4911840" y="27813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3"/>
          <p:cNvSpPr/>
          <p:nvPr/>
        </p:nvSpPr>
        <p:spPr>
          <a:xfrm>
            <a:off x="4284720" y="4292640"/>
            <a:ext cx="1511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4"/>
          <p:cNvSpPr/>
          <p:nvPr/>
        </p:nvSpPr>
        <p:spPr>
          <a:xfrm>
            <a:off x="4626000" y="4282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5"/>
          <p:cNvSpPr txBox="1"/>
          <p:nvPr/>
        </p:nvSpPr>
        <p:spPr>
          <a:xfrm>
            <a:off x="1763640" y="62064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колько составляют: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т 12 ч дня понедельника до 13 ч дня сре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т 9 ч воскресенья до 9 ч утра следующего воскрес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т 10 ч утра вторника до 10 ч утра четверга следующей нед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826920" y="62064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Сколько суток пройдё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Кедровая шишка с семенами созревает 27 месяцев. Сколько это лет и месяце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ерёжа ежемесячно исписывает 2 карандаша и 3 ручки. Подсчитай, сколько карандашей и ручек испишет Серёжа за учебный го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равн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1 век      36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1 год      360 с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1 мес. 7 сут.     27 с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1 сут. 20 ч        120 ч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4 мин 2 с          42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3 ч 5 мин          35 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556000" y="141300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484360" y="2205000"/>
            <a:ext cx="574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211640" y="299736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211640" y="537372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211640" y="4581360"/>
            <a:ext cx="50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211640" y="3860640"/>
            <a:ext cx="50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859120" y="1546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556000" y="1268280"/>
            <a:ext cx="3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484360" y="198900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140360" y="2781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140360" y="4437000"/>
            <a:ext cx="48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211640" y="5157720"/>
            <a:ext cx="3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211640" y="3645000"/>
            <a:ext cx="2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0:08:34Z</dcterms:created>
  <dc:creator>МОСШ №2 Многопрофиль</dc:creator>
  <dc:description/>
  <dc:language>en-US</dc:language>
  <cp:lastModifiedBy>МОСШ №2 Многопрофиль</cp:lastModifiedBy>
  <dcterms:modified xsi:type="dcterms:W3CDTF">2008-10-25T04:53:58Z</dcterms:modified>
  <cp:revision>15</cp:revision>
  <dc:subject/>
  <dc:title>Сколько минут составляют:</dc:title>
</cp:coreProperties>
</file>