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D82-9432-4D99-9C3E-AD45E715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9B8-02E8-4A85-B7F1-803467E4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568-5F40-4BE4-8E3B-B2E41099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0EE-DFB9-409F-AF40-5006DE5D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5A45-6279-48A9-BCA4-7327BAC6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D9ED-1A79-4442-97DF-46303A91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93EE-412E-449D-AFE5-D76197A4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5532-936D-499A-A9BD-AE488E34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CFDD-E9A2-40FB-85EB-991AFD06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056D-CDF3-4F38-912F-02A1B5C6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502F-B1B1-456B-8CD5-E2EE1B04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D52-1032-4B84-B0E2-7CAF7C15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5D35-098E-4A4C-8C83-2E80760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B236-E1D7-4C9B-852B-A455368C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9078-AB70-4B4F-B427-8AABF50D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D9E0-F00A-4C88-8546-619E4D62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6743-29E8-42BD-BC81-BD0D3F46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1FCF-34F5-44A4-93DA-505603B8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0944-C9F0-411C-88DA-B7BCDDFE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5D3A-B46A-4E06-9D4C-301A33D7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52726-C510-43AE-9E4E-2F58647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8681-9F9F-483F-ABA2-CDC95E89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376-E7D8-4090-B247-D44B8A23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1810-0432-4451-B848-02F3EDF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019D1-7A75-4F93-BA13-F9D453DF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ACAF-1081-4BDA-9795-453D5F23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88B97-45D6-4C39-AC1C-155BB4C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693B-B0EC-4612-B9AA-FD5F886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0629-904B-4BDF-8A0E-F7ED841A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461E-A1C6-46D4-85A7-9BF40AFA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120DA-9CA4-4AED-9B09-87A0C58F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57B6E-1C28-4D99-8035-2CF5D7A2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A0583-43EF-4445-AEDD-E80E99D2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79E-D5C4-4718-88CF-B9B2E11C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8BCA-078B-4C3D-AAF2-32E5C967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7750-1805-4D0C-ACB2-80E5A9DD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D7A6A-FA74-4A25-A4F1-2AF3DB3A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26AB-B2BA-48BB-9D27-E75E8DF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CB00-697C-403D-88CF-5A31C8FC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5CB4-6E0A-4F95-8C5C-7A9612DE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D6638-D993-43A1-AA43-90211895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033AB-CBBF-47D1-A2A5-752207E3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76C4-525A-4269-B144-2CE7E896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1B8A-98E2-405B-AC7A-83F60551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439-3A80-49CA-89EA-EF928C7F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90B3D-95C3-49F2-BF7C-53E1DE29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639E8-1365-445D-ACD6-8DEA5A91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62FED-CA2D-4D16-BB3D-FDC9A49F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E8868-02BD-42D4-BA1B-98027BC1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64A71-BFFE-4F48-A69C-4571D946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D7A9-1090-444B-A9E0-AB12C0F4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6277-5552-4AA3-97F6-B08435E8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E1FD-3D07-4571-9730-2E7E1DAE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9AB5A-14B7-4623-BC38-9CCEE90E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095E6-9737-465D-B88E-29D9D937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BB5-7D65-4E61-8F01-33B1421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ECCF7-ADBD-40A0-B2B2-D99031AE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7D872-F9AE-48C1-87B7-4C7CBB36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4FDED-6FA8-4280-9190-399EDC7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8C938-5F0F-4801-9FF2-07DB260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C26EF-5D75-4AB1-A43B-FD8DC2A8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650D8-1285-47E4-B537-A732AD5A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B6E6E-7E97-4110-8C74-CBB3635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4E3F3-AA19-4FC1-B848-52BABBEA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DC571-FA35-47F8-AA26-965914B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73560-4413-4BF5-AD15-02B19EAE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AE0-695E-4531-A0EB-B0053E8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DDD0C-8683-4A20-A3CF-8790BCC0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20A3E-279C-4BBD-A64E-DCC9E8C2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B0D97-7AD1-4640-ABEC-98767957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A816B-4FC1-4F3A-A4AF-5C7A386F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27DD-A598-4E62-9D07-79C1346C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A3737-71C2-435E-AAE7-E6B7904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24FE0-2FC6-4F50-A047-BCFD3F23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1E2DC-59D0-4CE5-B829-2F533415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04453-2B02-4A36-9B54-4D925F71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1BB0A-D8E4-4900-9AB8-1E0D354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637-12B6-4651-88FF-FB6914C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D01E-6F65-4BEA-8698-3031490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F0F0C-4693-42A7-8522-CA01F1F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72C83-2A95-4EB0-AEFE-DCA4D206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4DFA4-7EA3-4971-89F8-5B35CB4C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0F2E-0958-4559-886C-A71BC394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957-6FE9-47BF-87CA-16B3C43D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EEED-16E3-4F8D-9906-66E2E632A82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F6E3-E855-40F6-905F-C9EE0D5393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0B3E-DE93-4A4A-939C-7432083C4E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1F3E-01D8-432A-BDCD-C7294822D0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FD18-8F88-4B4D-9574-CF89B7B07D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C6D5-8888-4014-94FE-4124EF3E45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23AC-A2D3-4711-BF77-F0EFA7BE254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920"/>
            <a:ext cx="77724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56760" y="428760"/>
            <a:ext cx="821556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c220a"/>
                </a:solidFill>
                <a:latin typeface="Corbel"/>
              </a:rPr>
              <a:t>Воспитание культуры общени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c220a"/>
                </a:solidFill>
                <a:latin typeface="Corbel"/>
              </a:rPr>
              <a:t> </a:t>
            </a:r>
            <a:r>
              <a:rPr b="1" i="1" lang="ru-RU" sz="5400" spc="-1" strike="noStrike">
                <a:solidFill>
                  <a:srgbClr val="7c220a"/>
                </a:solidFill>
                <a:latin typeface="Corbel"/>
              </a:rPr>
              <a:t>старшеклассников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c220a"/>
                </a:solidFill>
                <a:latin typeface="Corbel"/>
              </a:rPr>
              <a:t>во внеурочное врем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учитель географ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МБОУ Барвихинская СОШ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Одинцовского райо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Домрачева Е.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Виды общения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1.Контактное и дистантн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2.Непосредственное и опосредованн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3. Устное и письменн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4. Диалогическое и монологическ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5. Межличностное и массов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6. Частное и официальн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Общая тенденция старшего школьного возраста – рост самостоятельности и самосознания,  открытие своего Я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Содержимое 3" descr="8.jpeg"/>
          <p:cNvPicPr/>
          <p:nvPr/>
        </p:nvPicPr>
        <p:blipFill>
          <a:blip r:embed="rId1"/>
          <a:stretch/>
        </p:blipFill>
        <p:spPr>
          <a:xfrm>
            <a:off x="1928880" y="1143000"/>
            <a:ext cx="2506680" cy="32860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" descr="9.jpeg"/>
          <p:cNvPicPr/>
          <p:nvPr/>
        </p:nvPicPr>
        <p:blipFill>
          <a:blip r:embed="rId2"/>
          <a:stretch/>
        </p:blipFill>
        <p:spPr>
          <a:xfrm>
            <a:off x="5072040" y="1500120"/>
            <a:ext cx="3371760" cy="21877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5" descr="10.jpeg"/>
          <p:cNvPicPr/>
          <p:nvPr/>
        </p:nvPicPr>
        <p:blipFill>
          <a:blip r:embed="rId3"/>
          <a:stretch/>
        </p:blipFill>
        <p:spPr>
          <a:xfrm>
            <a:off x="4572000" y="4143240"/>
            <a:ext cx="25002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3" descr="11.jpg"/>
          <p:cNvPicPr/>
          <p:nvPr/>
        </p:nvPicPr>
        <p:blipFill>
          <a:blip r:embed="rId1"/>
          <a:stretch/>
        </p:blipFill>
        <p:spPr>
          <a:xfrm>
            <a:off x="6572160" y="4091040"/>
            <a:ext cx="2390760" cy="25527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Воспитание культуры общения старшеклассников во внеурочное время- составная часть учебно-воспитательного процесса в школе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едагогическая практика выработала различные формы внеклассной воспитательной работы по формированию культуры общения старшеклассни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Формы воспитательной работы – это варианты организац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оспитательного процесса, композиционное построение воспитательного дел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Формы внеурочной работы по воспитанию культуры общения старшеклассников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Огоньки знакомст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Экспромт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Театрализованные представл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Конкурсные и шоу-программ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оциальные проект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Интеллектуальные игр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Трудовые дел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Экскурс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Веселые старт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Гостины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Игры на местнос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аморазвивающийся спектакл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Тренинг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Рисунок 3" descr="12.jpeg"/>
          <p:cNvPicPr/>
          <p:nvPr/>
        </p:nvPicPr>
        <p:blipFill>
          <a:blip r:embed="rId1"/>
          <a:stretch/>
        </p:blipFill>
        <p:spPr>
          <a:xfrm>
            <a:off x="5608800" y="3000240"/>
            <a:ext cx="3139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Культура общения – это некий свод правил, которых придерживается каждая уважающая себя личность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облюдение этих правил – показатель уровня образования и культуры человека в цел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Чем полнее будет сформировано умение общаться, тем качественнее будет осуществляться любая деятельность челове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Рисунок 3" descr="13.jpeg"/>
          <p:cNvPicPr/>
          <p:nvPr/>
        </p:nvPicPr>
        <p:blipFill>
          <a:blip r:embed="rId1"/>
          <a:stretch/>
        </p:blipFill>
        <p:spPr>
          <a:xfrm>
            <a:off x="6215040" y="4214880"/>
            <a:ext cx="2219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72314"/>
                </a:solidFill>
                <a:latin typeface="Corbel"/>
              </a:rPr>
              <a:t>«Развитие индивида обусловлено развитием всех других индивидов, с которыми он находится в прямом или косвенном общении.»                                 Ф. Энгельс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523880"/>
            <a:ext cx="37800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Общение способствует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роцессу воспит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азвитию лич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деятельности во всех сферах, где необходима передача, усвоение информ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Содержимое 5" descr="3.jpeg"/>
          <p:cNvPicPr/>
          <p:nvPr/>
        </p:nvPicPr>
        <p:blipFill>
          <a:blip r:embed="rId1"/>
          <a:stretch/>
        </p:blipFill>
        <p:spPr>
          <a:xfrm>
            <a:off x="5357880" y="2357280"/>
            <a:ext cx="3500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Повышение значимости общения в современном мире требует умения общаться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1. Общению нужно учи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2. Общению нужно учи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Содержимое 4" descr="4.jpeg"/>
          <p:cNvPicPr/>
          <p:nvPr/>
        </p:nvPicPr>
        <p:blipFill>
          <a:blip r:embed="rId1"/>
          <a:stretch/>
        </p:blipFill>
        <p:spPr>
          <a:xfrm>
            <a:off x="5072040" y="1428840"/>
            <a:ext cx="3613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Образовательная стратегия-инициатива «Наша новая школа»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олодой человек должен обладать способностью быстро адаптироваться к новым условиям, постоянно пополнять свои знания и строить свои отношения с другими людьми на принципах взаимного уважения, соучастия и сотрудниче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Требования Государственного образовательного стандар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Воспитание культуры общения включае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1.понимание старшеклассником самого себя как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-члена семь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-члена ученического коллекти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-общества в цел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2. Необходимость овладения способами передачи информации и ее прием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3. Знание общечеловеческих нравственных норм, правил речевого этикета, способов оценки своих поступков, повед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Культура общения формируется в школе. Тема общения рассматривалась многими учеными, педагогами, психологами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Л.С. Выготский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А.Н. Леонтье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Содержимое 6" descr="5.jpg"/>
          <p:cNvPicPr/>
          <p:nvPr/>
        </p:nvPicPr>
        <p:blipFill>
          <a:blip r:embed="rId1"/>
          <a:stretch/>
        </p:blipFill>
        <p:spPr>
          <a:xfrm>
            <a:off x="928800" y="1214280"/>
            <a:ext cx="2857320" cy="381024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  <p:pic>
        <p:nvPicPr>
          <p:cNvPr id="334" name="Содержимое 7" descr="Leontiev_A_N.jpg"/>
          <p:cNvPicPr/>
          <p:nvPr/>
        </p:nvPicPr>
        <p:blipFill>
          <a:blip r:embed="rId2"/>
          <a:stretch/>
        </p:blipFill>
        <p:spPr>
          <a:xfrm>
            <a:off x="5143680" y="1285920"/>
            <a:ext cx="3012840" cy="374328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«Общение – взаимные отношения, деловая или дружеская связь»         словарь Ожегов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6.jpeg"/>
          <p:cNvPicPr/>
          <p:nvPr/>
        </p:nvPicPr>
        <p:blipFill>
          <a:blip r:embed="rId1"/>
          <a:stretch/>
        </p:blipFill>
        <p:spPr>
          <a:xfrm>
            <a:off x="1643040" y="1714680"/>
            <a:ext cx="6991200" cy="43574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/>
          <p:cNvSpPr/>
          <p:nvPr/>
        </p:nvSpPr>
        <p:spPr>
          <a:xfrm>
            <a:off x="6286680" y="1500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Субъект общ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1500120" y="171468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Коммуниканты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партнеры по общению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Функции общения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коммуникация ( обмен информацией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интеракция ( обмен действиям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оциальная перцепция ( восприятие людьми друг друга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Элементарной функцией общения является достижение взаимопоним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7.jpeg"/>
          <p:cNvPicPr/>
          <p:nvPr/>
        </p:nvPicPr>
        <p:blipFill>
          <a:blip r:embed="rId1"/>
          <a:stretch/>
        </p:blipFill>
        <p:spPr>
          <a:xfrm>
            <a:off x="6143760" y="4643280"/>
            <a:ext cx="27810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Стадии общения: зная их, можно прогнозировать результаты взаимодействия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риентировка в окружающих условиях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Привлечение внимания коммуниканто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Поиск совместимости коммуниканто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бмен и оценка фактов, поиск общей точки зр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ворческое взаимодействи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Принятие  общего реш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5:31:34Z</dcterms:created>
  <dc:creator>Денис</dc:creator>
  <dc:description/>
  <dc:language>en-US</dc:language>
  <cp:lastModifiedBy>Денис</cp:lastModifiedBy>
  <dcterms:modified xsi:type="dcterms:W3CDTF">2012-04-05T17:06:00Z</dcterms:modified>
  <cp:revision>10</cp:revision>
  <dc:subject/>
  <dc:title>Слайд 1</dc:title>
</cp:coreProperties>
</file>