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068-32DD-463C-91BB-7500A23D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943-6971-48CF-8EBA-F21B293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B6D-2E30-4E0D-B260-9068DFD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B4C-039B-4F89-B50A-24EAD089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63D-FA17-4D08-A910-F192960B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8B96-3C37-449B-9A03-46ADC80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0297-A781-44DF-8479-9D22FFA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40E-0865-41AC-94DC-7BD5E94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357-3FCD-4DC4-B021-0F8935C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E26A-3593-4FE8-B5E8-983D51AC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599B-AA11-489D-8575-FA2FD8B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D10-6EA7-4758-8623-2AD84CC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898F-2ABB-4944-8B6C-B0BF6A3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782-23E8-405F-8DEF-AD33F8B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67C-3730-4D4F-9CB5-462F1EB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FFF9-271C-49F0-AFC3-37BE2AF3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1935-EDC3-4031-A057-F9051561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5C70-5C2C-4E1F-A98F-4C589F4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F1F1-184D-4575-9437-92F9151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DCF0-7553-4160-AF7A-FAAC3957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74E6-A551-4DAE-B3D9-5AE36FC7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8E59-810A-4273-B2CB-5DDA759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896-129B-4847-9F53-7473811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438E-CC85-43E6-89A2-994BFE13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DAA6-0D47-42AC-850B-F5E1BC4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E8A0-8C67-421E-9025-5ACE4BA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E609-F235-4698-ABEA-1A6B37F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FA87-39A4-4AD6-AC09-223382B0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9968-AEA5-4EED-84B6-23755FC9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3BAC-CA08-44CB-9C65-6F5DFF5F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6469-F746-4D07-B92F-29A15FF7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2D2E-C080-4621-B4F4-0FA4784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6836-B5DA-4E8B-A926-C76FC82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C07-8C3D-4E0E-9EC5-32CA928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D915-81E1-4268-A9B2-83821A1E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B86E-38A7-40D4-85EC-57BB48A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8484-B0DD-4CF3-AFD1-D7A5642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3034-6A01-469B-9D94-24222C0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0A2D-04FA-4C8A-8E0E-034E9F59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EC15-E709-42C7-B067-75A78EA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160B-5519-4A1A-9CA5-6020B08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79E4-371B-4C15-9E03-0C0EC525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AE4B-5639-422B-89DB-DE965E0C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3570-394B-4D3E-9919-522410C5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AC9-B9FC-4ADB-B25C-6D386CD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F130-7226-44CD-8FE5-199BB6B4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AEC1-492F-43B0-93B9-4C93E3F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21E4-8593-428E-8F46-69BF508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1E41-3772-4BD1-905A-7BD1A42E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9BBC-147F-4C03-B553-04D5CC6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03AF-5FB3-4CFC-99D7-12ADDAC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14A2-2F95-401D-B0B0-DAFAF6B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6BDD-9977-4419-8FFA-218BBFC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73B7-5F4E-47A3-9CBA-32DC5A2E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BAC9-B566-4526-9EB6-734A3824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51E-702C-4ECF-B898-F209CF30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9FBF-BF93-43D9-8F3A-538B002D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D640-E470-4480-9F2B-68CC9DCB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23ED-038D-43FD-87F0-C83758C8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AC540-809C-4843-9A99-412A4D1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A52D9-30B2-4985-BCA4-CBEF02B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469B-CFF0-47C0-AE58-FAB3F58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A804-A89E-4491-B199-060E799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FE67C-498D-43C5-835E-07B3C2E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F970-2916-4B2F-A036-CE0088B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60E65-4924-4DD1-8ECF-2390554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3EE-0D6A-4C63-ABBC-D171373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45E3-2B1A-4A00-8488-B0DABB6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3206-A182-4C99-B22E-F30F7819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FEE4-B0BD-4E79-8B0A-D4E7A87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68BD-B3AE-435F-9CBC-713F5DC1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204E-13B6-4BF8-9290-F3538A5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4432-02EB-4BD0-B386-AA1E0AB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9643D-396A-45E6-B26D-29F1997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41F2-EC90-469A-BF8C-E455C1D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4E40-10ED-467B-AE95-DA2CAF6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B0405-11F6-4B19-9913-FDD3456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D7C-CDDB-44EE-B425-8CDA33B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79DBE-B396-430E-A8D9-6C91B3F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BC78-590A-402E-B281-A4A2859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2AF6F-1D03-49EE-8635-06F081E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E634F-1884-4FA7-B21B-1BADEE84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BDDD4-4E5F-479E-8842-1E857FEF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70-CCAD-49E2-8415-1995407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35B1-E584-4802-BAA9-4E3D00EEDF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CD9-DE11-4BA3-B8E4-6BDA155C01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85C-EE01-42CC-92F5-6954D4B079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FE01-574C-4666-B298-7D341B7717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600-0149-461F-88F7-18AE97BEAA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69C-C4BD-4072-8E12-05752A1863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983-BE62-49E6-AA4C-D2A1641F42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920"/>
            <a:ext cx="77724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56760" y="428760"/>
            <a:ext cx="821556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Воспитание культуры общени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 </a:t>
            </a: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старшеклассников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c220a"/>
                </a:solidFill>
                <a:latin typeface="Corbel"/>
              </a:rPr>
              <a:t>во внеурочное врем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МБОУ Барвихинская СОШ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Одинцовского райо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               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7c220a"/>
                </a:solidFill>
                <a:latin typeface="Corbel"/>
              </a:rPr>
              <a:t>Домрачева Е.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Виды общени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1.Контактное и дистант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2.Непосредственное и опосредован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3. Устное и письмен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. Диалогическое и монологическ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5. Межличностное и массов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6. Частное и официальн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Общая тенденция старшего школьного возраста – рост самостоятельности и самосознания,  открытие своего Я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3" descr="8.jpeg"/>
          <p:cNvPicPr/>
          <p:nvPr/>
        </p:nvPicPr>
        <p:blipFill>
          <a:blip r:embed="rId1"/>
          <a:stretch/>
        </p:blipFill>
        <p:spPr>
          <a:xfrm>
            <a:off x="1928880" y="1143000"/>
            <a:ext cx="2506680" cy="32860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9.jpeg"/>
          <p:cNvPicPr/>
          <p:nvPr/>
        </p:nvPicPr>
        <p:blipFill>
          <a:blip r:embed="rId2"/>
          <a:stretch/>
        </p:blipFill>
        <p:spPr>
          <a:xfrm>
            <a:off x="5072040" y="1500120"/>
            <a:ext cx="3371760" cy="2187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10.jpeg"/>
          <p:cNvPicPr/>
          <p:nvPr/>
        </p:nvPicPr>
        <p:blipFill>
          <a:blip r:embed="rId3"/>
          <a:stretch/>
        </p:blipFill>
        <p:spPr>
          <a:xfrm>
            <a:off x="4572000" y="4143240"/>
            <a:ext cx="25002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11.jpg"/>
          <p:cNvPicPr/>
          <p:nvPr/>
        </p:nvPicPr>
        <p:blipFill>
          <a:blip r:embed="rId1"/>
          <a:stretch/>
        </p:blipFill>
        <p:spPr>
          <a:xfrm>
            <a:off x="6572160" y="4091040"/>
            <a:ext cx="2390760" cy="2552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Воспитание культуры общения старшеклассников во внеурочное время- составная часть учебно-воспитательного процесса в школе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едагогическая практика выработала различные формы внеклассной воспитательной работы по формированию культуры общения старшекласс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Формы воспитательной работы – это варианты организац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оспитательного процесса, композиционное построение воспитательного дел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Формы внеурочной работы по воспитанию культуры общения старшекласснико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Огоньки знакомст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Экспром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еатрализованные представл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Конкурсные и шоу-программ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оциальные проек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Интеллектуальные игр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рудовые дел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Экскурс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Веселые старт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Гостины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Игры на местнос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аморазвивающийся спектакл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Тренинг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Рисунок 3" descr="12.jpeg"/>
          <p:cNvPicPr/>
          <p:nvPr/>
        </p:nvPicPr>
        <p:blipFill>
          <a:blip r:embed="rId1"/>
          <a:stretch/>
        </p:blipFill>
        <p:spPr>
          <a:xfrm>
            <a:off x="5608800" y="3000240"/>
            <a:ext cx="3139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Культура общения – это некий свод правил, которых придерживается каждая уважающая себя личность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облюдение этих правил – показатель уровня образования и культуры человека в цел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Чем полнее будет сформировано умение общаться, тем качественнее будет осуществляться любая деятельность челове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Рисунок 3" descr="13.jpeg"/>
          <p:cNvPicPr/>
          <p:nvPr/>
        </p:nvPicPr>
        <p:blipFill>
          <a:blip r:embed="rId1"/>
          <a:stretch/>
        </p:blipFill>
        <p:spPr>
          <a:xfrm>
            <a:off x="6215040" y="4214880"/>
            <a:ext cx="2219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72314"/>
                </a:solidFill>
                <a:latin typeface="Corbel"/>
              </a:rPr>
              <a:t>«Развитие индивида обусловлено развитием всех других индивидов, с которыми он находится в прямом или косвенном общении.»                                 Ф. Энгельс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523880"/>
            <a:ext cx="37800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Общение способствуе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оцессу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звитию лич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деятельности во всех сферах, где необходима передача, усвоение информ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Содержимое 5" descr="3.jpeg"/>
          <p:cNvPicPr/>
          <p:nvPr/>
        </p:nvPicPr>
        <p:blipFill>
          <a:blip r:embed="rId1"/>
          <a:stretch/>
        </p:blipFill>
        <p:spPr>
          <a:xfrm>
            <a:off x="5357880" y="2357280"/>
            <a:ext cx="3500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Повышение значимости общения в современном мире требует умения общаться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. Общению нужно учи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2. Общению нужно учи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Содержимое 4" descr="4.jpeg"/>
          <p:cNvPicPr/>
          <p:nvPr/>
        </p:nvPicPr>
        <p:blipFill>
          <a:blip r:embed="rId1"/>
          <a:stretch/>
        </p:blipFill>
        <p:spPr>
          <a:xfrm>
            <a:off x="5072040" y="1428840"/>
            <a:ext cx="3613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Образовательная стратегия-инициатива «Наша новая школа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Молодой человек должен обладать способностью быстро адаптироваться к новым условиям, постоянно пополнять свои знания и строить свои отношения с другими людьми на принципах взаимного уважения, соучастия и сотруднич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Требования Государственного образовательного стандарт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оспитание культуры общения включа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1.понимание старшеклассником самого себя к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члена семь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члена ученического коллекти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-общества в цел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2. Необходимость овладения способами передачи информации и ее прием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3. Знание общечеловеческих нравственных норм, правил речевого этикета, способов оценки своих поступков, пове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Культура общения формируется в школе. Тема общения рассматривалась многими учеными, педагогами, психологами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.С. Выготский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.Н. Леонтье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Содержимое 6" descr="5.jpg"/>
          <p:cNvPicPr/>
          <p:nvPr/>
        </p:nvPicPr>
        <p:blipFill>
          <a:blip r:embed="rId1"/>
          <a:stretch/>
        </p:blipFill>
        <p:spPr>
          <a:xfrm>
            <a:off x="928800" y="1214280"/>
            <a:ext cx="2857320" cy="38102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pic>
        <p:nvPicPr>
          <p:cNvPr id="334" name="Содержимое 7" descr="Leontiev_A_N.jpg"/>
          <p:cNvPicPr/>
          <p:nvPr/>
        </p:nvPicPr>
        <p:blipFill>
          <a:blip r:embed="rId2"/>
          <a:stretch/>
        </p:blipFill>
        <p:spPr>
          <a:xfrm>
            <a:off x="5143680" y="1285920"/>
            <a:ext cx="3012840" cy="374328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«Общение – взаимные отношения, деловая или дружеская связь»         словарь Ожегова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6.jpeg"/>
          <p:cNvPicPr/>
          <p:nvPr/>
        </p:nvPicPr>
        <p:blipFill>
          <a:blip r:embed="rId1"/>
          <a:stretch/>
        </p:blipFill>
        <p:spPr>
          <a:xfrm>
            <a:off x="1643040" y="1714680"/>
            <a:ext cx="6991200" cy="43574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6286680" y="1500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Субъект общ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1500120" y="171468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Коммуниканты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партнеры по общению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Функции общени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коммуникация ( обмен информацие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интеракция ( обмен действиям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оциальная перцепция ( восприятие людьми друг друга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Элементарной функцией общения является достижение взаимопоним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7.jpeg"/>
          <p:cNvPicPr/>
          <p:nvPr/>
        </p:nvPicPr>
        <p:blipFill>
          <a:blip r:embed="rId1"/>
          <a:stretch/>
        </p:blipFill>
        <p:spPr>
          <a:xfrm>
            <a:off x="6143760" y="4643280"/>
            <a:ext cx="27810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Стадии общения: зная их, можно прогнозировать результаты взаимодействия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риентировка в окружающих условиях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ривлечение внимания коммуникант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оиск совместимости коммуникант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Обмен и оценка фактов, поиск общей точки зр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ворческое взаимодейств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Принятие  общего реш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5:31:34Z</dcterms:created>
  <dc:creator>Денис</dc:creator>
  <dc:description/>
  <dc:language>en-US</dc:language>
  <cp:lastModifiedBy>Денис</cp:lastModifiedBy>
  <dcterms:modified xsi:type="dcterms:W3CDTF">2012-04-05T17:06:00Z</dcterms:modified>
  <cp:revision>10</cp:revision>
  <dc:subject/>
  <dc:title>Слайд 1</dc:title>
</cp:coreProperties>
</file>