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B88-5B2C-420A-AE3C-C1F9A6F9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D6C-8BDA-4575-A7F5-CC6B255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CF0-BD1C-4C4A-9D4B-502C5677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F54-867E-4AEB-BDE8-8DB9A9CD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A6442-A979-49F1-95F2-D344406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F598B-9964-4640-939C-6D63A35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51730-B2A3-4EAC-AB2F-86242BE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542F-BB15-4E86-A0CA-DAD5049A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5284A-1525-4BA7-ACB4-9BA536A8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1BC9F-0AC4-4EF0-BF9F-A9910053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4392E-9EE1-4227-8096-48C49B90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E92-3F6C-4D36-9A3B-30837237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99A28-CBF1-45EE-A368-F469DFB0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18823-DAB5-4CDA-A3DD-EA9CF24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EA845-1039-464F-9090-96E487B4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BBCBA-7246-46B6-A592-A1979D72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0EE0B-4441-4046-A3E8-D8D0DD7E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6613-4D24-48D1-9D2F-E1519E25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8C6C-A2E7-420B-ACE4-FA7DD329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3127-F8EB-40D4-98BE-BAD978A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2EDC-BE8C-4820-9D0A-F88304F0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D53B-4F47-4738-8441-BA10A8E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A53-135F-438E-9F31-36D9420B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4956-A823-4A7E-9F2F-32BD7CF3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3BCD7-EEAC-4025-8D00-A2DFBC6F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0539-8066-40C0-8DBE-F9823940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8522-A90A-457A-A86B-AAF84C2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F88B-E6A4-49A9-B42B-32DF6F31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F66A-0D1C-4B04-B4DF-3B1E604C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1C3B-7DB5-46EF-B6AE-75421580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B070A4-42E9-4854-9735-F8432079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09ECA-F47C-4E6C-80D1-212F65B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09B18-6DC5-4972-8420-5C6EE15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162-4BD9-4034-A282-5E99431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72533-96CB-40D1-84DB-B2F8B027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48800-8FBF-4A47-8E6A-2D9CF641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325FE-63D5-4B7C-9A67-AE12FA7F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570E0-8608-43ED-8C80-611D22A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18EE3-2D82-4153-AAC3-100B571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02429-5FE6-44CF-AAE5-D9F3446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DE07D-3C04-4D52-9961-59977E4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12D01-8D8A-4E58-9733-B7C6E4F3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2BB7A-DB9E-4CF7-8DBE-E241C2A3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3786B-4B78-4158-B13B-2B25C492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13C-6E6F-46C0-89C7-791E6219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D7CCE-7F64-4EB5-BA5D-FF67342D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8561A-F827-4EFC-A8A6-3563CA0B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6717C-3334-4191-A941-A9D10FDC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85836-475F-4C40-8CA1-5BAF0438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20974-879D-4E78-B2A4-EFB02A49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B288E-D9AB-4635-B421-95B8C83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27A5E-7D8C-47FB-A35E-342AD79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4C9F4-956B-41D0-B46B-FDA3AB7B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EE785-D2C1-4E16-B26C-07D7414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89EBC-93DB-4FA7-8544-D963D13B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47D-69F0-4D9F-8578-5131B0F9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11995-381A-4DC9-B6BC-C1C02167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14795-07B1-4412-A539-9DBC0EAC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65E5C-8BFA-4598-ABF2-984D18CE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EBBA5-2613-4CB9-9158-29A98C4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43C8E-529A-4B09-A2AE-77E68225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0E917-5859-4D4E-899E-58242502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A5FA8-C450-485D-9EFE-AFCA263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AC98E-A753-4456-B555-6996F278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E905E-52C7-48DA-B51E-570F4299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547C4-4AEE-4247-82C3-E137F84B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B17-2BBC-4A9A-8106-9186A19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1ADC2-41F0-408F-90BA-C9D0CADC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6957C-1456-4AA8-87C8-4C11418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F19A6-3D50-46FE-ACF8-B6CC5C95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A88-D47C-46AE-95CD-862E628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D1D-2898-48AF-85EB-B7A7558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F43-329A-415F-866B-725DA53FE7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C501-4D1F-4BF7-B1EA-631AF155E5D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A37-6C96-4FD4-B305-2DE7B3ADE6A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A976-9656-4E63-96C1-51985872FA7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4442-E41C-4ABE-A513-16BB0E6BCC9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347C-E4E7-42D7-AA15-82D72FFA271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одержимое 18" descr="Рисунок26.jpg"/>
          <p:cNvPicPr/>
          <p:nvPr/>
        </p:nvPicPr>
        <p:blipFill>
          <a:blip r:embed="rId1"/>
          <a:stretch/>
        </p:blipFill>
        <p:spPr>
          <a:xfrm>
            <a:off x="357120" y="357120"/>
            <a:ext cx="3541680" cy="2676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9" descr="Рисунок27.jpg"/>
          <p:cNvPicPr/>
          <p:nvPr/>
        </p:nvPicPr>
        <p:blipFill>
          <a:blip r:embed="rId2"/>
          <a:stretch/>
        </p:blipFill>
        <p:spPr>
          <a:xfrm>
            <a:off x="4143240" y="357120"/>
            <a:ext cx="4270680" cy="24163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0" descr="Рисунок28.jpg"/>
          <p:cNvPicPr/>
          <p:nvPr/>
        </p:nvPicPr>
        <p:blipFill>
          <a:blip r:embed="rId3"/>
          <a:stretch/>
        </p:blipFill>
        <p:spPr>
          <a:xfrm>
            <a:off x="428760" y="3143160"/>
            <a:ext cx="5000400" cy="34387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1" descr="Рисунок29.jpg"/>
          <p:cNvPicPr/>
          <p:nvPr/>
        </p:nvPicPr>
        <p:blipFill>
          <a:blip r:embed="rId4"/>
          <a:stretch/>
        </p:blipFill>
        <p:spPr>
          <a:xfrm>
            <a:off x="5929200" y="2928960"/>
            <a:ext cx="2859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3" descr="Рисунок30.jpg"/>
          <p:cNvPicPr/>
          <p:nvPr/>
        </p:nvPicPr>
        <p:blipFill>
          <a:blip r:embed="rId1"/>
          <a:stretch/>
        </p:blipFill>
        <p:spPr>
          <a:xfrm>
            <a:off x="500040" y="428760"/>
            <a:ext cx="4008600" cy="60004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Рисунок31.jpg"/>
          <p:cNvPicPr/>
          <p:nvPr/>
        </p:nvPicPr>
        <p:blipFill>
          <a:blip r:embed="rId2"/>
          <a:stretch/>
        </p:blipFill>
        <p:spPr>
          <a:xfrm>
            <a:off x="4714920" y="3286080"/>
            <a:ext cx="4017960" cy="30164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Рисунок32.jpg"/>
          <p:cNvPicPr/>
          <p:nvPr/>
        </p:nvPicPr>
        <p:blipFill>
          <a:blip r:embed="rId3"/>
          <a:stretch/>
        </p:blipFill>
        <p:spPr>
          <a:xfrm>
            <a:off x="4643280" y="500040"/>
            <a:ext cx="38973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Содержимое 3" descr="Рисунок33.jpg"/>
          <p:cNvPicPr/>
          <p:nvPr/>
        </p:nvPicPr>
        <p:blipFill>
          <a:blip r:embed="rId1"/>
          <a:stretch/>
        </p:blipFill>
        <p:spPr>
          <a:xfrm>
            <a:off x="357120" y="357192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Рисунок34.jpg"/>
          <p:cNvPicPr/>
          <p:nvPr/>
        </p:nvPicPr>
        <p:blipFill>
          <a:blip r:embed="rId2"/>
          <a:stretch/>
        </p:blipFill>
        <p:spPr>
          <a:xfrm>
            <a:off x="4714920" y="3357720"/>
            <a:ext cx="4049640" cy="2968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Рисунок35.jpg"/>
          <p:cNvPicPr/>
          <p:nvPr/>
        </p:nvPicPr>
        <p:blipFill>
          <a:blip r:embed="rId3"/>
          <a:stretch/>
        </p:blipFill>
        <p:spPr>
          <a:xfrm>
            <a:off x="4786200" y="285840"/>
            <a:ext cx="3900600" cy="29304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Рисунок36.jpg"/>
          <p:cNvPicPr/>
          <p:nvPr/>
        </p:nvPicPr>
        <p:blipFill>
          <a:blip r:embed="rId4"/>
          <a:stretch/>
        </p:blipFill>
        <p:spPr>
          <a:xfrm>
            <a:off x="285840" y="214200"/>
            <a:ext cx="41432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3" descr="Рисунок37.jpg"/>
          <p:cNvPicPr/>
          <p:nvPr/>
        </p:nvPicPr>
        <p:blipFill>
          <a:blip r:embed="rId1"/>
          <a:stretch/>
        </p:blipFill>
        <p:spPr>
          <a:xfrm>
            <a:off x="500040" y="3429000"/>
            <a:ext cx="2084400" cy="31291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Рисунок38.jpg"/>
          <p:cNvPicPr/>
          <p:nvPr/>
        </p:nvPicPr>
        <p:blipFill>
          <a:blip r:embed="rId2"/>
          <a:stretch/>
        </p:blipFill>
        <p:spPr>
          <a:xfrm>
            <a:off x="285840" y="214200"/>
            <a:ext cx="5281560" cy="30718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Рисунок39.jpg"/>
          <p:cNvPicPr/>
          <p:nvPr/>
        </p:nvPicPr>
        <p:blipFill>
          <a:blip r:embed="rId3"/>
          <a:stretch/>
        </p:blipFill>
        <p:spPr>
          <a:xfrm>
            <a:off x="3357720" y="335772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Рисунок40.jpg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9:27:26Z</dcterms:created>
  <dc:creator>user_2012</dc:creator>
  <dc:description/>
  <dc:language>en-US</dc:language>
  <cp:lastModifiedBy>user_2012</cp:lastModifiedBy>
  <dcterms:modified xsi:type="dcterms:W3CDTF">2012-11-29T09:31:33Z</dcterms:modified>
  <cp:revision>1</cp:revision>
  <dc:subject/>
  <dc:title>Слайд 1</dc:title>
</cp:coreProperties>
</file>