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C68-EAF4-472C-A309-E0E7FF38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9F2-1828-4099-9B8F-C1F7EE4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042-E3D9-4DB6-89DA-0E763250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E49-A91B-4E7D-877E-81BC7961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335D5-0BFD-4751-B90E-21AC8929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FED06-F77F-4A27-BA4A-E1DE0AF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29F7-5381-42B4-9CE2-418E85F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A23EC-98D9-468E-8977-6D84DBFA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5F8B5-53E9-424D-989D-819CFE72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F0640-2841-4D90-9CC5-8A33EA5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1B246-4640-4FB9-93E3-846E7EB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EF7-C5EF-4C79-9970-47EEA73C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2072D-096F-4B82-A320-E6D36434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08343-23DD-448D-BECC-DB2D640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3DCB-A573-42B9-900C-27B5AB71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64C3D-E5DD-49C6-B4D4-93848777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BDAC5-AA9D-49C6-80DE-E3C8CDE5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E8F3-B8CD-4CC7-8B66-4B8485E6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5001-4BD6-4FB3-B20D-53D1662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EF97-AC6C-4680-818D-004383CF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09B0-99FA-4784-A9AA-BB495D5F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FABF-02A1-414E-ADED-DE31F24E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C71-42C7-43A0-8A2C-DEF8D943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D8FF-CA06-42A9-B9B3-0EF91629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804F-F0A5-4831-A68A-54859B3E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23D09-AF36-42C9-90B5-0B3FE4CC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78A4-1A58-4830-9A3E-72C37678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8087-5A04-4AAB-A25B-D4433948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5457-5CE8-48D0-B650-D94CCC51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0A3A-A7B4-4CB6-8D9F-863221E6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A48D17-4A11-4D71-8C04-3CCA0558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350D4-EBE6-449B-8550-DD8974C3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A6199-92C1-452D-8839-102BF158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7AB-EE48-4F13-8AC0-B64B777E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55419-B8B4-4121-9180-FA51BD65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09AB0-44BA-441A-95F5-DF1D5FD1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487C4-9ABD-492B-BBBB-E3CE19A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7D8CC-7E02-4DCB-BD24-02CEE36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CF8CB-3AC6-451A-ADD4-D9FD149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14463-C036-4B2C-ABA9-1BFD5707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58864-3C1F-4A09-84E1-40B5D09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2299B-16CF-4F4C-BE87-970AF195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FF2A7-AF65-4A21-A105-62DEA434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16805-D3DC-4DD4-A551-B83D766B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EBC-AF8D-4B96-BCE1-F18A5B94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29343-9910-45DF-8326-A0BDE6AB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8C5DC-DD1A-4405-A9A8-BFF06278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4C5FB-390A-484C-A666-8BB7C3E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E3A9B-1A24-4068-95C1-BD7F2A3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22754-F10A-4569-BD82-10C56FBC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83446-9F12-47A4-B53F-739F21D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DD5FC-224F-421C-A72B-01F313D3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65227-AC84-47C6-865C-2C0C1CD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11BA2-F44A-450D-B6B2-ED0545F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BF358-441E-495E-8066-65557C24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4FA-A19B-4B26-886F-C1D7584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25CEE-255E-4D50-B74D-BE96ED0F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6D984-BBF7-4E17-A410-CC3400F5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ECB07-0909-4EC4-93D4-4C98F14D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41D2A-19B5-4FD1-83A6-A17E3583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DE058-5AE4-49B4-88D9-32F429E6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C8F7B-B7C9-4FD9-85E2-5D54A35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BEE8A-AE3D-44A3-BBDD-4E9C0A3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5067D-8314-4DE9-AF36-6F32376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3B684-C606-4F1D-AAB7-B7BC11A4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20141-F674-4F71-A4EA-6430D94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BFD-8187-48ED-A487-EE64366F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0DC74-C091-4E03-B236-93DA25BB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4E667-B327-403A-90EF-A6B31A7B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6939E-AECE-41CA-B1E9-F22D8957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102-FD32-4FE6-ADF2-81F8F3D8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059-01AE-4829-843F-3D36BF8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1579-6FC8-4156-B576-20A45203620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BEA-AE89-4BCB-86D8-68A474F229C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82A0-152C-4ABE-A3B1-1EDE1A31E8F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C96E-1E2F-46F5-B57B-A1E786674C5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5016-2A48-49E0-97A5-F0B495CD6AF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32A5-2C6F-4431-B318-59FA3C864AE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одержимое 18" descr="Рисунок26.jpg"/>
          <p:cNvPicPr/>
          <p:nvPr/>
        </p:nvPicPr>
        <p:blipFill>
          <a:blip r:embed="rId1"/>
          <a:stretch/>
        </p:blipFill>
        <p:spPr>
          <a:xfrm>
            <a:off x="357120" y="357120"/>
            <a:ext cx="3541680" cy="2676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9" descr="Рисунок27.jpg"/>
          <p:cNvPicPr/>
          <p:nvPr/>
        </p:nvPicPr>
        <p:blipFill>
          <a:blip r:embed="rId2"/>
          <a:stretch/>
        </p:blipFill>
        <p:spPr>
          <a:xfrm>
            <a:off x="4143240" y="357120"/>
            <a:ext cx="4270680" cy="24163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0" descr="Рисунок28.jpg"/>
          <p:cNvPicPr/>
          <p:nvPr/>
        </p:nvPicPr>
        <p:blipFill>
          <a:blip r:embed="rId3"/>
          <a:stretch/>
        </p:blipFill>
        <p:spPr>
          <a:xfrm>
            <a:off x="428760" y="3143160"/>
            <a:ext cx="5000400" cy="34387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1" descr="Рисунок29.jpg"/>
          <p:cNvPicPr/>
          <p:nvPr/>
        </p:nvPicPr>
        <p:blipFill>
          <a:blip r:embed="rId4"/>
          <a:stretch/>
        </p:blipFill>
        <p:spPr>
          <a:xfrm>
            <a:off x="5929200" y="2928960"/>
            <a:ext cx="2859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3" descr="Рисунок30.jpg"/>
          <p:cNvPicPr/>
          <p:nvPr/>
        </p:nvPicPr>
        <p:blipFill>
          <a:blip r:embed="rId1"/>
          <a:stretch/>
        </p:blipFill>
        <p:spPr>
          <a:xfrm>
            <a:off x="500040" y="428760"/>
            <a:ext cx="4008600" cy="60004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Рисунок31.jpg"/>
          <p:cNvPicPr/>
          <p:nvPr/>
        </p:nvPicPr>
        <p:blipFill>
          <a:blip r:embed="rId2"/>
          <a:stretch/>
        </p:blipFill>
        <p:spPr>
          <a:xfrm>
            <a:off x="4714920" y="3286080"/>
            <a:ext cx="4017960" cy="30164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Рисунок32.jpg"/>
          <p:cNvPicPr/>
          <p:nvPr/>
        </p:nvPicPr>
        <p:blipFill>
          <a:blip r:embed="rId3"/>
          <a:stretch/>
        </p:blipFill>
        <p:spPr>
          <a:xfrm>
            <a:off x="4643280" y="500040"/>
            <a:ext cx="38973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Содержимое 3" descr="Рисунок33.jpg"/>
          <p:cNvPicPr/>
          <p:nvPr/>
        </p:nvPicPr>
        <p:blipFill>
          <a:blip r:embed="rId1"/>
          <a:stretch/>
        </p:blipFill>
        <p:spPr>
          <a:xfrm>
            <a:off x="357120" y="357192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Рисунок34.jpg"/>
          <p:cNvPicPr/>
          <p:nvPr/>
        </p:nvPicPr>
        <p:blipFill>
          <a:blip r:embed="rId2"/>
          <a:stretch/>
        </p:blipFill>
        <p:spPr>
          <a:xfrm>
            <a:off x="4714920" y="3357720"/>
            <a:ext cx="4049640" cy="2968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Рисунок35.jpg"/>
          <p:cNvPicPr/>
          <p:nvPr/>
        </p:nvPicPr>
        <p:blipFill>
          <a:blip r:embed="rId3"/>
          <a:stretch/>
        </p:blipFill>
        <p:spPr>
          <a:xfrm>
            <a:off x="4786200" y="285840"/>
            <a:ext cx="3900600" cy="29304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Рисунок36.jpg"/>
          <p:cNvPicPr/>
          <p:nvPr/>
        </p:nvPicPr>
        <p:blipFill>
          <a:blip r:embed="rId4"/>
          <a:stretch/>
        </p:blipFill>
        <p:spPr>
          <a:xfrm>
            <a:off x="285840" y="214200"/>
            <a:ext cx="41432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3" descr="Рисунок37.jpg"/>
          <p:cNvPicPr/>
          <p:nvPr/>
        </p:nvPicPr>
        <p:blipFill>
          <a:blip r:embed="rId1"/>
          <a:stretch/>
        </p:blipFill>
        <p:spPr>
          <a:xfrm>
            <a:off x="500040" y="3429000"/>
            <a:ext cx="2084400" cy="31291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Рисунок38.jpg"/>
          <p:cNvPicPr/>
          <p:nvPr/>
        </p:nvPicPr>
        <p:blipFill>
          <a:blip r:embed="rId2"/>
          <a:stretch/>
        </p:blipFill>
        <p:spPr>
          <a:xfrm>
            <a:off x="285840" y="214200"/>
            <a:ext cx="5281560" cy="30718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Рисунок39.jpg"/>
          <p:cNvPicPr/>
          <p:nvPr/>
        </p:nvPicPr>
        <p:blipFill>
          <a:blip r:embed="rId3"/>
          <a:stretch/>
        </p:blipFill>
        <p:spPr>
          <a:xfrm>
            <a:off x="3357720" y="335772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Рисунок40.jpg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9:27:26Z</dcterms:created>
  <dc:creator>user_2012</dc:creator>
  <dc:description/>
  <dc:language>en-US</dc:language>
  <cp:lastModifiedBy>user_2012</cp:lastModifiedBy>
  <dcterms:modified xsi:type="dcterms:W3CDTF">2012-11-29T09:31:33Z</dcterms:modified>
  <cp:revision>1</cp:revision>
  <dc:subject/>
  <dc:title>Слайд 1</dc:title>
</cp:coreProperties>
</file>