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50E2-3ED9-4371-9C28-FC6FD212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E4F6-BBD6-4EE9-B708-C7A3252F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03DF-90E6-452D-90BE-EC3826D3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9315-4975-4D45-9D9C-64E3752A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A08B-144D-4B5A-A890-5AA43198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02E5-E839-48F3-9706-EAC0A005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25A8-13C2-4A84-AAE5-32A28B79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7ED1-EE42-429F-870A-FFF17367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E2BF-AFE7-4FD5-ABAF-73DCEE0F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1E06-3327-4469-866D-CC28BBF5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6ADF-6C0C-40B7-B4B3-364145D6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83F-866D-43E5-B39D-E789ADBA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5C65-3E49-44CC-B2D2-D882EEB6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15EF-6CD6-4FA0-8C8C-3C7321F8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73FE-6470-46FA-B1BB-9F1302CC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5C71-85EC-40E4-A695-1B13F878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A519-B9A4-45AD-B337-2EDBF533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562B3-05BA-491F-9F48-F94A81E6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87478-CE78-4E01-825B-236A2DEE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946AC-AD56-427A-8431-4BAEF033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CD09F-861F-489F-8E42-8446970D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941BD-F4BF-40CE-BE28-3FDC0491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808-7A90-432E-9263-44CEBBFC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A5251-2E50-41B9-9CB9-8508841D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70100-5FB6-442C-A9F9-39E4741B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00B0F-4920-4999-8138-FD10F0F0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2CA0E-AF63-4F3E-BCEB-CCE0F707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BE70E-8EE8-49AF-BBF3-FB07FD75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6283C-A2EE-4D5C-B4A5-3CF2B503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D4E9E-5F00-44F4-8BF3-B077A188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A8EF5-B464-4F16-BD8E-8BB4B9DB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47526-8391-4A0E-ACB2-76DC3015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4A58E-1CA2-4D80-8B2E-7F345943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2640-8F37-4202-AADF-6592EAEF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29F60-E83D-4C31-BEC5-98DD32BA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1D09C-F4B6-4977-9E1D-276F83E0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5398B-7C77-4100-B6F8-D7CBA6B4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322EB-D27A-4843-A910-A5648A42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2A615-CED6-4818-A607-6576D8AB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55B4F-0272-4B38-8CFE-55214C8C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C0E69-E181-4E76-9F28-D26ADCCC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FA7A9-4642-4A99-9135-9776F7B2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2F849-C946-4E5F-80AA-A83928DA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1FB13-596D-4194-8BAB-0E094565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309-AE8D-4FD3-AD05-A9B371EF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5F811-CB2C-4318-A7E6-202B5002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C5FF2-905E-48E6-83AE-627245DE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F9DE4-182F-4B23-B4E9-79E31167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386F8-077D-4F12-BA29-BF66B118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94415-095D-4615-A218-BC65292D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990DD-38D5-4243-AD97-430E7CBB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71A17-9B0E-48F9-AB43-507CA88B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80F46-B526-495A-BDFA-9C46BA4D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EDB9E-A6B6-41DD-A90E-84D5D2E7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C3770-A0F9-4D3E-B683-E841E88E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3925-02DC-4E32-9EF2-714EABC4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CCB6A-8D80-46FF-AEBD-A7DAE10E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B97-1B22-4CE1-BB62-CED1BB6B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2B1-D208-42C4-BE40-8C4C3CAC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63C0-2EB9-4AA3-81B1-77C2275A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6666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6666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666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D07B-1EA4-4A2C-B0D9-2F1DA891FD83}" type="slidenum">
              <a:rPr b="0" lang="ru-RU" sz="1100" spc="-1" strike="noStrike">
                <a:solidFill>
                  <a:srgbClr val="66666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70DA-18BB-4D6F-A14D-69179071D69A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6666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6666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666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C498-DA22-43BA-A041-FDEBC2A1BCF1}" type="slidenum">
              <a:rPr b="0" lang="ru-RU" sz="1100" spc="-1" strike="noStrike">
                <a:solidFill>
                  <a:srgbClr val="66666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d2d2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2d2d2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d2d2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2d2d2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270E-2888-4BFE-9CF2-E580F937CBAA}" type="slidenum">
              <a:rPr b="0" lang="ru-RU" sz="1100" spc="-1" strike="noStrike">
                <a:solidFill>
                  <a:srgbClr val="d2d2d2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6666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6666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666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6C9C-40B1-48A8-873D-CE717F7F3615}" type="slidenum">
              <a:rPr b="0" lang="ru-RU" sz="1100" spc="-1" strike="noStrike">
                <a:solidFill>
                  <a:srgbClr val="66666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Прямоугольник 3" descr=""/>
          <p:cNvPicPr/>
          <p:nvPr/>
        </p:nvPicPr>
        <p:blipFill>
          <a:blip r:embed="rId1"/>
          <a:stretch/>
        </p:blipFill>
        <p:spPr>
          <a:xfrm>
            <a:off x="993600" y="281160"/>
            <a:ext cx="7083720" cy="585144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4" descr=""/>
          <p:cNvPicPr/>
          <p:nvPr/>
        </p:nvPicPr>
        <p:blipFill>
          <a:blip r:embed="rId2"/>
          <a:stretch/>
        </p:blipFill>
        <p:spPr>
          <a:xfrm>
            <a:off x="219240" y="426960"/>
            <a:ext cx="7559640" cy="7888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1928880" y="642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Заголовок 4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7255080" cy="2685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499680"/>
            <a:ext cx="723888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c000"/>
                </a:solidFill>
                <a:uFillTx/>
                <a:latin typeface="Trebuchet MS"/>
              </a:rPr>
              <a:t>Назывные предложения-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то односоставные предложения с главным членом подлежащим, выраженным существительным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ffc000"/>
                </a:solidFill>
                <a:uFillTx/>
                <a:latin typeface="Trebuchet MS"/>
              </a:rPr>
              <a:t>Он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общают о том, что какое - нибудь явление или предмет существуют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меют указательное значение (частицы </a:t>
            </a:r>
            <a:r>
              <a:rPr b="1" i="1" lang="ru-RU" sz="2600" spc="-1" strike="noStrike">
                <a:solidFill>
                  <a:srgbClr val="ffc000"/>
                </a:solidFill>
                <a:latin typeface="Trebuchet MS"/>
              </a:rPr>
              <a:t>вот</a:t>
            </a:r>
            <a:r>
              <a:rPr b="0" i="1" lang="ru-RU" sz="2600" spc="-1" strike="noStrike">
                <a:solidFill>
                  <a:srgbClr val="ffc000"/>
                </a:solidFill>
                <a:latin typeface="Trebuchet MS"/>
              </a:rPr>
              <a:t> и </a:t>
            </a:r>
            <a:r>
              <a:rPr b="1" i="1" lang="ru-RU" sz="2600" spc="-1" strike="noStrike">
                <a:solidFill>
                  <a:srgbClr val="ffc000"/>
                </a:solidFill>
                <a:latin typeface="Trebuchet MS"/>
              </a:rPr>
              <a:t>вон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250" autoRev="1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250" autoRev="1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250" autoRev="1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796160" cy="11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428760" y="1785960"/>
          <a:ext cx="6000480" cy="4300560"/>
        </p:xfrm>
        <a:graphic>
          <a:graphicData uri="http://schemas.openxmlformats.org/drawingml/2006/table">
            <a:tbl>
              <a:tblPr/>
              <a:tblGrid>
                <a:gridCol w="6000480"/>
              </a:tblGrid>
              <a:tr h="1737720">
                <a:tc>
                  <a:txBody>
                    <a:bodyPr lIns="39240" rIns="39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. Похолодало. Подмораживает. Нет  ничего интереснее, чем шуршать опавшей листво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825480">
                <a:tc>
                  <a:txBody>
                    <a:bodyPr lIns="39240" rIns="39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 Подморозило. Залили под окном като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1737360">
                <a:tc>
                  <a:txBody>
                    <a:bodyPr lIns="39240" rIns="39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3. Небо заволокло черными тучами. Душно. Вдруг громыхнуло  вдали .Затем оглушило совсе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sp>
        <p:nvSpPr>
          <p:cNvPr id="258" name=""/>
          <p:cNvSpPr txBox="1"/>
          <p:nvPr/>
        </p:nvSpPr>
        <p:spPr>
          <a:xfrm rot="10800000">
            <a:off x="6804000" y="1483560"/>
            <a:ext cx="78408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Овал 4"/>
          <p:cNvSpPr/>
          <p:nvPr/>
        </p:nvSpPr>
        <p:spPr>
          <a:xfrm>
            <a:off x="6643800" y="4643280"/>
            <a:ext cx="1214280" cy="114300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5"/>
          <p:cNvSpPr/>
          <p:nvPr/>
        </p:nvSpPr>
        <p:spPr>
          <a:xfrm>
            <a:off x="6572160" y="1785960"/>
            <a:ext cx="1214640" cy="114300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6"/>
          <p:cNvSpPr/>
          <p:nvPr/>
        </p:nvSpPr>
        <p:spPr>
          <a:xfrm>
            <a:off x="6715080" y="3357720"/>
            <a:ext cx="1214640" cy="114300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2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786200" y="1285560"/>
            <a:ext cx="4052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1 Осен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Зим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Гроз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Овал 2"/>
          <p:cNvSpPr/>
          <p:nvPr/>
        </p:nvSpPr>
        <p:spPr>
          <a:xfrm>
            <a:off x="4143240" y="1000080"/>
            <a:ext cx="1214640" cy="114300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3"/>
          <p:cNvSpPr/>
          <p:nvPr/>
        </p:nvSpPr>
        <p:spPr>
          <a:xfrm>
            <a:off x="4143240" y="2857680"/>
            <a:ext cx="1214640" cy="114300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5"/>
          <p:cNvSpPr/>
          <p:nvPr/>
        </p:nvSpPr>
        <p:spPr>
          <a:xfrm>
            <a:off x="4214880" y="4357800"/>
            <a:ext cx="1214280" cy="114300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6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6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1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2"/>
          <p:cNvSpPr/>
          <p:nvPr/>
        </p:nvSpPr>
        <p:spPr>
          <a:xfrm>
            <a:off x="214200" y="2071800"/>
            <a:ext cx="77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строчка –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* 1 суще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строчка –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* 2 прилага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строчка –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* 3 глаг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строчка –– *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едлож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фраза, которая показывает отношение автора к теме, заявленной в первой строчк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строчка –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* 1 суще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262080" y="317520"/>
            <a:ext cx="7748280" cy="1150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C:\Documents and Settings\Учитель\Мои документы\Мои рисунки\Степанов Лоси.jpg"/>
          <p:cNvPicPr/>
          <p:nvPr/>
        </p:nvPicPr>
        <p:blipFill>
          <a:blip r:embed="rId2"/>
          <a:stretch/>
        </p:blipFill>
        <p:spPr>
          <a:xfrm>
            <a:off x="479520" y="1785960"/>
            <a:ext cx="7205400" cy="48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6" descr=""/>
          <p:cNvPicPr/>
          <p:nvPr/>
        </p:nvPicPr>
        <p:blipFill>
          <a:blip r:embed="rId1"/>
          <a:stretch/>
        </p:blipFill>
        <p:spPr>
          <a:xfrm>
            <a:off x="182520" y="208080"/>
            <a:ext cx="7493040" cy="11570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Очень кратки, но выразительны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Они создают картину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озволяют    увидеть обстановку, в которой происходят описываемые события,   вводят в не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2"/>
          <p:cNvSpPr/>
          <p:nvPr/>
        </p:nvSpPr>
        <p:spPr>
          <a:xfrm>
            <a:off x="642960" y="1785960"/>
            <a:ext cx="7000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Назывные предложения чаще употребляются в художественной литературе, в газетных и журнальных стать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С их помощью лаконично и точно рисуется место и время действия, пейзаж, обстан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347760" y="317520"/>
            <a:ext cx="7454880" cy="1150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68360" y="1628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ит в сердцах у нас любовь к земле родно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ердней с каждым днем гляжу в словар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ним холодом пахнуло на поля и на лес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забудь же про свою тревог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улице было морозно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от снега больше не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альский хреб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а узнают в несчасть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ыплят по осени считаю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1285920" y="2571840"/>
          <a:ext cx="6095880" cy="370836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П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П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Б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pic>
        <p:nvPicPr>
          <p:cNvPr id="277" name="Заголовок 8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2"/>
          <p:cNvSpPr/>
          <p:nvPr/>
        </p:nvSpPr>
        <p:spPr>
          <a:xfrm>
            <a:off x="785880" y="2071800"/>
            <a:ext cx="65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.36, упр.263 (п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2"/>
          <p:cNvSpPr/>
          <p:nvPr/>
        </p:nvSpPr>
        <p:spPr>
          <a:xfrm>
            <a:off x="285840" y="1717560"/>
            <a:ext cx="771516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Цель урока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учиться находить в тексте назыв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накомство с назывными предложен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вивать умение самостоятельно давать определение изучаемому понят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вивать умения использовать назывные предложения при описании чего-ли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Прямоугольник 3" descr=""/>
          <p:cNvPicPr/>
          <p:nvPr/>
        </p:nvPicPr>
        <p:blipFill>
          <a:blip r:embed="rId1"/>
          <a:stretch/>
        </p:blipFill>
        <p:spPr>
          <a:xfrm>
            <a:off x="249120" y="487440"/>
            <a:ext cx="7858080" cy="17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1"/>
          <p:cNvSpPr/>
          <p:nvPr/>
        </p:nvSpPr>
        <p:spPr>
          <a:xfrm>
            <a:off x="428760" y="64296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тоги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3"/>
          <p:cNvSpPr/>
          <p:nvPr/>
        </p:nvSpPr>
        <p:spPr>
          <a:xfrm>
            <a:off x="642960" y="1643040"/>
            <a:ext cx="728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узнали новог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осталось непонятн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понравилось больше всег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показалось самым трудн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Овал 3"/>
          <p:cNvSpPr/>
          <p:nvPr/>
        </p:nvSpPr>
        <p:spPr>
          <a:xfrm>
            <a:off x="0" y="571680"/>
            <a:ext cx="7715160" cy="578628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rebuchet MS"/>
              </a:rPr>
              <a:t>Всего доброг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Прямоугольник 3" descr=""/>
          <p:cNvPicPr/>
          <p:nvPr/>
        </p:nvPicPr>
        <p:blipFill>
          <a:blip r:embed="rId1"/>
          <a:stretch/>
        </p:blipFill>
        <p:spPr>
          <a:xfrm>
            <a:off x="414360" y="231840"/>
            <a:ext cx="7759800" cy="170028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4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5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357120" y="3105000"/>
            <a:ext cx="750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Хорошо пахнет се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Хорошо пахнет сен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2"/>
          <p:cNvSpPr/>
          <p:nvPr/>
        </p:nvSpPr>
        <p:spPr>
          <a:xfrm>
            <a:off x="428760" y="100008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*Что общего между этими предложения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*Назовите отличительные черты каждого типа предлож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353880" y="115920"/>
            <a:ext cx="7253280" cy="1388880"/>
          </a:xfrm>
          <a:prstGeom prst="rect">
            <a:avLst/>
          </a:prstGeom>
          <a:ln w="0">
            <a:noFill/>
          </a:ln>
        </p:spPr>
      </p:pic>
      <p:sp>
        <p:nvSpPr>
          <p:cNvPr id="236" name="Овал 4"/>
          <p:cNvSpPr/>
          <p:nvPr/>
        </p:nvSpPr>
        <p:spPr>
          <a:xfrm>
            <a:off x="2571840" y="2143080"/>
            <a:ext cx="3214440" cy="278604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Односоставные предложения</a:t>
            </a: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вал 7"/>
          <p:cNvSpPr/>
          <p:nvPr/>
        </p:nvSpPr>
        <p:spPr>
          <a:xfrm>
            <a:off x="642960" y="5072040"/>
            <a:ext cx="1214280" cy="1143000"/>
          </a:xfrm>
          <a:prstGeom prst="ellipse">
            <a:avLst/>
          </a:prstGeom>
          <a:solidFill>
            <a:srgbClr val="ff88ba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БЛ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16"/>
          <p:cNvSpPr/>
          <p:nvPr/>
        </p:nvSpPr>
        <p:spPr>
          <a:xfrm flipH="1" flipV="1">
            <a:off x="1571760" y="3071520"/>
            <a:ext cx="1000080" cy="4633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18"/>
          <p:cNvSpPr/>
          <p:nvPr/>
        </p:nvSpPr>
        <p:spPr>
          <a:xfrm flipH="1">
            <a:off x="1928880" y="3928320"/>
            <a:ext cx="1000080" cy="716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20"/>
          <p:cNvSpPr/>
          <p:nvPr/>
        </p:nvSpPr>
        <p:spPr>
          <a:xfrm flipH="1">
            <a:off x="1714320" y="4143240"/>
            <a:ext cx="1285560" cy="12859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22"/>
          <p:cNvSpPr/>
          <p:nvPr/>
        </p:nvSpPr>
        <p:spPr>
          <a:xfrm>
            <a:off x="5857920" y="3714840"/>
            <a:ext cx="571320" cy="14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36"/>
          <p:cNvSpPr/>
          <p:nvPr/>
        </p:nvSpPr>
        <p:spPr>
          <a:xfrm>
            <a:off x="642960" y="3643200"/>
            <a:ext cx="1214280" cy="1143000"/>
          </a:xfrm>
          <a:prstGeom prst="ellipse">
            <a:avLst/>
          </a:prstGeom>
          <a:solidFill>
            <a:srgbClr val="ff88ba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НЛ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38"/>
          <p:cNvSpPr/>
          <p:nvPr/>
        </p:nvSpPr>
        <p:spPr>
          <a:xfrm>
            <a:off x="6429240" y="3143160"/>
            <a:ext cx="1214640" cy="1143000"/>
          </a:xfrm>
          <a:prstGeom prst="ellipse">
            <a:avLst/>
          </a:prstGeom>
          <a:solidFill>
            <a:srgbClr val="ff88ba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Н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39"/>
          <p:cNvSpPr/>
          <p:nvPr/>
        </p:nvSpPr>
        <p:spPr>
          <a:xfrm>
            <a:off x="500040" y="2143080"/>
            <a:ext cx="1214640" cy="1143000"/>
          </a:xfrm>
          <a:prstGeom prst="ellipse">
            <a:avLst/>
          </a:prstGeom>
          <a:solidFill>
            <a:srgbClr val="ff88ba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ОЛ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1"/>
          <p:cNvSpPr/>
          <p:nvPr/>
        </p:nvSpPr>
        <p:spPr>
          <a:xfrm>
            <a:off x="214200" y="1000080"/>
            <a:ext cx="7643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1.Жду от тебя известий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Arial"/>
              </a:rPr>
              <a:t>2. Переведу часы, хотя знаю, что будет гонк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3.Вдруг стучатся у дверей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4.Перевели его в другую губер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5. Вас, наверное, тоже арестуют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?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Arial"/>
              </a:rPr>
              <a:t>6.Вале уже звонили из клуб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Прямоугольник 1" descr=""/>
          <p:cNvPicPr/>
          <p:nvPr/>
        </p:nvPicPr>
        <p:blipFill>
          <a:blip r:embed="rId1"/>
          <a:stretch/>
        </p:blipFill>
        <p:spPr>
          <a:xfrm>
            <a:off x="878040" y="633240"/>
            <a:ext cx="2054160" cy="92736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2" descr=""/>
          <p:cNvPicPr/>
          <p:nvPr/>
        </p:nvPicPr>
        <p:blipFill>
          <a:blip r:embed="rId2"/>
          <a:stretch/>
        </p:blipFill>
        <p:spPr>
          <a:xfrm>
            <a:off x="5022720" y="633240"/>
            <a:ext cx="2127240" cy="92736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3"/>
          <p:cNvSpPr/>
          <p:nvPr/>
        </p:nvSpPr>
        <p:spPr>
          <a:xfrm>
            <a:off x="571680" y="2500200"/>
            <a:ext cx="192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, 2,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4"/>
          <p:cNvSpPr/>
          <p:nvPr/>
        </p:nvSpPr>
        <p:spPr>
          <a:xfrm>
            <a:off x="5000760" y="2500200"/>
            <a:ext cx="214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3,4,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28760" y="18568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смотрите на предложения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rebuchet MS"/>
              </a:rPr>
              <a:t>Ночь. Улица. Фонарь. Аптека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ак вы думаете, какова функция каждого из данных предложений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Чем являются главные члены предложений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666666"/>
              </a:buClr>
              <a:buSzPct val="73000"/>
              <a:buFont typeface="Trebuchet MS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ак называются такие предложения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82520" y="396720"/>
            <a:ext cx="7626240" cy="571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4:30:33Z</dcterms:created>
  <dc:creator>Учитель</dc:creator>
  <dc:description/>
  <dc:language>en-US</dc:language>
  <cp:lastModifiedBy>www.PHILka.RU</cp:lastModifiedBy>
  <dcterms:modified xsi:type="dcterms:W3CDTF">2012-12-11T18:32:46Z</dcterms:modified>
  <cp:revision>98</cp:revision>
  <dc:subject/>
  <dc:title>Слайд 1</dc:title>
</cp:coreProperties>
</file>