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5E0-2A84-440C-A7F8-27C3A598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088-20C7-46FF-B689-D688B1D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134-2B20-41F4-9389-0FA568A7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858-DDA4-4770-8E28-AED2B3C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B05-0DF3-4FB6-B1F7-B0A0DB67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E9C-870E-4213-98E2-EECAFBD5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75C2-F847-499D-80CF-93BCCFB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C108-56C9-4811-9805-0075A683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28A0-CACF-43E5-B0A5-AD43D19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629-3917-4054-898C-AFFA354A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7C7-6F39-46F7-9774-32782FA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978-EDDC-41ED-9A18-37577E6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64A-1050-4E28-B8ED-5028B59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FC5-54D6-45B5-AF7D-893F109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B8B-E6A2-45B2-9F02-EAE72C4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5DE-8415-4076-9006-CD79F154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6F8D-F6F8-4478-98F3-8D08719D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F1B1-5E26-4A6D-86AC-6C06BA0E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5980-001E-4550-9120-7D0885E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32C9-737C-40F7-B523-6FD7467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C655-72A5-4198-95C1-F4F6C140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AF61-9C05-46CD-866F-C6BBD428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150-8C05-49B4-AFA1-C7AF8343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8F7B-5313-43D6-B469-E6D2DBA4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C959-1704-4FF3-953D-5590CAF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D467-B56E-481A-B501-88049E0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4B41-A6C7-4A7E-A3CE-0306173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7C3E-3FB2-4482-95D3-1DA89EA9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6357-C79A-4E71-8A58-134741D8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887C-2C02-4136-A89C-59FB2048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CA18-6697-4E31-8D97-5E6E2BDD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93ED-E054-4F2D-9F07-98D36FA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6D90-558B-4CAF-99CF-B7925EFF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333-99EB-4DEF-8762-1399851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6212-AA66-43F8-9314-CFB78CD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AE52-B76C-4C39-8278-ACCEDEC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3344-9200-4C4A-952F-EE0BAC6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F645-B1E6-44DD-BC03-9B15A8E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9FCD-83BA-4DBE-9281-DC32618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8624-71E7-454F-8905-28BA86B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782C-102F-4851-9CA3-BF54611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67F6-B34F-45D0-BA8B-1DBB5D2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D100-6009-423C-B838-EDF84E67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9BE8-4548-4930-A1DB-5D114163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F65-03E4-446D-AE82-18E2953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6214-FA44-456F-9381-42073C2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32B47-56CA-4236-9802-7B77DD5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3417-A088-4034-95FB-62131EBF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F9B8-1999-48A3-9998-65D43F6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2E3DD-BDCE-46A3-9C69-9AD4F40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7918-F412-4C38-B6DA-CA495C6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89AE-B571-4834-8655-0E1047A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77DE-E5D9-480A-A364-C9B1D5A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93FA-665A-4216-93D8-9A8D7DC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A0CA-1D96-40F5-810C-C7BD3490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ACE-A4E1-4564-9E7B-5439B13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2E41-0BE1-40A0-8C99-D79F56B7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B78-EF42-4661-A45F-02F1EF9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C9B-99B1-419F-B0D0-13109A7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E8D-87B3-4B58-84FF-5A5D163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66CC-CB5A-42FB-9552-734C9407A53C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BB1-F4F0-4A07-8C3A-6D642DFB197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CE71-4BFA-48AC-BDA5-1AD0F39EA66B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d2d2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E96-E216-4758-B0D0-5B616566855B}" type="slidenum">
              <a:rPr b="0" lang="ru-RU" sz="1100" spc="-1" strike="noStrike">
                <a:solidFill>
                  <a:srgbClr val="d2d2d2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D86-EE63-46B1-9348-ABABA9AF1D72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083720" cy="58514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4" descr=""/>
          <p:cNvPicPr/>
          <p:nvPr/>
        </p:nvPicPr>
        <p:blipFill>
          <a:blip r:embed="rId2"/>
          <a:stretch/>
        </p:blipFill>
        <p:spPr>
          <a:xfrm>
            <a:off x="219240" y="426960"/>
            <a:ext cx="7559640" cy="7888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92888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7255080" cy="268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c000"/>
                </a:solidFill>
                <a:uFillTx/>
                <a:latin typeface="Trebuchet MS"/>
              </a:rPr>
              <a:t>Назывные предложения-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дносоставные предложения с главным членом подлежащим, выраженным существительным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c000"/>
                </a:solidFill>
                <a:uFillTx/>
                <a:latin typeface="Trebuchet MS"/>
              </a:rPr>
              <a:t>О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общают о том, что какое - нибудь явление или предмет существую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ют указательное значение (частицы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вот</a:t>
            </a:r>
            <a:r>
              <a:rPr b="0" i="1" lang="ru-RU" sz="2600" spc="-1" strike="noStrike">
                <a:solidFill>
                  <a:srgbClr val="ffc000"/>
                </a:solidFill>
                <a:latin typeface="Trebuchet MS"/>
              </a:rPr>
              <a:t> и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во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9616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428760" y="1785960"/>
          <a:ext cx="6000480" cy="4300560"/>
        </p:xfrm>
        <a:graphic>
          <a:graphicData uri="http://schemas.openxmlformats.org/drawingml/2006/table">
            <a:tbl>
              <a:tblPr/>
              <a:tblGrid>
                <a:gridCol w="6000480"/>
              </a:tblGrid>
              <a:tr h="173772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 Похолодало. Подмораживает. Нет  ничего интереснее, чем шуршать опавшей листв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82548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Подморозило. Залили под окном ка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73736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3. Небо заволокло черными тучами. Душно. Вдруг громыхнуло  вдали .Затем оглушило совс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 txBox="1"/>
          <p:nvPr/>
        </p:nvSpPr>
        <p:spPr>
          <a:xfrm rot="10800000">
            <a:off x="6804000" y="1483560"/>
            <a:ext cx="784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Овал 4"/>
          <p:cNvSpPr/>
          <p:nvPr/>
        </p:nvSpPr>
        <p:spPr>
          <a:xfrm>
            <a:off x="6643800" y="4643280"/>
            <a:ext cx="121428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6572160" y="178596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6715080" y="335772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786200" y="1285560"/>
            <a:ext cx="4052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 Осен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и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роз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Овал 2"/>
          <p:cNvSpPr/>
          <p:nvPr/>
        </p:nvSpPr>
        <p:spPr>
          <a:xfrm>
            <a:off x="4143240" y="100008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3"/>
          <p:cNvSpPr/>
          <p:nvPr/>
        </p:nvSpPr>
        <p:spPr>
          <a:xfrm>
            <a:off x="4143240" y="285768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5"/>
          <p:cNvSpPr/>
          <p:nvPr/>
        </p:nvSpPr>
        <p:spPr>
          <a:xfrm>
            <a:off x="4214880" y="4357800"/>
            <a:ext cx="121428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214200" y="207180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1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2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3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трочка –– *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лож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раза, которая показывает отношение автора к теме, заявленной в первой строчк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строчка –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1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62080" y="317520"/>
            <a:ext cx="7748280" cy="1150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Documents and Settings\Учитель\Мои документы\Мои рисунки\Степанов Лоси.jpg"/>
          <p:cNvPicPr/>
          <p:nvPr/>
        </p:nvPicPr>
        <p:blipFill>
          <a:blip r:embed="rId2"/>
          <a:stretch/>
        </p:blipFill>
        <p:spPr>
          <a:xfrm>
            <a:off x="479520" y="1785960"/>
            <a:ext cx="7205400" cy="48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6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7493040" cy="1157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чень кратки, но выразительн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ни создают картину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зволяют    увидеть обстановку, в которой происходят описываемые события,   вводят в не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642960" y="1785960"/>
            <a:ext cx="700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Назывные предложения чаще употребляются в художественной литературе, в газетных и журнальных стат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С их помощью лаконично и точно рисуется место и время действия, пейзаж, обстан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 в сердцах у нас любовь к земле родн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ердней с каждым днем гляжу в словар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им холодом пахнуло на поля и на лес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забудь же про свою тревог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мороз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снега больше н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й хреб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а узнают в несчасть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ыплят по осени считаю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285920" y="2571840"/>
          <a:ext cx="6095880" cy="3708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277" name="Заголовок 8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2"/>
          <p:cNvSpPr/>
          <p:nvPr/>
        </p:nvSpPr>
        <p:spPr>
          <a:xfrm>
            <a:off x="785880" y="20718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36, упр.263 (п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"/>
          <p:cNvSpPr/>
          <p:nvPr/>
        </p:nvSpPr>
        <p:spPr>
          <a:xfrm>
            <a:off x="285840" y="1717560"/>
            <a:ext cx="77151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Цель урок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учиться находить в тексте назыв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омство с назывными предлож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ть умение самостоятельно давать определение изучаемому понят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ть умения использовать назывные предложения при описании чего-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7858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428760" y="642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642960" y="16430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узнали нов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осталось непоня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нравилось больше вс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казалось самым труд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 3"/>
          <p:cNvSpPr/>
          <p:nvPr/>
        </p:nvSpPr>
        <p:spPr>
          <a:xfrm>
            <a:off x="0" y="571680"/>
            <a:ext cx="7715160" cy="5786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rebuchet MS"/>
              </a:rPr>
              <a:t>Всего доброг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7759800" cy="1700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57120" y="310500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рошо пахнет се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рошо пахнет се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428760" y="100008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*Что общего между этими предложен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*Назовите отличительные черты каждого типа 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53880" y="115920"/>
            <a:ext cx="7253280" cy="138888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4"/>
          <p:cNvSpPr/>
          <p:nvPr/>
        </p:nvSpPr>
        <p:spPr>
          <a:xfrm>
            <a:off x="2571840" y="2143080"/>
            <a:ext cx="3214440" cy="27860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дносоставные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7"/>
          <p:cNvSpPr/>
          <p:nvPr/>
        </p:nvSpPr>
        <p:spPr>
          <a:xfrm>
            <a:off x="642960" y="5072040"/>
            <a:ext cx="121428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Б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6"/>
          <p:cNvSpPr/>
          <p:nvPr/>
        </p:nvSpPr>
        <p:spPr>
          <a:xfrm flipH="1" flipV="1">
            <a:off x="1571760" y="3071520"/>
            <a:ext cx="1000080" cy="4633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8"/>
          <p:cNvSpPr/>
          <p:nvPr/>
        </p:nvSpPr>
        <p:spPr>
          <a:xfrm flipH="1">
            <a:off x="1928880" y="3928320"/>
            <a:ext cx="1000080" cy="7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0"/>
          <p:cNvSpPr/>
          <p:nvPr/>
        </p:nvSpPr>
        <p:spPr>
          <a:xfrm flipH="1">
            <a:off x="1714320" y="4143240"/>
            <a:ext cx="1285560" cy="12859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2"/>
          <p:cNvSpPr/>
          <p:nvPr/>
        </p:nvSpPr>
        <p:spPr>
          <a:xfrm>
            <a:off x="5857920" y="3714840"/>
            <a:ext cx="57132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36"/>
          <p:cNvSpPr/>
          <p:nvPr/>
        </p:nvSpPr>
        <p:spPr>
          <a:xfrm>
            <a:off x="642960" y="3643200"/>
            <a:ext cx="121428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8"/>
          <p:cNvSpPr/>
          <p:nvPr/>
        </p:nvSpPr>
        <p:spPr>
          <a:xfrm>
            <a:off x="6429240" y="3143160"/>
            <a:ext cx="121464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39"/>
          <p:cNvSpPr/>
          <p:nvPr/>
        </p:nvSpPr>
        <p:spPr>
          <a:xfrm>
            <a:off x="500040" y="2143080"/>
            <a:ext cx="121464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О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214200" y="100008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Жду от тебя извести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2. Переведу часы, хотя знаю, что будет гон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3.Вдруг стучатся у двере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4.Перевели его в другую губер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Вас, наверное, тоже арестуют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6.Вале уже звонили из клуб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633240"/>
            <a:ext cx="2054160" cy="927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2"/>
          <a:stretch/>
        </p:blipFill>
        <p:spPr>
          <a:xfrm>
            <a:off x="5022720" y="633240"/>
            <a:ext cx="2127240" cy="9273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680" y="2500200"/>
            <a:ext cx="192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 2,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5000760" y="25002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,4,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28760" y="1856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мотрите на предлож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Ночь. Улица. Фонарь. Аптека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вы думаете, какова функция каждого из данных предложений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ем являются главные члены предложений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называются такие предложен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82520" y="396720"/>
            <a:ext cx="7626240" cy="571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4:30:33Z</dcterms:created>
  <dc:creator>Учитель</dc:creator>
  <dc:description/>
  <dc:language>en-US</dc:language>
  <cp:lastModifiedBy>www.PHILka.RU</cp:lastModifiedBy>
  <dcterms:modified xsi:type="dcterms:W3CDTF">2012-12-11T18:32:46Z</dcterms:modified>
  <cp:revision>98</cp:revision>
  <dc:subject/>
  <dc:title>Слайд 1</dc:title>
</cp:coreProperties>
</file>