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3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png" ContentType="image/png"/>
  <Override PartName="/ppt/media/image1.jpeg" ContentType="image/jpeg"/>
  <Override PartName="/ppt/media/image4.gif" ContentType="image/gif"/>
  <Override PartName="/ppt/media/image9.jpeg" ContentType="image/jpeg"/>
  <Override PartName="/ppt/media/image11.jpeg" ContentType="image/jpeg"/>
  <Override PartName="/ppt/media/image5.gif" ContentType="image/gif"/>
  <Override PartName="/ppt/media/image14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E04E-A88D-4D68-8AE3-9837998B1C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6B68-29C4-45FB-976A-B1EFC6376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18F5-9E0D-4D8B-B7A7-0D26EF8DBC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73E-8678-431D-97AD-644BDF31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E94-FE25-4AD6-B97D-66BCBA1B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E1FF8-DBFB-4CA9-B163-389090A7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EC067-56AF-4584-A106-AC9CB605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F792A-9DCD-4591-978A-FF712FB0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99A6C-D4A2-4289-A856-7DEDC862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8892C-F43E-4E0E-9F23-845697DF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32A82-EB03-48B4-BDF1-EDFD5A23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E5B9A-1DA4-4341-B87E-3EA5816B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81A07-46D8-4A06-BE5A-094B26C9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C80FF-822F-4E83-B5BD-4AB04AAF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AA45F-08F3-464E-9C63-2D3D7AAD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85E4-30AB-4A66-97CA-91CFD1CE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372AC-11A6-4AA6-972E-B5E2CBA8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6F51D-1942-4263-BFB5-7A40F1A3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47CA7-19A9-4260-9398-E8E09481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2DDD9-F736-43E4-8050-E04DB25C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967C0-7430-4447-B8AE-C1902DAD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E57E6-E2A9-4FB7-9AB0-48F80A4F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D1B5A-ADFF-4C2E-B4C1-78552CC1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B372E-9B7D-448C-A16E-7E2AE07E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9937A-F469-4784-AEC1-C2D4AF8E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EE26F-9B80-4EBA-ADF0-2F773B25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9E8-03FE-4AA2-9EA2-4AE5D847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135CF-C5EF-4544-BEB3-9C8D878A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5A09F-DFE2-4101-8EC0-300525C5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AF2A6-BBD9-4525-978D-ED63029A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92D65-7DE3-43B4-AFDA-76099597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B3151-C612-4CEE-BF0F-4F34E2B6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F3D79-6C51-435B-9E6B-F3182FBE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AB9CE-31FA-4034-AF52-0C2C8BC7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E5849-84DF-429A-ABCD-75EF077E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C3DF2-A324-442C-A10D-82F938C4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2C583-6FC4-40C4-B2EB-AF0B7B4B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7163-C347-4741-B6F1-7045CA17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9F803-98CB-4C01-8F46-2CADAEAE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3758A-54DD-4E1A-94D3-48F28860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BC0FD-8DDD-414D-88F5-70CF63AD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6C8C5-FDD8-4315-8810-CCA26D73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B294C-E32F-4932-B130-E18577F5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64BC7-818D-4F3F-897A-5F137A38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92315-85AA-47F6-9442-BB50B4F0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AB7C5-893D-4274-81D6-83A34DB2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E1358-8220-4637-B8B9-F3C929B1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B32A9-1B6A-4386-82F8-F5055B89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C525-86D0-4EF5-B3D9-FFB58A60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478E1-5592-4082-A9CE-6094F335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926E6-0AC5-4A0F-A955-01B1D946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9FBAB-42B3-4947-9574-B079B28E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C31DF-13C3-4201-BB1C-C79DB823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A54FE-04BB-4253-B485-6857CD9D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63D6-5FAE-4345-BF17-39382ACD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40D5-2341-482A-B055-13F73B21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D8F4-2E71-49C6-B7C7-0E5C984E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59D0-20FF-434D-B648-1E81C0D1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714C-EF95-4B11-8F3A-CD3B6749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848-2BEF-40E2-90B2-34927457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B273-1D21-4E52-A984-A4722A26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83BF-7AD1-48B0-B523-EFF7412B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0D8F-267E-4E2E-8EC2-B4578EFF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9E10-3D9C-4512-8DEB-F94E78EF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A39B-50E3-4998-8877-A58CB863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EF22-A7D4-421E-B6EF-9FBB3788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E3C4A-DE23-4B9D-AA47-59FB8F43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673F9-F6FB-4369-BDE3-201E525A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E4F9-5D6C-4E56-B9C4-D7D8E1F7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642F5-61EE-40FD-B221-F3E7E90B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BAA-1228-4B1E-80C5-CD9C14FE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26280-DC47-467F-A839-EA2F0BFA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4AA24-7C93-4767-8D0D-63FAD45E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5614F-401A-4DEE-B59C-68DE1572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1911D-8911-4D5E-AB2E-148F118D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29598-C0E4-4D13-88CA-733ABB2E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7FC6C-F449-4D74-97B4-63350B16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F8B0-3B16-437F-B6AB-7A30DA05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461E1-461A-4F5F-9A10-6197FE64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8A186-6381-4E4B-A49B-2C740F56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8439E-D63E-4CC3-A7C0-157F2FC8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154-6C2B-4EA7-BF8D-F96F7271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97080-6307-4762-A0D8-A01A74D8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1EBC4-9192-48EB-8567-F8682109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BF94-B47B-4032-9732-E4BBC091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6D1DC-32C8-465E-BC98-4C1DBD6E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16A27-52FA-451C-B2D5-5E3AA17F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54F9B-D877-453D-9F1A-1873DAC5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10E64-292A-44E0-AE5D-591C2087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E263F-6C3D-4B67-A090-6168E361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AFFDA-736F-4D4F-AEA6-B0209ECF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C8793-D221-4E2B-A437-02221082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BE6-C6F4-48D3-AC2F-16DBED87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75267-8D18-420B-BFA2-D3BA2F83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F33CA-5842-4438-9DBB-583B20E0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54084-4C28-4531-ADFF-81B403B2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8AB4C-A909-437C-AB70-606784D4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715EF-A562-44EA-952A-D7F1752F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A72D9-5F10-4E9E-967F-C21031FA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62570-69D7-4D56-93D3-31F34C19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5F868-DC3B-4CF7-B571-AD1C17B4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7BA9A-F23A-45B4-B466-BA83C9D6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5DD8F-9EE9-4D62-AEF6-8919FBF1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8E1-4474-4DC3-9D6A-23CF66A7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75584-1866-42F7-949B-6F0DFDBB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16752-794A-4A4A-AC80-42CD0DAA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19496-6C79-4F23-9D69-B88BA76F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D7884-FA99-4F74-B612-5381C795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D55F3-5AD2-4EFA-80D7-D7F2FC59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3F998-1F7F-4FAB-B6DD-44EB161E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C8810-736D-4CD4-A964-18727D00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139F7-DB55-40B2-9637-086A65D1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2069D-9A5D-40C5-814B-FA43D898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A5EAA-6B9F-4C9E-9B92-2CC3C233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1D5-09CF-4171-AD38-2AC24515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DB523-6A66-4E13-8230-C7EAE6B2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98252-7C98-42ED-A514-9A5B0F3C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ABFC3-1BB4-4840-A25E-7B44035E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1C8D4-4ECB-49E5-B82A-4FC455C0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3B28C-68EB-4235-9A1F-53CDEE34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E2F96-4E62-4661-8D64-B3DD1D65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337A4-3971-4105-972E-F3E29515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C7DA5-9E3B-4024-82EA-4428BAA7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7F234-AED7-4F5B-9B73-D56C9323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C6647-3B46-4386-BFAF-E92D281F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A98-91A8-4018-B9CA-AB534A53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37233-5DA8-41C0-A63C-1D5874F3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48669-8702-4F63-8A81-4F08196A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3E036-0E2C-4C89-9730-ABE9520A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FC052-AED4-4426-A91B-11B37C42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FEE15-0205-4B31-83C8-CE5E82BF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6A61E-15C0-4985-BB68-C880A334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831BE-1168-40B3-AC5B-F6A298CB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0B49F-DDDD-47CA-934B-25553BDC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01005-E59C-4258-9381-727D0186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023D8-E50B-4C0F-A0BE-F620D0D3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96F2-ABD7-4896-A461-E9E52F56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DEDB9-2DB7-43A8-A53E-37FCB329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28047-DED6-4D9F-9DAE-D6031533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F0EC5-F623-4B41-840E-70033A2C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CF35A-510C-47E3-9663-5955D083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6F30A-28FF-4210-AB90-56EF7D08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3526B-2C4C-4B7D-8745-07F8ED72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239E1-B922-4CF0-AE7F-9EB7CBF5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81A4B-A543-45CF-83F8-614C4D3E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25084-BFE5-4805-9069-923924F6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F1950-3F3D-4108-8DA7-98C706C5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8447-C628-4874-A449-32EFFBD9AB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2DED-80B2-4690-A277-31181FDAD0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919B-944F-466C-B14A-7CEC6FB7A6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2209-F5C7-4742-9517-A6042D0300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CE5D-AF8D-4424-83F6-C4459151B9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219E-88C8-44EF-8FA2-9AA01295F0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181A-6E80-4D35-8113-CFD3D26E5F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DA86-139E-40E4-9809-D6A256FE17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D6AC-B054-4BA1-BC3A-B4C3BA85FA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12AD-0ABC-477B-A121-9AF02475C4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CD9A-4662-4460-A249-81483E4808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0D9C-A701-4817-8DAC-70C4251CEA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ihi.ru/pics/2007/09/10/2663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stihi.ru/pics/2007/09/10/2663.jpg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image" Target="../media/image15.gif"/><Relationship Id="rId19" Type="http://schemas.openxmlformats.org/officeDocument/2006/relationships/image" Target="../media/image15.gif"/><Relationship Id="rId20" Type="http://schemas.openxmlformats.org/officeDocument/2006/relationships/image" Target="../media/image15.gif"/><Relationship Id="rId21" Type="http://schemas.openxmlformats.org/officeDocument/2006/relationships/image" Target="../media/image15.gif"/><Relationship Id="rId22" Type="http://schemas.openxmlformats.org/officeDocument/2006/relationships/image" Target="../media/image15.gif"/><Relationship Id="rId2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304/ivplus7.0/0_19cf5_8e4fefb7_XL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90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214280" y="4285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астер-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нездовой Натальи Алексеев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учителя немецкого языка высшей квалификационной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8796600" cy="2408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5" descr="Картинка 248 из 39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89000"/>
            <a:ext cx="8424720" cy="64530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Картинка 248 из 390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404640"/>
            <a:ext cx="8425080" cy="6453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Картинка 248 из 3908"/>
          <p:cNvPicPr/>
          <p:nvPr/>
        </p:nvPicPr>
        <p:blipFill>
          <a:blip r:embed="rId6"/>
          <a:stretch/>
        </p:blipFill>
        <p:spPr>
          <a:xfrm>
            <a:off x="-1116000" y="-316080"/>
            <a:ext cx="12241080" cy="749016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xin_6e9d21107032442d8e2dad3fe7cb3be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Картинка 245 из 39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Картинка 290 из 604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5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7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3" descr="J0254510"/>
          <p:cNvPicPr/>
          <p:nvPr/>
        </p:nvPicPr>
        <p:blipFill>
          <a:blip r:embed="rId2"/>
          <a:stretch/>
        </p:blipFill>
        <p:spPr>
          <a:xfrm>
            <a:off x="4786200" y="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5" descr="J0254510"/>
          <p:cNvPicPr/>
          <p:nvPr/>
        </p:nvPicPr>
        <p:blipFill>
          <a:blip r:embed="rId3"/>
          <a:stretch/>
        </p:blipFill>
        <p:spPr>
          <a:xfrm>
            <a:off x="6696000" y="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8" descr="J0254510"/>
          <p:cNvPicPr/>
          <p:nvPr/>
        </p:nvPicPr>
        <p:blipFill>
          <a:blip r:embed="rId4"/>
          <a:stretch/>
        </p:blipFill>
        <p:spPr>
          <a:xfrm>
            <a:off x="2714760" y="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5" descr="J0254510"/>
          <p:cNvPicPr/>
          <p:nvPr/>
        </p:nvPicPr>
        <p:blipFill>
          <a:blip r:embed="rId5"/>
          <a:stretch/>
        </p:blipFill>
        <p:spPr>
          <a:xfrm>
            <a:off x="6858000" y="2286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5" descr="J0254510"/>
          <p:cNvPicPr/>
          <p:nvPr/>
        </p:nvPicPr>
        <p:blipFill>
          <a:blip r:embed="rId6"/>
          <a:stretch/>
        </p:blipFill>
        <p:spPr>
          <a:xfrm>
            <a:off x="6696000" y="41432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5" descr="J0254510"/>
          <p:cNvPicPr/>
          <p:nvPr/>
        </p:nvPicPr>
        <p:blipFill>
          <a:blip r:embed="rId7"/>
          <a:stretch/>
        </p:blipFill>
        <p:spPr>
          <a:xfrm>
            <a:off x="6858000" y="5634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5" descr="J0254510"/>
          <p:cNvPicPr/>
          <p:nvPr/>
        </p:nvPicPr>
        <p:blipFill>
          <a:blip r:embed="rId8"/>
          <a:stretch/>
        </p:blipFill>
        <p:spPr>
          <a:xfrm>
            <a:off x="4643280" y="5634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5" descr="J0254510"/>
          <p:cNvPicPr/>
          <p:nvPr/>
        </p:nvPicPr>
        <p:blipFill>
          <a:blip r:embed="rId9"/>
          <a:stretch/>
        </p:blipFill>
        <p:spPr>
          <a:xfrm>
            <a:off x="4643280" y="378612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5" descr="J0254510"/>
          <p:cNvPicPr/>
          <p:nvPr/>
        </p:nvPicPr>
        <p:blipFill>
          <a:blip r:embed="rId10"/>
          <a:stretch/>
        </p:blipFill>
        <p:spPr>
          <a:xfrm>
            <a:off x="4714920" y="2071800"/>
            <a:ext cx="2448000" cy="24476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5" descr="J0254510"/>
          <p:cNvPicPr/>
          <p:nvPr/>
        </p:nvPicPr>
        <p:blipFill>
          <a:blip r:embed="rId11"/>
          <a:stretch/>
        </p:blipFill>
        <p:spPr>
          <a:xfrm>
            <a:off x="2786040" y="4000680"/>
            <a:ext cx="2448000" cy="24476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5" descr="J0254510"/>
          <p:cNvPicPr/>
          <p:nvPr/>
        </p:nvPicPr>
        <p:blipFill>
          <a:blip r:embed="rId12"/>
          <a:stretch/>
        </p:blipFill>
        <p:spPr>
          <a:xfrm>
            <a:off x="2571840" y="20001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5" descr="J0254510"/>
          <p:cNvPicPr/>
          <p:nvPr/>
        </p:nvPicPr>
        <p:blipFill>
          <a:blip r:embed="rId13"/>
          <a:stretch/>
        </p:blipFill>
        <p:spPr>
          <a:xfrm>
            <a:off x="2714760" y="563400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5" descr="J0254510"/>
          <p:cNvPicPr/>
          <p:nvPr/>
        </p:nvPicPr>
        <p:blipFill>
          <a:blip r:embed="rId14"/>
          <a:stretch/>
        </p:blipFill>
        <p:spPr>
          <a:xfrm>
            <a:off x="642960" y="19288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5" descr="J0254510"/>
          <p:cNvPicPr/>
          <p:nvPr/>
        </p:nvPicPr>
        <p:blipFill>
          <a:blip r:embed="rId15"/>
          <a:stretch/>
        </p:blipFill>
        <p:spPr>
          <a:xfrm>
            <a:off x="857160" y="5500800"/>
            <a:ext cx="2448000" cy="2447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5" descr="J0254510"/>
          <p:cNvPicPr/>
          <p:nvPr/>
        </p:nvPicPr>
        <p:blipFill>
          <a:blip r:embed="rId16"/>
          <a:stretch/>
        </p:blipFill>
        <p:spPr>
          <a:xfrm>
            <a:off x="-857160" y="39290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J0254510"/>
          <p:cNvPicPr/>
          <p:nvPr/>
        </p:nvPicPr>
        <p:blipFill>
          <a:blip r:embed="rId17"/>
          <a:stretch/>
        </p:blipFill>
        <p:spPr>
          <a:xfrm>
            <a:off x="-714240" y="563400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5" descr="J0254510"/>
          <p:cNvPicPr/>
          <p:nvPr/>
        </p:nvPicPr>
        <p:blipFill>
          <a:blip r:embed="rId18"/>
          <a:stretch/>
        </p:blipFill>
        <p:spPr>
          <a:xfrm>
            <a:off x="-1000080" y="2071800"/>
            <a:ext cx="2448000" cy="2447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5" descr="J0254510"/>
          <p:cNvPicPr/>
          <p:nvPr/>
        </p:nvPicPr>
        <p:blipFill>
          <a:blip r:embed="rId19"/>
          <a:stretch/>
        </p:blipFill>
        <p:spPr>
          <a:xfrm>
            <a:off x="2357280" y="35002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5" descr="J0254510"/>
          <p:cNvPicPr/>
          <p:nvPr/>
        </p:nvPicPr>
        <p:blipFill>
          <a:blip r:embed="rId20"/>
          <a:stretch/>
        </p:blipFill>
        <p:spPr>
          <a:xfrm>
            <a:off x="500040" y="-14292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5" descr="J0254510"/>
          <p:cNvPicPr/>
          <p:nvPr/>
        </p:nvPicPr>
        <p:blipFill>
          <a:blip r:embed="rId21"/>
          <a:stretch/>
        </p:blipFill>
        <p:spPr>
          <a:xfrm>
            <a:off x="-1224000" y="-14292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5" descr="J0254510"/>
          <p:cNvPicPr/>
          <p:nvPr/>
        </p:nvPicPr>
        <p:blipFill>
          <a:blip r:embed="rId22"/>
          <a:stretch/>
        </p:blipFill>
        <p:spPr>
          <a:xfrm>
            <a:off x="571680" y="3786120"/>
            <a:ext cx="2447640" cy="244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Картинка 152 из 39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Картинка 63 из 39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2" descr="Картинка 68 из 39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WordArt 13"/>
          <p:cNvSpPr txBox="1"/>
          <p:nvPr/>
        </p:nvSpPr>
        <p:spPr>
          <a:xfrm>
            <a:off x="428760" y="1071720"/>
            <a:ext cx="817236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rauβen ist Blätterf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3000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2" descr="Картинка 68 из 39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WordArt 13"/>
          <p:cNvSpPr txBox="1"/>
          <p:nvPr/>
        </p:nvSpPr>
        <p:spPr>
          <a:xfrm>
            <a:off x="357120" y="1143000"/>
            <a:ext cx="8172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lätterf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3739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ätter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"/>
          <p:cNvSpPr/>
          <p:nvPr/>
        </p:nvSpPr>
        <p:spPr>
          <a:xfrm>
            <a:off x="442764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5"/>
          <p:cNvSpPr/>
          <p:nvPr/>
        </p:nvSpPr>
        <p:spPr>
          <a:xfrm>
            <a:off x="5940360" y="2924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6"/>
          <p:cNvSpPr/>
          <p:nvPr/>
        </p:nvSpPr>
        <p:spPr>
          <a:xfrm>
            <a:off x="2195640" y="299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7"/>
          <p:cNvSpPr/>
          <p:nvPr/>
        </p:nvSpPr>
        <p:spPr>
          <a:xfrm flipH="1" flipV="1">
            <a:off x="2987640" y="1341000"/>
            <a:ext cx="93672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8"/>
          <p:cNvSpPr/>
          <p:nvPr/>
        </p:nvSpPr>
        <p:spPr>
          <a:xfrm flipV="1">
            <a:off x="5003640" y="1341360"/>
            <a:ext cx="936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9"/>
          <p:cNvSpPr/>
          <p:nvPr/>
        </p:nvSpPr>
        <p:spPr>
          <a:xfrm>
            <a:off x="5580000" y="3429000"/>
            <a:ext cx="792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0"/>
          <p:cNvSpPr/>
          <p:nvPr/>
        </p:nvSpPr>
        <p:spPr>
          <a:xfrm flipH="1">
            <a:off x="2627280" y="3429000"/>
            <a:ext cx="720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3"/>
          <p:cNvSpPr/>
          <p:nvPr/>
        </p:nvSpPr>
        <p:spPr>
          <a:xfrm flipH="1" flipV="1">
            <a:off x="1834920" y="1628280"/>
            <a:ext cx="1368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4"/>
          <p:cNvSpPr/>
          <p:nvPr/>
        </p:nvSpPr>
        <p:spPr>
          <a:xfrm flipV="1">
            <a:off x="5796000" y="1628280"/>
            <a:ext cx="115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5"/>
          <p:cNvSpPr/>
          <p:nvPr/>
        </p:nvSpPr>
        <p:spPr>
          <a:xfrm flipV="1">
            <a:off x="4500720" y="981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6"/>
          <p:cNvSpPr/>
          <p:nvPr/>
        </p:nvSpPr>
        <p:spPr>
          <a:xfrm flipH="1">
            <a:off x="1476000" y="3213000"/>
            <a:ext cx="1655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7"/>
          <p:cNvSpPr/>
          <p:nvPr/>
        </p:nvSpPr>
        <p:spPr>
          <a:xfrm flipH="1">
            <a:off x="1547280" y="299736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8"/>
          <p:cNvSpPr/>
          <p:nvPr/>
        </p:nvSpPr>
        <p:spPr>
          <a:xfrm>
            <a:off x="5940360" y="3213000"/>
            <a:ext cx="1224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Бетховен - Лунная соната (Соната для фортепиано N14).mp3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0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90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a0000"/>
                </a:solidFill>
                <a:latin typeface="Arial"/>
              </a:rPr>
              <a:t>Креативные стратегии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0" y="1500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метакогнитивные стратег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включающие предварительное планирование учения, осознание процесса учения, творческий подход в выполнении заданий, оценку собственных результатов, степень продвижения по заданному целями и задачами пути познания нового и т.п.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когнитивные стратегии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бучения иностранному языку, связанные непосредственно с оперированием учебным материалом (повторение, группировка, дедукция, конспектирование, запоминание ключевых слов и т.п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социоаффективные стратегии</a:t>
            </a:r>
            <a:r>
              <a:rPr b="0" lang="ru-RU" sz="2400" spc="-1" strike="noStrike">
                <a:solidFill>
                  <a:srgbClr val="9a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одразумевающие сотрудничество, а также компенсаторные стратегии для выяснения непонятного (переспрос, парафраз, примеры и т.п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ятистишь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одно слово, описывающее тему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 слова, описывающие т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лагатель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3 слова, выражающие действия по теме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 глаго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я строка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раза из 4-х слов, которая показывает отношение к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но слово, синоним слова  первой ст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vremena10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5"/>
          <p:cNvSpPr/>
          <p:nvPr/>
        </p:nvSpPr>
        <p:spPr>
          <a:xfrm>
            <a:off x="468360" y="1197000"/>
            <a:ext cx="8389800" cy="4786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одно слово, описывающее  тему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 слова, описывающие т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лагатель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3 слова, выражающие действия п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е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 глаго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я строка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раза из 4-х слов, котор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ывает отношение к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но слово, синоним с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й ст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468360" y="1197000"/>
            <a:ext cx="8389800" cy="4786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одно слово, описывающее  тему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 слова, описывающие т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лагатель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3 слова, выражающие действия п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е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 глаго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я строка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раза из 4-х слов, котор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ывает отношение к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-я с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но слово, синоним с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й ст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WordArt 10"/>
          <p:cNvSpPr txBox="1"/>
          <p:nvPr/>
        </p:nvSpPr>
        <p:spPr>
          <a:xfrm>
            <a:off x="1258920" y="4508640"/>
            <a:ext cx="626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Impact"/>
              </a:rPr>
              <a:t>VIELEN        DANK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74" name="Picture 9" descr="J0236322"/>
          <p:cNvPicPr/>
          <p:nvPr/>
        </p:nvPicPr>
        <p:blipFill>
          <a:blip r:embed="rId3"/>
          <a:stretch/>
        </p:blipFill>
        <p:spPr>
          <a:xfrm>
            <a:off x="6929280" y="357120"/>
            <a:ext cx="1944720" cy="1803600"/>
          </a:xfrm>
          <a:prstGeom prst="rect">
            <a:avLst/>
          </a:prstGeom>
          <a:ln w="0">
            <a:noFill/>
          </a:ln>
        </p:spPr>
      </p:pic>
      <p:sp>
        <p:nvSpPr>
          <p:cNvPr id="575" name="WordArt 11"/>
          <p:cNvSpPr txBox="1"/>
          <p:nvPr/>
        </p:nvSpPr>
        <p:spPr>
          <a:xfrm>
            <a:off x="1547640" y="549360"/>
            <a:ext cx="460872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LLES  GUTE!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"/>
          <p:cNvPicPr/>
          <p:nvPr/>
        </p:nvPicPr>
        <p:blipFill>
          <a:blip r:embed="rId2"/>
          <a:stretch/>
        </p:blipFill>
        <p:spPr>
          <a:xfrm>
            <a:off x="-1260360" y="0"/>
            <a:ext cx="11953800" cy="7262640"/>
          </a:xfrm>
          <a:prstGeom prst="rect">
            <a:avLst/>
          </a:prstGeom>
          <a:ln w="0">
            <a:noFill/>
          </a:ln>
        </p:spPr>
      </p:pic>
      <p:sp>
        <p:nvSpPr>
          <p:cNvPr id="577" name="WordArt 10"/>
          <p:cNvSpPr txBox="1"/>
          <p:nvPr/>
        </p:nvSpPr>
        <p:spPr>
          <a:xfrm rot="20452200">
            <a:off x="4204800" y="1155600"/>
            <a:ext cx="3827520" cy="34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наступающим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праздником,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дорогие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коллеги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78" name="WordArt 14"/>
          <p:cNvSpPr txBox="1"/>
          <p:nvPr/>
        </p:nvSpPr>
        <p:spPr>
          <a:xfrm rot="20536800">
            <a:off x="6480" y="2226960"/>
            <a:ext cx="3643200" cy="38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7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Ich gratuliere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Ihnen zum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Lehrertag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    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Wünsche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Ihnen Glück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und Freude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90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a0000"/>
                </a:solidFill>
                <a:latin typeface="Arial"/>
              </a:rPr>
              <a:t>10 принципов, на которых выстроена методи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Учить с удовольств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отив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– ключ к успеху. Главное – положительный эмоциональный фон.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.    Формирование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раматической  базы»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решения проблемы на эмоциональном уровне (инсценировка, фокусировка, аудиолингвальные методы, микродвижения, энграммы, матрица и т.п.)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.    Созд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ходящего пот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языкового окружения и встраивание языка в обычную жизнь, т.е. использование тех слов и предложений, которые нужны повседневно.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бщаться естественно и без страха, не для получения оценки, а для удовольствия. Отсюда – необходимость самооценки своего продвижения в изучении но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90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a0000"/>
                </a:solidFill>
                <a:latin typeface="Arial"/>
              </a:rPr>
              <a:t>10 принципов, на которых выстроена методи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.    Получение лексики из этого потока, в контексте, </a:t>
            </a: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мультимода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разными каналами с учетом психологических особенностей личности.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5.    Получение ба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грамматики целостно и быстр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используя все каналы восприятия, ориентируясь на поведенческую доминанту, тип характера.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6.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Постановка и отслеживание когнитивных ц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собенно при обучении новому материалу, так сказать, «вчистую», без опоры на существующие знания.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7.    Использование </a:t>
            </a: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технических средст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создание языковых конструктов с использованием интерактивной дос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90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a0000"/>
                </a:solidFill>
                <a:latin typeface="Arial"/>
              </a:rPr>
              <a:t>10 принципов, на которых выстроена методи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8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Сбалансированность</a:t>
            </a:r>
            <a:r>
              <a:rPr b="0" lang="ru-RU" sz="2400" spc="-1" strike="noStrike">
                <a:solidFill>
                  <a:srgbClr val="9a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гармоничное сочетание имитационного, когнитивного, продуктивного и коммуникативного подхода.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9.    Применение языка </a:t>
            </a:r>
            <a:r>
              <a:rPr b="0" lang="ru-RU" sz="2400" spc="-1" strike="noStrike">
                <a:solidFill>
                  <a:srgbClr val="9a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общение</a:t>
            </a:r>
            <a:r>
              <a:rPr b="0" lang="ru-RU" sz="2400" spc="-1" strike="noStrike">
                <a:solidFill>
                  <a:srgbClr val="9a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бщаться естественно и без страха, не для получения оценки, а для удовольствия. Отсюда – необходимость самооценки своего продвижения в изучении но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0.    Использование   принципов </a:t>
            </a:r>
            <a:r>
              <a:rPr b="1" lang="ru-RU" sz="2400" spc="-1" strike="noStrike">
                <a:solidFill>
                  <a:srgbClr val="9a0000"/>
                </a:solidFill>
                <a:latin typeface="Arial"/>
              </a:rPr>
              <a:t>педагогики сотрудничества</a:t>
            </a:r>
            <a:r>
              <a:rPr b="0" lang="ru-RU" sz="2400" spc="-1" strike="noStrike">
                <a:solidFill>
                  <a:srgbClr val="9a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создание  условий для активной совместной продуктивной творческой учебной деятельности учащийся. Групповая и парная работа охватывает все виды учебной деятельности: аудирование, говорение, чтение и письм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Рисунок 3" descr="car_running_md_wht.gif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435780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6" descr="girl_splashing_in_pool_md_wht.gif"/>
          <p:cNvPicPr/>
          <p:nvPr/>
        </p:nvPicPr>
        <p:blipFill>
          <a:blip r:embed="rId2"/>
          <a:stretch/>
        </p:blipFill>
        <p:spPr>
          <a:xfrm>
            <a:off x="0" y="0"/>
            <a:ext cx="4500720" cy="36561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E:\картинки\Ирина Анатольевна\анимации\3d_gif\woman_teacher_blackboard_md_wht.gif"/>
          <p:cNvPicPr/>
          <p:nvPr/>
        </p:nvPicPr>
        <p:blipFill>
          <a:blip r:embed="rId3"/>
          <a:stretch/>
        </p:blipFill>
        <p:spPr>
          <a:xfrm>
            <a:off x="2286000" y="3500280"/>
            <a:ext cx="3714840" cy="335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90"/>
            </a:gs>
            <a:gs pos="100000">
              <a:srgbClr val="fffc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28592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6 клас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Учебно- методический комплекс  «Шаги -2»,  И.Л.Б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957240"/>
            <a:ext cx="87966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Картинка 414 из 39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vremena10.mp3" descr=""/>
          <p:cNvPicPr/>
          <p:nvPr/>
        </p:nvPicPr>
        <p:blipFill>
          <a:blip r:embed="rId3"/>
          <a:stretch/>
        </p:blipFill>
        <p:spPr>
          <a:xfrm>
            <a:off x="864396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Картинка 73 из 39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7:47:51Z</dcterms:created>
  <dc:creator>Programmer</dc:creator>
  <dc:description/>
  <dc:language>en-US</dc:language>
  <cp:lastModifiedBy>Programmer</cp:lastModifiedBy>
  <dcterms:modified xsi:type="dcterms:W3CDTF">2010-12-06T14:57:22Z</dcterms:modified>
  <cp:revision>46</cp:revision>
  <dc:subject/>
  <dc:title>осень</dc:title>
</cp:coreProperties>
</file>