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3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png" ContentType="image/png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5.gif" ContentType="image/gif"/>
  <Override PartName="/ppt/media/image14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6A55-AA23-4E85-B7CE-9F93F9E9CA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0A27-B218-41B2-8C13-B90692B2F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66AD-3E89-4847-B0D0-B6832FDA4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79C-164E-474D-9F9C-8DE095B4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554-261F-4D0F-8FC0-8D05ED9B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9D923-3FBD-4A6B-A052-DF727C63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5A07C-33B4-4151-86FD-8AF512AC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78787-694F-48E1-B73C-D5D75633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C63F4-BE2B-4CEB-9B21-6981BFEF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CF059-5168-4AAD-BC46-CFE5491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C1771-A420-4A0A-8332-B65FA448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7588C-6AFD-4768-AB20-E77F65AC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6AC18-33CA-4906-9932-A62B1259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46702-991B-4776-9297-664CB5C7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4521B-A0AA-4339-A288-BF50F1EC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4A0-FB73-4BBA-9F56-D0587389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BB2A6-29E5-446C-A501-FBEF3CB2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27FFD-E04F-4BCB-8F63-06B8090C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CBDF2-4DEF-40F8-9787-7E9217D2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A14A8-A269-4453-B63D-790A43EB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83F66-D32B-4EE1-A920-9880FDE3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7562D-7DFC-441D-8B87-DE4F8AD2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436E8-70F0-49DF-A5FC-D4CB0C7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C45FA-A589-44B4-86FA-16B56455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4DEDD-5CCF-44B5-A3F1-F3186120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55780-B18B-4EB1-A2BF-35028850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A71-867F-485C-87E9-1B618D58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442E5-00D3-4F95-A156-103C7C74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4FF8B-7252-407A-B906-704784B8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828B1-530C-437D-8FEA-4EF5DA0B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A14E5-1EC6-4FDA-B7DB-9928B94D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FC620-70E5-4268-BFD1-09332328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B865D-EA08-44FD-8698-16D6AA47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9BF68-2010-44F7-9728-0815A2B3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D8360-171F-40B6-B3DA-70DB7E54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58227-59F7-44C6-BE71-D0DA6561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38B38-4D0A-4BB6-BEE1-F69CCBBA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B414-3425-4796-B55A-AFCD72EE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170B3-553E-435E-9B88-65EA5F3F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C3B77-1076-40EC-B7AE-A2E7BBD7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116FF-A10E-4449-BF7F-4A54F350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B705F-A018-4311-888B-E0752B8A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BED3C-424D-4C3E-8856-BA91CBB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4140E-D62B-4507-9462-9F3997DF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EC41F-CDEF-43BC-AD52-D2AECB28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EEA0A-41A2-4B01-9239-5445CC6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82065-CA06-4044-B91E-6C9796A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8EF67-BD27-4135-B2A6-B4B0315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4C0B-6F36-45C7-9160-F925B6DC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ADD7A-F361-4808-BB66-826559EA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540A8-A144-420F-B875-608D388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AFA8B-EA6F-4DCF-AFCB-A3590995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EF7D8-32CF-4D2A-A00C-6E3BC14A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4D058-016F-48F9-B092-9C2A1B3E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37BD-A2D8-40ED-B7D3-4ABEB8F2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770A-8093-48F0-B81A-FFB19291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6118-350F-4BBC-9D9B-465E3B42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DD10-A540-4444-8D16-E64563C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7E8B-67A0-465F-BA53-BC414E11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8E9-1CDC-40A7-957F-5778885B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42BC-8FAE-4711-9797-CD124B9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189B-96F9-49E8-8665-B317BB1C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B7B4-329D-4B4F-9E36-AFAA868B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1F12-201D-4097-B4CE-947AB965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366-DAE1-4F95-8B9F-5AA96A19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1582-CB5D-4433-9B1F-4D1CE948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5325-9BEF-464A-A38F-03B5CCFB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DA3E-4909-4FC0-BE58-49D3078B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BBD9-A1EA-4CB3-AEA7-8502ECB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A59D-EEB6-43C6-9455-F6C29AA2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941-F5F7-4E8B-8F18-716D33C9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3B0F-F028-4548-9707-ADC744F0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1255-1FEB-43DC-A226-468676BD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EE31-6CB2-46C5-A7AB-B69561A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66F5-DDA8-47D7-B7E4-39FB91C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B4A0-7FEE-427D-8DD4-AFB7B84F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6391-6508-4545-8E07-82B5B73C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2D5A-D705-473C-AC6C-394879D0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9417-F7E3-4C2E-8B4E-77233047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209F5-01D3-4536-8997-1CFBC766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3ECB-AC56-4CDC-9144-19150AFB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9DB-4DF7-4432-A421-80A5D963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A6BD5-3FE3-4765-B750-E8E894CF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6168-28E8-4076-B2FB-CF0FBCE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4E8ED-7CFA-4242-948D-248CA778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84D77-D100-48BA-8B42-41354355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91BE-CF1C-4E19-B683-FF24100B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0032-14B5-4278-8564-F27AEFE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C04A-2CBF-4419-AB4E-05A695CE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3E95-D64F-447D-9BC9-343D7885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C87A0-663B-4442-AF20-00D1189D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7B2E6-BF6B-4CDA-BAE0-E710BC53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8BF-3877-4810-B93A-8CB16AC2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CC9A6-69BA-4C39-9426-166A51AD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3C440-0BDC-4C66-B451-F2D3696F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3ADD-381A-4218-808F-7C5A3B92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CE99B-973E-489D-8156-2A03CC22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6C73F-4FC9-4B53-88C3-651F4959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F7C7-1F14-4EDF-8D06-50727F72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8663-70D5-4D90-83F4-0D20CDB0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4E8DE-B72C-435D-810C-6AD9D227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90369-E720-44E2-A506-37A0B097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0257-DF6F-45D9-93D5-3E753425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CBB-8CA4-44B7-9664-C1C7CDB5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8B0C-1B1F-46E7-A852-602066C8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BE72D-9308-4106-B028-9A6301B1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E5224-050A-4FB1-A12C-65671A22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605EF-E3D6-47DD-858A-909677D0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C0B3-ACD2-4529-9DC5-14C8E31D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390D-4EF8-42AB-817E-8D7BB771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501AD-7ECB-4124-99B7-F929E519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8CC58-0081-44FA-9C29-756986A5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F51D4-078F-4844-8582-11018C14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DA258-20EE-4917-AA61-77D9A6A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703-DE44-4966-91CF-283949A4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8AE7D-464D-4BD9-A969-83ADC9B9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3DCC3-DF57-449F-A565-26FE3AF6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C08F6-9C72-44F1-ADC7-C494C4C5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55545-9F5B-479C-9D2D-402B78F7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2E97-87A9-4A74-904B-03C90ABD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B3E26-AD3E-4E77-81B6-E2B3A997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8A6A8-C9A5-474C-B028-99FD3B71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8D82-00EE-4F3D-A0E8-9B9D2C6B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F80A9-CE22-44BA-AB8C-37FD587E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4BC88-59C8-4C2B-A7CA-2508958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9A9-6E55-481D-B299-7E577DE9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08863-EA65-4BC6-AA1B-76F05334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23431-4B59-48AC-8314-67594AE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39A99-3F50-4D67-8104-8F191AF0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6581-2300-4754-B8CD-FA6903D4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6494-6CE3-4D68-902E-551013E3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82302-BA6D-4E04-8886-14AE123F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4A7FD-BD67-4701-9DBA-6E71443F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77814-1A25-4F28-A72D-BB5F2C15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61301-15A1-4DF0-83F5-AA6D0FA3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36314-7198-40DF-8D0B-E7D8C97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9F7-500B-4C79-9223-DC0B99A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E5BC5-42B1-4129-A398-4282EE2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FAF8-7019-4EE9-AA38-D229617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A0AF9-945A-4CA1-838E-D216CC9E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CCA06-8D9E-42B5-8803-9CBB2F4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A3DEC-84FA-4777-8876-8A5A86C1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D042C-0DF5-476B-9555-E8C14E18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ACD7B-070A-4C78-887E-14833794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63A01-ACF1-4E95-98CE-62037CDB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F3807-3507-45E4-A5CD-5ABA190C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07F50-F9D4-408A-9779-13434BEE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430D-1B4B-4FCC-8BE3-FE760E00E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4C00-EF04-46E7-B4EF-19ADA82BF6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983D-C977-4ACD-817D-BB2B8AA586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18E3-C87F-4290-83B4-B43F8982D7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5D7C-EE4A-48B6-8E93-E94E87F85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F3D-74A0-4F60-96CB-6F7C899F4C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A2A8-0098-4BD9-B494-51D8E350D1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818E-2AEF-4153-A61B-D2DDC5B74C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E58F-FA1F-463B-932C-F01005C4E2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5F36-54A6-4984-AD06-FD32D7D45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CD1A-5580-4622-AD42-74D6A6F2A2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DFAF-6CF4-4EF0-A532-FFE6DC075B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ihi.ru/pics/2007/09/10/2663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stihi.ru/pics/2007/09/10/2663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image" Target="../media/image15.gif"/><Relationship Id="rId20" Type="http://schemas.openxmlformats.org/officeDocument/2006/relationships/image" Target="../media/image15.gif"/><Relationship Id="rId21" Type="http://schemas.openxmlformats.org/officeDocument/2006/relationships/image" Target="../media/image15.gif"/><Relationship Id="rId22" Type="http://schemas.openxmlformats.org/officeDocument/2006/relationships/image" Target="../media/image15.gif"/><Relationship Id="rId2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304/ivplus7.0/0_19cf5_8e4fefb7_X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14280" y="428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нездовой Натальи Алексеев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чителя немецкого языка высшей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796600" cy="240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" descr="Картинка 248 из 39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8424720" cy="6453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Картинка 248 из 390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04640"/>
            <a:ext cx="8425080" cy="6453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Картинка 248 из 3908"/>
          <p:cNvPicPr/>
          <p:nvPr/>
        </p:nvPicPr>
        <p:blipFill>
          <a:blip r:embed="rId6"/>
          <a:stretch/>
        </p:blipFill>
        <p:spPr>
          <a:xfrm>
            <a:off x="-1116000" y="-316080"/>
            <a:ext cx="12241080" cy="749016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xin_6e9d21107032442d8e2dad3fe7cb3be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Картинка 245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Картинка 290 из 604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5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7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3" descr="J0254510"/>
          <p:cNvPicPr/>
          <p:nvPr/>
        </p:nvPicPr>
        <p:blipFill>
          <a:blip r:embed="rId2"/>
          <a:stretch/>
        </p:blipFill>
        <p:spPr>
          <a:xfrm>
            <a:off x="4786200" y="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5" descr="J0254510"/>
          <p:cNvPicPr/>
          <p:nvPr/>
        </p:nvPicPr>
        <p:blipFill>
          <a:blip r:embed="rId3"/>
          <a:stretch/>
        </p:blipFill>
        <p:spPr>
          <a:xfrm>
            <a:off x="6696000" y="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8" descr="J0254510"/>
          <p:cNvPicPr/>
          <p:nvPr/>
        </p:nvPicPr>
        <p:blipFill>
          <a:blip r:embed="rId4"/>
          <a:stretch/>
        </p:blipFill>
        <p:spPr>
          <a:xfrm>
            <a:off x="2714760" y="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5" descr="J0254510"/>
          <p:cNvPicPr/>
          <p:nvPr/>
        </p:nvPicPr>
        <p:blipFill>
          <a:blip r:embed="rId5"/>
          <a:stretch/>
        </p:blipFill>
        <p:spPr>
          <a:xfrm>
            <a:off x="6858000" y="2286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5" descr="J0254510"/>
          <p:cNvPicPr/>
          <p:nvPr/>
        </p:nvPicPr>
        <p:blipFill>
          <a:blip r:embed="rId6"/>
          <a:stretch/>
        </p:blipFill>
        <p:spPr>
          <a:xfrm>
            <a:off x="6696000" y="41432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5" descr="J0254510"/>
          <p:cNvPicPr/>
          <p:nvPr/>
        </p:nvPicPr>
        <p:blipFill>
          <a:blip r:embed="rId7"/>
          <a:stretch/>
        </p:blipFill>
        <p:spPr>
          <a:xfrm>
            <a:off x="6858000" y="5634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5" descr="J0254510"/>
          <p:cNvPicPr/>
          <p:nvPr/>
        </p:nvPicPr>
        <p:blipFill>
          <a:blip r:embed="rId8"/>
          <a:stretch/>
        </p:blipFill>
        <p:spPr>
          <a:xfrm>
            <a:off x="4643280" y="5634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5" descr="J0254510"/>
          <p:cNvPicPr/>
          <p:nvPr/>
        </p:nvPicPr>
        <p:blipFill>
          <a:blip r:embed="rId9"/>
          <a:stretch/>
        </p:blipFill>
        <p:spPr>
          <a:xfrm>
            <a:off x="4643280" y="37861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J0254510"/>
          <p:cNvPicPr/>
          <p:nvPr/>
        </p:nvPicPr>
        <p:blipFill>
          <a:blip r:embed="rId10"/>
          <a:stretch/>
        </p:blipFill>
        <p:spPr>
          <a:xfrm>
            <a:off x="4714920" y="207180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5" descr="J0254510"/>
          <p:cNvPicPr/>
          <p:nvPr/>
        </p:nvPicPr>
        <p:blipFill>
          <a:blip r:embed="rId11"/>
          <a:stretch/>
        </p:blipFill>
        <p:spPr>
          <a:xfrm>
            <a:off x="2786040" y="400068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5" descr="J0254510"/>
          <p:cNvPicPr/>
          <p:nvPr/>
        </p:nvPicPr>
        <p:blipFill>
          <a:blip r:embed="rId12"/>
          <a:stretch/>
        </p:blipFill>
        <p:spPr>
          <a:xfrm>
            <a:off x="2571840" y="20001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5" descr="J0254510"/>
          <p:cNvPicPr/>
          <p:nvPr/>
        </p:nvPicPr>
        <p:blipFill>
          <a:blip r:embed="rId13"/>
          <a:stretch/>
        </p:blipFill>
        <p:spPr>
          <a:xfrm>
            <a:off x="2714760" y="563400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5" descr="J0254510"/>
          <p:cNvPicPr/>
          <p:nvPr/>
        </p:nvPicPr>
        <p:blipFill>
          <a:blip r:embed="rId14"/>
          <a:stretch/>
        </p:blipFill>
        <p:spPr>
          <a:xfrm>
            <a:off x="642960" y="19288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5" descr="J0254510"/>
          <p:cNvPicPr/>
          <p:nvPr/>
        </p:nvPicPr>
        <p:blipFill>
          <a:blip r:embed="rId15"/>
          <a:stretch/>
        </p:blipFill>
        <p:spPr>
          <a:xfrm>
            <a:off x="857160" y="550080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5" descr="J0254510"/>
          <p:cNvPicPr/>
          <p:nvPr/>
        </p:nvPicPr>
        <p:blipFill>
          <a:blip r:embed="rId16"/>
          <a:stretch/>
        </p:blipFill>
        <p:spPr>
          <a:xfrm>
            <a:off x="-857160" y="39290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J0254510"/>
          <p:cNvPicPr/>
          <p:nvPr/>
        </p:nvPicPr>
        <p:blipFill>
          <a:blip r:embed="rId17"/>
          <a:stretch/>
        </p:blipFill>
        <p:spPr>
          <a:xfrm>
            <a:off x="-714240" y="563400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5" descr="J0254510"/>
          <p:cNvPicPr/>
          <p:nvPr/>
        </p:nvPicPr>
        <p:blipFill>
          <a:blip r:embed="rId18"/>
          <a:stretch/>
        </p:blipFill>
        <p:spPr>
          <a:xfrm>
            <a:off x="-1000080" y="207180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J0254510"/>
          <p:cNvPicPr/>
          <p:nvPr/>
        </p:nvPicPr>
        <p:blipFill>
          <a:blip r:embed="rId19"/>
          <a:stretch/>
        </p:blipFill>
        <p:spPr>
          <a:xfrm>
            <a:off x="2357280" y="3500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5" descr="J0254510"/>
          <p:cNvPicPr/>
          <p:nvPr/>
        </p:nvPicPr>
        <p:blipFill>
          <a:blip r:embed="rId20"/>
          <a:stretch/>
        </p:blipFill>
        <p:spPr>
          <a:xfrm>
            <a:off x="500040" y="-1429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5" descr="J0254510"/>
          <p:cNvPicPr/>
          <p:nvPr/>
        </p:nvPicPr>
        <p:blipFill>
          <a:blip r:embed="rId21"/>
          <a:stretch/>
        </p:blipFill>
        <p:spPr>
          <a:xfrm>
            <a:off x="-1224000" y="-1429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5" descr="J0254510"/>
          <p:cNvPicPr/>
          <p:nvPr/>
        </p:nvPicPr>
        <p:blipFill>
          <a:blip r:embed="rId22"/>
          <a:stretch/>
        </p:blipFill>
        <p:spPr>
          <a:xfrm>
            <a:off x="571680" y="3786120"/>
            <a:ext cx="2447640" cy="244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Картинка 152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Картинка 63 из 39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2" descr="Картинка 68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WordArt 13"/>
          <p:cNvSpPr txBox="1"/>
          <p:nvPr/>
        </p:nvSpPr>
        <p:spPr>
          <a:xfrm>
            <a:off x="428760" y="1071720"/>
            <a:ext cx="817236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rauβen ist Blätterf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3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2" descr="Картинка 68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WordArt 13"/>
          <p:cNvSpPr txBox="1"/>
          <p:nvPr/>
        </p:nvSpPr>
        <p:spPr>
          <a:xfrm>
            <a:off x="357120" y="1143000"/>
            <a:ext cx="8172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lätterf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3739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ätter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"/>
          <p:cNvSpPr/>
          <p:nvPr/>
        </p:nvSpPr>
        <p:spPr>
          <a:xfrm>
            <a:off x="442764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"/>
          <p:cNvSpPr/>
          <p:nvPr/>
        </p:nvSpPr>
        <p:spPr>
          <a:xfrm>
            <a:off x="5940360" y="29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2195640" y="299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7"/>
          <p:cNvSpPr/>
          <p:nvPr/>
        </p:nvSpPr>
        <p:spPr>
          <a:xfrm flipH="1" flipV="1">
            <a:off x="2987640" y="1341000"/>
            <a:ext cx="93672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8"/>
          <p:cNvSpPr/>
          <p:nvPr/>
        </p:nvSpPr>
        <p:spPr>
          <a:xfrm flipV="1">
            <a:off x="5003640" y="1341360"/>
            <a:ext cx="936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9"/>
          <p:cNvSpPr/>
          <p:nvPr/>
        </p:nvSpPr>
        <p:spPr>
          <a:xfrm>
            <a:off x="5580000" y="3429000"/>
            <a:ext cx="792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0"/>
          <p:cNvSpPr/>
          <p:nvPr/>
        </p:nvSpPr>
        <p:spPr>
          <a:xfrm flipH="1">
            <a:off x="2627280" y="342900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3"/>
          <p:cNvSpPr/>
          <p:nvPr/>
        </p:nvSpPr>
        <p:spPr>
          <a:xfrm flipH="1" flipV="1">
            <a:off x="1834920" y="162828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4"/>
          <p:cNvSpPr/>
          <p:nvPr/>
        </p:nvSpPr>
        <p:spPr>
          <a:xfrm flipV="1">
            <a:off x="5796000" y="1628280"/>
            <a:ext cx="115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5"/>
          <p:cNvSpPr/>
          <p:nvPr/>
        </p:nvSpPr>
        <p:spPr>
          <a:xfrm flipV="1">
            <a:off x="4500720" y="981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6"/>
          <p:cNvSpPr/>
          <p:nvPr/>
        </p:nvSpPr>
        <p:spPr>
          <a:xfrm flipH="1">
            <a:off x="1476000" y="3213000"/>
            <a:ext cx="1655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7"/>
          <p:cNvSpPr/>
          <p:nvPr/>
        </p:nvSpPr>
        <p:spPr>
          <a:xfrm flipH="1">
            <a:off x="1547280" y="299736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8"/>
          <p:cNvSpPr/>
          <p:nvPr/>
        </p:nvSpPr>
        <p:spPr>
          <a:xfrm>
            <a:off x="5940360" y="3213000"/>
            <a:ext cx="1224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Бетховен - Лунная соната (Соната для фортепиано N14).mp3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0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0000"/>
                </a:solidFill>
                <a:latin typeface="Arial"/>
              </a:rPr>
              <a:t>Креативные страте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метакогнитивные страте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ключающие предварительное планирование учения, осознание процесса учения, творческий подход в выполнении заданий, оценку собственных результатов, степень продвижения по заданному целями и задачами пути познания нового и т.п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когнитивные стратегии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учения иностранному языку, связанные непосредственно с оперированием учебным материалом (повторение, группировка, дедукция, конспектирование, запоминание ключевых слов и т.п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социоаффективные стратегии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дразумевающие сотрудничество, а также компенсаторные стратегии для выяснения непонятного (переспрос, парафраз, примеры и т.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ятистиш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одно слово, описывающее тему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 слова, описывающие т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лагате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слова, выражающие действия по теме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 глаг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я строка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аза из 4-х слов, которая показывает отношение к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но слово, синоним слова  первой ст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vremena10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5"/>
          <p:cNvSpPr/>
          <p:nvPr/>
        </p:nvSpPr>
        <p:spPr>
          <a:xfrm>
            <a:off x="468360" y="1197000"/>
            <a:ext cx="8389800" cy="4786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одно слово, описывающее  тему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 слова, описывающие т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лагате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слова, выражающие действия п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е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 глаг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я строка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аза из 4-х слов, кото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ет отношение к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но слово, синоним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й ст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468360" y="1197000"/>
            <a:ext cx="8389800" cy="4786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одно слово, описывающее  тему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 слова, описывающие т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лагате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слова, выражающие действия п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е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 глаг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я строка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аза из 4-х слов, кото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ет отношение к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но слово, синоним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й ст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WordArt 10"/>
          <p:cNvSpPr txBox="1"/>
          <p:nvPr/>
        </p:nvSpPr>
        <p:spPr>
          <a:xfrm>
            <a:off x="1258920" y="4508640"/>
            <a:ext cx="626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VIELEN        DANK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74" name="Picture 9" descr="J0236322"/>
          <p:cNvPicPr/>
          <p:nvPr/>
        </p:nvPicPr>
        <p:blipFill>
          <a:blip r:embed="rId3"/>
          <a:stretch/>
        </p:blipFill>
        <p:spPr>
          <a:xfrm>
            <a:off x="6929280" y="357120"/>
            <a:ext cx="1944720" cy="18036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11"/>
          <p:cNvSpPr txBox="1"/>
          <p:nvPr/>
        </p:nvSpPr>
        <p:spPr>
          <a:xfrm>
            <a:off x="1547640" y="549360"/>
            <a:ext cx="460872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LLES  GUTE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"/>
          <p:cNvPicPr/>
          <p:nvPr/>
        </p:nvPicPr>
        <p:blipFill>
          <a:blip r:embed="rId2"/>
          <a:stretch/>
        </p:blipFill>
        <p:spPr>
          <a:xfrm>
            <a:off x="-1260360" y="0"/>
            <a:ext cx="11953800" cy="7262640"/>
          </a:xfrm>
          <a:prstGeom prst="rect">
            <a:avLst/>
          </a:prstGeom>
          <a:ln w="0">
            <a:noFill/>
          </a:ln>
        </p:spPr>
      </p:pic>
      <p:sp>
        <p:nvSpPr>
          <p:cNvPr id="577" name="WordArt 10"/>
          <p:cNvSpPr txBox="1"/>
          <p:nvPr/>
        </p:nvSpPr>
        <p:spPr>
          <a:xfrm rot="20452200">
            <a:off x="4204800" y="1155600"/>
            <a:ext cx="3827520" cy="34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наступающим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праздником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дорогие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коллеги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78" name="WordArt 14"/>
          <p:cNvSpPr txBox="1"/>
          <p:nvPr/>
        </p:nvSpPr>
        <p:spPr>
          <a:xfrm rot="20536800">
            <a:off x="6480" y="2226960"/>
            <a:ext cx="364320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Ich gratuliere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Ihnen zum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Lehrertag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   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Wünsche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Ihnen Glück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und Freude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0000"/>
                </a:solidFill>
                <a:latin typeface="Arial"/>
              </a:rPr>
              <a:t>10 принципов, на которых выстроена методи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Учить с удовольств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– ключ к успеху. Главное – положительный эмоциональный фон.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    Формировани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раматической  базы»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ешения проблемы на эмоциональном уровне (инсценировка, фокусировка, аудиолингвальные методы, микродвижения, энграммы, матрица и т.п.)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    Соз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ходящего пот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языкового окружения и встраивание языка в обычную жизнь, т.е. использование тех слов и предложений, которые нужны повседневно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щаться естественно и без страха, не для получения оценки, а для удовольствия. Отсюда – необходимость самооценки своего продвижения в изучении но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0000"/>
                </a:solidFill>
                <a:latin typeface="Arial"/>
              </a:rPr>
              <a:t>10 принципов, на которых выстроена методи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    Получение лексики из этого потока, в контексте,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мультимода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зными каналами с учетом психологических особенностей личности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5.    Получение ба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грамматики целостно и быст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спользуя все каналы восприятия, ориентируясь на поведенческую доминанту, тип характера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.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Постановка и отслеживание когнитивных ц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собенно при обучении новому материалу, так сказать, «вчистую», без опоры на существующие знания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.    Использование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технических средст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оздание языковых конструктов с использованием интерактивной дос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0000"/>
                </a:solidFill>
                <a:latin typeface="Arial"/>
              </a:rPr>
              <a:t>10 принципов, на которых выстроена методи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8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Сбалансированность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гармоничное сочетание имитационного, когнитивного, продуктивного и коммуникативного подхода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9.    Применение языка 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общение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щаться естественно и без страха, не для получения оценки, а для удовольствия. Отсюда – необходимость самооценки своего продвижения в изучении но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.    Использование   принципов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педагогики сотрудничества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оздание  условий для активной совместной продуктивной творческой учебной деятельности учащийся. Групповая и парная работа охватывает все виды учебной деятельности: аудирование, говорение, чтение и пись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Рисунок 3" descr="car_running_md_wht.gif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435780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6" descr="girl_splashing_in_pool_md_wht.gif"/>
          <p:cNvPicPr/>
          <p:nvPr/>
        </p:nvPicPr>
        <p:blipFill>
          <a:blip r:embed="rId2"/>
          <a:stretch/>
        </p:blipFill>
        <p:spPr>
          <a:xfrm>
            <a:off x="0" y="0"/>
            <a:ext cx="4500720" cy="3656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E:\картинки\Ирина Анатольевна\анимации\3d_gif\woman_teacher_blackboard_md_wht.gif"/>
          <p:cNvPicPr/>
          <p:nvPr/>
        </p:nvPicPr>
        <p:blipFill>
          <a:blip r:embed="rId3"/>
          <a:stretch/>
        </p:blipFill>
        <p:spPr>
          <a:xfrm>
            <a:off x="2286000" y="3500280"/>
            <a:ext cx="3714840" cy="335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285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6 клас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чебно- методический комплекс  «Шаги -2»,  И.Л.Б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957240"/>
            <a:ext cx="87966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Картинка 414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vremena10.mp3" descr=""/>
          <p:cNvPicPr/>
          <p:nvPr/>
        </p:nvPicPr>
        <p:blipFill>
          <a:blip r:embed="rId3"/>
          <a:stretch/>
        </p:blipFill>
        <p:spPr>
          <a:xfrm>
            <a:off x="864396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Картинка 73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7:47:51Z</dcterms:created>
  <dc:creator>Programmer</dc:creator>
  <dc:description/>
  <dc:language>en-US</dc:language>
  <cp:lastModifiedBy>Programmer</cp:lastModifiedBy>
  <dcterms:modified xsi:type="dcterms:W3CDTF">2010-12-06T14:57:22Z</dcterms:modified>
  <cp:revision>46</cp:revision>
  <dc:subject/>
  <dc:title>осень</dc:title>
</cp:coreProperties>
</file>