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74C-FDBB-4213-8C80-D6249F1C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6A9-8F1A-4A66-B8D5-0F06F0B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D27-9E44-4AC1-88EF-3BA62028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F2C-808A-47A4-AE5D-0E60C2EF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29F-7A1F-415A-B030-7B1AF61E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11F-ACF3-4559-9309-5BC2529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3FA-5D21-4980-BF97-5DBF277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DF9-4F4D-49AE-AA07-BA55FE9F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D1C-C529-46B8-AC18-0DAB7B5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913-FC40-4561-B429-568CEEB2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115-D19A-438F-97C1-CD1E9EE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10F-AECC-475C-A5B0-D07935A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CB8-95A5-4351-A36D-4253A094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Перевод целых чисел 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из одной системы счисления в другую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500280"/>
            <a:ext cx="72723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.Основно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. Перевод из 2-ичной в 2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n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ru-RU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систему и обратно (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n=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3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Таблица оптимальных перев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021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ина Л. И. – учитель информатики и ИКТ МОУ «СОШ № 67», г. Сар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3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Таблица оптимального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еревода целых чисел из одной СС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209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676520" y="19051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209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895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2286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78520" y="19400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2666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99736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16002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2286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2971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952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76520" y="46483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67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4952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56386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40360" y="450864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5229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4864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4114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4800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48640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276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17002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0" y="1601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2276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0114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99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1628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23493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4869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013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60880" y="43448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4149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486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10800000">
            <a:off x="899640" y="50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551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523600">
            <a:off x="1476360" y="1699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936000">
            <a:off x="1547280" y="30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22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523600">
            <a:off x="5796000" y="1699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8762000">
            <a:off x="7847640" y="515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458200">
            <a:off x="1619280" y="45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56200" y="329076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3357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3068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804000" y="364464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947200">
            <a:off x="4715280" y="314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521800">
            <a:off x="673272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4653000"/>
            <a:ext cx="576360" cy="1440000"/>
          </a:xfrm>
          <a:custGeom>
            <a:avLst/>
            <a:gdLst>
              <a:gd name="textAreaLeft" fmla="*/ 77040 w 576360"/>
              <a:gd name="textAreaRight" fmla="*/ 499320 w 57636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771640" y="4507920"/>
            <a:ext cx="287640" cy="934920"/>
          </a:xfrm>
          <a:custGeom>
            <a:avLst/>
            <a:gdLst>
              <a:gd name="textAreaLeft" fmla="*/ 38520 w 287640"/>
              <a:gd name="textAreaRight" fmla="*/ 249120 w 28764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169400">
            <a:off x="3780360" y="5660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501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988200">
            <a:off x="5435280" y="558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ЕПЕНИ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457000">
            <a:off x="5580000" y="43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ТР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72360" y="4508640"/>
            <a:ext cx="287280" cy="936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17002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Примеры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0011110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,10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10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8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8,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27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,8,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10-ной СС, перевести его в 2, 8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10-значное число в 2-ной СС, перевести его в 8,10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8-ной СС, перевести его в 2, 10, 16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думать любое трехзначное число в 16-ной СС, перевести его в 2, 8, 10-ные 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еревод чисел из любой системы счисления в десятичную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9840" y="1989000"/>
            <a:ext cx="87138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ожение числа по степеням осн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?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645000"/>
            <a:ext cx="172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25440" y="3444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5920" y="3436920"/>
            <a:ext cx="2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429000"/>
            <a:ext cx="2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429000"/>
            <a:ext cx="2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3645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2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2+4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422100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Основное правило перевод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523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19280" y="1413000"/>
            <a:ext cx="1219320" cy="838080"/>
            <a:chOff x="1619280" y="1413000"/>
            <a:chExt cx="1219320" cy="838080"/>
          </a:xfrm>
        </p:grpSpPr>
        <p:sp>
          <p:nvSpPr>
            <p:cNvPr id="59" name=""/>
            <p:cNvSpPr/>
            <p:nvPr/>
          </p:nvSpPr>
          <p:spPr>
            <a:xfrm>
              <a:off x="1619280" y="1565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19280" y="19461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47880" y="1413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763640" y="206064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828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666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895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66880" y="2209680"/>
            <a:ext cx="1219320" cy="685800"/>
            <a:chOff x="2666880" y="2209680"/>
            <a:chExt cx="1219320" cy="685800"/>
          </a:xfrm>
        </p:grpSpPr>
        <p:sp>
          <p:nvSpPr>
            <p:cNvPr id="73" name=""/>
            <p:cNvSpPr/>
            <p:nvPr/>
          </p:nvSpPr>
          <p:spPr>
            <a:xfrm>
              <a:off x="2666880" y="2209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66880" y="2514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916360" y="1989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90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14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048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12408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378936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429000" y="2514600"/>
            <a:ext cx="1219320" cy="838080"/>
            <a:chOff x="3429000" y="2514600"/>
            <a:chExt cx="1219320" cy="838080"/>
          </a:xfrm>
        </p:grpSpPr>
        <p:sp>
          <p:nvSpPr>
            <p:cNvPr id="83" name=""/>
            <p:cNvSpPr/>
            <p:nvPr/>
          </p:nvSpPr>
          <p:spPr>
            <a:xfrm>
              <a:off x="3429000" y="2666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29000" y="304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57600" y="2514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95480" y="3048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371628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124080"/>
            <a:ext cx="6098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rot="11309400">
            <a:off x="345600" y="2006280"/>
            <a:ext cx="3656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07640" y="486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106668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?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97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125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сновное правило перев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2193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Для того, чтобы перевести целое число из одной СС в другую, необходимо это число разделить на основание новой СС до получения целого частного . Полученный при этом остаток, в том числе и ноль, будет младшим разрядом числа в новой системе. Затем полученное частное необходимо вновь разделить на основание новой СС. Остаток от этого деления будет следующим разрядом числа в новой СС и т. д. до тех пор, пока полученное частное не будет меньше основания новой СС. Это частное будет старшим разрядом  новой 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Примеч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339920"/>
            <a:ext cx="822960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и выполнении описанных действий необходимо учитывать следующе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Основание СС,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в которую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переводится число,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записывается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 и деление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выполняется тоже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а 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основание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овой системы, записанное в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 исходной 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8428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 прави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добно пользоваться при переводе чисе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10-ной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сления в любую другую сис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еревод из 2-ичной в 2</a:t>
            </a:r>
            <a:r>
              <a:rPr b="0" lang="en-US" sz="4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истему и обратно (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n=3, 4)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609480"/>
            <a:ext cx="7631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Таблица соответствия СС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1773360"/>
          <a:ext cx="9036000" cy="3822480"/>
        </p:xfrm>
        <a:graphic>
          <a:graphicData uri="http://schemas.openxmlformats.org/drawingml/2006/table">
            <a:tbl>
              <a:tblPr/>
              <a:tblGrid>
                <a:gridCol w="452520"/>
                <a:gridCol w="266400"/>
                <a:gridCol w="216000"/>
                <a:gridCol w="433440"/>
                <a:gridCol w="431640"/>
                <a:gridCol w="503280"/>
                <a:gridCol w="505080"/>
                <a:gridCol w="576000"/>
                <a:gridCol w="503280"/>
                <a:gridCol w="647640"/>
                <a:gridCol w="649440"/>
                <a:gridCol w="647640"/>
                <a:gridCol w="647640"/>
                <a:gridCol w="648000"/>
                <a:gridCol w="649080"/>
                <a:gridCol w="647640"/>
                <a:gridCol w="6112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Перевод чисел по триадам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ится и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осьмерич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С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воичну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обра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637000"/>
            <a:ext cx="1511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6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573360"/>
            <a:ext cx="518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0001010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63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2637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724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724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4724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724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4724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47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47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4797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79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Перевод чисел по тетрадам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7524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ится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естнадцатерич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С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ичну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 обра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52640"/>
            <a:ext cx="2819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17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4724280"/>
            <a:ext cx="590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00011101010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860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860640"/>
            <a:ext cx="5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860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429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933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393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7080" y="39337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3933720"/>
            <a:ext cx="143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66100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5661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5661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9560" y="5661000"/>
            <a:ext cx="730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65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7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8:25:40Z</dcterms:created>
  <dc:creator>Учитель</dc:creator>
  <dc:description/>
  <dc:language>en-US</dc:language>
  <cp:lastModifiedBy>Ludmila</cp:lastModifiedBy>
  <dcterms:modified xsi:type="dcterms:W3CDTF">2012-12-10T21:16:51Z</dcterms:modified>
  <cp:revision>18</cp:revision>
  <dc:subject/>
  <dc:title>Перевод целых чисел  из одной системы счисления в другую</dc:title>
</cp:coreProperties>
</file>