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5820-C582-41A6-AD04-B8C476F7A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16A9-32D3-4F8E-B3D2-7D1F5767E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4862-50EF-4825-939C-7ECB4F6D7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D92D-C3F3-4819-A34B-1993B92CC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EDEC-BEBB-40F7-92E5-A80834B95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E66E-45A4-4C42-BE42-382B07DE4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31F3-9926-4FB0-9444-70BB949F9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C246-90B4-4148-93AB-013725D64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D9A2-B108-48EB-8856-64B8FE966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DABA-F348-41DE-8151-2EDEA8A0B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5A07-36D0-40B3-879B-A6E3EB6E7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DCF9-0CB2-4FFE-830E-63D71489A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1A1DC-FB4D-4EA7-B6D7-DA6535CA5E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3.xml"/><Relationship Id="rId3" Type="http://schemas.openxmlformats.org/officeDocument/2006/relationships/slide" Target="slide.xml"/><Relationship Id="rId4" Type="http://schemas.openxmlformats.org/officeDocument/2006/relationships/slide" Target="slide.xml"/><Relationship Id="rId5" Type="http://schemas.openxmlformats.org/officeDocument/2006/relationships/slide" Target="slide.xml"/><Relationship Id="rId6" Type="http://schemas.openxmlformats.org/officeDocument/2006/relationships/slide" Target="slide.xml"/><Relationship Id="rId7" Type="http://schemas.openxmlformats.org/officeDocument/2006/relationships/slide" Target="slide.xml"/><Relationship Id="rId8" Type="http://schemas.openxmlformats.org/officeDocument/2006/relationships/slide" Target="slide10.xml"/><Relationship Id="rId9" Type="http://schemas.openxmlformats.org/officeDocument/2006/relationships/slide" Target="slide10.xml"/><Relationship Id="rId10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280" y="980640"/>
            <a:ext cx="806436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66"/>
                </a:solidFill>
                <a:latin typeface="Arial"/>
              </a:rPr>
              <a:t>Перевод целых чисел </a:t>
            </a:r>
            <a:br>
              <a:rPr sz="5400"/>
            </a:br>
            <a:r>
              <a:rPr b="0" lang="en-US" sz="5400" spc="-1" strike="noStrike">
                <a:solidFill>
                  <a:srgbClr val="660066"/>
                </a:solidFill>
                <a:latin typeface="Arial"/>
              </a:rPr>
              <a:t>из одной системы счисления в другую</a:t>
            </a:r>
            <a:endParaRPr b="0" lang="en-US" sz="5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15640" y="3500280"/>
            <a:ext cx="727236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Times New Roman"/>
                <a:hlinkClick r:id="rId2" action="ppaction://hlinksldjump"/>
              </a:rPr>
              <a:t>1.Основное правил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Times New Roman"/>
                <a:hlinkClick r:id="rId3" action="ppaction://hlinksldjump"/>
              </a:rPr>
              <a:t>2. Перевод из 2-ичной в 2</a:t>
            </a:r>
            <a:r>
              <a:rPr b="0" lang="en-US" sz="3200" spc="-1" strike="noStrike" u="sng" baseline="30000">
                <a:solidFill>
                  <a:srgbClr val="0000ff"/>
                </a:solidFill>
                <a:uFillTx/>
                <a:latin typeface="Times New Roman"/>
                <a:hlinkClick r:id="rId4" action="ppaction://hlinksldjump"/>
              </a:rPr>
              <a:t>n</a:t>
            </a:r>
            <a:r>
              <a:rPr b="0" lang="en-US" sz="3200" spc="-1" strike="noStrike" u="sng" baseline="30000">
                <a:solidFill>
                  <a:srgbClr val="0000ff"/>
                </a:solidFill>
                <a:uFillTx/>
                <a:latin typeface="Times New Roman"/>
                <a:hlinkClick r:id="rId5" action="ppaction://hlinksldjump"/>
              </a:rPr>
              <a:t> </a:t>
            </a:r>
            <a:r>
              <a:rPr b="0" lang="ru-RU" sz="3200" spc="-1" strike="noStrike" u="sng" baseline="30000">
                <a:solidFill>
                  <a:srgbClr val="0000ff"/>
                </a:solidFill>
                <a:uFillTx/>
                <a:latin typeface="Times New Roman"/>
                <a:hlinkClick r:id="rId6" action="ppaction://hlinksldjump"/>
              </a:rPr>
              <a:t>систему и обратно (</a:t>
            </a:r>
            <a:r>
              <a:rPr b="0" lang="en-US" sz="3200" spc="-1" strike="noStrike" u="sng" baseline="30000">
                <a:solidFill>
                  <a:srgbClr val="0000ff"/>
                </a:solidFill>
                <a:uFillTx/>
                <a:latin typeface="Times New Roman"/>
                <a:hlinkClick r:id="rId7" action="ppaction://hlinksldjump"/>
              </a:rPr>
              <a:t>n=3, 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  <a:hlinkClick r:id="rId8" action="ppaction://hlinksldjump"/>
              </a:rPr>
              <a:t>3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Times New Roman"/>
                <a:hlinkClick r:id="rId9" action="ppaction://hlinksldjump"/>
              </a:rPr>
              <a:t>Таблица оптимальных перевод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602136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исина Л. И. – учитель информатики и ИКТ МОУ «СОШ № 67», г. Саратов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152280"/>
            <a:ext cx="9350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Таблица оптимального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перевода целых чисел из одной СС в другу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14400" y="2209680"/>
            <a:ext cx="685800" cy="68580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676520" y="1905120"/>
            <a:ext cx="1218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752480" y="25909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52480" y="2895480"/>
            <a:ext cx="12193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124080" y="1523880"/>
            <a:ext cx="685800" cy="68580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24080" y="2209680"/>
            <a:ext cx="685800" cy="68580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124080" y="2895480"/>
            <a:ext cx="685800" cy="68580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2286000"/>
            <a:ext cx="685800" cy="68580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5978520" y="1940040"/>
            <a:ext cx="1219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95880" y="26668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84720" y="2997360"/>
            <a:ext cx="12193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467480" y="1600200"/>
            <a:ext cx="685800" cy="68580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467480" y="2286000"/>
            <a:ext cx="685800" cy="68580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467480" y="2971800"/>
            <a:ext cx="685800" cy="68580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14400" y="4952880"/>
            <a:ext cx="685800" cy="68580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1676520" y="4648320"/>
            <a:ext cx="1218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752480" y="53341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752480" y="5638680"/>
            <a:ext cx="12193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24080" y="4267080"/>
            <a:ext cx="685800" cy="68580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124080" y="4952880"/>
            <a:ext cx="685800" cy="68580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124080" y="5638680"/>
            <a:ext cx="685800" cy="68580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181480" y="4800600"/>
            <a:ext cx="685800" cy="68580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940360" y="4508640"/>
            <a:ext cx="1219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84720" y="52293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19920" y="5486400"/>
            <a:ext cx="12189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391520" y="4114800"/>
            <a:ext cx="685800" cy="68580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391520" y="4800600"/>
            <a:ext cx="685800" cy="68580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391520" y="5486400"/>
            <a:ext cx="685800" cy="68580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042920" y="227664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03640" y="1700280"/>
            <a:ext cx="574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40000" y="1601640"/>
            <a:ext cx="5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32000" y="2276640"/>
            <a:ext cx="6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00320" y="301140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451640" y="234936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451640" y="299736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596360" y="162864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64000" y="2349360"/>
            <a:ext cx="5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451640" y="4869000"/>
            <a:ext cx="5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76720" y="5013360"/>
            <a:ext cx="57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60880" y="434484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524720" y="41497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132000" y="566100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48360" y="486900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 rot="10800000">
            <a:off x="899640" y="50842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380360" y="551664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rot="20523600">
            <a:off x="1476360" y="169992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ТРИАД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rot="936000">
            <a:off x="1547280" y="3068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ТЕТРАД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476360" y="227664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СТЕПЕНИ ОСНОВ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20523600">
            <a:off x="5796000" y="169992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ТРИАД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rot="18762000">
            <a:off x="7847640" y="515700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ТРИАД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rot="20458200">
            <a:off x="1619280" y="450828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ТРИАД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40360" y="2349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СТЕПЕНИ ОСНОВ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956200" y="3290760"/>
            <a:ext cx="685800" cy="68580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084720" y="335772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651640" y="3068640"/>
            <a:ext cx="28872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6804000" y="3644640"/>
            <a:ext cx="57636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2947200">
            <a:off x="4715280" y="314136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ТРИАД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20521800">
            <a:off x="6732720" y="3716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ТЕТРАД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51280" y="4653000"/>
            <a:ext cx="576360" cy="1440000"/>
          </a:xfrm>
          <a:custGeom>
            <a:avLst/>
            <a:gdLst>
              <a:gd name="textAreaLeft" fmla="*/ 77040 w 576360"/>
              <a:gd name="textAreaRight" fmla="*/ 499320 w 576360"/>
              <a:gd name="textAreaTop" fmla="*/ 252000 h 1440000"/>
              <a:gd name="textAreaBottom" fmla="*/ 1044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2771640" y="4507920"/>
            <a:ext cx="287640" cy="934920"/>
          </a:xfrm>
          <a:custGeom>
            <a:avLst/>
            <a:gdLst>
              <a:gd name="textAreaLeft" fmla="*/ 38520 w 287640"/>
              <a:gd name="textAreaRight" fmla="*/ 249120 w 287640"/>
              <a:gd name="textAreaTop" fmla="*/ 163440 h 934920"/>
              <a:gd name="textAreaBottom" fmla="*/ 677880 h 93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9169400">
            <a:off x="3780360" y="566064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ТЕТРАД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19280" y="5013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ОСНОВНОЕ ПРАВИЛ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rot="988200">
            <a:off x="5435280" y="558972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СТЕПЕНИ ОСНОВ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rot="20457000">
            <a:off x="5580000" y="4365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ТЕТРАД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172360" y="4508640"/>
            <a:ext cx="287280" cy="936360"/>
          </a:xfrm>
          <a:custGeom>
            <a:avLst/>
            <a:gdLst>
              <a:gd name="textAreaLeft" fmla="*/ 38520 w 287280"/>
              <a:gd name="textAreaRight" fmla="*/ 248760 w 287280"/>
              <a:gd name="textAreaTop" fmla="*/ 163800 h 936360"/>
              <a:gd name="textAreaBottom" fmla="*/ 67896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203640" y="1700280"/>
            <a:ext cx="574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3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Примеры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000111100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=?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imes New Roman"/>
              </a:rPr>
              <a:t>8,10,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72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=?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imes New Roman"/>
              </a:rPr>
              <a:t>2,10,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38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imes New Roman"/>
              </a:rPr>
              <a:t>2,8,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27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imes New Roman"/>
              </a:rPr>
              <a:t>2,8,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идумать любое трехзначное число в 10-ной СС, перевести его в 2, 8, 16-ные С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идумать любое 10-значное число в 2-ной СС, перевести его в 8,10, 16-ные С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идумать любое трехзначное число в 8-ной СС, перевести его в 2, 10, 16-ные С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идумать любое трехзначное число в 16-ной СС, перевести его в 2, 8, 10-ные С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Перевод чисел из любой системы счисления в десятичную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29840" y="1989000"/>
            <a:ext cx="871380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азложение числа по степеням основани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01100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?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3645000"/>
            <a:ext cx="172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100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342900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25440" y="344484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15920" y="3436920"/>
            <a:ext cx="2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26920" y="3429000"/>
            <a:ext cx="23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35040" y="342900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3429000"/>
            <a:ext cx="23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24000" y="3645000"/>
            <a:ext cx="61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*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0*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0*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1*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0*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0*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79640" y="42210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32+4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64000" y="4221000"/>
            <a:ext cx="129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Основное правило перевода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52388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9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1619280" y="1413000"/>
            <a:ext cx="1219320" cy="838080"/>
            <a:chOff x="1619280" y="1413000"/>
            <a:chExt cx="1219320" cy="838080"/>
          </a:xfrm>
        </p:grpSpPr>
        <p:sp>
          <p:nvSpPr>
            <p:cNvPr id="59" name=""/>
            <p:cNvSpPr/>
            <p:nvPr/>
          </p:nvSpPr>
          <p:spPr>
            <a:xfrm>
              <a:off x="1619280" y="1565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619280" y="19461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847880" y="1413000"/>
              <a:ext cx="76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1763640" y="206064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20574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18288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25909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26668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20574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14400" y="31240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289548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38080" y="3657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43000" y="373392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2666880" y="2209680"/>
            <a:ext cx="1219320" cy="685800"/>
            <a:chOff x="2666880" y="2209680"/>
            <a:chExt cx="1219320" cy="685800"/>
          </a:xfrm>
        </p:grpSpPr>
        <p:sp>
          <p:nvSpPr>
            <p:cNvPr id="73" name=""/>
            <p:cNvSpPr/>
            <p:nvPr/>
          </p:nvSpPr>
          <p:spPr>
            <a:xfrm>
              <a:off x="2666880" y="22096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666880" y="25146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2916360" y="198900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895480" y="259092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752480" y="251460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752480" y="30481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81080" y="30481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05120" y="3124080"/>
            <a:ext cx="60948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71640" y="3789360"/>
            <a:ext cx="60948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3429000" y="2514600"/>
            <a:ext cx="1219320" cy="838080"/>
            <a:chOff x="3429000" y="2514600"/>
            <a:chExt cx="1219320" cy="838080"/>
          </a:xfrm>
        </p:grpSpPr>
        <p:sp>
          <p:nvSpPr>
            <p:cNvPr id="83" name=""/>
            <p:cNvSpPr/>
            <p:nvPr/>
          </p:nvSpPr>
          <p:spPr>
            <a:xfrm>
              <a:off x="3429000" y="26668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429000" y="304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657600" y="2514600"/>
              <a:ext cx="76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2895480" y="304812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35812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895480" y="36576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43280" y="3716280"/>
            <a:ext cx="60948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657600" y="30481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581280" y="3124080"/>
            <a:ext cx="60984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 rot="11309400">
            <a:off x="345600" y="2006280"/>
            <a:ext cx="365688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1907640" y="4869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19520" y="1066680"/>
            <a:ext cx="51814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97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= ?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48000" y="5300640"/>
            <a:ext cx="51814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97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= 1125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8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3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8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3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Основное правило перевод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1219320"/>
            <a:ext cx="86868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Для того, чтобы перевести целое число из одной СС в другую, необходимо это число разделить на основание новой СС до получения целого частного . Полученный при этом остаток, в том числе и ноль, будет младшим разрядом числа в новой системе. Затем полученное частное необходимо вновь разделить на основание новой СС. Остаток от этого деления будет следующим разрядом числа в новой СС и т. д. до тех пор, пока полученное частное не будет меньше основания новой СС. Это частное будет старшим разрядом  новой С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Примечание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9640" y="1339920"/>
            <a:ext cx="8229600" cy="55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990099"/>
                </a:solidFill>
                <a:latin typeface="Arial"/>
              </a:rPr>
              <a:t>При выполнении описанных действий необходимо учитывать следующее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990099"/>
                </a:solidFill>
                <a:uFillTx/>
                <a:latin typeface="Arial"/>
              </a:rPr>
              <a:t>Основание СС, </a:t>
            </a:r>
            <a:r>
              <a:rPr b="1" lang="en-US" sz="4000" spc="-1" strike="noStrike">
                <a:solidFill>
                  <a:srgbClr val="990099"/>
                </a:solidFill>
                <a:latin typeface="Arial"/>
              </a:rPr>
              <a:t>в которую</a:t>
            </a:r>
            <a:r>
              <a:rPr b="1" lang="en-US" sz="4000" spc="-1" strike="noStrike" u="sng">
                <a:solidFill>
                  <a:srgbClr val="990099"/>
                </a:solidFill>
                <a:uFillTx/>
                <a:latin typeface="Arial"/>
              </a:rPr>
              <a:t> </a:t>
            </a:r>
            <a:r>
              <a:rPr b="1" lang="en-US" sz="4000" spc="-1" strike="noStrike">
                <a:solidFill>
                  <a:srgbClr val="990099"/>
                </a:solidFill>
                <a:latin typeface="Arial"/>
              </a:rPr>
              <a:t>переводится число,</a:t>
            </a:r>
            <a:r>
              <a:rPr b="1" lang="en-US" sz="4000" spc="-1" strike="noStrike" u="sng">
                <a:solidFill>
                  <a:srgbClr val="990099"/>
                </a:solidFill>
                <a:uFillTx/>
                <a:latin typeface="Arial"/>
              </a:rPr>
              <a:t> </a:t>
            </a:r>
            <a:r>
              <a:rPr b="1" lang="en-US" sz="4000" spc="-1" strike="noStrike">
                <a:solidFill>
                  <a:srgbClr val="990099"/>
                </a:solidFill>
                <a:latin typeface="Arial"/>
              </a:rPr>
              <a:t>записывается в</a:t>
            </a:r>
            <a:r>
              <a:rPr b="1" lang="en-US" sz="4000" spc="-1" strike="noStrike" u="sng">
                <a:solidFill>
                  <a:srgbClr val="990099"/>
                </a:solidFill>
                <a:uFillTx/>
                <a:latin typeface="Arial"/>
              </a:rPr>
              <a:t> исходной СС и деление </a:t>
            </a:r>
            <a:r>
              <a:rPr b="1" lang="en-US" sz="4000" spc="-1" strike="noStrike">
                <a:solidFill>
                  <a:srgbClr val="990099"/>
                </a:solidFill>
                <a:latin typeface="Arial"/>
              </a:rPr>
              <a:t>выполняется тоже в</a:t>
            </a:r>
            <a:r>
              <a:rPr b="1" lang="en-US" sz="4000" spc="-1" strike="noStrike" u="sng">
                <a:solidFill>
                  <a:srgbClr val="990099"/>
                </a:solidFill>
                <a:uFillTx/>
                <a:latin typeface="Arial"/>
              </a:rPr>
              <a:t> исходной СС </a:t>
            </a:r>
            <a:r>
              <a:rPr b="1" lang="en-US" sz="4000" spc="-1" strike="noStrike">
                <a:solidFill>
                  <a:srgbClr val="990099"/>
                </a:solidFill>
                <a:latin typeface="Arial"/>
              </a:rPr>
              <a:t>на </a:t>
            </a:r>
            <a:r>
              <a:rPr b="1" lang="en-US" sz="4000" spc="-1" strike="noStrike" u="sng">
                <a:solidFill>
                  <a:srgbClr val="990099"/>
                </a:solidFill>
                <a:uFillTx/>
                <a:latin typeface="Arial"/>
              </a:rPr>
              <a:t>основание </a:t>
            </a:r>
            <a:r>
              <a:rPr b="1" lang="en-US" sz="4000" spc="-1" strike="noStrike">
                <a:solidFill>
                  <a:srgbClr val="990099"/>
                </a:solidFill>
                <a:latin typeface="Arial"/>
              </a:rPr>
              <a:t>новой системы, записанное в</a:t>
            </a:r>
            <a:r>
              <a:rPr b="1" lang="en-US" sz="4000" spc="-1" strike="noStrike" u="sng">
                <a:solidFill>
                  <a:srgbClr val="990099"/>
                </a:solidFill>
                <a:uFillTx/>
                <a:latin typeface="Arial"/>
              </a:rPr>
              <a:t> исходной С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1484280"/>
            <a:ext cx="8496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зтому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ым правило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удобно пользоваться при переводе чисел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з 10-ной систем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числения в любую другую систем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7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Перевод из 2-ичной в 2</a:t>
            </a:r>
            <a:r>
              <a:rPr b="0" lang="en-US" sz="4000" spc="-1" strike="noStrike" baseline="30000">
                <a:solidFill>
                  <a:srgbClr val="0033cc"/>
                </a:solidFill>
                <a:latin typeface="Arial"/>
              </a:rPr>
              <a:t>n</a:t>
            </a: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систему и обратно (</a:t>
            </a: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n=3, 4)</a:t>
            </a:r>
            <a:br>
              <a:rPr sz="4000"/>
            </a:b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6920" y="609480"/>
            <a:ext cx="763128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Arial"/>
              </a:rPr>
              <a:t>Таблица соответствия СС</a:t>
            </a:r>
            <a:br>
              <a:rPr sz="4000"/>
            </a:b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08000" y="1773360"/>
          <a:ext cx="9036000" cy="3822480"/>
        </p:xfrm>
        <a:graphic>
          <a:graphicData uri="http://schemas.openxmlformats.org/drawingml/2006/table">
            <a:tbl>
              <a:tblPr/>
              <a:tblGrid>
                <a:gridCol w="452520"/>
                <a:gridCol w="266400"/>
                <a:gridCol w="216000"/>
                <a:gridCol w="433440"/>
                <a:gridCol w="431640"/>
                <a:gridCol w="503280"/>
                <a:gridCol w="505080"/>
                <a:gridCol w="576000"/>
                <a:gridCol w="503280"/>
                <a:gridCol w="647640"/>
                <a:gridCol w="649440"/>
                <a:gridCol w="647640"/>
                <a:gridCol w="647640"/>
                <a:gridCol w="648000"/>
                <a:gridCol w="649080"/>
                <a:gridCol w="647640"/>
                <a:gridCol w="611280"/>
              </a:tblGrid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Перевод чисел по триадам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41300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оизводится из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восьмерично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СС в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двоичну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и обратн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9640" y="2637000"/>
            <a:ext cx="15112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36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3573360"/>
            <a:ext cx="51814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1100010101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79640" y="263700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56000" y="263700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19640" y="2637000"/>
            <a:ext cx="129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0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2997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042920" y="472428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932360" y="4724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763640" y="4724280"/>
            <a:ext cx="115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35280" y="4724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700360" y="472428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71640" y="4724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35280" y="4724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80000" y="4724280"/>
            <a:ext cx="129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1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35640" y="479736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6000" y="479736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84720" y="4797360"/>
            <a:ext cx="35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372360" y="479736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659640" y="5229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Перевод чисел по тетрадам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1752480"/>
            <a:ext cx="853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оизводится из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шестнадцатерично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СС в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воичну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и обратн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2852640"/>
            <a:ext cx="28195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С17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= ?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27280" y="4724280"/>
            <a:ext cx="5904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110001110101011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= ?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9640" y="386064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00000" y="3860640"/>
            <a:ext cx="50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87280" y="386064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76360" y="429264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08000" y="3933720"/>
            <a:ext cx="4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68360" y="393372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77080" y="393372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000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284720" y="3933720"/>
            <a:ext cx="14396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011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5661000"/>
            <a:ext cx="28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156360" y="5661000"/>
            <a:ext cx="43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588000" y="5661000"/>
            <a:ext cx="5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77080" y="566100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189560" y="5661000"/>
            <a:ext cx="7308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995640" y="47242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932360" y="47242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348000" y="39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56000" y="39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2000" y="46530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87640" y="47242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6T08:25:40Z</dcterms:created>
  <dc:creator>Учитель</dc:creator>
  <dc:description/>
  <dc:language>en-US</dc:language>
  <cp:lastModifiedBy>Ludmila</cp:lastModifiedBy>
  <dcterms:modified xsi:type="dcterms:W3CDTF">2012-12-10T21:16:51Z</dcterms:modified>
  <cp:revision>18</cp:revision>
  <dc:subject/>
  <dc:title>Перевод целых чисел  из одной системы счисления в другую</dc:title>
</cp:coreProperties>
</file>