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8680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798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732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AutoShape 1"/>
          <p:cNvSpPr/>
          <p:nvPr/>
        </p:nvSpPr>
        <p:spPr>
          <a:xfrm>
            <a:off x="406440" y="3986280"/>
            <a:ext cx="360" cy="4316400"/>
          </a:xfrm>
          <a:custGeom>
            <a:avLst/>
            <a:gdLst/>
            <a:ahLst/>
            <a:rect l="l" t="t" r="r" b="b"/>
            <a:pathLst>
              <a:path w="0" h="21600">
                <a:moveTo>
                  <a:pt x="0" y="0"/>
                </a:moveTo>
                <a:lnTo>
                  <a:pt x="0" y="67"/>
                </a:lnTo>
                <a:lnTo>
                  <a:pt x="0" y="677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4880" y="2840040"/>
            <a:ext cx="11053440" cy="20368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7600" spc="-1" strike="noStrike">
                <a:solidFill>
                  <a:srgbClr val="ffffff"/>
                </a:solidFill>
                <a:latin typeface="Arial"/>
              </a:rPr>
              <a:t>Antonio Vivaldi</a:t>
            </a:r>
            <a:endParaRPr b="0" lang="en-US" sz="7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9440" y="414360"/>
            <a:ext cx="11704320" cy="1968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Arial"/>
              </a:rPr>
              <a:t>Ritornello Form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5240" y="3147480"/>
            <a:ext cx="11704680" cy="58532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Vivaldi was said to be the inventor of the Ritornello Form.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Ritornello Form is an instrumental interlude during early 17</a:t>
            </a:r>
            <a:r>
              <a:rPr b="0" lang="ru-RU" sz="4500" spc="-1" strike="noStrike" baseline="31000">
                <a:solidFill>
                  <a:srgbClr val="ffffff"/>
                </a:solidFill>
                <a:latin typeface="Arial"/>
              </a:rPr>
              <a:t>th</a:t>
            </a: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 century opera.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9440" y="414360"/>
            <a:ext cx="11704320" cy="1968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Arial"/>
              </a:rPr>
              <a:t>Antonio Vivaldi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9440" y="2707920"/>
            <a:ext cx="11704320" cy="58532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Vivaldi died on July 28, 1741, while on a trip to </a:t>
            </a:r>
            <a:r>
              <a:rPr b="0" lang="ru-RU" sz="4500" spc="-1" strike="noStrike">
                <a:solidFill>
                  <a:srgbClr val="ffffff"/>
                </a:solidFill>
                <a:latin typeface="Georgia"/>
              </a:rPr>
              <a:t>Vienna</a:t>
            </a: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He was given a paupers burial.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933568" presetSubtype="53702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933568" presetSubtype="53702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9440" y="414360"/>
            <a:ext cx="11704320" cy="1968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Arial"/>
              </a:rPr>
              <a:t>Antonio Vivaldi - (1678-1748)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49440" y="2707920"/>
            <a:ext cx="5743440" cy="58532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487440" indent="-4874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Vivaldi was born on March 4, </a:t>
            </a:r>
            <a:r>
              <a:rPr b="0" lang="ru-RU" sz="3900" spc="-1" strike="noStrike">
                <a:solidFill>
                  <a:srgbClr val="ffffff"/>
                </a:solidFill>
                <a:latin typeface="Georgia"/>
              </a:rPr>
              <a:t>1678</a:t>
            </a:r>
            <a:r>
              <a:rPr b="0" lang="en-US" sz="3900" spc="-1" strike="noStrike">
                <a:solidFill>
                  <a:srgbClr val="ffffff"/>
                </a:solidFill>
                <a:latin typeface="Georgia"/>
              </a:rPr>
              <a:t>,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in Venice, Italy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Ordained for priesthood in 1703 but ceased to say Mass due to health issues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2" name="Picture 3" descr="vivaldi.jpg"/>
          <p:cNvPicPr/>
          <p:nvPr/>
        </p:nvPicPr>
        <p:blipFill>
          <a:blip r:embed="rId2"/>
          <a:stretch/>
        </p:blipFill>
        <p:spPr>
          <a:xfrm>
            <a:off x="7693200" y="3251160"/>
            <a:ext cx="3671640" cy="379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9440" y="414360"/>
            <a:ext cx="11704320" cy="1968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The Childhood and Teenage Years of Antonio Vivaldi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9440" y="2707920"/>
            <a:ext cx="11704320" cy="58532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425520" indent="-425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Vivaldi was taught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o play the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violin at a young age by his father, </a:t>
            </a:r>
            <a:r>
              <a:rPr b="0" lang="ru-RU" sz="3900" spc="-1" strike="noStrike">
                <a:solidFill>
                  <a:srgbClr val="ffffff"/>
                </a:solidFill>
                <a:latin typeface="Georgia"/>
              </a:rPr>
              <a:t>Giovanni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Battista Vivaldi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425520" indent="-425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Antonio Vivaldi was the oldest of nine children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425520" indent="-425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Father and son toured Venice together playing the violin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425520" indent="-425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Entered priesthood in 1693 but left in 1706 due to asthma (some say it was his interest and musical aspirations that 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to his withdrawal from the church)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ransition spd="med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9440" y="414360"/>
            <a:ext cx="11704320" cy="1968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The Mid Adult Years of Antonio Vivaldi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9440" y="2707920"/>
            <a:ext cx="11704320" cy="58532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425520" indent="-425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Vivaldi was promoted to maestro de’ concert in 1716.  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425520" indent="-425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It was during these years th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Vivaldi wrote much of his </a:t>
            </a:r>
            <a:r>
              <a:rPr b="0" lang="ru-RU" sz="3900" spc="-1" strike="noStrike">
                <a:solidFill>
                  <a:srgbClr val="ffffff"/>
                </a:solidFill>
                <a:latin typeface="Georgia"/>
              </a:rPr>
              <a:t>music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, including many operas and concertos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425520" indent="-425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Vivaldi began to travel in 1718.  It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s during this time that he wrote his music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425520" indent="-425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Pietà paid him to write two concert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s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a month for the orchestra and to rehearse with the orchestra at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least four times when in Venice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ransition spd="med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6667648" presetSubtype="537017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6667648" presetSubtype="537017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6667648" presetSubtype="537017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6667648" presetSubtype="537017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9440" y="414360"/>
            <a:ext cx="11704320" cy="1968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The Late Adult Years of Antonio Vivaldi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9440" y="2707920"/>
            <a:ext cx="11704320" cy="58532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Vivaldi spent most of his later years traveling extensively, working on and off with Pietà.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ransition spd="med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6668800" presetSubtype="53702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9440" y="414360"/>
            <a:ext cx="11704320" cy="1968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Arial"/>
              </a:rPr>
              <a:t>Early Works by Vivaldi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9440" y="2707920"/>
            <a:ext cx="11704320" cy="58532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422280" indent="-422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Vivaldi soon became popular after leaving the church due to the first publications of his </a:t>
            </a:r>
            <a:r>
              <a:rPr b="0" lang="ru-RU" sz="3900" spc="-1" strike="noStrike">
                <a:solidFill>
                  <a:srgbClr val="ffffff"/>
                </a:solidFill>
                <a:latin typeface="Georgia"/>
              </a:rPr>
              <a:t>compositions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422280" indent="-422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His earliest works include trio sonatas, written in 1703-1705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422280" indent="-422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Violin sonatas soon followed in publication in 1709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  <a:p>
            <a:pPr marL="422280" indent="-422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His reputation grew dramatically after his violin sonatas and especially after his 12 concertos </a:t>
            </a:r>
            <a:r>
              <a:rPr b="0" i="1" lang="ru-RU" sz="3900" spc="-1" strike="noStrike">
                <a:solidFill>
                  <a:srgbClr val="ffffff"/>
                </a:solidFill>
                <a:latin typeface="Arial"/>
              </a:rPr>
              <a:t>l’Estro armonico (Harmonic Inspiration)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op.3 in 1711.</a:t>
            </a:r>
            <a:endParaRPr b="0" lang="en-US" sz="39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9440" y="414360"/>
            <a:ext cx="11704320" cy="1968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Arial"/>
              </a:rPr>
              <a:t>More Works by Vivaldi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9440" y="2707920"/>
            <a:ext cx="11704320" cy="58532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Opera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  <a:p>
            <a:pPr lvl="1" marL="804960" indent="-347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Ottone in villa, RV 729 - 1713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marL="804960" indent="-347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Orlando </a:t>
            </a:r>
            <a:r>
              <a:rPr b="1" lang="ru-RU" sz="3400" spc="-1" strike="noStrike">
                <a:solidFill>
                  <a:srgbClr val="ffffff"/>
                </a:solidFill>
                <a:latin typeface="Georgia"/>
              </a:rPr>
              <a:t>finto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pazzo, RV 727 - 1714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marL="804960" indent="-347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La verità in cimento, RV 739 - 1720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marL="804960" indent="-347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Siroe, re di Persia, RV 735 - 1727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marL="804960" indent="-347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Rosilena ed Oronta, RV 720 - 1728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marL="804960" indent="-347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La fida ninfa, RV 714 - 1732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ransition spd="med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9440" y="414360"/>
            <a:ext cx="11704320" cy="1968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Arial"/>
              </a:rPr>
              <a:t>More Works by Vivaldi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9440" y="2707920"/>
            <a:ext cx="11704320" cy="58532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Solo Concerto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  <a:p>
            <a:pPr lvl="1" marL="804960" indent="-347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"La Primavera" (The Four Seasons), op. 8 no. 1, RV 269 - E </a:t>
            </a:r>
            <a:r>
              <a:rPr b="1" lang="ru-RU" sz="3400" spc="-1" strike="noStrike">
                <a:solidFill>
                  <a:srgbClr val="ffffff"/>
                </a:solidFill>
                <a:latin typeface="Georgia"/>
              </a:rPr>
              <a:t>Major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marL="804960" indent="-347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"Il favorito", op. 11 no. 2, RV 277 - e minor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marL="804960" indent="-347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"Il corneto da posta", RV 363 - B flat Major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lvl="1" marL="804960" indent="-347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"L'autunno", op. 8 no. 3, RV 293 - F Major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ransition spd="med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9440" y="414360"/>
            <a:ext cx="11704320" cy="196848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6200" spc="-1" strike="noStrike">
                <a:solidFill>
                  <a:srgbClr val="ffffff"/>
                </a:solidFill>
                <a:latin typeface="Arial"/>
              </a:rPr>
              <a:t>The Four Seasons”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9440" y="2707920"/>
            <a:ext cx="11704320" cy="58532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The Four Seasons” (“Le quattro stagioni”)  written in 1723,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said to be Vivaldi’s best-known work and is among the most popular pieces of Baroque Music.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The concertos were first published in 1725 as a part of twelve. 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Each “season” has three parts, fast-slow-fast. 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The seasons  have their different textures used to depict  different seasons.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Vivaldi wrote four sonnets that are to be read with the four concertos.</a:t>
            </a:r>
            <a:endParaRPr b="0" lang="en-US" sz="3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7" name="antonio_vivaldi_-_the_four_seasons_-_winter_(zaycev.net).mp3" descr=""/>
          <p:cNvPicPr/>
          <p:nvPr/>
        </p:nvPicPr>
        <p:blipFill>
          <a:blip r:embed="rId2"/>
          <a:stretch/>
        </p:blipFill>
        <p:spPr>
          <a:xfrm>
            <a:off x="11758680" y="0"/>
            <a:ext cx="1245960" cy="1246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21458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gen</cp:lastModifiedBy>
  <dcterms:modified xsi:type="dcterms:W3CDTF">2012-11-21T12:05:49Z</dcterms:modified>
  <cp:revision>4</cp:revision>
  <dc:subject/>
  <dc:title>Antonio Vivaldi</dc:title>
</cp:coreProperties>
</file>