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136-8056-4F02-9CB2-65F1E75B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87F8-1A00-4470-AB12-E6E3739A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EB22-0FB1-471C-A048-21473EA4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7D2-4DEB-45C4-AA18-1B00D704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B21-D41F-4F50-913F-10A67506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65FE-F2E2-45B7-AC27-237CF27A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F48-F3B6-45C7-876D-12CA1937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B46D-B9D9-4103-9FD1-92D45E37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3AE-BDFF-4D7E-89C2-D2BEBEB6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B06-DF87-44D6-A863-E074E823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504-65D0-4D8D-920F-975118D7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E90-A41B-4DB8-80C0-D2A51305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2FBC-B55F-451C-9322-F1FD69FEA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javushka.ru/Schemes/my/free/dobr/14.rar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mjavushka.ru/Schemes/my/free/dobr/5.rar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75"/>
            </a:gs>
            <a:gs pos="50000">
              <a:srgbClr val="ffccff"/>
            </a:gs>
            <a:gs pos="100000">
              <a:srgbClr val="75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АВИЛЬНАЯ ОСАНК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ЗАЛОГ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рушение осан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ейчас выявляется у многих детей, даже у ребят, занимающихся спортом. Дети страдают сутулостью, вялой осанкой, сколиозом, плоскостопием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 Отчего возникают подобные проблемы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рушение осанки - одно из "белых пятен" в медицине. Есть версия, что большую роль играет наследственный фактор. Часто причинами становятся родовые травмы, врожденная аномалия, неправильное развитие. Например, если малыш не ползает, а сразу пытается ходить, то это может привести к болезням опорно-двигательного аппарата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авильная осан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ависит не только от позвоночника, но и от мышечного корсета - группы мышц спины, груди, ягодиц, передней поверхности бедра, удерживающих позвоночник в правильном положении. Если ребенок постоянно сидит в неудобной позе, то нагрузка на мышцы распределяется неравномерно, что утомляет и ослабляет их. Это может привести к искривлению позвоночника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ЧТО ВЫ ЗНАЕТЕ ОБ ОСАН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Что такое правильная осан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Что нужно делать, чтобы сформировать правильную осан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Можно ли исправить осан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Как влияет осанка на работу внутренних орган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Можно ли предотвратить болезни позвоноч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Что вы знаете о строении опорно-двигательной систе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ете ли вы из каких отделов состоит ОД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вестен ли вам химический состав кост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 чего зависит прочность и гибкость кост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меры профилактики заболеваний ОДС существу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4038480"/>
            <a:ext cx="1386000" cy="1478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86600" y="3352680"/>
            <a:ext cx="1676520" cy="2667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067280" y="4267080"/>
            <a:ext cx="187632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38280" y="3276720"/>
            <a:ext cx="175284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7467480" y="9907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НА ЭТИ И ДРУГИЕ ВОПРОСЫ, ИНТЕРЕСУЮЩИЕ ВАС, МЫ ПОСТАРАЕМСЯ ОТВЕТИТЬ В ПРОЦЕССЕ РЕАЛИЗАЦИИ ПРОЕК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«ПРАВИЛЬНАЯ ОСАНКА – ЗАЛОГ ЗДОРОВЬ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2280" y="228600"/>
          <a:ext cx="18288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1828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Чтобы начать исследование проекта нам необходим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разделиться на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наметить сроки реализаци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подготовить публичное представление и обсуждение полученных 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609480" y="914400"/>
            <a:ext cx="8228880" cy="5194080"/>
            <a:chOff x="609480" y="914400"/>
            <a:chExt cx="8228880" cy="5194080"/>
          </a:xfrm>
        </p:grpSpPr>
        <p:cxnSp>
          <p:nvCxnSpPr>
            <p:cNvPr id="59" name="_s10254"/>
            <p:cNvCxnSpPr>
              <a:stCxn id="60" idx="0"/>
              <a:endCxn id="61" idx="3"/>
            </p:cNvCxnSpPr>
            <p:nvPr/>
          </p:nvCxnSpPr>
          <p:spPr>
            <a:xfrm flipV="1" rot="16200000">
              <a:off x="5644080" y="1973160"/>
              <a:ext cx="1039320" cy="3075120"/>
            </a:xfrm>
            <a:prstGeom prst="bentConnector3">
              <a:avLst>
                <a:gd name="adj1" fmla="val 1271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2" name="_s10253"/>
            <p:cNvCxnSpPr>
              <a:stCxn id="63" idx="0"/>
              <a:endCxn id="61" idx="3"/>
            </p:cNvCxnSpPr>
            <p:nvPr/>
          </p:nvCxnSpPr>
          <p:spPr>
            <a:xfrm flipV="1" rot="16200000">
              <a:off x="4203720" y="3413520"/>
              <a:ext cx="1039320" cy="194760"/>
            </a:xfrm>
            <a:prstGeom prst="bentConnector3">
              <a:avLst>
                <a:gd name="adj1" fmla="val 1271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4" name="_s10252"/>
            <p:cNvCxnSpPr>
              <a:stCxn id="65" idx="0"/>
              <a:endCxn id="61" idx="3"/>
            </p:cNvCxnSpPr>
            <p:nvPr/>
          </p:nvCxnSpPr>
          <p:spPr>
            <a:xfrm flipH="1" flipV="1" rot="5400000">
              <a:off x="2764080" y="2167920"/>
              <a:ext cx="1039320" cy="2686320"/>
            </a:xfrm>
            <a:prstGeom prst="bentConnector3">
              <a:avLst>
                <a:gd name="adj1" fmla="val 12716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61" name="_s10248"/>
            <p:cNvSpPr/>
            <p:nvPr/>
          </p:nvSpPr>
          <p:spPr>
            <a:xfrm>
              <a:off x="3489480" y="914400"/>
              <a:ext cx="2468520" cy="2077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0000"/>
                  </a:solidFill>
                  <a:latin typeface="Arial"/>
                </a:rPr>
                <a:t>ГРУППЫ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249"/>
            <p:cNvSpPr/>
            <p:nvPr/>
          </p:nvSpPr>
          <p:spPr>
            <a:xfrm>
              <a:off x="609480" y="4030920"/>
              <a:ext cx="2468520" cy="2077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99"/>
                  </a:solidFill>
                  <a:latin typeface="Arial"/>
                </a:rPr>
                <a:t>Ортопед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250"/>
            <p:cNvSpPr/>
            <p:nvPr/>
          </p:nvSpPr>
          <p:spPr>
            <a:xfrm>
              <a:off x="3489480" y="4030920"/>
              <a:ext cx="2468520" cy="2077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990099"/>
                  </a:solidFill>
                  <a:latin typeface="Arial"/>
                </a:rPr>
                <a:t>Лекторы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251"/>
            <p:cNvSpPr/>
            <p:nvPr/>
          </p:nvSpPr>
          <p:spPr>
            <a:xfrm>
              <a:off x="6369840" y="4030920"/>
              <a:ext cx="2468520" cy="2077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99"/>
                  </a:solidFill>
                  <a:latin typeface="Arial"/>
                </a:rPr>
                <a:t>Спортив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99"/>
                  </a:solidFill>
                  <a:latin typeface="Arial"/>
                </a:rPr>
                <a:t>инструкто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 ходе реализации проекта мы должн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работая в группах, узнать как можно больше о строении и функциях опорно-двиг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оценить необходимость знаний об ОД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представить результаты своей работы на конференции, за круглым столом и при защите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352680" y="4648320"/>
            <a:ext cx="3200400" cy="1981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91520" y="2362320"/>
            <a:ext cx="1523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6858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УДАЧИ ВАМ!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380880"/>
            <a:ext cx="1523880" cy="2438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3200400"/>
            <a:ext cx="2362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8:22:00Z</dcterms:created>
  <dc:creator>Сергей</dc:creator>
  <dc:description/>
  <dc:language>en-US</dc:language>
  <cp:lastModifiedBy>Сергей</cp:lastModifiedBy>
  <dcterms:modified xsi:type="dcterms:W3CDTF">2010-10-13T19:12:1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