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757-AF42-430D-9931-9CC42F8E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519-9EE4-4CC8-8CD8-BEE1AD7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C49-67CE-4F1D-A1A2-CEE9401C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518-BAFA-485B-9CBA-181EF048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2C0-4657-4371-8BAF-73AB90D4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89F-5EAE-4185-9BB6-EF20DC2B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A06-2617-40BF-BED2-9096510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EE1-F495-4249-AB42-9D437906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E02-6573-43A3-B834-5F859D92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889-CD9C-49B1-BC74-22F1C58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2DD-6D9A-41D4-978E-F21F9D3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212-B2FD-4D8F-AA68-D5828771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5C8E-45AD-4102-9CF9-66D3B82F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javushka.ru/Schemes/my/free/dobr/14.rar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mjavushka.ru/Schemes/my/free/dobr/5.rar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АВИЛЬНАЯ ОСАН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ЛОГ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рушение осан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ейчас выявляется у многих детей, даже у ребят, занимающихся спортом. Дети страдают сутулостью, вялой осанкой, сколиозом, плоскостопием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Отчего возникают подобные проблемы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санки - одно из "белых пятен" в медицине. Есть версия, что большую роль играет наследственный фактор. Часто причинами становятся родовые травмы, врожденная аномалия, неправильное развитие. Например, если малыш не ползает, а сразу пытается ходить, то это может привести к болезням опорно-двигательного аппарата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авильная ос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висит не только от позвоночника, но и от мышечного корсета - группы мышц спины, груди, ягодиц, передней поверхности бедра, удерживающих позвоночник в правильном положении. Если ребенок постоянно сидит в неудобной позе, то нагрузка на мышцы распределяется неравномерно, что утомляет и ослабляет их. Это может привести к искривлению позвоночника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ЧТО ВЫ ЗНАЕТЕ ОБ ОСАН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то такое правильная оса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Что нужно делать, чтобы сформировать правильную оса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ожно ли исправить оса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Как влияет осанка на работу внутренних орга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Можно ли предотвратить болезни позвоноч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Что вы знаете о строении опорно-двигательной систе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ете ли вы из каких отделов состоит ОД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вестен ли вам химический состав кос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 чего зависит прочность и гибкость кос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меры профилактики заболеваний ОДС существу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4038480"/>
            <a:ext cx="1386000" cy="1478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3352680"/>
            <a:ext cx="167652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067280" y="4267080"/>
            <a:ext cx="18763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38280" y="3276720"/>
            <a:ext cx="1752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467480" y="990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НА ЭТИ И ДРУГИЕ ВОПРОСЫ, ИНТЕРЕСУЮЩИЕ ВАС, МЫ ПОСТАРАЕМСЯ ОТВЕТИТЬ В ПРОЦЕССЕ РЕАЛИЗАЦИИ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ПРАВИЛЬНАЯ ОСАНКА – ЗАЛОГ ЗДОРОВЬ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228600"/>
          <a:ext cx="1828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1828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Чтобы начать исследование проекта нам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азделиться на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наметить сроки реализаци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одготовить публичное представление и обсуждение получен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609480" y="914400"/>
            <a:ext cx="8228880" cy="5194080"/>
            <a:chOff x="609480" y="914400"/>
            <a:chExt cx="8228880" cy="5194080"/>
          </a:xfrm>
        </p:grpSpPr>
        <p:cxnSp>
          <p:nvCxnSpPr>
            <p:cNvPr id="59" name="_s10254"/>
            <p:cNvCxnSpPr>
              <a:stCxn id="60" idx="0"/>
              <a:endCxn id="61" idx="3"/>
            </p:cNvCxnSpPr>
            <p:nvPr/>
          </p:nvCxnSpPr>
          <p:spPr>
            <a:xfrm flipV="1" rot="16200000">
              <a:off x="5644080" y="1973160"/>
              <a:ext cx="1039320" cy="3075120"/>
            </a:xfrm>
            <a:prstGeom prst="bentConnector3">
              <a:avLst>
                <a:gd name="adj1" fmla="val 1271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2" name="_s10253"/>
            <p:cNvCxnSpPr>
              <a:stCxn id="63" idx="0"/>
              <a:endCxn id="61" idx="3"/>
            </p:cNvCxnSpPr>
            <p:nvPr/>
          </p:nvCxnSpPr>
          <p:spPr>
            <a:xfrm flipV="1" rot="16200000">
              <a:off x="4203720" y="3413520"/>
              <a:ext cx="1039320" cy="194760"/>
            </a:xfrm>
            <a:prstGeom prst="bentConnector3">
              <a:avLst>
                <a:gd name="adj1" fmla="val 1271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" name="_s10252"/>
            <p:cNvCxnSpPr>
              <a:stCxn id="65" idx="0"/>
              <a:endCxn id="61" idx="3"/>
            </p:cNvCxnSpPr>
            <p:nvPr/>
          </p:nvCxnSpPr>
          <p:spPr>
            <a:xfrm flipH="1" flipV="1" rot="5400000">
              <a:off x="2764080" y="2167920"/>
              <a:ext cx="1039320" cy="2686320"/>
            </a:xfrm>
            <a:prstGeom prst="bentConnector3">
              <a:avLst>
                <a:gd name="adj1" fmla="val 1271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1" name="_s10248"/>
            <p:cNvSpPr/>
            <p:nvPr/>
          </p:nvSpPr>
          <p:spPr>
            <a:xfrm>
              <a:off x="3489480" y="914400"/>
              <a:ext cx="2468520" cy="2077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Arial"/>
                </a:rPr>
                <a:t>ГРУПП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249"/>
            <p:cNvSpPr/>
            <p:nvPr/>
          </p:nvSpPr>
          <p:spPr>
            <a:xfrm>
              <a:off x="609480" y="4030920"/>
              <a:ext cx="2468520" cy="2077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99"/>
                  </a:solidFill>
                  <a:latin typeface="Arial"/>
                </a:rPr>
                <a:t>Ортопе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250"/>
            <p:cNvSpPr/>
            <p:nvPr/>
          </p:nvSpPr>
          <p:spPr>
            <a:xfrm>
              <a:off x="3489480" y="4030920"/>
              <a:ext cx="2468520" cy="2077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990099"/>
                  </a:solidFill>
                  <a:latin typeface="Arial"/>
                </a:rPr>
                <a:t>Лектор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251"/>
            <p:cNvSpPr/>
            <p:nvPr/>
          </p:nvSpPr>
          <p:spPr>
            <a:xfrm>
              <a:off x="6369840" y="4030920"/>
              <a:ext cx="2468520" cy="2077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Спортив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инструкт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ходе реализации проекта мы должн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работая в группах, узнать как можно больше о строении и функциях опорно-двиг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оценить необходимость знаний об ОД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представить результаты своей работы на конференции, за круглым столом и при защите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352680" y="464832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91520" y="2362320"/>
            <a:ext cx="1523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УДАЧИ ВАМ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80880"/>
            <a:ext cx="152388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3200400"/>
            <a:ext cx="2362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22:00Z</dcterms:created>
  <dc:creator>Сергей</dc:creator>
  <dc:description/>
  <dc:language>en-US</dc:language>
  <cp:lastModifiedBy>Сергей</cp:lastModifiedBy>
  <dcterms:modified xsi:type="dcterms:W3CDTF">2010-10-13T19:12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