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361-B069-4436-A044-7FC41EB7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F1B-7A31-42CB-B9A2-6CA94A03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A67-AFBD-4E8A-801E-BF3374F5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F0A-3C42-4AA1-9AEC-ABA25B3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B3E-51B3-43AD-8CA6-383E283E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81F-D81F-4E20-BA17-24F4C6E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D32-36BB-4BE7-9F47-3A8CBC0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59C-D562-4498-8410-7430170A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727-5186-4126-8133-66801D5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4B6-E2CA-48BC-A043-6078227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96B-466C-4EC8-A303-C83BA06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AFC-9927-4258-9A32-B4E6959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C4B-8FE4-4BB3-8092-C34ABA74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писание нареч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219320"/>
          <a:ext cx="8696160" cy="4694040"/>
        </p:xfrm>
        <a:graphic>
          <a:graphicData uri="http://schemas.openxmlformats.org/drawingml/2006/table">
            <a:tbl>
              <a:tblPr/>
              <a:tblGrid>
                <a:gridCol w="5410080"/>
                <a:gridCol w="328608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, в которых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дно и то же существительно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ет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в разных падежных форм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рубеж – за рубеж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 назло, вмиг, наспех, наизнанку, поодиночке, наутро, поутру, сбоку, побоку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логов с нареч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ныне, на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о завт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219320"/>
          <a:ext cx="8229600" cy="463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, образованные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з двух повторяющихся существ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 о бок, чудак чудак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 крест-накрест, точь-в-точь, волей-нево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-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собирательными числи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вое, на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р.: по одному, по двое, по тр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219320"/>
          <a:ext cx="8229600" cy="4886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а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ществительными или прилагательными, начинающимися с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с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тяжку, 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щем, в 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у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с краткими прилага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уха, попус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с полными прилагатель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устую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с существительными предлогов </a:t>
                      </a: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, с(со), за, до, под, из-п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просу, с изнанк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за, до смерт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 утро, из-под н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едлогов с существительными, которые в современном языке вышли из употреб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ощак, впоть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143000"/>
          <a:ext cx="8229600" cy="5391000"/>
        </p:xfrm>
        <a:graphic>
          <a:graphicData uri="http://schemas.openxmlformats.org/drawingml/2006/table">
            <a:tbl>
              <a:tblPr/>
              <a:tblGrid>
                <a:gridCol w="441972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дуру, сплеча, сразу, слишком, снаружи, сроду, сродни, спозаранку, спросонок, замуж, замужем, дотла, доверху, донизу, подряд, подчас, исповедь, исподтишка, исподлобья, исподниз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, отчего, потому, поэтому, оттого, зачем, зат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2828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 начинающиеся с: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е-, напере-, впри-, враз(с)-, вза-, вна-, навы-, впол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еребежку, вприпрыжку, взаймы, навыпуск, наперерез, вразнобой, внакидку, вполобор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1371600"/>
          <a:ext cx="8229600" cy="4724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соединением предлогов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-, на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ществительным, если существительное используется при этом не в своем прямом значении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ать назло (нарочн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: на зло отвечать доб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юч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сердцах, в насмешку, в тупик, на славу, на память, на днях, на дыбы, на глазок, на ред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0-02-11T20:35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