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275-906A-4FC0-B8A2-CFFC6123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2DF-E697-42C8-9CEE-50F5605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69B-88C0-4D7E-8E60-44017ECD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347-A204-4463-92AE-01A823B1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BC0-46B0-4418-B7F3-E71A9D4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615-1CAE-4533-B92C-8ABA07D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7E2-2678-4202-BBB0-6999AB6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7DA-F498-40B0-A917-B7C0544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2F0-3E60-4770-9BBE-F17474A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D0F-D868-4866-8403-F918A95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58C-244D-4C68-ADE7-1BA1215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9B1-B8FB-46B4-8C42-5AEE659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1E4-7C6E-4CBD-B420-4A191393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писание нареч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219320"/>
          <a:ext cx="8696160" cy="4694040"/>
        </p:xfrm>
        <a:graphic>
          <a:graphicData uri="http://schemas.openxmlformats.org/drawingml/2006/table">
            <a:tbl>
              <a:tblPr/>
              <a:tblGrid>
                <a:gridCol w="5410080"/>
                <a:gridCol w="328608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, в которых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дно и то же существительно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ет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в разных падежных форм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рубеж – за рубеж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 назло, вмиг, наспех, наизнанку, поодиночке, наутро, поутру, сбоку, побоку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длогов с наречи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ыне, на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о зав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1219320"/>
          <a:ext cx="8229600" cy="463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, образованные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з двух повторяющихся существ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 о бок, чудак чудак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 крест-накрест, точь-в-точь, волей-нево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ов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-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собирательными числитель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вое, натр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р.: по одному, по двое, по тр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219320"/>
          <a:ext cx="8229600" cy="4886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а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уществительными или прилагательными, начинающимися с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лас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тяжку, в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щем, в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с краткими прилагатель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уха, попус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с полными прилагатель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устую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с существительными предлогов </a:t>
                      </a: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, с(со), за, до, под, из-п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спросу, с изнанк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за, до смерт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 утро, из-под н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длогов с существительными, которые в современном языке вышли из употреб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ощак, впотьм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143000"/>
          <a:ext cx="8229600" cy="5391000"/>
        </p:xfrm>
        <a:graphic>
          <a:graphicData uri="http://schemas.openxmlformats.org/drawingml/2006/table">
            <a:tbl>
              <a:tblPr/>
              <a:tblGrid>
                <a:gridCol w="441972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дуру, сплеча, сразу, слишком, снаружи, сроду, сродни, спозаранку, спросонок, замуж, замужем, дотла, доверху, донизу, подряд, подчас, исповедь, исподтишка, исподлобья, исподниз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, отчего, потому, поэтому, оттого, зачем, зат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2828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 начинающиеся с: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е-, напере-, впри-, враз(с)-, вза-, вна-, навы-, впол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ебежку, вприпрыжку, взаймы, навыпуск, наперерез, вразнобой, внакидку, вполобор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1371600"/>
          <a:ext cx="8229600" cy="4724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ов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, на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уществительным, если существительное используется при этом не в своем прямом значении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ать назло (нарочн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: на зло отвечать доб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сердцах, в насмешку, в тупик, на славу, на память, на днях, на дыбы, на глазок, на ред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0-02-11T20:35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