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Короткова" initials="К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<Relationship Id="rId15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7-12-10T20:15:50.765000000" idx="1">
    <p:pos x="706" y="1039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9E5-FBB2-4C95-8EAF-131769D2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E035-85D8-47FD-8281-AB45A817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26F8B-155B-45B4-9701-F328FB87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B92EE-5132-4679-8CFE-485D6E14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DCB55-FD66-420C-8FD9-568B08F1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81E5A-92F1-46DD-A354-E5047CB4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4C340-77FE-4026-B428-0D4AA090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4EBF3-2175-477C-B1F4-EE53EDEA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23084-BAE8-4DF9-B05B-E01D722E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38CCE-A7BA-4083-BCD3-738D2AB6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C51B4-D6EE-432E-8283-0582C19B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903D-7970-4410-8B50-5A1B642E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0205-532B-40E7-B805-152D653F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1CC7-2D7B-4207-9D17-2AFCA44A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FE12-DB4B-497F-A590-D3E10D7B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6917-58E9-4461-83FA-04F7609C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486B-E245-4FE3-B18F-BBB64BE1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3AAC-B2D2-4CF6-8FB9-DE1A5804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1CCF-CAAC-4D2D-A00E-A09B7DB9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0970-7E4A-4B6E-B0B4-5794D0F4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610-BBB4-4EA8-B7AB-B3C7C985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819D-F17C-4EC2-A765-8494BB2D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C0D6-4DB0-489D-8888-F4F147A1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7786-71A3-4048-8903-054BFE2F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91A8-4CF3-4A18-ADD6-29658F2C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19DF-BC98-4EAA-A377-4FBE51CC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97BED-B675-4C2A-AA6F-878DCE45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0558F-E250-4DFE-9E19-3AB76396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07085-7404-4A54-9FF8-CEF39E89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4E2A4-CEDA-4F84-91DC-B052856C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ED9B8-87E5-453D-95A4-F4CB6A95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0B5-516E-483F-B662-422EFE4E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07BA4-ABC3-4132-AE44-E4CADF4A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90217-255B-40A2-A86B-74DD061C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0D0E4-4FDA-40E4-9DF8-B1126B02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8F48B-0D8B-4767-AA8F-EE66A587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3CE94-A02B-4112-9131-3D763DD8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B541A-808E-4043-81F7-8FDE5939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3E94-64DB-4B86-B97B-5D5CDC58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44813-3298-4BF2-9BAF-46C42C73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AD3BA-454E-439D-961E-A89973A9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50599-B0CB-474B-98B1-2C7F68CF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C72-F4AA-4631-A269-92D93317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B3803-E95C-40F3-AB43-E4D869C7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9A0CD-8C9D-4BAC-A93A-F152DD89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2681F-9A3C-4562-99B8-C56DE553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98E9C-D62F-4F51-AA0B-A7B51510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2A21A-1A38-4375-B976-A1371019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A0077-95E4-4684-8AE4-3C52E0D9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4A84A-7CD8-4548-85D0-C385CD97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14C02-062F-41DE-919F-51F3812B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A78E9-CCAB-484B-B98D-DA7A55F4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B7F22-78C5-42F0-8F53-7602862B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AA69-5F63-4391-BFB4-99F14F23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9417A-199F-4239-B9C9-6637AF13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0B2D4-E462-4662-B2E8-880AB23E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A326B-F8AB-461B-9284-521BE8C2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4E497-FD02-40FB-AD77-62D23811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42DD2-E7D0-4630-A9F9-A8320D95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F6ABF-56E8-4C70-9060-80480FDD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0B68B-60A7-41ED-85AB-DDA0C20D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2E5D9-83AF-4851-B8BC-34CF3D83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53BED-E029-48FA-A697-B3375D47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B8A1F-CAD8-46BD-8697-CAEDD645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9650-2D49-4589-935F-5F92C94D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A57DA-0319-4CA0-AA57-B6180EB0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7812D-AE91-4049-ADA5-69F66E36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BB510-95A3-4D9B-B5F4-FAE1FEE9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E226A-78E2-4542-BB01-3754B8C3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3B8EC-8425-427F-9BF6-497301B8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AAC02-2BCC-478E-87FF-E50DD110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90AE1-0E82-4324-9EEC-A27A037F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A86D0-37DF-4377-A131-EEBE309E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09B93-F5A7-4AD4-B97D-3F44185A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11550-3A0D-40CC-964D-DCBE6ADB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D8F-044A-4E6A-B1ED-05299FC6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601F4-C5E8-435F-96D8-BB3B9000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08EC0-1416-40BC-910B-CB07D913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09B60-20B9-41D8-977A-DE7D4EAC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6ED8F-6237-42F8-8570-D3D738CE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A3741-D1A0-4C1F-82AC-CA76ABD4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43520-8DEE-49C4-A684-4A5DA55B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B15CC-EDD1-42AA-8A5B-0C1D3203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232AD-E9F9-4D4E-A7E4-FE9EBD6D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ACE8E-78CD-48FD-A849-5272F2AA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55A1F-4E93-4F11-91F2-626A7D49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7A9-3799-492E-AD8D-FD07CD1F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9C731-3762-4ECE-BDEC-07CD818E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B1546-CE44-47D6-BC0E-E4C372CC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6A237-F901-45F9-A639-FBC30AD6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09E6D-C2E8-455A-A5DE-26B5E326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A416A-8767-4788-8709-2DF70BB5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39A7E-DAEC-456A-903D-0D7D3F6B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D52B4-DB73-4E02-BAFE-A058FDB4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8CBB6-6380-4989-B3FA-5B11D219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DD41A-DD01-4B5A-8EAC-2CBC40B6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0EDC3-5999-4173-8342-C14985A0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157-DC7D-43DA-8759-CBAF8294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1CE39-EEDB-429B-9893-222F616A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89B4B-99BE-4528-9462-A29F8ACD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CC3C9-1D5D-450B-88BA-2CFA7B04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3097D-4F9B-4299-9EFD-A4D1862A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A3E58-F9CB-4B69-81E4-D1D4A9E2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FDCA6-BE2B-48F0-80C2-BD675F92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78F0E-366E-4917-A812-F9EF60A2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923B9-76C1-4CDA-8130-82534989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18C96-D552-42A5-B4DB-3B9D86D3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6BAC6-E190-4F22-AB41-06F690EC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B781-01AE-47DA-BF57-A10B670DCFE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11C4-132E-4CBF-A881-C73E399505C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C190-80A9-45CB-99F0-308FC463C64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3413-5391-406C-889B-722DB88BF00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1610-B650-47DB-964C-34DB94F23D9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31F6-4A32-48A0-948F-7FBD35A536F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40B1-4422-4617-8C00-2CEF5BE7414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A3E2-1210-4E5D-9762-FADA3FD1448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BCFB-F65A-4995-B2A1-77480F15681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4875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0" y="12189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Franklin Gothic Book"/>
              </a:rPr>
              <a:t>-Н-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1. От глаголов несовершенного вида без з/сл.  коше</a:t>
            </a:r>
            <a:r>
              <a:rPr b="0" lang="ru-RU" sz="2500" spc="-1" strike="noStrike">
                <a:solidFill>
                  <a:srgbClr val="ff0000"/>
                </a:solidFill>
                <a:latin typeface="Franklin Gothic Book"/>
              </a:rPr>
              <a:t>н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ый луг </a:t>
            </a:r>
            <a:r>
              <a:rPr b="0" lang="ru-RU" sz="2500" spc="-1" strike="noStrike">
                <a:solidFill>
                  <a:srgbClr val="0070c0"/>
                </a:solidFill>
                <a:latin typeface="Franklin Gothic Book"/>
              </a:rPr>
              <a:t>(косить НСВ – з/сл.)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Исключения: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евиданны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                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еслыханный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                      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                    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ежданны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                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егаданны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                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желанны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                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едленны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                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лышанны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                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еожиданны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267080" y="1295280"/>
            <a:ext cx="5105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Franklin Gothic Book"/>
              </a:rPr>
              <a:t>-</a:t>
            </a:r>
            <a:r>
              <a:rPr b="0" lang="ru-RU" sz="2500" spc="-1" strike="noStrike">
                <a:solidFill>
                  <a:srgbClr val="0070c0"/>
                </a:solidFill>
                <a:latin typeface="Franklin Gothic Book"/>
              </a:rPr>
              <a:t>НН-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От глаголов несовершенного вида с з/сл. (НСВ + з/сл.); глаже</a:t>
            </a:r>
            <a:r>
              <a:rPr b="0" lang="ru-RU" sz="2500" spc="-1" strike="noStrike">
                <a:solidFill>
                  <a:srgbClr val="ff0000"/>
                </a:solidFill>
                <a:latin typeface="Franklin Gothic Book"/>
              </a:rPr>
              <a:t>нн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ое утюгом платье </a:t>
            </a:r>
            <a:r>
              <a:rPr b="0" lang="ru-RU" sz="2500" spc="-1" strike="noStrike">
                <a:solidFill>
                  <a:srgbClr val="0070c0"/>
                </a:solidFill>
                <a:latin typeface="Franklin Gothic Book"/>
              </a:rPr>
              <a:t>(гладить-НСВ+з/сл.)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2. От глаголов совершенного вида:  выглаже</a:t>
            </a:r>
            <a:r>
              <a:rPr b="0" lang="ru-RU" sz="2500" spc="-1" strike="noStrike">
                <a:solidFill>
                  <a:srgbClr val="ff0000"/>
                </a:solidFill>
                <a:latin typeface="Franklin Gothic Book"/>
              </a:rPr>
              <a:t>нн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ое платье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Franklin Gothic Book"/>
              </a:rPr>
              <a:t>         </a:t>
            </a:r>
            <a:r>
              <a:rPr b="0" lang="ru-RU" sz="2500" spc="-1" strike="noStrike">
                <a:solidFill>
                  <a:srgbClr val="0070c0"/>
                </a:solidFill>
                <a:latin typeface="Franklin Gothic Book"/>
              </a:rPr>
              <a:t>(выгладить - СВ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Franklin Gothic Book"/>
              </a:rPr>
              <a:t>         </a:t>
            </a:r>
            <a:r>
              <a:rPr b="0" lang="ru-RU" sz="2500" spc="-1" strike="noStrike">
                <a:solidFill>
                  <a:srgbClr val="0070c0"/>
                </a:solidFill>
                <a:latin typeface="Franklin Gothic Book"/>
              </a:rPr>
              <a:t>решить (СВ) 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– решённый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Исключения: посажёный отец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                         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названый брат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3.  На – ованный/-еванный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0" lang="ru-RU" sz="2500" spc="-1" strike="noStrike">
                <a:solidFill>
                  <a:srgbClr val="0070c0"/>
                </a:solidFill>
                <a:latin typeface="Franklin Gothic Book"/>
              </a:rPr>
              <a:t>баловать-балованный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Исключения:кованый, жеваный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0"/>
            <a:ext cx="4648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8080" indent="-478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78080" indent="-47808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Franklin Gothic Book"/>
              </a:rPr>
              <a:t>  </a:t>
            </a:r>
            <a:r>
              <a:rPr b="0" lang="ru-RU" sz="3800" spc="-1" strike="noStrike">
                <a:solidFill>
                  <a:srgbClr val="0070c0"/>
                </a:solidFill>
                <a:latin typeface="Franklin Gothic Book"/>
              </a:rPr>
              <a:t>краткие причастия</a:t>
            </a:r>
            <a:endParaRPr b="0" lang="en-US" sz="3800" spc="-1" strike="noStrike">
              <a:solidFill>
                <a:srgbClr val="4e3b30"/>
              </a:solidFill>
              <a:latin typeface="Franklin Gothic Book"/>
            </a:endParaRPr>
          </a:p>
          <a:p>
            <a:pPr marL="478080" indent="-478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78080" indent="-478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1. Могут быть заменены глаголом: </a:t>
            </a:r>
            <a:r>
              <a:rPr b="0" lang="ru-RU" sz="3000" spc="-1" strike="noStrike">
                <a:solidFill>
                  <a:srgbClr val="0070c0"/>
                </a:solidFill>
                <a:latin typeface="Franklin Gothic Book"/>
              </a:rPr>
              <a:t>организовано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(организовали) </a:t>
            </a:r>
            <a:r>
              <a:rPr b="0" lang="ru-RU" sz="3000" spc="-1" strike="noStrike">
                <a:solidFill>
                  <a:srgbClr val="0070c0"/>
                </a:solidFill>
                <a:latin typeface="Franklin Gothic Book"/>
              </a:rPr>
              <a:t>новое производство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478080" indent="-478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2. Употребляются с существительными (местоимениями) среднего рода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478080" indent="-478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3. Краткие причастия являются сказуемым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93560" indent="-4935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70c0"/>
                </a:solidFill>
                <a:latin typeface="Franklin Gothic Book"/>
              </a:rPr>
              <a:t>наречия</a:t>
            </a:r>
            <a:endParaRPr b="0" lang="en-US" sz="38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1. Может быть заменено другим наречием: </a:t>
            </a:r>
            <a:r>
              <a:rPr b="0" lang="ru-RU" sz="3000" spc="-1" strike="noStrike">
                <a:solidFill>
                  <a:srgbClr val="0070c0"/>
                </a:solidFill>
                <a:latin typeface="Franklin Gothic Book"/>
              </a:rPr>
              <a:t>экскурсия прошла организованно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(слаженно, хорошо)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2. Сочетается с глаголом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3. Наречие является обстоятельством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sp>
        <p:nvSpPr>
          <p:cNvPr id="407" name="Прямоугольник 3"/>
          <p:cNvSpPr/>
          <p:nvPr/>
        </p:nvSpPr>
        <p:spPr>
          <a:xfrm>
            <a:off x="609480" y="228600"/>
            <a:ext cx="8077320" cy="90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МЕДЛЕ…О   ИДТИ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ПУТА…О   ОТВЕЧАТЬ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НЕЧАЯ…О   РАЗБИТЬ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ДЕЛА   НАМЕЧЕ…Ы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НАСЛЕДСТВО   РАСТЕРЯ…О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ПОСМОТРЕТЬ   РАСТЕРЯ…О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ГОВОРИЛ   ВЗОЛНОВА…О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РАССКАЗЫВАТЬ   ВДОХНОВЕ…О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УВЛЕЧЕ…А   ЧТЕНИЕМ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УВЛЕЧЕ…О   ЗАНИМАТЬСЯ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12-11T14:24:27Z</dcterms:modified>
  <cp:revision>12</cp:revision>
  <dc:subject/>
  <dc:title>Слайд 1</dc:title>
</cp:coreProperties>
</file>