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Короткова" initials="К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7-12-10T20:15:50.765000000" idx="1">
    <p:pos x="706" y="10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D96-9988-404C-8856-42DAD198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6B0-AC77-479D-AB65-D40A461E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8BAC3-98ED-442C-AD3F-064F67F2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3CC7C-0F82-4C82-AE3F-D75B6CEF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7F24-CDC5-48EA-931D-9AE07C6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5ABB-535C-493B-AA98-BE67F97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2C252-97D8-4633-9DB4-3EC1D35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1F81E-EA2F-4E1B-B5D8-3BF8040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5B466-3A56-4153-BD84-63F5C75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7114-3CE2-40D9-8C02-185A4309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F4E7-0B7A-4A83-A912-384C6850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6E4-F010-4C20-86EE-AF508E2F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BD4-DC2C-4833-956F-9E29D12A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5AC6-2480-418F-B097-839F2B50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C051-1FB0-42CC-A937-68DDFC2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651F-D488-4234-8291-4EF10C5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7002-D953-43AF-B356-0465AA0B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8AF-DD79-42A0-8AD7-50904F16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905F-8497-448D-98C4-8E3B49B5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7F4-02D0-4F91-9C44-8594B12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1DC-0A08-4D9C-9D3E-508EB346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0269-E205-4602-84A9-6CDF2CD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9B72-F87C-418B-9190-D7F6E77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6DA-D5AC-4299-A68A-00868FA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33C0-D0B3-4190-91BB-24235854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E38-9265-4B66-80AF-9A9EC8C8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42BD-8658-4938-80C8-4EAF4AC3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A67A-49DB-401E-A268-8FBD6A3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3031-83BA-450E-A9B8-9C0105B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0FB4-44B5-4188-A6B4-343F392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F03D-B986-480E-9981-8116FC74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3F8-DC83-486A-833D-B97E54B6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7DC8-CA62-466B-AED4-4108103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2C73-488D-43C9-9767-C4617C4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C506-F84F-4801-925A-1E2F86D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8F56-8020-4D83-8CB7-130AFF0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0060-4858-4A64-9A4B-A67BFD0D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4695-377A-4C40-ABE6-DAC0F30A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EDAE-F198-4972-AD8B-C04BC522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5749-C352-42B6-8710-2DE645F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BA1C-84DA-4894-9E77-64B12A5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F242-B199-42A8-AC6E-B6A8C64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912-21F2-44E2-B23F-45295AF1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339C-E70B-4162-A005-F6C1223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5B30-9F8E-412D-8487-C9F389B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764B-4657-45E6-92CE-7857DDE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9E44-8DDB-4F58-BF1A-DCA6397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AC00-B326-445E-987F-319242A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38D2-54B3-44BA-83C2-0E86704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F0A8-5342-4F14-A3E1-1FE3299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705E-BA0A-4ED9-892A-4543A04C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72D6-34CF-41D3-A34C-B979EB63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0397-2A9E-488A-A786-8EB47AC5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E88-3599-4153-B193-35433E5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A27C-926C-40CC-803A-4ED56F25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452B-4196-460E-9249-48295D1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B5FA-1FBE-48EF-8A3E-691656B6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B4D4-D356-4420-9B0A-3438026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2907-0896-4D69-ACB3-8528BD5E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7BB0-32CF-488F-B8BB-B4C68969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FE79-5C44-440F-846B-930FC38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6E6A-359F-4ED6-845D-CE57C83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A405-835A-49D2-86EB-14F096BD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B9C5-3D50-4943-8B70-AC6B05F8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DDD-96E5-4719-8A61-414BB76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C8DC-40CC-42C8-8675-17460C9A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05DFE-0954-4910-B772-CFAC3512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37AAB-131D-4C86-878E-714204B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289D3-6D16-4418-84A1-01D32569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6D2E-C183-4F06-8733-BE8B033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D27F2-A044-4EDD-B9CD-5AAF104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2FE8A-4A19-4828-BF16-820B3DC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0F9A-ED25-4A05-8699-B799C5E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0E0E-004E-42E5-B249-DF4FE48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6439-6D0F-4641-B1D4-37F9D2B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303-BD44-4FBD-801A-8C84389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54CA-2C4B-41FA-B3AB-BEA5143E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CF336-E5C9-4C4F-93D3-AC53987D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85DDD-515A-4EFC-A7C1-10078652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7E6E-68DD-4F89-81DE-DE92CDAE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7BED-AB89-4A21-AC45-F2B15310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C71A1-CC59-498D-99E4-96D25D9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D239-2390-4D06-B537-020741C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71D1-EA03-471C-9DC4-EAAC199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7339-E1B9-435E-964D-4743E96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6810-94B9-44B9-B7C1-39B7A13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2E3-ACCC-45EB-A1C2-C82A67D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3A8A-6E10-4D11-9D08-86DE51D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9EA8-E0FE-43F9-8CB7-B71BBA8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1F9F9-FD03-4BC0-B8F9-8697DEA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7E50-E094-4B8C-9BB8-AF8EE9C9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C4C2-6743-49EC-8A9E-9F9AD9D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5465-1971-404D-BB5D-C15B5847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EA614-723D-493B-BF21-F54310C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5139-233F-417B-97B3-DEE878C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DF05-CB10-4B37-8354-A1062A8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4FA7-4268-4C22-91CD-D8BE2C2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A77-DBDE-4FC3-A8DC-CD64905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BBA2C-D6BB-4AFA-9C44-A8DCFC1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C7594-03F3-4224-A29D-08D4CB0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0BF0-41D4-4F71-A027-D2D0C60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1641-E74D-48A5-BBFB-78F8787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AD5C9-D280-4A4E-AF8A-24A153DD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3A2C-040A-4653-9B6A-08CFF105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B8073-2048-49BB-B488-EF3706A1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3C7D0-7ED2-4580-82A9-E853EDB5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03526-655B-425B-BBB3-799A84CA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3198C-2287-46D3-80CA-5CE608E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8E06-7B71-4F85-B18A-989A37A557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968-DE0E-4502-AE59-6F4212DD126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B4F5-5E01-46D3-8978-6ADCFE47C1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C02-A87E-4A32-BAB3-F9FFA33043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763B-44E7-4343-8F27-5487FCE1A68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5EA-FC7F-4E60-90D3-21248C716E7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3584-6A9F-4A42-A282-21DB483156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449-E7BC-432A-AE91-CC6B0C4A04A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B77-12F3-451A-B358-D4DB2080BB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Franklin Gothic Book"/>
              </a:rPr>
              <a:t>-Н-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 От глаголов несовершенного вида без з/сл.  кош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ый луг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косить НСВ – з/сл.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ви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слыханный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ж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га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ел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ле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ыш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ожи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670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-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НН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т глаголов несовершенного вида с з/сл. (НСВ + з/сл.); глаж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е утюгом платье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гладить-НСВ+з/сл.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 От глаголов совершенного вида:  выглаж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е платье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выгладить - СВ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решить (СВ)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– решё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 посажёный отец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званый брат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  На – ованный/-ева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баловать-балова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кованый, жева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r>
              <a:rPr b="0" lang="ru-RU" sz="3800" spc="-1" strike="noStrike">
                <a:solidFill>
                  <a:srgbClr val="0070c0"/>
                </a:solidFill>
                <a:latin typeface="Franklin Gothic Book"/>
              </a:rPr>
              <a:t>краткие причастия</a:t>
            </a:r>
            <a:endParaRPr b="0" lang="en-US" sz="3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Могут быть заменены глаголом: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организовано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(организовали)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новое производство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Употребляются с существительными (местоимениями) среднего род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Краткие причастия являются сказуемы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70c0"/>
                </a:solidFill>
                <a:latin typeface="Franklin Gothic Book"/>
              </a:rPr>
              <a:t>наречия</a:t>
            </a:r>
            <a:endParaRPr b="0" lang="en-US" sz="3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Может быть заменено другим наречием: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экскурсия прошла организованно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(слаженно, хорошо)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Сочетается с глаголо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Наречие является обстоятельств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609480" y="228600"/>
            <a:ext cx="8077320" cy="90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МЕДЛЕ…О   ИДТ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УТА…О   ОТВЕЧА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ЕЧАЯ…О   РАЗБИ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ДЕЛА   НАМЕЧЕ…Ы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АСЛЕДСТВО   РАСТЕРЯ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ОСМОТРЕТЬ   РАСТЕРЯ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ГОВОРИЛ   ВЗОЛНОВА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РАССКАЗЫВАТЬ   ВДОХНОВЕ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ВЛЕЧЕ…А   ЧТЕНИЕМ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ВЛЕЧЕ…О   ЗАНИМАТЬСЯ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1T14:24:27Z</dcterms:modified>
  <cp:revision>12</cp:revision>
  <dc:subject/>
  <dc:title>Слайд 1</dc:title>
</cp:coreProperties>
</file>