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0CA-DB41-438C-A6B4-F277CF19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338-C6C2-4DDF-B546-96461D7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4F1-FADB-4A17-98E3-B4DC4E19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F89-A340-4DB1-801C-B9A93E4B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9E97-48B0-4A8C-A42C-3FB978AC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7A18-EAF6-47B9-9E27-56C92C0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6BF7-860D-406A-BE50-A3A3D096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8F81-2C83-4416-935D-B9F82A3D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6CCB-F84B-4867-B7F9-CB1FA2D0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2278-2851-4BE9-9AED-2B8D4EA1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C0CA-A721-41F3-BBE2-C57C43BA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09C-07CC-44B9-9711-2D97F47C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8505-6DB7-45B6-9DAC-D1FFAE5D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EF5D-6B64-4139-9FC7-0825B74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73C2-FD07-4F76-9540-B7BE9A3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ED83-B5B6-4D05-B158-4FD84922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AA96-A9A3-4D7E-B7CA-B3E73CB3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085-ABF7-4577-993E-54349AC4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172-0A87-4C9D-9640-B1C16048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CC8-19E0-4E25-8130-C52E5389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175-BE2F-4D99-85F7-E7473E9B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D93-148A-4726-AB62-10686AF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60E-3629-4583-8790-1D9738F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322-8198-4B6A-9D7F-3E8135F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D6A6-9DB3-4B26-AD87-01EEE8A13F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5C4-A2F6-4A73-A0BA-66E9E44141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0;&#1085;&#1090;&#1077;&#1088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963720" y="214200"/>
            <a:ext cx="72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80"/>
                </a:solidFill>
                <a:latin typeface="Arial"/>
              </a:rPr>
              <a:t>Лента Мёбиу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332000" y="4653000"/>
            <a:ext cx="70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Arial"/>
              </a:rPr>
              <a:t>Выполнил ученик 8 в класса МБОУ СОШ №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Arial"/>
              </a:rPr>
              <a:t>Гордеев 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Arial"/>
              </a:rPr>
              <a:t>Руководитель, учитель математики,  Самутин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6" descr="1.jpg"/>
          <p:cNvPicPr/>
          <p:nvPr/>
        </p:nvPicPr>
        <p:blipFill>
          <a:blip r:embed="rId1"/>
          <a:stretch/>
        </p:blipFill>
        <p:spPr>
          <a:xfrm>
            <a:off x="2097000" y="1828800"/>
            <a:ext cx="5016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428840" y="333000"/>
            <a:ext cx="6022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меются и материальные воплощения простого листа Мёбиуса. Недавно построенный в Лондоне Олимпийский велодром имеет контуры, которые можно назвать вариацией на тему листа Мёбиуса. Невероятный проект  библиотеки  в  городе Астана (Казахстан)  имеет вид ленты  Мёбиу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Рисунок 5" descr="2608-4-2.jpg"/>
          <p:cNvPicPr/>
          <p:nvPr/>
        </p:nvPicPr>
        <p:blipFill>
          <a:blip r:embed="rId1"/>
          <a:stretch/>
        </p:blipFill>
        <p:spPr>
          <a:xfrm>
            <a:off x="1071720" y="2928960"/>
            <a:ext cx="4143240" cy="2759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2608-4-1.jpg"/>
          <p:cNvPicPr/>
          <p:nvPr/>
        </p:nvPicPr>
        <p:blipFill>
          <a:blip r:embed="rId2"/>
          <a:stretch/>
        </p:blipFill>
        <p:spPr>
          <a:xfrm>
            <a:off x="5214960" y="4241880"/>
            <a:ext cx="392904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769608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уют техническ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ненияленты Мёбиу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оса 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ленточн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конвейер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выполняе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виде ленты Мёбиус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позволяет ему работа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льше, потому что вся поверхность ленты  изнашивается равномерн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-181080" y="508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Users\Учитель\Desktop\i.jpg"/>
          <p:cNvPicPr/>
          <p:nvPr/>
        </p:nvPicPr>
        <p:blipFill>
          <a:blip r:embed="rId1"/>
          <a:stretch/>
        </p:blipFill>
        <p:spPr>
          <a:xfrm>
            <a:off x="5622840" y="2143080"/>
            <a:ext cx="35211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28480" y="1143000"/>
            <a:ext cx="68151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 многих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матричных принтерах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 красящая лента также имеет вид листа Мёбиуса для увеличения её ресур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стройство под названием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</a:rPr>
              <a:t>резистор Мёбиус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 — это недавно изобретённый электронный элемент, который не имеет собственной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</a:rPr>
              <a:t>индуктивност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лагодаря ленте Мёбиуса появился "Механизм управления", на который получено Авторское свидетельство №1453110 (Приоритет 26.07.1985, автор Смирнов В.Б.). Механизм управления можно применить в детских заводных игрушках,  в конструкции стабилизатора штурвала рулевого привода, в щелевом затворе фот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http://dic.academic.ru/pictures/wiki/files/49/180px-Recycle001.svg.png"/>
          <p:cNvPicPr/>
          <p:nvPr/>
        </p:nvPicPr>
        <p:blipFill>
          <a:blip r:embed="rId1"/>
          <a:stretch/>
        </p:blipFill>
        <p:spPr>
          <a:xfrm>
            <a:off x="1619280" y="2060640"/>
            <a:ext cx="4889520" cy="4618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еждународный символ переработки представляет собой Лист Мёбиус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http://citycelebrity.ru/uploads/user_post_pics/03afdb742d1f999046683af329b031eb.jpg"/>
          <p:cNvPicPr/>
          <p:nvPr/>
        </p:nvPicPr>
        <p:blipFill>
          <a:blip r:embed="rId1"/>
          <a:stretch/>
        </p:blipFill>
        <p:spPr>
          <a:xfrm>
            <a:off x="4356000" y="260280"/>
            <a:ext cx="4513320" cy="2808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http://2.bp.blogspot.com/_GFhTL_IQFTU/TNZjF29yo3I/AAAAAAAAAGo/_MTim1CuT6g/s1600/R8-Charts-Nadi-man.jpg"/>
          <p:cNvPicPr/>
          <p:nvPr/>
        </p:nvPicPr>
        <p:blipFill>
          <a:blip r:embed="rId2"/>
          <a:stretch/>
        </p:blipFill>
        <p:spPr>
          <a:xfrm>
            <a:off x="684360" y="2421000"/>
            <a:ext cx="3314520" cy="3816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717080" y="4724280"/>
            <a:ext cx="458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 практике индийской йо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используется принцип дви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энергетических потоков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раектории листа Мёби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48920" y="568440"/>
            <a:ext cx="366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реди ювелир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кже встреч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нта Мёби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…И знаменитая топологическая фигура - «Лист Мёбиуса»..."/>
          <p:cNvPicPr/>
          <p:nvPr/>
        </p:nvPicPr>
        <p:blipFill>
          <a:blip r:embed="rId1"/>
          <a:stretch/>
        </p:blipFill>
        <p:spPr>
          <a:xfrm>
            <a:off x="324000" y="1125360"/>
            <a:ext cx="2857320" cy="367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18_small"/>
          <p:cNvPicPr/>
          <p:nvPr/>
        </p:nvPicPr>
        <p:blipFill>
          <a:blip r:embed="rId2"/>
          <a:stretch/>
        </p:blipFill>
        <p:spPr>
          <a:xfrm>
            <a:off x="6588000" y="1773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http://www.virezki.ru/f/a0/ru/images/mebius/lm.jpg"/>
          <p:cNvPicPr/>
          <p:nvPr/>
        </p:nvPicPr>
        <p:blipFill>
          <a:blip r:embed="rId3"/>
          <a:stretch/>
        </p:blipFill>
        <p:spPr>
          <a:xfrm>
            <a:off x="3995640" y="2708280"/>
            <a:ext cx="2156040" cy="3367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254160" y="260280"/>
            <a:ext cx="888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Лента Мёбиуса в скульптуре представлена в различных вариан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от традиционных до самых невероятных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34000" y="5032440"/>
            <a:ext cx="329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анная скульп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ставлена из множ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сервных ба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642360" y="5465880"/>
            <a:ext cx="20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ст Мёбиус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277440" y="134136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тография 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равь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надлежит извест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лландскому худож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ису Эш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3924360" y="712800"/>
            <a:ext cx="398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онумент у здания Президиума Национальной  академии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Мин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http://minchanin.esmasoft.com/images/minsk09b/moeb1.jpg"/>
          <p:cNvPicPr/>
          <p:nvPr/>
        </p:nvPicPr>
        <p:blipFill>
          <a:blip r:embed="rId1"/>
          <a:stretch/>
        </p:blipFill>
        <p:spPr>
          <a:xfrm>
            <a:off x="539640" y="260280"/>
            <a:ext cx="324648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assets2.lookatme.ru/assets/article_image-image/05/69/67421/article_image-image-article.jpg"/>
          <p:cNvPicPr/>
          <p:nvPr/>
        </p:nvPicPr>
        <p:blipFill>
          <a:blip r:embed="rId2"/>
          <a:stretch/>
        </p:blipFill>
        <p:spPr>
          <a:xfrm>
            <a:off x="5292720" y="2060640"/>
            <a:ext cx="3166920" cy="424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1763640" y="530064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амятник ленте Мёбиуса  в Моск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lentamebius"/>
          <p:cNvPicPr/>
          <p:nvPr/>
        </p:nvPicPr>
        <p:blipFill>
          <a:blip r:embed="rId1"/>
          <a:stretch/>
        </p:blipFill>
        <p:spPr>
          <a:xfrm>
            <a:off x="971640" y="260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013"/>
          <p:cNvPicPr/>
          <p:nvPr/>
        </p:nvPicPr>
        <p:blipFill>
          <a:blip r:embed="rId2"/>
          <a:stretch/>
        </p:blipFill>
        <p:spPr>
          <a:xfrm>
            <a:off x="5219640" y="3860640"/>
            <a:ext cx="3429000" cy="2562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4284720" y="333360"/>
            <a:ext cx="4145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Лист Мебиуса – символ математики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Что служит высшей мудрости венцом…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Он полон неосознанной романтики: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В нем бесконечность свернута кольцом.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В нем – простота, и вместе с нею – сложност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Что недоступна даже мудрецам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39640" y="3716280"/>
            <a:ext cx="41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Здесь на глазах преобразилась     плоскость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В поверхность без начала и конца.</a:t>
            </a: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Здесь нет пределов, нет ограничений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Стремись вперед и открывай миры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Почувствуй силу новых ощущений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Прими познанья высшего дары.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10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Выводы о проделанной работ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7893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читав определённую литературу, я  познакомился с геометрической поверхностью лентой Мёбиус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нализируя собранный материал, я увидел необычность этой лент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кспериментальным путём  я показал, что лист Мёбиуса является односторонней поверхностью, что необычно для трёхмерной фигур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провел восемь опытов с листом и доказал, что он изменяет свои свойства при разрезан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видел, что усложнение эксперимента не приводит к более эффектным результатам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ытался убедить, что лента Мёбиуса нашла применение во многих привычных для нас сферах жизн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читаю правильным, что лист Мёбиуса считают символом современной математики, так как именно он дал толчок новым математическим исследования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413000"/>
            <a:ext cx="7696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удесные свойства листа Мёбиуса привели к новым открытиям и изобретениям(очень полезным и совершенно бесполезным). Лист Мёбиуса служил вдохновением для скульпторов, художников и графиков. Многие физические явления используют для объяснения лист Мёбиуса. Ученые генетики рассматривают код ДНК в качестве модели ленты Мёбиуса. Лист Мёбиуса применяется для усовершенствования технических приборов. Загадочная лента Мёбиуса применяется для показа фокусов в цирк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8840" y="356760"/>
            <a:ext cx="74073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  </a:t>
            </a:r>
            <a:br>
              <a:rPr sz="3700"/>
            </a:b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Изучить разнообразные свойства ленты Мёбиуса и найти, где она используется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21867269_list(1)"/>
          <p:cNvPicPr/>
          <p:nvPr/>
        </p:nvPicPr>
        <p:blipFill>
          <a:blip r:embed="rId1"/>
          <a:stretch/>
        </p:blipFill>
        <p:spPr>
          <a:xfrm>
            <a:off x="2087640" y="2643120"/>
            <a:ext cx="4968720" cy="367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28480" y="121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учить историю возникновения ленты Мёбиус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учить её топологические свойства;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сти разнообразные эксперименты с лентой Мёбиус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брать и проанализировать информацию по данному вопрос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1920" indent="-25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учить практические рекомендации применения ленты Мёбиуса в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Делаем ленту Мёбиуса из бумаги"/>
          <p:cNvPicPr/>
          <p:nvPr/>
        </p:nvPicPr>
        <p:blipFill>
          <a:blip r:embed="rId1"/>
          <a:stretch/>
        </p:blipFill>
        <p:spPr>
          <a:xfrm>
            <a:off x="1071720" y="4286160"/>
            <a:ext cx="2500200" cy="1905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Лента Мёбиуса или путь без начала и конца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90480" y="1987560"/>
            <a:ext cx="768672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 одной руке у вас ножницы. В другой большое кольцо, склеенное из длинной бумажной ленты. Ножницы протыкают эту ленту и аккуратно разрезают ее вдоль - точно посередине. "Ну вот, - подумаете вы, - сейчас получатся два отдельных кольца. Еще последний "вжик" - и..." Но что это? Вместо двух колец получается одно! Причем оно больше и тоньше первоначального. "Такого не бывает", - скажете вы. Бывает. И даже еще не такое. Если только в руках у вас не обычное бумажное кольцо, а удивительная лента Мёбиус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Делаем ленту Мёбиуса из бумаги"/>
          <p:cNvPicPr/>
          <p:nvPr/>
        </p:nvPicPr>
        <p:blipFill>
          <a:blip r:embed="rId2"/>
          <a:stretch/>
        </p:blipFill>
        <p:spPr>
          <a:xfrm>
            <a:off x="6513480" y="4214880"/>
            <a:ext cx="2630520" cy="16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Делаем ленту Мёбиуса из бумаги"/>
          <p:cNvPicPr/>
          <p:nvPr/>
        </p:nvPicPr>
        <p:blipFill>
          <a:blip r:embed="rId3"/>
          <a:stretch/>
        </p:blipFill>
        <p:spPr>
          <a:xfrm>
            <a:off x="3714840" y="5227560"/>
            <a:ext cx="264312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Август Фердинанд Мёбиус(1790-1868)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емецкий астроном и математик Август Фердинанд Мёбиус взял однажды бумажную ленту, повернул один ее конец на пол-оборота (то есть на 180 градусов), а потом склеил его с другим концом. То ли от скуки он это сделал, то ли научного интереса ради - теперь уже неизвестно. Зато доподлинно известно, что именно так и появилась еще в прошлом веке знаменитая лента Мёбиус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27280" y="177336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9-129-2291-1"/>
          <p:cNvPicPr/>
          <p:nvPr/>
        </p:nvPicPr>
        <p:blipFill>
          <a:blip r:embed="rId1"/>
          <a:stretch/>
        </p:blipFill>
        <p:spPr>
          <a:xfrm>
            <a:off x="4957920" y="1844640"/>
            <a:ext cx="3681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Основные свойства ленты Мебиуса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 же это за поверхность – лента Мёбиуса? Самое  удивительное то, что сделать её своими руками совсем несложно: надо лишь взять полоску бумаги и склеить её концы, предварительно повернув один из них на 1800. И тогда в ваших руках окажется лист, или лента Мёбиуса. Какими свойствами она обладает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468"/>
          <p:cNvPicPr/>
          <p:nvPr/>
        </p:nvPicPr>
        <p:blipFill>
          <a:blip r:embed="rId1"/>
          <a:stretch/>
        </p:blipFill>
        <p:spPr>
          <a:xfrm>
            <a:off x="2714760" y="4000680"/>
            <a:ext cx="4098960" cy="26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кспереме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Что получится, если разрезать ЛМ вдоль посередин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Что получится, если разрезать ЛМ вдоль, отступив треть от кра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Если начать закрашивать ЛМ с одной стороны, не переходя через край, то какая часть ленты окажется закрашенно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Что получится, если перекрутить ленту дважды, а потом разрезать вдоль посередине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1125360"/>
            <a:ext cx="76975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разрезать ленту вдоль посередине, то вместо двух колец получится одно. Причём оно больше и тоньше исходн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разрезать ленту на расстоянии 1/3 её ширины от края, то получится два кольца. Одно большое и сцепленное с ним маленько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закрашивании закрасится вся ле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повороте на 360 градусов получим двустороннюю поверхность. При закрашивании её непременно нужно перевернуть на другую сторону. При разрезании вдоль посередине получим два кольца, сцепленных между собой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Применение ленты Мёбиус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http://elementy.ru/images/news/dna_pyramid_300.jpg"/>
          <p:cNvPicPr/>
          <p:nvPr/>
        </p:nvPicPr>
        <p:blipFill>
          <a:blip r:embed="rId1"/>
          <a:stretch/>
        </p:blipFill>
        <p:spPr>
          <a:xfrm>
            <a:off x="3780000" y="3429000"/>
            <a:ext cx="2187360" cy="2793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1619280" y="170964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 Мёбиуса находит многочисленные применения в науке, технике и изучении свойств Вселенной.Есть гипотеза, что спираль ДНК сама по себе  является фрагментом ленты Мебиуса и только поэтому генетический код так сложен для расшифровки и восприя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7:25:50Z</dcterms:created>
  <dc:creator>AGNIYA</dc:creator>
  <dc:description/>
  <dc:language>en-US</dc:language>
  <cp:lastModifiedBy>AGNIYA</cp:lastModifiedBy>
  <dcterms:modified xsi:type="dcterms:W3CDTF">2012-10-18T18:19:44Z</dcterms:modified>
  <cp:revision>4</cp:revision>
  <dc:subject/>
  <dc:title>Слайд 1</dc:title>
</cp:coreProperties>
</file>