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109-C098-4A5D-8696-E3454AF6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037-38AC-4B0F-8803-35A7FD98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485-30EB-462D-9F87-FA89655B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B39-E71E-464D-825D-0D3657DE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ECA4-5EE8-44D9-A3F4-71EC6660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DD8D-3D90-4D8B-8617-F2874635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A910-8E93-43A2-92EC-5D824B87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3DB1-C33A-4D25-B52B-19FE2B87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BC8E-9966-4318-8758-4F16B63E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4818-18B2-4C5E-ADFA-1D999D16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B396-9AD0-49DC-ACB3-8CFACBBE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004-EE21-4B51-B6B7-29441322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1850-40B6-4619-B2CE-8267B082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B5F7-D015-488F-AFBE-F33466C6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6507-AE75-4999-BFD2-C7458F1F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8FFD-3F44-4078-B51E-9054D6C1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5270-D572-4982-B04C-0B5CD661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3C3-3086-4C06-A8B4-E119D268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491-B08F-4382-AE20-8D118D76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FA8-0C86-414A-8109-39323D51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537-123B-4F60-95DC-7685843E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D11-22BC-4514-A44F-9655B0FF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568-14A5-4F4B-8A4A-F5F94DDE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BB1-0189-40A2-B3A0-4A3DB42A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1EA2-E2D4-4ABA-9218-EBD79A9526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9345-1F30-477D-90DD-F135F951BB6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0;&#1085;&#1090;&#1077;&#1088;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963720" y="214200"/>
            <a:ext cx="721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80"/>
                </a:solidFill>
                <a:latin typeface="Arial"/>
              </a:rPr>
              <a:t>Лента Мёбиу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332000" y="4653000"/>
            <a:ext cx="707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Arial"/>
              </a:rPr>
              <a:t>Выполнил ученик 8 в класса МБОУ СОШ №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Arial"/>
              </a:rPr>
              <a:t>Гордеев Алек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Arial"/>
              </a:rPr>
              <a:t>Руководитель, учитель математики,  Самутин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6" descr="1.jpg"/>
          <p:cNvPicPr/>
          <p:nvPr/>
        </p:nvPicPr>
        <p:blipFill>
          <a:blip r:embed="rId1"/>
          <a:stretch/>
        </p:blipFill>
        <p:spPr>
          <a:xfrm>
            <a:off x="2097000" y="1828800"/>
            <a:ext cx="50166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428840" y="333000"/>
            <a:ext cx="6022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меются и материальные воплощения простого листа Мёбиуса. Недавно построенный в Лондоне Олимпийский велодром имеет контуры, которые можно назвать вариацией на тему листа Мёбиуса. Невероятный проект  библиотеки  в  городе Астана (Казахстан)  имеет вид ленты  Мёбиус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Рисунок 5" descr="2608-4-2.jpg"/>
          <p:cNvPicPr/>
          <p:nvPr/>
        </p:nvPicPr>
        <p:blipFill>
          <a:blip r:embed="rId1"/>
          <a:stretch/>
        </p:blipFill>
        <p:spPr>
          <a:xfrm>
            <a:off x="1071720" y="2928960"/>
            <a:ext cx="4143240" cy="2759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2608-4-1.jpg"/>
          <p:cNvPicPr/>
          <p:nvPr/>
        </p:nvPicPr>
        <p:blipFill>
          <a:blip r:embed="rId2"/>
          <a:stretch/>
        </p:blipFill>
        <p:spPr>
          <a:xfrm>
            <a:off x="5214960" y="4241880"/>
            <a:ext cx="3929040" cy="26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769608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ществуют техническ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мененияленты Мёбиус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оса 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ленточн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конвейер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выполняе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виде ленты Мёбиус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позволяет ему работа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льше, потому что вся поверхность ленты  изнашивается равномерно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-181080" y="508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Users\Учитель\Desktop\i.jpg"/>
          <p:cNvPicPr/>
          <p:nvPr/>
        </p:nvPicPr>
        <p:blipFill>
          <a:blip r:embed="rId1"/>
          <a:stretch/>
        </p:blipFill>
        <p:spPr>
          <a:xfrm>
            <a:off x="5622840" y="2143080"/>
            <a:ext cx="352116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428480" y="1143000"/>
            <a:ext cx="68151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 многих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матричных принтерах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 красящая лента также имеет вид листа Мёбиуса для увеличения её ресурс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стройство под названием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</a:rPr>
              <a:t>резистор Мёбиус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 — это недавно изобретённый электронный элемент, который не имеет собственной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</a:rPr>
              <a:t>индуктивност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лагодаря ленте Мёбиуса появился "Механизм управления", на который получено Авторское свидетельство №1453110 (Приоритет 26.07.1985, автор Смирнов В.Б.). Механизм управления можно применить в детских заводных игрушках,  в конструкции стабилизатора штурвала рулевого привода, в щелевом затворе фот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http://dic.academic.ru/pictures/wiki/files/49/180px-Recycle001.svg.png"/>
          <p:cNvPicPr/>
          <p:nvPr/>
        </p:nvPicPr>
        <p:blipFill>
          <a:blip r:embed="rId1"/>
          <a:stretch/>
        </p:blipFill>
        <p:spPr>
          <a:xfrm>
            <a:off x="1619280" y="2060640"/>
            <a:ext cx="4889520" cy="4618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Международный символ переработки представляет собой Лист Мёбиуса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http://citycelebrity.ru/uploads/user_post_pics/03afdb742d1f999046683af329b031eb.jpg"/>
          <p:cNvPicPr/>
          <p:nvPr/>
        </p:nvPicPr>
        <p:blipFill>
          <a:blip r:embed="rId1"/>
          <a:stretch/>
        </p:blipFill>
        <p:spPr>
          <a:xfrm>
            <a:off x="4356000" y="260280"/>
            <a:ext cx="4513320" cy="2808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http://2.bp.blogspot.com/_GFhTL_IQFTU/TNZjF29yo3I/AAAAAAAAAGo/_MTim1CuT6g/s1600/R8-Charts-Nadi-man.jpg"/>
          <p:cNvPicPr/>
          <p:nvPr/>
        </p:nvPicPr>
        <p:blipFill>
          <a:blip r:embed="rId2"/>
          <a:stretch/>
        </p:blipFill>
        <p:spPr>
          <a:xfrm>
            <a:off x="684360" y="2421000"/>
            <a:ext cx="3314520" cy="3816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717080" y="4724280"/>
            <a:ext cx="458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 практике индийской йо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используется принцип дви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энергетических потоков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раектории листа Мёби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48920" y="568440"/>
            <a:ext cx="366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реди ювелирных и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кже встреч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ента Мёби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…И знаменитая топологическая фигура - «Лист Мёбиуса»..."/>
          <p:cNvPicPr/>
          <p:nvPr/>
        </p:nvPicPr>
        <p:blipFill>
          <a:blip r:embed="rId1"/>
          <a:stretch/>
        </p:blipFill>
        <p:spPr>
          <a:xfrm>
            <a:off x="324000" y="1125360"/>
            <a:ext cx="2857320" cy="3672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18_small"/>
          <p:cNvPicPr/>
          <p:nvPr/>
        </p:nvPicPr>
        <p:blipFill>
          <a:blip r:embed="rId2"/>
          <a:stretch/>
        </p:blipFill>
        <p:spPr>
          <a:xfrm>
            <a:off x="6588000" y="1773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http://www.virezki.ru/f/a0/ru/images/mebius/lm.jpg"/>
          <p:cNvPicPr/>
          <p:nvPr/>
        </p:nvPicPr>
        <p:blipFill>
          <a:blip r:embed="rId3"/>
          <a:stretch/>
        </p:blipFill>
        <p:spPr>
          <a:xfrm>
            <a:off x="3995640" y="2708280"/>
            <a:ext cx="2156040" cy="3367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254160" y="260280"/>
            <a:ext cx="888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Лента Мёбиуса в скульптуре представлена в различных вариан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от традиционных до самых невероятных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34000" y="5032440"/>
            <a:ext cx="329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анная скульп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ставлена из множ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ервных ба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642360" y="5465880"/>
            <a:ext cx="205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ист Мёбиус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277440" y="1341360"/>
            <a:ext cx="33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итография 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уравь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надлежит извест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лландскому худож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рису Эш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3924360" y="712800"/>
            <a:ext cx="398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онумент у здания Президиума Национальной  академии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Мин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http://minchanin.esmasoft.com/images/minsk09b/moeb1.jpg"/>
          <p:cNvPicPr/>
          <p:nvPr/>
        </p:nvPicPr>
        <p:blipFill>
          <a:blip r:embed="rId1"/>
          <a:stretch/>
        </p:blipFill>
        <p:spPr>
          <a:xfrm>
            <a:off x="539640" y="260280"/>
            <a:ext cx="3246480" cy="4032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http://assets2.lookatme.ru/assets/article_image-image/05/69/67421/article_image-image-article.jpg"/>
          <p:cNvPicPr/>
          <p:nvPr/>
        </p:nvPicPr>
        <p:blipFill>
          <a:blip r:embed="rId2"/>
          <a:stretch/>
        </p:blipFill>
        <p:spPr>
          <a:xfrm>
            <a:off x="5292720" y="2060640"/>
            <a:ext cx="3166920" cy="424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1763640" y="5300640"/>
            <a:ext cx="31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амятник ленте Мёбиуса  в Моск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lentamebius"/>
          <p:cNvPicPr/>
          <p:nvPr/>
        </p:nvPicPr>
        <p:blipFill>
          <a:blip r:embed="rId1"/>
          <a:stretch/>
        </p:blipFill>
        <p:spPr>
          <a:xfrm>
            <a:off x="971640" y="260280"/>
            <a:ext cx="2952720" cy="3168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013"/>
          <p:cNvPicPr/>
          <p:nvPr/>
        </p:nvPicPr>
        <p:blipFill>
          <a:blip r:embed="rId2"/>
          <a:stretch/>
        </p:blipFill>
        <p:spPr>
          <a:xfrm>
            <a:off x="5219640" y="3860640"/>
            <a:ext cx="3429000" cy="25624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4284720" y="333360"/>
            <a:ext cx="4145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Лист Мебиуса – символ математики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Что служит высшей мудрости венцом…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Он полон неосознанной романтики: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В нем бесконечность свернута кольцом.</a:t>
            </a:r>
            <a:br>
              <a:rPr sz="1600"/>
            </a:b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В нем – простота, и вместе с нею – сложность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Что недоступна даже мудрецам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39640" y="3716280"/>
            <a:ext cx="4176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Здесь на глазах преобразилась     плоскость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В поверхность без начала и конца.</a:t>
            </a:r>
            <a:br>
              <a:rPr sz="1600"/>
            </a:b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Здесь нет пределов, нет ограничений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Стремись вперед и открывай миры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Почувствуй силу новых ощущений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Прими познанья высшего дары.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10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Выводы о проделанной работ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764640"/>
            <a:ext cx="7893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читав определённую литературу, я  познакомился с геометрической поверхностью лентой Мёбиус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нализируя собранный материал, я увидел необычность этой ленты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экспериментальным путём  я показал, что лист Мёбиуса является односторонней поверхностью, что необычно для трёхмерной фигуры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провел восемь опытов с листом и доказал, что он изменяет свои свойства при разрезани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видел, что усложнение эксперимента не приводит к более эффектным результатам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ытался убедить, что лента Мёбиуса нашла применение во многих привычных для нас сферах жизн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читаю правильным, что лист Мёбиуса считают символом современной математики, так как именно он дал толчок новым математическим исследования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413000"/>
            <a:ext cx="7696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удесные свойства листа Мёбиуса привели к новым открытиям и изобретениям(очень полезным и совершенно бесполезным). Лист Мёбиуса служил вдохновением для скульпторов, художников и графиков. Многие физические явления используют для объяснения лист Мёбиуса. Ученые генетики рассматривают код ДНК в качестве модели ленты Мёбиуса. Лист Мёбиуса применяется для усовершенствования технических приборов. Загадочная лента Мёбиуса применяется для показа фокусов в цирк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8840" y="356760"/>
            <a:ext cx="74073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r>
              <a:rPr b="0" lang="en-US" sz="3700" spc="-1" strike="noStrike">
                <a:solidFill>
                  <a:srgbClr val="ff0000"/>
                </a:solidFill>
                <a:latin typeface="Comic Sans MS"/>
              </a:rPr>
              <a:t>  </a:t>
            </a:r>
            <a:br>
              <a:rPr sz="3700"/>
            </a:br>
            <a:r>
              <a:rPr b="0" lang="en-US" sz="3700" spc="-1" strike="noStrike">
                <a:solidFill>
                  <a:srgbClr val="ff0000"/>
                </a:solidFill>
                <a:latin typeface="Comic Sans MS"/>
              </a:rPr>
              <a:t>Изучить разнообразные свойства ленты Мёбиуса и найти, где она используется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21867269_list(1)"/>
          <p:cNvPicPr/>
          <p:nvPr/>
        </p:nvPicPr>
        <p:blipFill>
          <a:blip r:embed="rId1"/>
          <a:stretch/>
        </p:blipFill>
        <p:spPr>
          <a:xfrm>
            <a:off x="2087640" y="2643120"/>
            <a:ext cx="4968720" cy="367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28480" y="1213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учить историю возникновения ленты Мёбиус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19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учить её топологические свойства;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19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ести разнообразные эксперименты с лентой Мёбиус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19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брать и проанализировать информацию по данному вопрос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19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учить практические рекомендации применения ленты Мёбиуса в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Делаем ленту Мёбиуса из бумаги"/>
          <p:cNvPicPr/>
          <p:nvPr/>
        </p:nvPicPr>
        <p:blipFill>
          <a:blip r:embed="rId1"/>
          <a:stretch/>
        </p:blipFill>
        <p:spPr>
          <a:xfrm>
            <a:off x="1071720" y="4286160"/>
            <a:ext cx="2500200" cy="1905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Лента Мёбиуса или путь без начала и конца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90480" y="1987560"/>
            <a:ext cx="768672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 одной руке у вас ножницы. В другой большое кольцо, склеенное из длинной бумажной ленты. Ножницы протыкают эту ленту и аккуратно разрезают ее вдоль - точно посередине. "Ну вот, - подумаете вы, - сейчас получатся два отдельных кольца. Еще последний "вжик" - и..." Но что это? Вместо двух колец получается одно! Причем оно больше и тоньше первоначального. "Такого не бывает", - скажете вы. Бывает. И даже еще не такое. Если только в руках у вас не обычное бумажное кольцо, а удивительная лента Мёбиус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7" descr="Делаем ленту Мёбиуса из бумаги"/>
          <p:cNvPicPr/>
          <p:nvPr/>
        </p:nvPicPr>
        <p:blipFill>
          <a:blip r:embed="rId2"/>
          <a:stretch/>
        </p:blipFill>
        <p:spPr>
          <a:xfrm>
            <a:off x="6513480" y="4214880"/>
            <a:ext cx="2630520" cy="1643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Делаем ленту Мёбиуса из бумаги"/>
          <p:cNvPicPr/>
          <p:nvPr/>
        </p:nvPicPr>
        <p:blipFill>
          <a:blip r:embed="rId3"/>
          <a:stretch/>
        </p:blipFill>
        <p:spPr>
          <a:xfrm>
            <a:off x="3714840" y="5227560"/>
            <a:ext cx="2643120" cy="16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Август Фердинанд Мёбиус(1790-1868)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емецкий астроном и математик Август Фердинанд Мёбиус взял однажды бумажную ленту, повернул один ее конец на пол-оборота (то есть на 180 градусов), а потом склеил его с другим концом. То ли от скуки он это сделал, то ли научного интереса ради - теперь уже неизвестно. Зато доподлинно известно, что именно так и появилась еще в прошлом веке знаменитая лента Мёбиус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27280" y="177336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9-129-2291-1"/>
          <p:cNvPicPr/>
          <p:nvPr/>
        </p:nvPicPr>
        <p:blipFill>
          <a:blip r:embed="rId1"/>
          <a:stretch/>
        </p:blipFill>
        <p:spPr>
          <a:xfrm>
            <a:off x="4957920" y="1844640"/>
            <a:ext cx="36813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Основные свойства ленты Мебиуса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828800"/>
            <a:ext cx="769608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то же это за поверхность – лента Мёбиуса? Самое  удивительное то, что сделать её своими руками совсем несложно: надо лишь взять полоску бумаги и склеить её концы, предварительно повернув один из них на 1800. И тогда в ваших руках окажется лист, или лента Мёбиуса. Какими свойствами она обладает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468"/>
          <p:cNvPicPr/>
          <p:nvPr/>
        </p:nvPicPr>
        <p:blipFill>
          <a:blip r:embed="rId1"/>
          <a:stretch/>
        </p:blipFill>
        <p:spPr>
          <a:xfrm>
            <a:off x="2714760" y="4000680"/>
            <a:ext cx="4098960" cy="26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Эксперемен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Что получится, если разрезать ЛМ вдоль посередин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Что получится, если разрезать ЛМ вдоль, отступив треть от кра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Если начать закрашивать ЛМ с одной стороны, не переходя через край, то какая часть ленты окажется закрашенной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Что получится, если перекрутить ленту дважды, а потом разрезать вдоль посередине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4360" y="1125360"/>
            <a:ext cx="76975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сли разрезать ленту вдоль посередине, то вместо двух колец получится одно. Причём оно больше и тоньше исходног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сли разрезать ленту на расстоянии 1/3 её ширины от края, то получится два кольца. Одно большое и сцепленное с ним маленько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 закрашивании закрасится вся лен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 повороте на 360 градусов получим двустороннюю поверхность. При закрашивании её непременно нужно перевернуть на другую сторону. При разрезании вдоль посередине получим два кольца, сцепленных между собой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Применение ленты Мёбиус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http://elementy.ru/images/news/dna_pyramid_300.jpg"/>
          <p:cNvPicPr/>
          <p:nvPr/>
        </p:nvPicPr>
        <p:blipFill>
          <a:blip r:embed="rId1"/>
          <a:stretch/>
        </p:blipFill>
        <p:spPr>
          <a:xfrm>
            <a:off x="3780000" y="3429000"/>
            <a:ext cx="2187360" cy="27939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1619280" y="170964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ст Мёбиуса находит многочисленные применения в науке, технике и изучении свойств Вселенной.Есть гипотеза, что спираль ДНК сама по себе  является фрагментом ленты Мебиуса и только поэтому генетический код так сложен для расшифровки и восприя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5:50Z</dcterms:created>
  <dc:creator>AGNIYA</dc:creator>
  <dc:description/>
  <dc:language>en-US</dc:language>
  <cp:lastModifiedBy>AGNIYA</cp:lastModifiedBy>
  <dcterms:modified xsi:type="dcterms:W3CDTF">2012-10-18T18:19:44Z</dcterms:modified>
  <cp:revision>4</cp:revision>
  <dc:subject/>
  <dc:title>Слайд 1</dc:title>
</cp:coreProperties>
</file>