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E7BD-F2B0-4814-91C0-DDD3AEDC3F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2D95-2F30-4CA5-A4A9-AC51CBB9EC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86A-D061-46D6-AB49-2D574F20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4CB-8F1A-4C13-81F7-6DF3A511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BFC-5E7A-4EC3-9054-7F96D66C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FC2-132C-4133-9823-D6B7D41A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E92B-857E-4EB4-8856-B5468E18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B958-7F33-40E5-AB1A-58B9F9CA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B6DF-1FD3-4ADA-808D-7DD757E0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0B33-24EA-464C-9374-294549B0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6537-9C56-4C1F-A7C3-4661DC87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93AE-976B-4BFD-8DC5-671998EA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C3F3-FDFB-477B-A7DF-1E087A6F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90A-CF46-4B6A-BBA7-622CE1BB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B88A-6D3E-4B49-BED4-96FD0739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0A9E-3BFD-45ED-A7D6-E3159B14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92C3-7982-4428-A3ED-BF88CEA0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CC78-0AE3-4124-94DC-5AEA2250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73FC-6C41-49A5-9A67-E624EDCA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18465-9486-477B-A038-1F168296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94D28-872B-4ACB-BB2A-A8518686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D9917-6FAA-49E7-8301-454763E5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37EEB-E320-4AE4-8FE4-095DA62D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A1D43-B908-461E-9F9B-61307C16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BF7-3E9C-4CE6-8003-1A10BBB3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9E896-A7D7-4597-98FC-3589CC83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439B1-CA3D-4DAE-A350-620AFE8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6092E-D6FC-4F5C-9E24-01B9B2E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8A4B2-D2E4-4202-AD3D-98E8E570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DBAE4-B87B-4A7A-93AF-CE4613F3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571E8-D108-49F3-8D18-6EE9975B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A1380-DF7F-4091-A2D2-2CAE3FB4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5619-888E-40AF-92B6-D7C90E5B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BE8C7-6F26-4832-8861-6F69E300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12082-28FF-4C26-BA27-F5A2FE23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9A0-F944-4E45-AF9A-97D4F312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69AB2-5C52-4AF4-9A1E-28153E91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C9421-D279-4BF8-B25C-991BC8E2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4166-CBD2-42BA-8C51-AE6A8D88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8DB5-2D52-4D6B-987F-CE0C9C60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55B21-F052-451F-A7A7-64BF340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2BF4-05C2-468C-869D-1FDF5DD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0A12-2C85-453A-8784-D96684BD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2282-076D-4329-9A9F-8F538B69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EB963-FDEF-476F-87E6-2D70FA75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34B8B-DC32-4882-AFB6-8FFAAD5B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B0E-CD38-48A8-AC79-015ED51B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FC17C-1462-4B86-B592-B02F0B19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E8DE8-CB31-4E70-9217-26E3477B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1E471-2D2B-418E-9E93-6164AF46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06F01-98BE-4493-A602-33089DFF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062CF-270B-4112-97E7-85DD212E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3F6B3-B10F-4CCD-953C-16EF2CB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4FFAB-4E7E-4E91-BF37-96AA7D8D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6E999-E5AF-4E34-948E-61CAD472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5A815-D537-402F-BDFC-E1BA87AD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ABF08-BEFD-4227-8DCB-9ED725B9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7C8-7A63-4F97-A63B-C81875D4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57B35-7DEE-4906-BD15-8F19E96F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4D926-8243-42D4-B4B5-15728F38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DAD64-651D-4D1B-A1F9-AC8AA234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60E93-30C7-45A9-848F-58EFCC75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D6196-EAA2-4FB9-9598-AAE9183E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ADE87-C7B2-4DD5-B9E3-22FF7650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52BA0-03BB-482F-A33C-FF305FD6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3D417-BDF5-42A5-A3F6-0F7675F5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41238-CCAD-48BA-854E-F658CE3E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2460A-8703-4F1F-9779-F0725A0E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D47-A66E-43C9-934C-99CDF59B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036BB-328E-4850-82D1-0A559A04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743A1-F37C-4565-AD71-E5F1F987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D3B89-3B0C-4D8B-A3BE-D604ADC3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28E5A-64CC-436E-B405-40FA46FE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78F300-1B3E-4298-98BC-78B76762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570F5-A40C-4E38-93CA-DC67E7CC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F8E5D7-7C8B-4974-825A-A515F77D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94FA6-49D8-4F70-9E70-594BC533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A06A0-2FDE-48E2-9E07-8D34E77A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8896C-505E-44EA-BCE9-F407AA23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D2D-3CE0-46A2-8DB6-FD373699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07811A-842A-4B33-A217-17921E56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B1E76-C781-4314-BBCC-9781CD34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F563E-D9C0-4C2E-8E13-77D88525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A21F6-1BF4-49B0-869F-7BB70F8A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947A4-F870-412A-B1CE-C419D06F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592-E31E-4174-B2A0-6052B18D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EA91-E938-47AF-8081-361347E11C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781C-9DE3-40B3-9041-2B8CB7449F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3F3D-C245-4F57-8ED5-22BEC82AAD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F43D-2D45-4503-9060-68C54031B5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37FF-F607-4B43-AA3C-AECEDB0EEE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65DB-2F93-435D-9151-E6654804FE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FFB4-C937-4011-BC50-1BBB424C25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00160" y="285840"/>
            <a:ext cx="6858000" cy="35002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28520" y="785880"/>
            <a:ext cx="69642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omic Sans MS"/>
              </a:rPr>
              <a:t>«ИСПОЛЬЗОВАНИЕ СПЕЦИАЛЬНЫХ ФИЗИЧЕСКИХ УПРАЖНЕНИЙ ДЛЯ ВОСПИТАНИЯ ВОЛЕВЫХ КАЧЕСТВ ШКОЛЬНИКОВ».</a:t>
            </a: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285640" y="4500720"/>
            <a:ext cx="6643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Исполнитель: студентка 4 курса группы ФК – 41 Жадовская Юл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Научный руководитель:  преподаватель Ивонинская Н.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250920" y="999720"/>
            <a:ext cx="83217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Упражнения на смелость и решительность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   Бег под крутую горку с преодолением препятств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   Прыжки в глубину и соскоки с гимнастических снаряд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  Ходьба и бег с закрытыми глазам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    Прыжки через препятствия и гимнастические снаряды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    Преодоление специальных полос препятств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     Прыжки-падения на землю, пол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     Быстрое нападение в игра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татические упражнения для воспитания волевых качеств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татических упражнений для воспитания волевых качеств, предлагают несколько методик, одна из них гимнастика «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гун»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323640" y="2356920"/>
            <a:ext cx="83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роков 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легкой атлетики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выбраны следующие упражн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Бег под крутую горку с преодолением препятств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рыжки в глубин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Ходьба и бег с закрытыми глаз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Прыжки через препятств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упражнения использовались в подготовительной части урока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ительной части урока использовались статические упражнения гимнастики «цигун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6840" y="2356920"/>
            <a:ext cx="811548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роков 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портивных игр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выбраны следующие упражн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ыжки-падения на землю, пол – в эстафет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Быстрое нападение в играх – подвижных и учебных игр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упражнения использовались в основной части урока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ительной части урока использовались статические упражнения гимнастики «цигун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57240"/>
            <a:ext cx="79725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роков 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гимнастик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выбраны следующие упражн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ыжки и соскоки с гимнастических снаряд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Ходьба и бег с закрытыми глаз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рыжки через препятствия и гимнастические снаря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Преодоление специальных полос препятств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упражнения использовались в подготовительной и основной частях урока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ительной части урока использовались статические упражнения гимнастики «цигун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79280" y="2428920"/>
            <a:ext cx="8607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Для выполнения сравнительного анализа результатов исследования была проведена следующая работа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все полученные в ходе экспериментов результаты были сведены в таблицу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изучена динамика результатов путем сравне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на основе сравнения сделали вывод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5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4200" y="42984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равнительный анализ результатов тестиро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Диаграмма 5" descr=""/>
          <p:cNvPicPr/>
          <p:nvPr/>
        </p:nvPicPr>
        <p:blipFill>
          <a:blip r:embed="rId2"/>
          <a:stretch/>
        </p:blipFill>
        <p:spPr>
          <a:xfrm>
            <a:off x="214200" y="1357200"/>
            <a:ext cx="8358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0"/>
            <a:ext cx="8572680" cy="37274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179280" y="189000"/>
            <a:ext cx="777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экспериментальной группы показали значительную динамику роста, а результаты контрольной группы незначительные изменения. Уровень воспитания волевых качеств  экспериментальной группы повысился, что нельзя сказать об уровне воспитания волевых качеств контрольной групп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физические упражнения, предложенные и внедренные в уроки физической культуры, привели к воспитанию волевых качеств школьников, доказывая выдвинутую гипотез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ться значительных результатов можно, если использовать предложенные упражнения в процессе физического воспитания, как можно чаще и постепенно повышая требования к их выполн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042560" y="1699920"/>
            <a:ext cx="76438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5050"/>
                </a:solidFill>
                <a:latin typeface="Times New Roman"/>
              </a:rPr>
              <a:t>Благодарю за внимание!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5840" y="285840"/>
            <a:ext cx="8501040" cy="34416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214200" y="404280"/>
            <a:ext cx="8429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физическая культура и спорт рассматриваются как одно из важнейших средств воспитания человека, гармонически сочетающего в себе духовное богатство, моральную чистоту и физическое совершенств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физической культуры в формировании личностных качеств усиливается в связи с прямой ее социальной сущностью, безусловно, гуманистическими функциями, возможностями развития целого ряда основ духовности человека. Благодатная возможность развития и совершенствования воли человека через физическую культуру и спорт ни у кого сомнений не вызывает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 не только развивает мускулы, но и закаляет дух. Преодоление трудностей при выполнении физических упражнений уже способствует воспитанию волевых качеств. Во время тренировок и соревнований необходимо проявить качества, которые во многом решают задачи повышения работоспособности и достижения высоких спортивных результато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5880" y="285840"/>
            <a:ext cx="8001000" cy="34416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8596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Объект исследован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воспитания волевых качеств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Предмет исследован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пользования специальных упражнений для воспитания волевых качеств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Гипотеза исследован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использование специальных упражнений для воспитания волевых качеств школьников, действительно повысит их уровень воспита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5880" y="285840"/>
            <a:ext cx="8001000" cy="3441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78920" y="1214280"/>
            <a:ext cx="83934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Цель дан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лияние специальных физических упражнений на воспитание волевых качеств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Задачи исследован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анализ литературных источников по выбранной тем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ровень воспитания волевых качеств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ить в уроки физической культуры специальные физические упражнения для воспитания волевых качеств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сравнительный анализ полученных результатов эксперимент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выводы и заключ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5880" y="285840"/>
            <a:ext cx="8001000" cy="3441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250560" y="1857240"/>
            <a:ext cx="8250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научно - исследовательской работы были подобраны следующие методы исслед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ных источник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документов и материал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е испыт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эксперимен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атематической обработк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85880" y="285840"/>
            <a:ext cx="8001000" cy="3441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6840" y="214308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Глава I. Воспитание личностных качеств занимающихся физическими упражнения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    Роль и место физической культуры в формировании личностных качеств человека.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Физическая подготовка как средство воспитания морально-волевых качеств школьников.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   Методика воспитания волевых качеств на уроках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250920" y="2428920"/>
            <a:ext cx="83217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ных источников позволил заключить, что одним из важнейших предварительных условий сильной воли в физическом воспитании и в спорте является физическое здоровье. Оно характеризуется совокупностью целого ряда составляющих. Над их совершенствованием необходимо работат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олевых качеств человека процесс сложный и кропотливый. Воспитывать волевые качества необходимо с раннего детства, что довольно сложно. Занятия физическими упражнениями – незаменимое средство, которое может облегчить эту рабо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250920" y="2214360"/>
            <a:ext cx="83217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Глава 2. 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Воспитание волевых качеств школьников при помощи специальных физических упражне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Определение уровня воспитания волевых качеств школьников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Внедрение в уроки физической культуры специальных упражнений для воспитания волевых качеств школьников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 Сравнительный анализ результатов использования  специальных упражнений для воспитания волевых качеств школьников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Documents and Settings\Петрова Ирина\Рабочий стол\работа над уроками ТМФВ\Фото к урокам\sport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85840"/>
            <a:ext cx="8572680" cy="34416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535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ОПРЕДЕЛЕНИЕ УРОВНЯ ВОСПИТАНИЯ ВОЛЕВЫХ КАЧЕСТВ ШКОЛЬНИКОВ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836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тестов, влекущий за собой выполнение сложного, связанного с временными затратами и физическими напряжениями задания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ок с одного препятствия на другое, стоящее от первого на расстоянии меньше максимально возможного прыжка на полу на 20 – 30 с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спиной, сохраняя прямое положение туловища, с площадки высотой 150 см на руки страхующих или паралоновую подушк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ьба по бревну вперед и назад спиной на высоте 30 см., а потом – 1 метр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ок толчком двумя ногами вверх с площадки 50 х 50 см, которая постепенно поднимается над полом  -  с 50 см. на 1,5 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0:48:42Z</dcterms:created>
  <dc:creator>Петрова Ирина</dc:creator>
  <dc:description/>
  <dc:language>en-US</dc:language>
  <cp:lastModifiedBy>Ирина</cp:lastModifiedBy>
  <dcterms:modified xsi:type="dcterms:W3CDTF">2012-12-11T16:42:39Z</dcterms:modified>
  <cp:revision>14</cp:revision>
  <dc:subject/>
  <dc:title>«Использование гандбольных упражнений методом круговой тренировки для развития скоростно-силовых качеств учащихся среднего школьного возраст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