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B6DE-2285-4850-8C87-C7BCDF72C9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E198-287E-4443-8FAF-0B8874FEC4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E54-B27A-4425-B77B-83F252DA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9BF-E472-48EE-B55A-2C1C1A83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8FC8-AD89-4476-B264-95B45A47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BE5-1AF0-44EE-97D6-F7CFB389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CD9F-6BB3-4AFD-84D4-490A1E2E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26F7-4451-4BDB-B9E9-CAD6E532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CC18-7C15-4A07-ACB3-453E4450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9487-3CB2-48F8-882B-3DAEF7DA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B913-F07F-415A-81A5-72650BFF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E681-80BE-4625-9753-5CF3D466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02BE-E42F-45D9-984D-0D58F6E8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E6F-1FD9-4A86-B086-DBD80334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CC81-8218-4697-8ADE-853935C9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71A3-A642-4251-827D-B2B1FC61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AE2F-74D8-4913-B4C2-AF703133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8B59-1433-46A8-B711-08960545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7D46-9C90-433A-8228-170E4B32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25AFD-F5C2-489D-8ACD-ED828A63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31E19-12B1-4705-A9A6-628E3230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873EE-5EEB-4098-A424-A8749FA9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79080-2502-4A8C-8E0A-BD4C2E0B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73CD4-AFD6-48E1-9E13-805739EF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12E-BD02-4490-83AE-42DF2E54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C6D97-0329-4B6D-8B1D-388D560D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E9046-8978-4B0D-A874-7F333800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781EF-FEF1-42A4-A2A4-EFF16F31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8EC3B-5193-4F06-B82B-5B5C4EB3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C88F0-9277-4B84-BE45-F6D22492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FE145-A4C3-42A9-983F-9E17046D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B2A68-6065-42BA-A70E-E52547AD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63C4F-48EB-4D1C-93EB-F4AF818C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82C7C-C21C-4EF5-BF32-524A1013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56DBF-D1DF-4A16-8D35-065E9086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276-1CE6-4326-B2BA-9EC021BE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CAF70-2A49-419F-ADC8-2BBDC852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EDE0C-6711-4FCE-A296-A730C3C3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1BD7-A6B2-45B7-BB6B-2C90FDC8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F3E48-1B0E-4277-B724-547D5FCB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08623-FB1C-4312-9433-D58049B8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CEC21-7507-44F8-A111-5283E834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C0061-3987-488A-BFCB-82392C6A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B9B16-9422-47FD-9F43-A35063B1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C0AB4-8066-4A78-943F-CDE12626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1A208F-87B3-411A-A1EF-45CF0DB1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5F5-9C03-4587-9278-0E5FA8FC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16F91-8AA8-41B2-90A0-DD2E05D7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C4296-BA5F-442F-813B-9E9EDB8E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D6913-3E1E-4F1E-A10C-37BF203F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D4199-792F-433D-8022-B56509E0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9E0A2-D9BC-42AA-8C85-A20C50A3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C2DF4E-9621-4B5F-AC73-C9794985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460C7-CEEC-45FD-A90A-A4DB5929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88DFD-4181-46B7-AF4C-8B3A9376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0DEB4-528E-4DB5-B991-D424B53B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A7132-4CD8-421D-9A4B-7FE7767A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AE4-31EC-438B-8F0B-FEDC5ED5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74ADC-5EA5-4CBF-8809-3066F055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A1E8C8-EAF6-4CA9-9585-A3C0EB5D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6EAA6-0407-4862-A305-06CB8A7E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C88D0D-BE58-481C-B5DF-E1414420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E7EFC-CA51-46D8-9FF8-23E4AF43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D7B75-2DED-4A0E-A32E-94C6B737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CA909-E1E5-4DC9-8B22-93951593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D403A-AE08-47A6-A72B-2D100EB6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E42686-4D54-4CD2-9D3B-A075BCB0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8110C9-699D-44B0-94C8-5EBE2EDF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020-276A-47DD-98C4-FB73FD0E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C9483-3381-4B3C-957B-E47FF341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9706B7-CD92-4CF0-BAD7-30D5D471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03685-69C4-4653-AF2F-BB9675CE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B9602A-57BD-40B2-BDB2-D18B7D9C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424BBD-94D7-4470-AF46-1CC977A0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445816-1707-436F-8C9A-BE8EB0DD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321F3-BA76-4BE1-8000-E045B71B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0E2FA-624D-41E5-AA49-DC53EE99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E0BB08-DBAF-408B-80DD-B7E1D634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EDDC8-95E5-4C85-9D97-48CAFDCC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7F3-947B-43EE-A017-253096F5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819F4-61A4-47EA-AEEF-ECCA9B88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CFAF5E-9917-4007-A34D-203A965E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521D3-4725-4DCC-A5AE-98C37966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34907E-6DB6-499A-BB3F-9EFA784C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934D4-AB7A-49AE-9E62-FD56FA0B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F1D-A9E9-47DF-8959-23DB2A8F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4D63-602E-48F5-A34F-9D2F94E718E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490B-9EEB-419B-907A-2F51342E99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6D4C-D8BD-401F-8E63-D90345AEA58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F254-BB25-4684-BCE2-738F57046A7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818B-B100-4957-AE0C-748AA6B199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817A-69A8-4BB9-8D0F-00EA5BDB9C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24B8-A13D-4962-AC14-D2B10F1BF7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00160" y="285840"/>
            <a:ext cx="6858000" cy="35002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928520" y="785880"/>
            <a:ext cx="696420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omic Sans MS"/>
              </a:rPr>
              <a:t>«ИСПОЛЬЗОВАНИЕ СПЕЦИАЛЬНЫХ ФИЗИЧЕСКИХ УПРАЖНЕНИЙ ДЛЯ ВОСПИТАНИЯ ВОЛЕВЫХ КАЧЕСТВ ШКОЛЬНИКОВ».</a:t>
            </a: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285640" y="4500720"/>
            <a:ext cx="66438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Исполнитель: студентка 4 курса группы ФК – 41 Жадовская Юл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Научный руководитель:  преподаватель Ивонинская Н.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250920" y="999720"/>
            <a:ext cx="83217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Упражнения на смелость и решительность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   Бег под крутую горку с преодолением препятств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    Прыжки в глубину и соскоки с гимнастических снарядов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   Ходьба и бег с закрытыми глазам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     Прыжки через препятствия и гимнастические снаряды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     Преодоление специальных полос препятств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     Прыжки-падения на землю, пол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     Быстрое нападение в играх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Статические упражнения для воспитания волевых качеств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татических упражнений для воспитания волевых качеств, предлагают несколько методик, одна из них гимнастика «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гун»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323640" y="2356920"/>
            <a:ext cx="83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роков 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легкой атлетики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выбраны следующие упражн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Бег под крутую горку с преодолением препятств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рыжки в глубин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Ходьба и бег с закрытыми глаз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Прыжки через препятств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упражнения использовались в подготовительной части урока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ительной части урока использовались статические упражнения гимнастики «цигун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6840" y="2356920"/>
            <a:ext cx="811548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роков 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спортивных игр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выбраны следующие упражн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рыжки-падения на землю, пол – в эстафета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Быстрое нападение в играх – подвижных и учебных игра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упражнения использовались в основной части урока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ительной части урока использовались статические упражнения гимнастики «цигун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57240"/>
            <a:ext cx="79725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роков 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гимнастик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выбраны следующие упражн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рыжки и соскоки с гимнастических снаряд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Ходьба и бег с закрытыми глаз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рыжки через препятствия и гимнастические снаряд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Преодоление специальных полос препятств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упражнения использовались в подготовительной и основной частях урока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ительной части урока использовались статические упражнения гимнастики «цигун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179280" y="2428920"/>
            <a:ext cx="8607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Для выполнения сравнительного анализа результатов исследования была проведена следующая работа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все полученные в ходе экспериментов результаты были сведены в таблицу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изучена динамика результатов путем сравнен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на основе сравнения сделали выводы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5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4200" y="42984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Сравнительный анализ результатов тестиров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Диаграмма 5" descr=""/>
          <p:cNvPicPr/>
          <p:nvPr/>
        </p:nvPicPr>
        <p:blipFill>
          <a:blip r:embed="rId2"/>
          <a:stretch/>
        </p:blipFill>
        <p:spPr>
          <a:xfrm>
            <a:off x="214200" y="1357200"/>
            <a:ext cx="83584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0"/>
            <a:ext cx="8572680" cy="37274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179280" y="189000"/>
            <a:ext cx="7777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экспериментальной группы показали значительную динамику роста, а результаты контрольной группы незначительные изменения. Уровень воспитания волевых качеств  экспериментальной группы повысился, что нельзя сказать об уровне воспитания волевых качеств контрольной групп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физические упражнения, предложенные и внедренные в уроки физической культуры, привели к воспитанию волевых качеств школьников, доказывая выдвинутую гипотез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ться значительных результатов можно, если использовать предложенные упражнения в процессе физического воспитания, как можно чаще и постепенно повышая требования к их выполнен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042560" y="1699920"/>
            <a:ext cx="76438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5050"/>
                </a:solidFill>
                <a:latin typeface="Times New Roman"/>
              </a:rPr>
              <a:t>Благодарю за внимание!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5840" y="285840"/>
            <a:ext cx="8501040" cy="34416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214200" y="404280"/>
            <a:ext cx="84297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 тем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физическая культура и спорт рассматриваются как одно из важнейших средств воспитания человека, гармонически сочетающего в себе духовное богатство, моральную чистоту и физическое совершенств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физической культуры в формировании личностных качеств усиливается в связи с прямой ее социальной сущностью, безусловно, гуманистическими функциями, возможностями развития целого ряда основ духовности человека. Благодатная возможность развития и совершенствования воли человека через физическую культуру и спорт ни у кого сомнений не вызывает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 не только развивает мускулы, но и закаляет дух. Преодоление трудностей при выполнении физических упражнений уже способствует воспитанию волевых качеств. Во время тренировок и соревнований необходимо проявить качества, которые во многом решают задачи повышения работоспособности и достижения высоких спортивных результатов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5880" y="285840"/>
            <a:ext cx="8001000" cy="34416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78596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Объект исследования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воспитания волевых качеств школь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Предмет исследования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использования специальных упражнений для воспитания волевых качеств школь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Гипотеза исследования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, использование специальных упражнений для воспитания волевых качеств школьников, действительно повысит их уровень воспита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5880" y="285840"/>
            <a:ext cx="8001000" cy="34416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178920" y="1214280"/>
            <a:ext cx="83934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Цель данной рабо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лияние специальных физических упражнений на воспитание волевых качеств школь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Задачи исследования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анализ литературных источников по выбранной тем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уровень воспитания волевых качеств школь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ить в уроки физической культуры специальные физические упражнения для воспитания волевых качеств школь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сравнительный анализ полученных результатов эксперимент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выводы и заключ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5880" y="285840"/>
            <a:ext cx="8001000" cy="3441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250560" y="1857240"/>
            <a:ext cx="82501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научно - исследовательской работы были подобраны следующие методы исследова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ных источнико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документов и материало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е испыт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эксперимент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атематической обработк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5880" y="285840"/>
            <a:ext cx="8001000" cy="34416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6840" y="214308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Глава I. Воспитание личностных качеств занимающихся физическими упражнениям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    Роль и место физической культуры в формировании личностных качеств человека.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 Физическая подготовка как средство воспитания морально-волевых качеств школьников.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   Методика воспитания волевых качеств на уроках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250920" y="2428920"/>
            <a:ext cx="832176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ных источников позволил заключить, что одним из важнейших предварительных условий сильной воли в физическом воспитании и в спорте является физическое здоровье. Оно характеризуется совокупностью целого ряда составляющих. Над их совершенствованием необходимо работать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олевых качеств человека процесс сложный и кропотливый. Воспитывать волевые качества необходимо с раннего детства, что довольно сложно. Занятия физическими упражнениями – незаменимое средство, которое может облегчить эту рабо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250920" y="2214360"/>
            <a:ext cx="83217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Глава 2. 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Воспитание волевых качеств школьников при помощи специальных физических упражнен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Определение уровня воспитания волевых качеств школьников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Внедрение в уроки физической культуры специальных упражнений для воспитания волевых качеств школьников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 Сравнительный анализ результатов использования  специальных упражнений для воспитания волевых качеств школьников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535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ОПРЕДЕЛЕНИЕ УРОВНЯ ВОСПИТАНИЯ ВОЛЕВЫХ КАЧЕСТВ ШКОЛЬНИКОВ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836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 тестов, влекущий за собой выполнение сложного, связанного с временными затратами и физическими напряжениями задания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жок с одного препятствия на другое, стоящее от первого на расстоянии меньше максимально возможного прыжка на полу на 20 – 30 см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 спиной, сохраняя прямое положение туловища, с площадки высотой 150 см на руки страхующих или паралоновую подушку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ьба по бревну вперед и назад спиной на высоте 30 см., а потом – 1 метр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жок толчком двумя ногами вверх с площадки 50 х 50 см, которая постепенно поднимается над полом  -  с 50 см. на 1,5 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0:48:42Z</dcterms:created>
  <dc:creator>Петрова Ирина</dc:creator>
  <dc:description/>
  <dc:language>en-US</dc:language>
  <cp:lastModifiedBy>Ирина</cp:lastModifiedBy>
  <dcterms:modified xsi:type="dcterms:W3CDTF">2012-12-11T16:42:39Z</dcterms:modified>
  <cp:revision>14</cp:revision>
  <dc:subject/>
  <dc:title>«Использование гандбольных упражнений методом круговой тренировки для развития скоростно-силовых качеств учащихся среднего школьного возраст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