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A678-4599-488F-9FFD-121E88214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9F54-0BE2-42D9-80BC-8AFCCC6FD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A289-0210-4EDE-B56E-F41CBCCF3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33A4-0B53-4739-9E97-45C4CCA83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FE26C-8889-4403-97B7-ADCA3AA9C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0135C-FA9F-4650-9168-C5503C0F9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03A70-1E31-4DFE-8DF2-F9DA97FF4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D50E0-1138-47C8-9809-76BFBC770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1CC22-5A8F-41F5-AE90-5F14098A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8EB5E-4C37-4C8A-81C1-33F9DA26D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0D17D-2E8A-4D0E-91D1-FCD02BF4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014A-448B-46AD-ACDB-B8C0C37FA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B15C5-4B9D-48F7-87EB-97C6D9D4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6F61B-7032-4C5F-AB83-2DD85760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00BB4-C366-4723-A86D-BFEB14942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68D35-8176-45F4-B500-42A3D03D5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81D55-5DA4-4514-B6D0-5E052A82E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F85C-32C8-4261-893F-232FF25DA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C016-363F-4DCB-8C23-B1C854FD3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24C5-DC23-4F5B-A416-1CF6F704A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678F-6891-440D-ABBB-70CDB1A38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E787-5919-4E45-8D95-53EA2125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D1E7-4ABD-42EA-B663-E42EAFE1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1612-1E6F-41DE-ACC6-284511AE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D37A1-6AD8-4D8F-A64A-7F9E974FB5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599F0-3C49-4CDF-A92E-A7EC234B79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«Родной посёлок»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полнила Дьячкова Я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еница 2 класса МБОУ «Мирненская  СОШ» Томского райо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уководитель учитель начальных классов Сусоева Т.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амятник солдатам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550880" y="1600200"/>
            <a:ext cx="6042240" cy="4530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692360" y="6453360"/>
            <a:ext cx="5759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763640" y="6165720"/>
            <a:ext cx="59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Сюда мы приносим цветы на 9 ма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В нашем поселке всего 6 улиц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Дорожная, Живописная, Мира, Набережная, Первомайская и Трудова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26920" y="3068640"/>
            <a:ext cx="792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Хоть посёлок наш и маленький, но мы его любим, за его красивые места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364000" y="4059360"/>
            <a:ext cx="3337200" cy="250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риглашаем всех в гости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648972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Наш посёлок Мирный </a:t>
            </a:r>
            <a:br>
              <a:rPr sz="3600"/>
            </a:b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расположен на реке Ушайка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5329440" cy="3996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116000" y="5661000"/>
            <a:ext cx="64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 1956 году на правом берегу реки появился посёлок. Затем жители построили дома на левом берегу и переехали туда. Назвали посёлок «Мирный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Рядом с селом красивое озеро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550880" y="1600200"/>
            <a:ext cx="604044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Детский сад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550880" y="1600200"/>
            <a:ext cx="6040440" cy="45306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619280" y="623736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Сюда мы ходили ещё совсем недав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932360" y="3429000"/>
            <a:ext cx="4000680" cy="30002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В этой школе мы учимс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95280" y="1413000"/>
            <a:ext cx="604188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Это детская площадка во двор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550880" y="1600200"/>
            <a:ext cx="6042240" cy="45306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619280" y="6165720"/>
            <a:ext cx="59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Здесь мы любим с одноклассниками играть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У детского сад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040440" cy="453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У дома культур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550880" y="1600200"/>
            <a:ext cx="604044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Дом культур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042240" cy="45309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476360" y="6237360"/>
            <a:ext cx="63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Здесь мы выступаем с концертами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3T14:05:24Z</dcterms:created>
  <dc:creator>XTreme</dc:creator>
  <dc:description/>
  <dc:language>en-US</dc:language>
  <cp:lastModifiedBy>кристина</cp:lastModifiedBy>
  <dcterms:modified xsi:type="dcterms:W3CDTF">2012-12-11T14:40:57Z</dcterms:modified>
  <cp:revision>12</cp:revision>
  <dc:subject/>
  <dc:title>Проект «Родное село»</dc:title>
</cp:coreProperties>
</file>