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EA1B-8E5F-42C1-A7AA-D3C3D90E7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27AF-2D5A-45FD-AFF1-8CC176B8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2709-46D7-49B1-B40E-F3F5FFE1A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305F-F299-40EE-9606-28629E062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56C6-A47B-4192-95CE-EA81311C7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0C3E-0939-47DC-9755-993D5A9F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60B7-96D9-446E-A2CC-634D364A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C130-A0CE-4BFE-A1CA-EC3010FF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5B705-EECB-4131-81F1-C77D0800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E116-79E7-4D2E-B31E-D1D26404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82F79-37D4-4732-BB88-A8F03B34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DEDE-8119-4182-9FAB-E23F7818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BC18-2EF1-46FF-A645-8DF315B7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F4D1-03F0-4523-891D-836F7741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7970-44DD-4E05-93B4-11B2A0DC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862D-A7BB-4D2C-A990-B6910AD98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654E-B64D-435C-99E0-3550715D3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B54B-7E8F-405C-9C9F-1CFBFC1C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346E-1AF5-46E8-9485-A0C42359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9112-F65D-4610-8B32-5FEF0962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B244-B853-47C6-B6A9-E2C97AC9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2872-E7DC-43AA-92B4-6B52C245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144E-7D92-4A1D-B315-AA942831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E2D2-BC29-4D27-A8FC-0BE0F225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82E9-1838-4572-BE48-027E672A98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ACFC-00B5-44FB-9188-0221247AFB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«Родной посёлок»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полнила Дьячкова Я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еница 2 класса МБОУ «Мирненская  СОШ» Томского райо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уководитель учитель начальных классов Сусоева Т.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амятник солдатам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2240" cy="4530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692360" y="6453360"/>
            <a:ext cx="575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63640" y="616572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юда мы приносим цветы на 9 ма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В нашем поселке всего 6 улиц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Дорожная, Живописная, Мира, Набережная, Первомайская и Трудов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3068640"/>
            <a:ext cx="792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Хоть посёлок наш и маленький, но мы его любим, за его красивые мест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364000" y="4059360"/>
            <a:ext cx="3337200" cy="250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риглашаем всех в гости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4897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Наш посёлок Мирный </a:t>
            </a:r>
            <a:br>
              <a:rPr sz="3600"/>
            </a:b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расположен на реке Ушайка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5329440" cy="3996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116000" y="5661000"/>
            <a:ext cx="64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 1956 году на правом берегу реки появился посёлок. Затем жители построили дома на левом берегу и переехали туда. Назвали посёлок «Мирный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ядом с селом красивое озеро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Детский сад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619280" y="623736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юда мы ходили ещё совсем недав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932360" y="3429000"/>
            <a:ext cx="4000680" cy="30002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В этой школе мы учимс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604188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Это детская площадка во двор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2240" cy="4530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619280" y="616572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Здесь мы любим с одноклассниками играть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У детского сад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040440" cy="453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У дома культур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Дом культур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042240" cy="45309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476360" y="6237360"/>
            <a:ext cx="63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Здесь мы выступаем с концертами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3T14:05:24Z</dcterms:created>
  <dc:creator>XTreme</dc:creator>
  <dc:description/>
  <dc:language>en-US</dc:language>
  <cp:lastModifiedBy>кристина</cp:lastModifiedBy>
  <dcterms:modified xsi:type="dcterms:W3CDTF">2012-12-11T14:40:57Z</dcterms:modified>
  <cp:revision>12</cp:revision>
  <dc:subject/>
  <dc:title>Проект «Родное село»</dc:title>
</cp:coreProperties>
</file>