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B97-D449-4A96-BC55-285B6F95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F9C-4F49-4FF5-AFE6-44E3D121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A74-FA7C-4BAE-BB24-8B9B6E53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AE3-D75D-405D-88F5-D3054CDF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462C-C18D-42A8-9B46-D1585C04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5A92-21A1-4F55-A49A-BC6A495E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2379-9E7C-475D-84DE-D9363A54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98E4-65AA-4D6F-8752-CB2E3F08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EDF9-8D90-44B8-8BC3-1CD49932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A309-EE08-4A5A-8AFD-1432B99D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3C19-027A-4843-8E72-3E98706E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456-24DD-48FE-9456-4DA41D76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CE09-9F0A-4B96-B383-B60AB8E6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53A8-B818-48CF-B124-576C5949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5CC-2CF4-4847-9E1F-6B5D38F0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7FC2-3F88-41B0-8659-F200F8D3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FF72-0F54-4856-8000-A8AC8962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F2A-6526-453D-8DEB-19205D11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709-41E0-47CD-A452-A5DCFD60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6E5-3289-4742-AF19-1BE7EA32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716-147A-4C96-B723-5BDD83A2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2C3-FC04-4918-AEB3-1F43B69C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969-76D5-4C3C-BC06-FD512EF6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B94-B34B-40E0-961F-988CE1C3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7BE3-4EA0-41C9-8CA1-FE242EEA1D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C0C7-C099-429D-A04D-91A2B55CECA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ashareklamaua.files.wordpress.com/2010/04/01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Reported </a:t>
            </a:r>
            <a:br>
              <a:rPr sz="5400"/>
            </a:b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(indirect) speech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708804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Created by</a:t>
            </a: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Pavlov Evgeni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School </a:t>
            </a: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№</a:t>
            </a: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 6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Form</a:t>
            </a: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 8</a:t>
            </a: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 B</a:t>
            </a: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porting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report indirect questions, we use the following verbs: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sk, want to know, wond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gener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reported questions we use the word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If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»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speci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 question-words (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who, what, when, wh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…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4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8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d now compar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484280"/>
          <a:ext cx="9144000" cy="8222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General question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Wh-questions (Special questions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0" y="3213000"/>
          <a:ext cx="9144000" cy="1920960"/>
        </p:xfrm>
        <a:graphic>
          <a:graphicData uri="http://schemas.openxmlformats.org/drawingml/2006/table">
            <a:tbl>
              <a:tblPr/>
              <a:tblGrid>
                <a:gridCol w="2124000"/>
                <a:gridCol w="2448000"/>
                <a:gridCol w="2592360"/>
                <a:gridCol w="197964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e said, “Are you a good reader?”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e asked me if I was a good reader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said “how did you get here tonight?”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wanted to know how I had got there that nigh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0" y="2276640"/>
          <a:ext cx="9144000" cy="934920"/>
        </p:xfrm>
        <a:graphic>
          <a:graphicData uri="http://schemas.openxmlformats.org/drawingml/2006/table">
            <a:tbl>
              <a:tblPr/>
              <a:tblGrid>
                <a:gridCol w="2124000"/>
                <a:gridCol w="2448000"/>
                <a:gridCol w="2592360"/>
                <a:gridCol w="197964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irec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Reporte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irec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Reporte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porting command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To report </a:t>
            </a:r>
            <a:r>
              <a:rPr b="0" lang="en-US" sz="2600" spc="-1" strike="noStrike">
                <a:solidFill>
                  <a:srgbClr val="ff99cc"/>
                </a:solidFill>
                <a:latin typeface="Verdana"/>
              </a:rPr>
              <a:t>commands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, we use the following verbs: </a:t>
            </a:r>
            <a:r>
              <a:rPr b="0" lang="en-US" sz="2600" spc="-1" strike="noStrike">
                <a:solidFill>
                  <a:srgbClr val="ff99cc"/>
                </a:solidFill>
                <a:latin typeface="Verdana"/>
              </a:rPr>
              <a:t>ask, advise, order, teach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, e.t.c…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Examples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My mother often says:” Help your brother.”-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My mother often asks me to help my brother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Give up fast food,” the doctor said.- The doctor advised her to give up fast food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Don’t be late!” said the teacher.-The teacher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warned us not to be late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ither  you report statements, questions or commands, never forget about </a:t>
            </a:r>
            <a:r>
              <a:rPr b="1" i="1" lang="en-US" sz="3200" spc="-1" strike="noStrike" u="sng">
                <a:solidFill>
                  <a:srgbClr val="ff99cc"/>
                </a:solidFill>
                <a:uFillTx/>
                <a:latin typeface="Verdana"/>
              </a:rPr>
              <a:t>the sequence of tenses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w tell everything you’ve learnt from this presentation)))))))))))))))))))))))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5" descr="Картинка 1 из 676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349360"/>
            <a:ext cx="50767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ank you for attentio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7" descr="i?id=209730175-04-72"/>
          <p:cNvPicPr/>
          <p:nvPr/>
        </p:nvPicPr>
        <p:blipFill>
          <a:blip r:embed="rId1"/>
          <a:stretch/>
        </p:blipFill>
        <p:spPr>
          <a:xfrm>
            <a:off x="2627280" y="2492280"/>
            <a:ext cx="380520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Direct speech-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peech of a person, reported without any chan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Indirect speech-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reports words of a person not directly, word for word, but  just the content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39640" y="1052640"/>
          <a:ext cx="8229600" cy="512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Direct spee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Reported spee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says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, "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Mary will do it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." -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Он говорит: «Мария сделает это».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says (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tha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 Mary will do it. -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 говорит, что Мария сделает это.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ays</a:t>
                      </a: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 to me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, "I know it." –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 говорит мне: «Я знаю это»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tells</a:t>
                      </a: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 me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that he knows it. –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 говорит мне, что он знает это.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aid</a:t>
                      </a: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 to me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: "I have seen you somewhere." -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з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не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:             «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Я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де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-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о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иде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ебя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».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told</a:t>
                      </a: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 me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tha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he had seen me somewhere. -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з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не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,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что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де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-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о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иде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еня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.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mpar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ile changing the direct speech into indirect, </a:t>
            </a:r>
            <a:r>
              <a:rPr b="1" lang="en-US" sz="2800" spc="-1" strike="noStrike">
                <a:solidFill>
                  <a:srgbClr val="ff99cc"/>
                </a:solidFill>
                <a:latin typeface="Verdana"/>
              </a:rPr>
              <a:t>do not forge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about  the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llowing thing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99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Sequence of tense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99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Verbs,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used</a:t>
            </a: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 to report speech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99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To change words of time and place, modal verb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99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Difference in reporting statements, questions and command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quence of ten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125360"/>
          <a:ext cx="8229600" cy="5023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e said: “I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hone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my friend every day.”→ She said/ told him                                                                                                                    that she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honed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her friends every day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present  simple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  </a:t>
                      </a:r>
                      <a:r>
                        <a:rPr b="0" i="1" lang="en-US" sz="3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→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past simple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e said: “I will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hone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you.”→ She said/ told me (that) she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ould phone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me.        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future simple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 </a:t>
                      </a:r>
                      <a:r>
                        <a:rPr b="0" i="1" lang="en-US" sz="3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future-in-the-past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e  said: “I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honed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you at 5 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→ 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  <a:ea typeface="Times New Roman"/>
                        </a:rPr>
                        <a:t>She said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  <a:ea typeface="Times New Roman"/>
                        </a:rPr>
                        <a:t>/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  <a:ea typeface="Times New Roman"/>
                        </a:rPr>
                        <a:t> told me (that) she         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ut you were not at home.”           had phoned me at 5, but I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                                                    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d not been at home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past simple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 </a:t>
                      </a:r>
                      <a:r>
                        <a:rPr b="0" i="1" lang="en-US" sz="3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past perfect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member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oday-that day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onight-that night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yesterday</a:t>
            </a: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he day befor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omorrow-the next day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(a week) ago-(a week) befor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last year-the year befor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next year-the following year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his evening-that evening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now-then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his-that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hese-thos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here-ther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You can use the following verbs to report speech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la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gg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n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ff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vis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i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al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Verdana"/>
              </a:rPr>
              <a:t>are also changed: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all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→ shou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will → wou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can → cou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may → migh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must → had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porting stateme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e use the word “</a:t>
            </a: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tha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” and </a:t>
            </a: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sequence of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tens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to report </a:t>
            </a: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statement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852640"/>
          <a:ext cx="8893080" cy="3816360"/>
        </p:xfrm>
        <a:graphic>
          <a:graphicData uri="http://schemas.openxmlformats.org/drawingml/2006/table">
            <a:tbl>
              <a:tblPr/>
              <a:tblGrid>
                <a:gridCol w="4446720"/>
                <a:gridCol w="444636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says (has said, will say), "I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them the catalogue on Monday." -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оворит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(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з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,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жет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: «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Я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им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талог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недельник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»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says (has said, will say) that he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them the catalogue on Monday. -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оворит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(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з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,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жет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,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что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им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талог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недельник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2:16:13Z</dcterms:created>
  <dc:creator>qweasd</dc:creator>
  <dc:description/>
  <dc:language>en-US</dc:language>
  <cp:lastModifiedBy>User</cp:lastModifiedBy>
  <dcterms:modified xsi:type="dcterms:W3CDTF">2012-12-11T17:20:53Z</dcterms:modified>
  <cp:revision>18</cp:revision>
  <dc:subject/>
  <dc:title>Слайд 1</dc:title>
</cp:coreProperties>
</file>