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C26-E837-4C01-8A76-EC9B9466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901A-A18A-4990-83D8-A9E26004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8CF8-73E4-4260-879E-258A7082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0B44-AA76-4F7E-B4B2-C91E66EF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B187-6874-4213-9CDE-D599DD7F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36C8-50B1-42DE-946E-0E14A8E6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C697-4C9F-4139-B853-8C027237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84AB-2205-47A1-A01A-DBFF8EAE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207C-5155-4FC0-8F6E-70766D21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773D-FAB4-4AE4-A818-F5A750F9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632F-79BD-4D5E-B1A2-C5EC67C0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81BD-8C23-4F63-AFAE-AA393F3F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EBD5-60D6-495B-A71C-2AB2C2F5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0C04-AAD0-4E5A-9622-D96300F6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CB8E-AADD-45CB-AAD1-ABD95C0A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EB71-432B-4DF3-B309-824DFBEC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8E15-85B6-403D-A3E5-1F8B93C5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95BB-75BC-45F4-996E-838A71E2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730C-7953-443E-81B8-90851CCF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F0B9-2FB9-4881-8F34-235597F5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575-8B5B-4304-96F4-44F61813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69A9-8936-4BAC-80E3-67F9BD93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147A-B534-4299-9212-6A4EE1EC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4E70-7A1B-4DA4-9852-CCEED757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3BA7-8C55-4F79-9B1A-5258081622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05D4-4F0D-454E-999F-55FCAFF77A7F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vashareklamaua.files.wordpress.com/2010/04/01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ff"/>
                </a:solidFill>
                <a:latin typeface="Arial"/>
              </a:rPr>
              <a:t>Reported </a:t>
            </a:r>
            <a:br>
              <a:rPr sz="5400"/>
            </a:br>
            <a:r>
              <a:rPr b="0" lang="en-US" sz="5400" spc="-1" strike="noStrike">
                <a:solidFill>
                  <a:srgbClr val="ff99ff"/>
                </a:solidFill>
                <a:latin typeface="Arial"/>
              </a:rPr>
              <a:t>(indirect) speech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240" y="3733560"/>
            <a:ext cx="708804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99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Created by</a:t>
            </a:r>
            <a:r>
              <a:rPr b="0" lang="ru-RU" sz="2400" spc="-1" strike="noStrike">
                <a:solidFill>
                  <a:srgbClr val="ff99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Pavlov Evgeni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School </a:t>
            </a:r>
            <a:r>
              <a:rPr b="0" lang="ru-RU" sz="2400" spc="-1" strike="noStrike">
                <a:solidFill>
                  <a:srgbClr val="ff99ff"/>
                </a:solidFill>
                <a:latin typeface="Verdana"/>
              </a:rPr>
              <a:t>№</a:t>
            </a: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 6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Form</a:t>
            </a:r>
            <a:r>
              <a:rPr b="0" lang="ru-RU" sz="2400" spc="-1" strike="noStrike">
                <a:solidFill>
                  <a:srgbClr val="ff99ff"/>
                </a:solidFill>
                <a:latin typeface="Verdana"/>
              </a:rPr>
              <a:t> 8</a:t>
            </a: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 B</a:t>
            </a:r>
            <a:r>
              <a:rPr b="0" lang="ru-RU" sz="2400" spc="-1" strike="noStrike">
                <a:solidFill>
                  <a:srgbClr val="ff99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porting ques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 report indirect questions, we use the following verbs: 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ask, want to know, wond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 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general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reported questions we use the word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«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If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»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 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special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 question-words (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who, what, when, why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…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4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98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98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d now compare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484280"/>
          <a:ext cx="9144000" cy="8222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cc"/>
                          </a:solidFill>
                          <a:latin typeface="Verdana"/>
                        </a:rPr>
                        <a:t>General question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cc"/>
                          </a:solidFill>
                          <a:latin typeface="Verdana"/>
                        </a:rPr>
                        <a:t>Wh-questions (Special questions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0" y="3213000"/>
          <a:ext cx="9144000" cy="1920960"/>
        </p:xfrm>
        <a:graphic>
          <a:graphicData uri="http://schemas.openxmlformats.org/drawingml/2006/table">
            <a:tbl>
              <a:tblPr/>
              <a:tblGrid>
                <a:gridCol w="2124000"/>
                <a:gridCol w="2448000"/>
                <a:gridCol w="2592360"/>
                <a:gridCol w="197964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he said, “Are you a good reader?”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he asked me if I was a good reader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said “how did you get here tonight?”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wanted to know how I had got there that nigh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0" y="2276640"/>
          <a:ext cx="9144000" cy="934920"/>
        </p:xfrm>
        <a:graphic>
          <a:graphicData uri="http://schemas.openxmlformats.org/drawingml/2006/table">
            <a:tbl>
              <a:tblPr/>
              <a:tblGrid>
                <a:gridCol w="2124000"/>
                <a:gridCol w="2448000"/>
                <a:gridCol w="2592360"/>
                <a:gridCol w="197964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irec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Reported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irec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Reported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porting command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To report </a:t>
            </a:r>
            <a:r>
              <a:rPr b="0" lang="en-US" sz="2600" spc="-1" strike="noStrike">
                <a:solidFill>
                  <a:srgbClr val="ff99cc"/>
                </a:solidFill>
                <a:latin typeface="Verdana"/>
              </a:rPr>
              <a:t>commands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, we use the following verbs: </a:t>
            </a:r>
            <a:r>
              <a:rPr b="0" lang="en-US" sz="2600" spc="-1" strike="noStrike">
                <a:solidFill>
                  <a:srgbClr val="ff99cc"/>
                </a:solidFill>
                <a:latin typeface="Verdana"/>
              </a:rPr>
              <a:t>ask, advise, order, teach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, e.t.c…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Examples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My mother often says:” Help your brother.”-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My mother often asks me to help my brother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Give up fast food,” the doctor said.- The doctor advised her to give up fast food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Don’t be late!” said the teacher.-The teacher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warned us not to be late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ll dir="d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9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2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ither  you report statements, questions or commands, never forget about </a:t>
            </a:r>
            <a:r>
              <a:rPr b="1" i="1" lang="en-US" sz="3200" spc="-1" strike="noStrike" u="sng">
                <a:solidFill>
                  <a:srgbClr val="ff99cc"/>
                </a:solidFill>
                <a:uFillTx/>
                <a:latin typeface="Verdana"/>
              </a:rPr>
              <a:t>the sequence of tenses!!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w tell everything you’ve learnt from this presentation)))))))))))))))))))))))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Picture 5" descr="Картинка 1 из 676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2349360"/>
            <a:ext cx="50767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ank you for attention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Picture 7" descr="i?id=209730175-04-72"/>
          <p:cNvPicPr/>
          <p:nvPr/>
        </p:nvPicPr>
        <p:blipFill>
          <a:blip r:embed="rId1"/>
          <a:stretch/>
        </p:blipFill>
        <p:spPr>
          <a:xfrm>
            <a:off x="2627280" y="2492280"/>
            <a:ext cx="380520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8456"/>
                </a:solidFill>
                <a:latin typeface="Verdana"/>
              </a:rPr>
              <a:t>Direct speech-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peech of a person, reported without any changes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8456"/>
                </a:solidFill>
                <a:latin typeface="Verdana"/>
              </a:rPr>
              <a:t>Indirect speech-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reports words of a person not directly, word for word, but  just the contents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539640" y="1052640"/>
          <a:ext cx="8229600" cy="5126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2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Direct spee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Reported spee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says</a:t>
                      </a: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, "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Mary will do it</a:t>
                      </a: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." -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Он говорит: «Мария сделает это».</a:t>
                      </a: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says (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tha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) Mary will do it. -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н говорит, что Мария сделает это.</a:t>
                      </a: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ays</a:t>
                      </a: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 to me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, "I know it." –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н говорит мне: «Я знаю это»</a:t>
                      </a: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tells</a:t>
                      </a: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 me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that he knows it. –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н говорит мне, что он знает это.</a:t>
                      </a: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aid</a:t>
                      </a: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 to me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: "I have seen you somewhere." -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н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казал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мне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:             «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Я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где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-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то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идел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тебя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».</a:t>
                      </a: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told</a:t>
                      </a: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 me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tha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he had seen me somewhere. -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н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казал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мне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,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что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н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где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-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то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идел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меня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.</a:t>
                      </a: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mpare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ile changing the direct speech into indirect, </a:t>
            </a:r>
            <a:r>
              <a:rPr b="1" lang="en-US" sz="2800" spc="-1" strike="noStrike">
                <a:solidFill>
                  <a:srgbClr val="ff99cc"/>
                </a:solidFill>
                <a:latin typeface="Verdana"/>
              </a:rPr>
              <a:t>do not forget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about  the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ollowing thing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99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cc"/>
                </a:solidFill>
                <a:latin typeface="Verdana"/>
              </a:rPr>
              <a:t>Sequence of tense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99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cc"/>
                </a:solidFill>
                <a:latin typeface="Verdana"/>
              </a:rPr>
              <a:t>Verbs, </a:t>
            </a:r>
            <a:r>
              <a:rPr b="0" lang="en-US" sz="3200" spc="-1" strike="noStrike">
                <a:solidFill>
                  <a:srgbClr val="ff99cc"/>
                </a:solidFill>
                <a:latin typeface="Verdana"/>
              </a:rPr>
              <a:t>used</a:t>
            </a:r>
            <a:r>
              <a:rPr b="0" lang="en-US" sz="2800" spc="-1" strike="noStrike">
                <a:solidFill>
                  <a:srgbClr val="ff99cc"/>
                </a:solidFill>
                <a:latin typeface="Verdana"/>
              </a:rPr>
              <a:t> to report speech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99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cc"/>
                </a:solidFill>
                <a:latin typeface="Verdana"/>
              </a:rPr>
              <a:t>To change words of time and place, modal verb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99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cc"/>
                </a:solidFill>
                <a:latin typeface="Verdana"/>
              </a:rPr>
              <a:t>Difference in reporting statements, questions and command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quence of ten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8360" y="1125360"/>
          <a:ext cx="8229600" cy="50230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98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he said: “I 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hone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my friend every day.”→ She said/ told him                                                                                                                    that she 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honed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her friends every day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    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99cc"/>
                          </a:solidFill>
                          <a:latin typeface="Verdana"/>
                        </a:rPr>
                        <a:t>present  simple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)  </a:t>
                      </a:r>
                      <a:r>
                        <a:rPr b="0" i="1" lang="en-US" sz="3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→ 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99cc"/>
                          </a:solidFill>
                          <a:latin typeface="Verdana"/>
                        </a:rPr>
                        <a:t>past simple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he said: “I will 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hone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you.”→ She said/ told me (that) she 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ould phone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me.           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99cc"/>
                          </a:solidFill>
                          <a:latin typeface="Verdana"/>
                        </a:rPr>
                        <a:t>future simple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) </a:t>
                      </a:r>
                      <a:r>
                        <a:rPr b="0" i="1" lang="en-US" sz="3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(</a:t>
                      </a:r>
                      <a:r>
                        <a:rPr b="0" i="1" lang="en-US" sz="2000" spc="-1" strike="noStrike">
                          <a:solidFill>
                            <a:srgbClr val="ff99cc"/>
                          </a:solidFill>
                          <a:latin typeface="Verdana"/>
                        </a:rPr>
                        <a:t>future-in-the-past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74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he  said: “I 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honed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you at 5 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→ 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  <a:ea typeface="Times New Roman"/>
                        </a:rPr>
                        <a:t>She said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  <a:ea typeface="Times New Roman"/>
                        </a:rPr>
                        <a:t>/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  <a:ea typeface="Times New Roman"/>
                        </a:rPr>
                        <a:t> told me (that) she            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ut you were not at home.”           had phoned me at 5, but I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                                                        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d not been at home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  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99cc"/>
                          </a:solidFill>
                          <a:latin typeface="Verdana"/>
                        </a:rPr>
                        <a:t>past simple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) </a:t>
                      </a:r>
                      <a:r>
                        <a:rPr b="0" i="1" lang="en-US" sz="3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(</a:t>
                      </a:r>
                      <a:r>
                        <a:rPr b="0" i="1" lang="en-US" sz="2000" spc="-1" strike="noStrike">
                          <a:solidFill>
                            <a:srgbClr val="ff99cc"/>
                          </a:solidFill>
                          <a:latin typeface="Verdana"/>
                        </a:rPr>
                        <a:t>past perfect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member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today-that day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tonight-that night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yesterday</a:t>
            </a:r>
            <a:r>
              <a:rPr b="0" lang="ru-RU" sz="2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the day before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tomorrow-the next day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(a week) ago-(a week) before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last year-the year before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next year-the following year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this evening-that evening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now-then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this-that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these-those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here-there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98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98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You can use the following verbs to report speech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xplai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gge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n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ff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dvis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mi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dal verb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Verdana"/>
              </a:rPr>
              <a:t>are also changed: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hall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→ shou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will → wou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can → cou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may → migh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must → had 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porting statemen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e use the word “</a:t>
            </a:r>
            <a:r>
              <a:rPr b="0" lang="en-US" sz="2800" spc="-1" strike="noStrike">
                <a:solidFill>
                  <a:srgbClr val="ff99cc"/>
                </a:solidFill>
                <a:latin typeface="Verdana"/>
              </a:rPr>
              <a:t>that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” and </a:t>
            </a:r>
            <a:r>
              <a:rPr b="0" lang="en-US" sz="2800" spc="-1" strike="noStrike">
                <a:solidFill>
                  <a:srgbClr val="ff99cc"/>
                </a:solidFill>
                <a:latin typeface="Verdana"/>
              </a:rPr>
              <a:t>sequence of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99cc"/>
                </a:solidFill>
                <a:latin typeface="Verdana"/>
              </a:rPr>
              <a:t>tense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to report </a:t>
            </a:r>
            <a:r>
              <a:rPr b="0" lang="en-US" sz="2800" spc="-1" strike="noStrike">
                <a:solidFill>
                  <a:srgbClr val="ff99cc"/>
                </a:solidFill>
                <a:latin typeface="Verdana"/>
              </a:rPr>
              <a:t>statement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2852640"/>
          <a:ext cx="8893080" cy="3816360"/>
        </p:xfrm>
        <a:graphic>
          <a:graphicData uri="http://schemas.openxmlformats.org/drawingml/2006/table">
            <a:tbl>
              <a:tblPr/>
              <a:tblGrid>
                <a:gridCol w="4446720"/>
                <a:gridCol w="4446360"/>
              </a:tblGrid>
              <a:tr h="38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says (has said, will say), "I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them the catalogue on Monday." -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н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говорит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(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казал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,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кажет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): «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Я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ослал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им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каталог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онедельник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».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says (has said, will say) that he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them the catalogue on Monday. -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н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говорит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(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казал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,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кажет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),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что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н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ослал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им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каталог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онедельник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2:16:13Z</dcterms:created>
  <dc:creator>qweasd</dc:creator>
  <dc:description/>
  <dc:language>en-US</dc:language>
  <cp:lastModifiedBy>User</cp:lastModifiedBy>
  <dcterms:modified xsi:type="dcterms:W3CDTF">2012-12-11T17:20:53Z</dcterms:modified>
  <cp:revision>18</cp:revision>
  <dc:subject/>
  <dc:title>Слайд 1</dc:title>
</cp:coreProperties>
</file>