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07D-9394-4045-A8BA-374C2A57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CFE-20E8-4D7C-9896-5873693A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F1F-A246-459B-B2AE-09C63F51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6CF-7991-45F5-8E31-5C2B90C7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6EB8-E5E0-42E8-A242-A511DC4B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BB32-5F74-4DE4-9DAA-631472BC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2B2E-C01E-4200-A341-4461DB44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6CDF-29A9-4AE1-BC80-8B886C3E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6FA8-2592-4867-A994-32CE8B58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8224-E8FF-472E-9914-22E8DF0F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3A80-2275-41A7-AD2A-5ADAB29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6E6-9DF1-4FDD-AE01-B25D085A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C5D6-7075-48C8-BAC9-747D3DE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FA2C-C451-4972-A436-B1693679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E001-722F-46DC-B8AD-4D59433F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0A99-70CE-4C03-83F4-D7CC54F9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2919-14C6-41FC-A470-121F6712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7AC-4529-49B8-8572-07DDC9F1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C55-6013-409B-AA6F-3A66F478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090-274B-44C3-8FF8-0C80363A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7C1-1654-4C73-9DF1-6BB8129A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2D1-45F1-4A67-A9C4-99DB94A0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F61-3607-48FC-B80E-66A4C554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9F4-93C7-4400-A72E-6185E84B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9CFE-01BD-4F3B-B6A9-B25132B81F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FD6B-D4BC-4D14-BB0D-1ED5800C83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БОУ « Малыгинская СОШ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220500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Русские традиции"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476360" y="5013360"/>
            <a:ext cx="626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читель: Ильичева И.Б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549360"/>
            <a:ext cx="7848360" cy="144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чай в Россию попал?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372360" y="4797360"/>
            <a:ext cx="2592360" cy="180036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372360" y="1989000"/>
            <a:ext cx="2447640" cy="1944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338436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50920" y="4653000"/>
            <a:ext cx="2305080" cy="18730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179280" y="1844640"/>
            <a:ext cx="2498760" cy="201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44" name=""/>
          <p:cNvSpPr txBox="1"/>
          <p:nvPr/>
        </p:nvSpPr>
        <p:spPr>
          <a:xfrm>
            <a:off x="2771640" y="429264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НГОЛИ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АЕПИТИЕ НА РУС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4392720" cy="3600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978280" cy="2592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«Четыре ноги да ухо, один нос да брюхо»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«Никогда не ест, а только пьёт, а как зашумит, всех приманит»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2914920" cy="21859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802240" cy="33130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3048120" cy="173196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3564000" y="1989000"/>
            <a:ext cx="2260440" cy="3240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254" name=""/>
          <p:cNvSpPr txBox="1"/>
          <p:nvPr/>
        </p:nvSpPr>
        <p:spPr>
          <a:xfrm>
            <a:off x="3635280" y="5805360"/>
            <a:ext cx="511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В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много из истории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95280" y="1052640"/>
            <a:ext cx="482436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леньким самоварам народ дал ласкательные имена - самоварчик, самоварец, самоваришка, самоварик; о большом говорили восторженно самоварищ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размеру самовары были крохотные, почти игрушечные - всего один стакан воды, бывали и громадные – пятиведер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527280" cy="37447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онкурс « Весёлые художники»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400720" cy="4464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есёлые мастера-затей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951280" cy="2438640"/>
          </a:xfrm>
          <a:prstGeom prst="rect">
            <a:avLst/>
          </a:prstGeom>
          <a:ln w="76320">
            <a:solidFill>
              <a:srgbClr val="cc00ff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240000" cy="2808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476360" y="4653000"/>
            <a:ext cx="2736720" cy="2016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435640" y="1628640"/>
            <a:ext cx="2303280" cy="1981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024000" cy="288144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2521080" cy="3024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606760" cy="27367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148360" y="3500280"/>
            <a:ext cx="2592360" cy="28576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авила заваривания ча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9880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лоснуть чайник горячей во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арить кипят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крыть теплой ткан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665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9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Русские традиции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71640" y="3141720"/>
            <a:ext cx="7416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АЕП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10544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ыпал чай я весь в горш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приправил луку, пер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 петрушки кореш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лил варево по плошк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енько размеша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тудил его немножк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господский стол подал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64440" t="7479" r="8937" b="52108"/>
          <a:stretch/>
        </p:blipFill>
        <p:spPr>
          <a:xfrm>
            <a:off x="4643280" y="692280"/>
            <a:ext cx="4038840" cy="4825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ОСТЕПРИИМ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« Гостю почет – хозяину чест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« Хоть не богат, а гостям рад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« Гость в дом – радость в дом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одина чая - КИТА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93080" cy="453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2376720" cy="2303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2374920" cy="1944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276720" y="549360"/>
            <a:ext cx="2447640" cy="2012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419640" y="3284640"/>
            <a:ext cx="2520720" cy="2160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443640" y="4149720"/>
            <a:ext cx="2305080" cy="2114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6443640" y="836640"/>
            <a:ext cx="2305080" cy="2089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БОР ЛИСТЬЕВ ЧА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4105440" cy="2664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745080" cy="2664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4537080" cy="2592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сосуд упало несколько лепест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чайного куст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вода потемнел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 неё начал исход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нкий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ят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ом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38360" y="1600200"/>
            <a:ext cx="3476520" cy="45259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234" name=""/>
          <p:cNvSpPr txBox="1"/>
          <p:nvPr/>
        </p:nvSpPr>
        <p:spPr>
          <a:xfrm>
            <a:off x="611280" y="549360"/>
            <a:ext cx="813744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992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много веков назад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ЧАЙНАЯ ЦЕРИМОНИЯ В ЯПОН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608360" cy="431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313080" cy="424836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2:34:01Z</dcterms:created>
  <dc:creator>комп</dc:creator>
  <dc:description/>
  <dc:language>en-US</dc:language>
  <cp:lastModifiedBy>ученик</cp:lastModifiedBy>
  <dcterms:modified xsi:type="dcterms:W3CDTF">2012-12-10T07:10:09Z</dcterms:modified>
  <cp:revision>6</cp:revision>
  <dc:subject/>
  <dc:title>Русские традиции.</dc:title>
</cp:coreProperties>
</file>