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CCE-E25F-4717-85C8-F4D56285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404-4B3B-4ABD-814D-0476322C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C4D-8299-4619-8B63-C4BF9989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353-45FF-4F0C-BC47-32B9E97B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506A-94A3-4EFE-9240-AF7FC1C7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447C-CE37-47D9-B5FC-289B5178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A098-5134-441E-B9EF-11B2084E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C746-04C9-4BFA-95EE-21FC86A7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3C85-FDC1-4ED5-8B0F-97E755C0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851A-2A26-4CA3-9AF1-DADA1030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922B-2FE1-493C-A693-556E6A32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9C5-9EE6-43B6-B293-84E14949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1218-D62C-41D6-B36D-90F2483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75EC-5817-4E0F-ADB0-6A095A25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62F8-2B06-4134-9B62-FB67945B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DDDA-5959-4130-A92D-0979DF7A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B34A-B1DC-4F53-9C7D-02F50210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301-9017-489E-A932-C976E4D0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720-3BB3-4AFF-8168-EF5A26A9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FEC-04E3-49C6-B245-DF477086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EFF-F6AC-4E8E-877D-36E60A02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26A-69C6-4CE3-9186-3A387F0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314-AAFD-4E40-B5B3-79724C24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99B-36BA-4030-8431-7F9EC61A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A689-739A-466F-B76A-765983E1AD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E02D-9EC5-4BB8-B828-91F8164ECB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БОУ « Малыгинская СОШ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220500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Русские традиции"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476360" y="5013360"/>
            <a:ext cx="626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читель: Ильичева И.Б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549360"/>
            <a:ext cx="7848360" cy="144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чай в Россию попал?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372360" y="4797360"/>
            <a:ext cx="2592360" cy="180036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372360" y="1989000"/>
            <a:ext cx="2447640" cy="1944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338436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50920" y="4653000"/>
            <a:ext cx="2305080" cy="18730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179280" y="1844640"/>
            <a:ext cx="2498760" cy="201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44" name=""/>
          <p:cNvSpPr txBox="1"/>
          <p:nvPr/>
        </p:nvSpPr>
        <p:spPr>
          <a:xfrm>
            <a:off x="2771640" y="429264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ОНГОЛИ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АЕПИТИЕ НА РУС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4392720" cy="3600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978280" cy="2592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«Четыре ноги да ухо, один нос да брюхо»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«Никогда не ест, а только пьёт, а как зашумит, всех приманит»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2914920" cy="21859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802240" cy="33130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3048120" cy="173196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3564000" y="1989000"/>
            <a:ext cx="2260440" cy="3240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254" name=""/>
          <p:cNvSpPr txBox="1"/>
          <p:nvPr/>
        </p:nvSpPr>
        <p:spPr>
          <a:xfrm>
            <a:off x="3635280" y="5805360"/>
            <a:ext cx="511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В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много из истории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95280" y="1052640"/>
            <a:ext cx="482436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леньким самоварам народ дал ласкательные имена - самоварчик, самоварец, самоваришка, самоварик; о большом говорили восторженно самоварищ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размеру самовары были крохотные, почти игрушечные - всего один стакан воды, бывали и громадные – пятиведер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527280" cy="37447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онкурс « Весёлые художники»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400720" cy="44640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есёлые мастера-затей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951280" cy="2438640"/>
          </a:xfrm>
          <a:prstGeom prst="rect">
            <a:avLst/>
          </a:prstGeom>
          <a:ln w="76320">
            <a:solidFill>
              <a:srgbClr val="cc00ff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240000" cy="2808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476360" y="4653000"/>
            <a:ext cx="2736720" cy="20160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435640" y="1628640"/>
            <a:ext cx="2303280" cy="1981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024000" cy="288144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2521080" cy="3024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606760" cy="27367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148360" y="3500280"/>
            <a:ext cx="2592360" cy="28576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авила заваривания ча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9880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лоснуть чайник горячей во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арить кипят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крыть теплой ткан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665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9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Русские традиции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71640" y="3141720"/>
            <a:ext cx="7416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АЕП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10544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ыпал чай я весь в горш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приправил луку, пер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 петрушки кореш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лил варево по плошк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енько размеша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тудил его немножк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господский стол подал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64440" t="7479" r="8937" b="52108"/>
          <a:stretch/>
        </p:blipFill>
        <p:spPr>
          <a:xfrm>
            <a:off x="4643280" y="692280"/>
            <a:ext cx="4038840" cy="4825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ОСТЕПРИИМ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« Гостю почет – хозяину честь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« Хоть не богат, а гостям рад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« Гость в дом – радость в дом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одина чая - КИТА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93080" cy="453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2376720" cy="2303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2374920" cy="1944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276720" y="549360"/>
            <a:ext cx="2447640" cy="2012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419640" y="3284640"/>
            <a:ext cx="2520720" cy="2160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443640" y="4149720"/>
            <a:ext cx="2305080" cy="2114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6443640" y="836640"/>
            <a:ext cx="2305080" cy="2089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БОР ЛИСТЬЕВ ЧА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4105440" cy="2664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3745080" cy="2664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4537080" cy="2592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сосуд упало несколько лепест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чайного куст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вода потемнел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 неё начал исход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нкий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я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ом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38360" y="1600200"/>
            <a:ext cx="3476520" cy="45259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234" name=""/>
          <p:cNvSpPr txBox="1"/>
          <p:nvPr/>
        </p:nvSpPr>
        <p:spPr>
          <a:xfrm>
            <a:off x="611280" y="549360"/>
            <a:ext cx="813744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992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много веков назад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ЧАЙНАЯ ЦЕРИМОНИЯ В ЯПОН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608360" cy="431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313080" cy="424836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2:34:01Z</dcterms:created>
  <dc:creator>комп</dc:creator>
  <dc:description/>
  <dc:language>en-US</dc:language>
  <cp:lastModifiedBy>ученик</cp:lastModifiedBy>
  <dcterms:modified xsi:type="dcterms:W3CDTF">2012-12-10T07:10:09Z</dcterms:modified>
  <cp:revision>6</cp:revision>
  <dc:subject/>
  <dc:title>Русские традиции.</dc:title>
</cp:coreProperties>
</file>