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616F-B8C2-4EF7-889F-9820EC94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E719-86D2-4207-A378-09CB5D85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DDF5-8E2F-40E3-BE33-D9A5E735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ACFE-E870-496B-866E-8CDCC3DA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D01-0554-4847-BA5A-18BF2BD2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CBBE-7D5B-4BA4-B725-25C11952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2DE2-9385-40F9-9272-9C1B4FA6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8873-FB21-4665-A7E7-05075C8A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90C-98C7-4AD0-B479-7B561327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9F78-8F3B-4F30-BDB2-F2E9D087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C459-D056-4FBB-9429-6BB33615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3610-16C0-43FB-9973-E11D888A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CAC9-59B6-43B4-B012-873A690D4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19280" y="692280"/>
            <a:ext cx="6086520" cy="38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мя существительное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общение и систематизац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ученного материала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084720" y="558972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3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«Школа – 2100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8000" y="4653000"/>
            <a:ext cx="5185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Козлова Анн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ГБОУ Лицей №5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Санкт-Петер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124000" y="260280"/>
            <a:ext cx="53881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260280"/>
            <a:ext cx="538776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62064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мя существительное (н.ф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д.ч,             кто? 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2009880"/>
            <a:ext cx="89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бака, как и лисица, и кошка, подбирается к добыче. И вдруг замрёт. Это у охотников называется стой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бака только стоит и указывает, а человек при взлёте стреляет. Если же собака при взлёте бежит, это не охота. Пустится с лаем по болоту, спугнёт птицу - охотнику так ничего и не достанется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По М.Пришви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2052720"/>
            <a:ext cx="864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лодно птицам ________. Вот и летят они к ________ человека. Алёша и Женя смастерили для птиц ____________. Они насыпали туда зёрен и семян. Слетелись к кормушкам снегири, _________. Ребята, помогайте _________ зи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835280" y="260280"/>
            <a:ext cx="538776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333360"/>
            <a:ext cx="8713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рядок  разбора имени существитель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ак части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Начальная форма (в форме единственного числа, отвечает на вопрос кто? или чт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Часть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Постоянные призна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одушевлённо или неодушевлён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Непостоянные призна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619280" y="1197000"/>
            <a:ext cx="608652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620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олшебный, зима, холо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58920" y="1341360"/>
            <a:ext cx="705816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11720" y="5203800"/>
            <a:ext cx="67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За)мел...кал (в)м...розном воздух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ё...кий сн...ж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7672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1080" y="31654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...мпьютер, ин...й, в...лшебный, м...тро, ок...ан, пр...дмет, ш...фёр, ч...рёмуха, кр...вать, пр...фессия, м...чта, п...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вариант:                        2 вариан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132000" y="333360"/>
            <a:ext cx="26640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3881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050920" y="189000"/>
            <a:ext cx="53881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195640" y="260280"/>
            <a:ext cx="537048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050920" y="260280"/>
            <a:ext cx="53881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195640" y="260280"/>
            <a:ext cx="538776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0:36:51Z</dcterms:created>
  <dc:creator>Начальная школа</dc:creator>
  <dc:description/>
  <dc:language>en-US</dc:language>
  <cp:lastModifiedBy>Начальная школа</cp:lastModifiedBy>
  <dcterms:modified xsi:type="dcterms:W3CDTF">2012-12-06T09:59:42Z</dcterms:modified>
  <cp:revision>4</cp:revision>
  <dc:subject/>
  <dc:title>Слайд 1</dc:title>
</cp:coreProperties>
</file>