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6C4-C43A-48B7-BDA6-16ECD13F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E76-999B-474E-B0B3-D68DD34A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5FD-1F47-453B-A652-A3AD1025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124-B904-4AC6-AC20-47C38CC6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898-AA44-49DD-9A73-72845162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239-D37E-47C0-8987-0EA3D71B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DF0-9D75-436E-A766-C266EEEF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A2A-1796-41D6-B7A5-E83708E2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9E0-2AAD-491F-BAC1-0FA7D677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CF6-ECAF-4DB7-B8A3-34B6D6FC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3AF-401F-444E-B0B2-D231BAA1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4A6-991D-42C9-AF86-E6E20A82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E34-E7AC-459E-A686-BFC14CDB8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692280"/>
            <a:ext cx="608652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мя существительно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общение и систематиз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ученного материал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084720" y="55897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«Школа – 210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4653000"/>
            <a:ext cx="5185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Козлова Ан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ГБОУ Лицей №5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5388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53877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620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мя существительное (н.ф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д.ч,             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00988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бака, как и лисица, и кошка, подбирается к добыче. И вдруг замрёт. Это у охотников называется стой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бака только стоит и указывает, а человек при взлёте стреляет. Если же собака при взлёте бежит, это не охота. Пустится с лаем по болоту, спугнёт птицу - охотнику так ничего и не достанет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По М.Пришв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05272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лодно птицам ________. Вот и летят они к ________ человека. Алёша и Женя смастерили для птиц ____________. Они насыпали туда зёрен и семян. Слетелись к кормушкам снегири, _________. Ребята, помогайте _________ зи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53877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33336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рядок  разбора имени существите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Начальная форма (в форме единственного числа, отвечает на вопрос кто? или ч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Постоянные призна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одушевлённо или неодушевлё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Непостоянные призна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619280" y="1197000"/>
            <a:ext cx="608652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620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лшебный, зима, хол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58920" y="1341360"/>
            <a:ext cx="70581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11720" y="5203800"/>
            <a:ext cx="67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За)мел...кал (в)м...розн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ё...кий сн...ж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767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1080" y="3165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...мпьютер, ин...й, в...лшебный, м...тро, ок...ан, пр...дмет, ш...фёр, ч...рёмуха, кр...вать, пр...фессия, м...чта, п...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вариант:                        2 вариа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26640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388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5388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537048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5388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53877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0:36:51Z</dcterms:created>
  <dc:creator>Начальная школа</dc:creator>
  <dc:description/>
  <dc:language>en-US</dc:language>
  <cp:lastModifiedBy>Начальная школа</cp:lastModifiedBy>
  <dcterms:modified xsi:type="dcterms:W3CDTF">2012-12-06T09:59:42Z</dcterms:modified>
  <cp:revision>4</cp:revision>
  <dc:subject/>
  <dc:title>Слайд 1</dc:title>
</cp:coreProperties>
</file>