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2DA-CB25-4F7B-9A43-892F3CF4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98A-097D-4993-9FB6-B0E7C232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935-86C6-4917-B753-B60B2563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17F4-DA1A-4A77-BF8C-FEB4B55E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B280-0035-4495-978C-2B6F97FD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85D9-02C4-48D3-93C6-7AFA5CEA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08AA-744A-4C0A-817A-D5EC899B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80F1-C3FD-473D-A791-C10C10A3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7A72-501D-46D5-A765-895934E2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DC25-AD31-4D77-95A8-1EFD76B2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F398-78D3-49B7-A795-98F55FD7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2220-EFB5-4608-ADAA-DA877634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6EA6-B89C-47AA-A7FC-336E508F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313C-3E7E-43FA-BD8C-919394BB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7535-207A-4063-A2F1-5BAE64E0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9EAB-B5C1-4F0C-B6BE-A0D4C2E5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A460-2CD3-419B-A05B-A91D426D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C02-CD5F-4055-96EB-B784D0EF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112-0F99-4252-82DE-3FC8FA1B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CEF-AB30-4527-8534-B71CC205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3C2-4922-40CB-B3BB-C6E46113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6A0B-0F27-4498-9A99-B906ADD5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CC40-0D77-442B-B083-BFEF8C57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57DB-19F7-411F-85DE-2BE00568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DA66-D9D7-4492-9FDA-EAF7AF0A4F8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6CAE-B03A-4800-8C82-7E61F2BEFC5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1510920"/>
            <a:ext cx="889308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емья и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/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или школа.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Кто в ответе?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суждение на заданную тем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дагога-психолога МБОУ гимназии №1 М.А.Нехаёно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0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Поведение учителя на собрании: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04640"/>
            <a:ext cx="94680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Учителю самому необходимо  сн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собственное напряжение и тревогу пере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встречей с родителям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 помощью речи, интонации, жестов дай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одителям почувствовать Ваше уважение и внимание к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старайтесь понять родителей, правильно определить проблемы волнующие их, убедите их в том, что у школы и семьи одни проблемы, одни задачи, одни д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31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Поведение учителя на собрании: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говаривать с родителями необходимо спокойно и доброжелательно. Очень важно, чтобы родители всех учеников  ушли с собрания с верой в своего ребён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езультатом вашей совместной – уверенность родителей   в том, что в воспитании детей они всегда могут рассчитывать на Вашу поддержку и помощь других учител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8850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Обязанности и права семь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Из Конституции и Семейного Кодекса РФ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оспитание детей – конституционная        обязанность родителей.    Они призван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ботиться о развитии и укреплении физического  и психического здоровья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оспитывать детей в духе уважения и любви       к труду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дготавливать их к общественно- полезной деятельности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иучать к дисциплине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семерно укреплять авторитет взросл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тимулировать к осознанному выбору  профессии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696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новы личностного развития человека закладываются в семь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в раннем детстве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3038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604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Если родители пользуются авторитетом       у детей, показывают им образцы нравственной культуры и постоянной работы над собой, то слова родителей имеют большой вес и побуждают школьников добросовестно выполнять свои обязанност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2916360" y="4476600"/>
            <a:ext cx="2857320" cy="2381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0" y="2136600"/>
            <a:ext cx="4572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бстановка несогласия, недоброжелательности и нервозности формирует у детей плохое настроение с которым они идут в школу, где не могут сосредоточиться на материале и вымещают агрессию на других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042920" y="3789360"/>
            <a:ext cx="2664000" cy="199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4932360" y="4005360"/>
            <a:ext cx="349236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нкета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«Семейные ценност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1828800"/>
            <a:ext cx="9432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 анкетировании приняли участ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Учащиеся 5,6,11 классов (67 человек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одители 5,6,7 классов (72 человек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395280" y="692280"/>
          <a:ext cx="8531280" cy="5794200"/>
        </p:xfrm>
        <a:graphic>
          <a:graphicData uri="http://schemas.openxmlformats.org/drawingml/2006/table">
            <a:tbl>
              <a:tblPr/>
              <a:tblGrid>
                <a:gridCol w="4156200"/>
                <a:gridCol w="4375080"/>
              </a:tblGrid>
              <a:tr h="1098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Чего ждёт реб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ё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ок от семьи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 которой жи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ё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е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Роди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) хорошей организации быта - 13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) радости общения - 53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) покоя  и защищённости –33,5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) хорошей организации быт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–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) радости общения- 52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) покоя  и защищённост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–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539640" y="549360"/>
          <a:ext cx="8353440" cy="5180040"/>
        </p:xfrm>
        <a:graphic>
          <a:graphicData uri="http://schemas.openxmlformats.org/drawingml/2006/table">
            <a:tbl>
              <a:tblPr/>
              <a:tblGrid>
                <a:gridCol w="3986280"/>
                <a:gridCol w="4367160"/>
              </a:tblGrid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Что более всего заботи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родителей в семь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е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Роди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) здоровье детей – 52,5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) хорошая учёба детей – 22,5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) трудовое участие детей в жизни семьи –6,3%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) здоровье детей – 87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) хорошая учёба детей –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9,7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) трудовое участие детей в жизни семьи –3%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684360" y="907920"/>
          <a:ext cx="7920000" cy="4141800"/>
        </p:xfrm>
        <a:graphic>
          <a:graphicData uri="http://schemas.openxmlformats.org/drawingml/2006/table">
            <a:tbl>
              <a:tblPr/>
              <a:tblGrid>
                <a:gridCol w="3779640"/>
                <a:gridCol w="4140360"/>
              </a:tblGrid>
              <a:tr h="649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динок ли ребёнок  в семь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е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Роди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) да –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9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)  нет –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8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) не знаю –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1%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) да –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% 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)  нет – 77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) не знаю – 15%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539640" y="476280"/>
          <a:ext cx="8604360" cy="4554360"/>
        </p:xfrm>
        <a:graphic>
          <a:graphicData uri="http://schemas.openxmlformats.org/drawingml/2006/table">
            <a:tbl>
              <a:tblPr/>
              <a:tblGrid>
                <a:gridCol w="4106880"/>
                <a:gridCol w="4497480"/>
              </a:tblGrid>
              <a:tr h="64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ля ребёнка вечер дома – это…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е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Роди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)  радость общения – 58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) возможность быть самим собой – 32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) мучение и пытка – 7,1%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)  радость общения – 51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) возможность быть самим собой – 48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) мучение и пытка  - 1,3%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95280" y="692280"/>
          <a:ext cx="8459640" cy="4249440"/>
        </p:xfrm>
        <a:graphic>
          <a:graphicData uri="http://schemas.openxmlformats.org/drawingml/2006/table">
            <a:tbl>
              <a:tblPr/>
              <a:tblGrid>
                <a:gridCol w="4036320"/>
                <a:gridCol w="4423320"/>
              </a:tblGrid>
              <a:tr h="108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Хотели бы   дети иметь  в будущем  семью,  похожую на родительскую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е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Роди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) да – 41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)  нет – 31,3 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) не знаю –27,3 %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) да – 38% 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)  нет – 15 %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) не знаю – 46 %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89000"/>
            <a:ext cx="86756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умный контроль родителей помогает детям более ответственно относится к выполнению своих обязанностей, преодолевать отрицательные «соблазны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одителям нужно и важно следить за соблюдением режима дня, знать: с кем дружат их дети, где и как проводят свой досуг, побуждать к выполнению своих школьных обязанностей и помощи по дому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72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Обязанности и права школ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есёт ответственность за жизнь и  здоровье обучающегося во время образовательного процесса                           (по законодательству РФ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беспечивает  обучающемуся приобретение знаний, умений и навыков в объеме общего образования, с выдачей, при условии успешной сдачи государственной итоговой аттестации, аттестата (свидетельства)      государственного образц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820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оздает максимально благоприятные условия для умственного, нравственного, эмоционального и физического развития личности школьника, всестороннего развития его способност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Адекватно  применяет формы, методы и средства организации образовательного процесса возрастным и психофизиологическим особенностям, склонностям, способностям, интересам обучающего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редоставляет обучающемуся дополнительные образовательные услуги: факультативы, предметные кружки, спортивные секции, социальную помощь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спользует различные формы педагогической и психологической  поддержки для оказания помощи учащимся, не усваивающим (по объективным и уважительным причинам) учебную програм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4932360" y="4149720"/>
            <a:ext cx="2917800" cy="246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89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Сою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«ШКОЛА-УЧЕНИК-СЕМЬЯ»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правлен на благополучие и гармоничное развитие личности школьника, на сохранение желания учиться, на укрепление веры в себя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Это сотрудничество-результат огромных усилий и творчества двух сторон –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школы и семь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4319640" cy="2887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Овал 33"/>
          <p:cNvSpPr/>
          <p:nvPr/>
        </p:nvSpPr>
        <p:spPr>
          <a:xfrm>
            <a:off x="1116000" y="765000"/>
            <a:ext cx="7273800" cy="5907240"/>
          </a:xfrm>
          <a:prstGeom prst="ellipse">
            <a:avLst/>
          </a:prstGeom>
          <a:gradFill rotWithShape="0">
            <a:gsLst>
              <a:gs pos="0">
                <a:srgbClr val="7e91ff"/>
              </a:gs>
              <a:gs pos="100000">
                <a:srgbClr val="c2ccff"/>
              </a:gs>
            </a:gsLst>
            <a:lin ang="16200000"/>
          </a:gradFill>
          <a:ln w="19080">
            <a:solidFill>
              <a:srgbClr val="3055e6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Овал 10"/>
          <p:cNvSpPr/>
          <p:nvPr/>
        </p:nvSpPr>
        <p:spPr>
          <a:xfrm>
            <a:off x="395280" y="404640"/>
            <a:ext cx="2664000" cy="1872000"/>
          </a:xfrm>
          <a:prstGeom prst="ellipse">
            <a:avLst/>
          </a:prstGeom>
          <a:solidFill>
            <a:srgbClr val="a7ea52"/>
          </a:solidFill>
          <a:ln w="42480">
            <a:solidFill>
              <a:srgbClr val="7aa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еферентная знач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Овал 4"/>
          <p:cNvSpPr/>
          <p:nvPr/>
        </p:nvSpPr>
        <p:spPr>
          <a:xfrm>
            <a:off x="3780000" y="260280"/>
            <a:ext cx="1657080" cy="1224000"/>
          </a:xfrm>
          <a:prstGeom prst="ellipse">
            <a:avLst/>
          </a:prstGeom>
          <a:gradFill rotWithShape="0">
            <a:gsLst>
              <a:gs pos="0">
                <a:srgbClr val="82ffde"/>
              </a:gs>
              <a:gs pos="100000">
                <a:srgbClr val="c4fff3"/>
              </a:gs>
            </a:gsLst>
            <a:lin ang="16200000"/>
          </a:gradFill>
          <a:ln w="9360">
            <a:solidFill>
              <a:srgbClr val="41eab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тказ от нас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Овал 9"/>
          <p:cNvSpPr/>
          <p:nvPr/>
        </p:nvSpPr>
        <p:spPr>
          <a:xfrm>
            <a:off x="6227640" y="549360"/>
            <a:ext cx="2916360" cy="2087640"/>
          </a:xfrm>
          <a:prstGeom prst="ellipse">
            <a:avLst/>
          </a:prstGeom>
          <a:solidFill>
            <a:srgbClr val="a7ea52"/>
          </a:solidFill>
          <a:ln w="42480">
            <a:solidFill>
              <a:srgbClr val="7aa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требность в общении и дов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Овал 6"/>
          <p:cNvSpPr/>
          <p:nvPr/>
        </p:nvSpPr>
        <p:spPr>
          <a:xfrm>
            <a:off x="3059280" y="2349360"/>
            <a:ext cx="2952720" cy="1368720"/>
          </a:xfrm>
          <a:prstGeom prst="ellipse">
            <a:avLst/>
          </a:prstGeom>
          <a:gradFill rotWithShape="0">
            <a:gsLst>
              <a:gs pos="0">
                <a:srgbClr val="82ffde"/>
              </a:gs>
              <a:gs pos="100000">
                <a:srgbClr val="c4fff3"/>
              </a:gs>
            </a:gsLst>
            <a:lin ang="16200000"/>
          </a:gradFill>
          <a:ln w="9360">
            <a:solidFill>
              <a:srgbClr val="41eab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Психологически здоровая л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вал 8"/>
          <p:cNvSpPr/>
          <p:nvPr/>
        </p:nvSpPr>
        <p:spPr>
          <a:xfrm>
            <a:off x="826920" y="3573360"/>
            <a:ext cx="1656000" cy="1224000"/>
          </a:xfrm>
          <a:prstGeom prst="ellipse">
            <a:avLst/>
          </a:prstGeom>
          <a:gradFill rotWithShape="0">
            <a:gsLst>
              <a:gs pos="0">
                <a:srgbClr val="82ffde"/>
              </a:gs>
              <a:gs pos="100000">
                <a:srgbClr val="c4fff3"/>
              </a:gs>
            </a:gsLst>
            <a:lin ang="16200000"/>
          </a:gradFill>
          <a:ln w="9360">
            <a:solidFill>
              <a:srgbClr val="41eab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и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Овал 11"/>
          <p:cNvSpPr/>
          <p:nvPr/>
        </p:nvSpPr>
        <p:spPr>
          <a:xfrm>
            <a:off x="2987640" y="4724280"/>
            <a:ext cx="2879640" cy="1873440"/>
          </a:xfrm>
          <a:prstGeom prst="ellipse">
            <a:avLst/>
          </a:prstGeom>
          <a:solidFill>
            <a:srgbClr val="a7ea52"/>
          </a:solidFill>
          <a:ln w="42480">
            <a:solidFill>
              <a:srgbClr val="7aa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сихологическая защищ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вал 7"/>
          <p:cNvSpPr/>
          <p:nvPr/>
        </p:nvSpPr>
        <p:spPr>
          <a:xfrm>
            <a:off x="5940360" y="3716280"/>
            <a:ext cx="2737080" cy="1532160"/>
          </a:xfrm>
          <a:prstGeom prst="ellipse">
            <a:avLst/>
          </a:prstGeom>
          <a:gradFill rotWithShape="0">
            <a:gsLst>
              <a:gs pos="0">
                <a:srgbClr val="82ffde"/>
              </a:gs>
              <a:gs pos="100000">
                <a:srgbClr val="c4fff3"/>
              </a:gs>
            </a:gsLst>
            <a:lin ang="16200000"/>
          </a:gradFill>
          <a:ln w="9360">
            <a:solidFill>
              <a:srgbClr val="41eab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отруд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908000" y="1412640"/>
            <a:ext cx="20163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92720" y="1484280"/>
            <a:ext cx="1944720" cy="20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340000" y="3284640"/>
            <a:ext cx="7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84720" y="328464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07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11280" y="4581360"/>
            <a:ext cx="35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805788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Взаимодействие школы и семь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в воспитании ребенка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необходимо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скольку родители хотят видеть своих детей достойными гражданами нашего общества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Прямоугольник 1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67720" cy="4333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0" y="4219560"/>
            <a:ext cx="3492360" cy="2495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489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Семь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занимает центральное место в воспитании ребенк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играет основную роль в формировании мировоззрения и нравственных норм поведения ребенк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133360"/>
            <a:ext cx="7272360" cy="2592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Счастья вам и удачи,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уважаемые коллеги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и единомышленники!!!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35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Сегодня в России ежедневно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2060640"/>
            <a:ext cx="799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з-за разводов  остаётся без одного из родителей 1288 дет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ередаются в дома ребёнка – 3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од опеку и усыновление – 132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тбираются у родителей – 3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убегают из дома – 237 детей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404640"/>
            <a:ext cx="755496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Главное условие взаимодействия –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полное представление о функциях и содержании деятельности друг друга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627280" y="3716280"/>
            <a:ext cx="3760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95280" y="33336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ШКОЛА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общественное учреждение, основой которого являются социальные нормы, место, где жизнь ребенка подчинена этим нормам. Школа вводит ребенка в контекст культуры и социальных отношений, опираясь на глубочайшее и первоочередное влияние семь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СЕМЬЯ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 – любовь: супружеская, родительская, детская, родственная. Объединение людей, ревностно защищающее и всецело поддерживающее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4500720" y="4024440"/>
            <a:ext cx="4062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20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Изучение семей учащих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Педагогическое просвещение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Индивидуальная и групповая работа с родителям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260280"/>
            <a:ext cx="743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Направления деятельн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образовательного учре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0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Задачи сотрудничества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«Семья и Школа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Сделать школу и семью союзниками в воспитании дет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Обеспечивать взаимопонимание и согласованность действий школы и семьи (осуществлять комплексный подход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Нейтрализовать возможные негативные влияния на ребен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Компенсировать и корректировать семейное воспитание совместными усилиями: выявлять, поддерживать, развивать</a:t>
            </a: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703d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560" y="152280"/>
            <a:ext cx="71298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dff"/>
                </a:solidFill>
                <a:latin typeface="Comic Sans MS"/>
              </a:rPr>
              <a:t>Родительское  собрание обеспечива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понимание  психологических   особенностей воспитания детей разного возрас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возможности для положительных изменений в семь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привлечение родителей к активному участию в классных и школьных мероприятия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4:25:30Z</dcterms:created>
  <dc:creator>Acer</dc:creator>
  <dc:description/>
  <dc:language>en-US</dc:language>
  <cp:lastModifiedBy>USER</cp:lastModifiedBy>
  <dcterms:modified xsi:type="dcterms:W3CDTF">2012-11-28T13:33:34Z</dcterms:modified>
  <cp:revision>10</cp:revision>
  <dc:subject/>
  <dc:title>Слайд 1</dc:title>
</cp:coreProperties>
</file>