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2AF-856D-4CB3-996F-328C918D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A58-7AE5-4B70-9261-95D6C69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D81-6A64-4468-AC95-B29FE1FA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C5-CA22-46EC-A1E8-6A450ED1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A9F3-8BED-4920-9350-543B09D6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5FF-CC12-49E6-9C60-B4B9348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837-E601-4BD0-A516-D1CF4896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F70-C6C3-4239-A425-6ECF9E62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52B0-8D0C-4960-B96A-2CF4F9E7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607-F0AC-410F-B283-5C5FB09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B6E0-F4FE-4FC9-87A4-1994C30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B06-F62B-4D93-B404-C77A0D7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A52F-414F-497C-8BAA-ACE01B0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B1E1-B147-43CC-BC42-17C6632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B7AA-01DD-4177-8CA8-27938C9F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F28-A4A7-4FFA-A230-11CB3DD2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389A-638F-4FDC-9800-47524FE0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CB5-72B3-43BC-9E41-881C8A8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9D1-19D8-4AF0-96C7-E578BA2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4B8-460C-4F51-ACCC-8A9A9BA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04F-1C6C-4A26-990F-E6A82FAB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D8F-DDDF-43DE-8A41-60ABB63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0D0-CC65-442C-A04A-2564D42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C97-37D9-41D1-BE20-8334297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9F0-F223-4A4F-8C05-456C29B767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14AF-BB81-433E-A7F9-875E2F7698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510920"/>
            <a:ext cx="88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емья и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ли школа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то в ответе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суждение на заданную тем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агога-психолога МБОУ гимназии №1 М.А.Нехаён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едение учителя на собрании: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4640"/>
            <a:ext cx="9468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чителю самому необходимо  с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бственное напряжение и тревогу пе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встречей с родителям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помощью речи, интонации, жестов да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ителям почувствовать Ваше уважение и внимание к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арайтесь понять родителей, правильно определить проблемы волнующие их, убедите их в том, что у школы и семьи одни проблемы, одни задачи, одни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31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едение учителя на собрании: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говаривать с родителями необходимо спокойно и доброжелательно. Очень важно, чтобы родители всех учеников  ушли с собрания с верой в своего ребё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зультатом вашей совместной – уверенность родителей   в том, что в воспитании детей они всегда могут рассчитывать на Вашу поддержку и помощь других уч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бязанности и права семь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Из Конституции и Семейного Кодекса Р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спитание детей – конституционная        обязанность родителей.    Они призван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ботиться о развитии и укреплении физического  и психического здоровь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спитывать детей в духе уважения и любви       к труд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дготавливать их к общественно- полезной деятельност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учать к дисциплин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емерно укреплять авторитет взросл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тимулировать к осознанному выбору  профессии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696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новы личностного развития человека закладываются в сем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 раннем детств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03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0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родители пользуются авторитетом       у детей, показывают им образцы нравственной культуры и постоянной работы над собой, то слова родителей имеют большой вес и побуждают школьников добросовестно выполнять свои обязанност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2916360" y="4476600"/>
            <a:ext cx="2857320" cy="2381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0" y="2136600"/>
            <a:ext cx="4572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бстановка несогласия, недоброжелательности и нервозности формирует у детей плохое настроение с которым они идут в школу, где не могут сосредоточиться на материале и вымещают агрессию на других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4923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нкет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«Семейные ценност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828800"/>
            <a:ext cx="9432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анкетировании приняли участ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ащиеся 5,6,11 классов (67 человек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одители 5,6,7 классов (72 челове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95280" y="692280"/>
          <a:ext cx="8531280" cy="5794200"/>
        </p:xfrm>
        <a:graphic>
          <a:graphicData uri="http://schemas.openxmlformats.org/drawingml/2006/table">
            <a:tbl>
              <a:tblPr/>
              <a:tblGrid>
                <a:gridCol w="4156200"/>
                <a:gridCol w="4375080"/>
              </a:tblGrid>
              <a:tr h="109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Чего ждёт реб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ё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ок от семь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которой жи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ё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хорошей организации быта - 13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радости общения - 53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покоя  и защищённости –33,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хорошей организации быт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–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радости общения- 52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покоя  и защищённост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–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539640" y="549360"/>
          <a:ext cx="8353440" cy="5180040"/>
        </p:xfrm>
        <a:graphic>
          <a:graphicData uri="http://schemas.openxmlformats.org/drawingml/2006/table">
            <a:tbl>
              <a:tblPr/>
              <a:tblGrid>
                <a:gridCol w="3986280"/>
                <a:gridCol w="436716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Что более всего забот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ей в семь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здоровье детей – 52,5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хорошая учёба детей – 22,5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трудовое участие детей в жизни семьи –6,3%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здоровье детей – 8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хорошая учёба детей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,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трудовое участие детей в жизни семьи –3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84360" y="907920"/>
          <a:ext cx="7920000" cy="4141800"/>
        </p:xfrm>
        <a:graphic>
          <a:graphicData uri="http://schemas.openxmlformats.org/drawingml/2006/table">
            <a:tbl>
              <a:tblPr/>
              <a:tblGrid>
                <a:gridCol w="3779640"/>
                <a:gridCol w="4140360"/>
              </a:tblGrid>
              <a:tr h="64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к ли ребёнок  в семь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1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%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7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 15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9640" y="476280"/>
          <a:ext cx="8604360" cy="4554360"/>
        </p:xfrm>
        <a:graphic>
          <a:graphicData uri="http://schemas.openxmlformats.org/drawingml/2006/table">
            <a:tbl>
              <a:tblPr/>
              <a:tblGrid>
                <a:gridCol w="4106880"/>
                <a:gridCol w="4497480"/>
              </a:tblGrid>
              <a:tr h="64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ребёнка вечер дома – это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 радость общения – 5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возможность быть самим собой – 32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мучение и пытка – 7,1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 радость общения – 51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возможность быть самим собой – 4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мучение и пытка  - 1,3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95280" y="692280"/>
          <a:ext cx="8459640" cy="4249440"/>
        </p:xfrm>
        <a:graphic>
          <a:graphicData uri="http://schemas.openxmlformats.org/drawingml/2006/table">
            <a:tbl>
              <a:tblPr/>
              <a:tblGrid>
                <a:gridCol w="4036320"/>
                <a:gridCol w="4423320"/>
              </a:tblGrid>
              <a:tr h="108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отели бы   дети иметь  в будущем  семью,  похожую на родительскую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 41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31,3 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27,3 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 38%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15 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 46 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89000"/>
            <a:ext cx="8675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умный контроль родителей помогает детям более ответственно относится к выполнению своих обязанностей, преодолевать отрицательные «соблазн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дителям нужно и важно следить за соблюдением режима дня, знать: с кем дружат их дети, где и как проводят свой досуг, побуждать к выполнению своих школьных обязанностей и помощи по дом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Обязанности и права школ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сёт ответственность за жизнь и  здоровье обучающегося во время образовательного процесса                           (по законодательству РФ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беспечивает  обучающемуся приобретение знаний, умений и навыков в объеме общего образования, с выдачей, при условии успешной сдачи государственной итоговой аттестации, аттестата (свидетельства)      государственного образц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здает максимально благоприятные условия для умственного, нравственного, эмоционального и физического развития личности школьника, всестороннего развития его способнос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декватно  применяет формы, методы и средства организации образовательного процесса возрастным и психофизиологическим особенностям, склонностям, способностям, интересам обучающего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едоставляет обучающемуся дополнительные образовательные услуги: факультативы, предметные кружки, спортивные секции, социальную помощ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спользует различные формы педагогической и психологической  поддержки для оказания помощи учащимся, не усваивающим (по объективным и уважительным причинам) учебную програм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2917800" cy="246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ою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ШКОЛА-УЧЕНИК-СЕМЬЯ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правлен на благополучие и гармоничное развитие личности школьника, на сохранение желания учиться, на укрепление веры в себ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то сотрудничество-результат огромных усилий и творчества двух сторон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колы и семь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4319640" cy="288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33"/>
          <p:cNvSpPr/>
          <p:nvPr/>
        </p:nvSpPr>
        <p:spPr>
          <a:xfrm>
            <a:off x="1116000" y="765000"/>
            <a:ext cx="7273800" cy="5907240"/>
          </a:xfrm>
          <a:prstGeom prst="ellipse">
            <a:avLst/>
          </a:prstGeom>
          <a:gradFill rotWithShape="0">
            <a:gsLst>
              <a:gs pos="0">
                <a:srgbClr val="7e91ff"/>
              </a:gs>
              <a:gs pos="100000">
                <a:srgbClr val="c2ccff"/>
              </a:gs>
            </a:gsLst>
            <a:lin ang="16200000"/>
          </a:gradFill>
          <a:ln w="19080">
            <a:solidFill>
              <a:srgbClr val="3055e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0"/>
          <p:cNvSpPr/>
          <p:nvPr/>
        </p:nvSpPr>
        <p:spPr>
          <a:xfrm>
            <a:off x="395280" y="404640"/>
            <a:ext cx="2664000" cy="187200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ферентная знач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80000" y="260280"/>
            <a:ext cx="1657080" cy="122400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каз от на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227640" y="549360"/>
            <a:ext cx="2916360" cy="208764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требность в общении и дов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3059280" y="2349360"/>
            <a:ext cx="2952720" cy="136872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Психологически здоровая 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8"/>
          <p:cNvSpPr/>
          <p:nvPr/>
        </p:nvSpPr>
        <p:spPr>
          <a:xfrm>
            <a:off x="826920" y="3573360"/>
            <a:ext cx="1656000" cy="122400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2987640" y="4724280"/>
            <a:ext cx="2879640" cy="187344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сихологическая защищ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7"/>
          <p:cNvSpPr/>
          <p:nvPr/>
        </p:nvSpPr>
        <p:spPr>
          <a:xfrm>
            <a:off x="5940360" y="3716280"/>
            <a:ext cx="2737080" cy="153216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908000" y="1412640"/>
            <a:ext cx="2016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1484280"/>
            <a:ext cx="1944720" cy="20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40000" y="328464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3284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07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8136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0578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Взаимодействие школы и семь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воспитании ребенка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необходим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скольку родители хотят видеть своих детей достойными гражданами нашего обществ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1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67720" cy="4333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4219560"/>
            <a:ext cx="349236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нимает центральное место в воспитании ребенк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грает основную роль в формировании мировоззрения и нравственных норм поведения ребен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272360" cy="25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частья вам и удачи,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важаемые коллег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и единомышленники!!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егодня в России ежедневн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06064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з-за разводов  остаётся без одного из родителей 1288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ередаются в дома ребёнка – 3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д опеку и усыновление – 13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тбираются у родителей – 3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бегают из дома – 237 детей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755496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лавное условие взаимодействия –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полное представление о функциях и содержании деятельности друг друга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627280" y="3716280"/>
            <a:ext cx="376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3333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ШКО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общественное учреждение, основой которого являются социальные нормы, место, где жизнь ребенка подчинена этим нормам. Школа вводит ребенка в контекст культуры и социальных отношений, опираясь на глубочайшее и первоочередное влияние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– любовь: супружеская, родительская, детская, родственная. Объединение людей, ревностно защищающее и всецело поддерживающее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500720" y="4024440"/>
            <a:ext cx="4062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0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зучение семей учащих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едагогическое просвещени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ндивидуальная и групповая работа с родител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60280"/>
            <a:ext cx="743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Направления 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образовательного учре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Задачи сотрудничества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Семья и Школа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делать школу и семью союзниками в воспитании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Обеспечивать взаимопонимание и согласованность действий школы и семьи (осуществлять комплексный подход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ейтрализовать возможные негативные влияния на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омпенсировать и корректировать семейное воспитание совместными усилиями: выявлять, поддерживать, развивать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703d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1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Родительское  собрание обеспечива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онимание  психологических   особенностей воспитания детей разного возрас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озможности для положительных изменений в семь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ивлечение родителей к активному участию в классных и школьных мероприят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25:30Z</dcterms:created>
  <dc:creator>Acer</dc:creator>
  <dc:description/>
  <dc:language>en-US</dc:language>
  <cp:lastModifiedBy>USER</cp:lastModifiedBy>
  <dcterms:modified xsi:type="dcterms:W3CDTF">2012-11-28T13:33:34Z</dcterms:modified>
  <cp:revision>10</cp:revision>
  <dc:subject/>
  <dc:title>Слайд 1</dc:title>
</cp:coreProperties>
</file>