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B84A-1596-4580-BC34-6476B37ABE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тнльный лис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ожение: постро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ожение для исполь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множение: постро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множение для исполь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шение прим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A52-091D-498F-8964-FA7072C9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A66C-92EA-4D67-8FFB-008CB8EA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AC7-62A7-4BA1-9CF6-38371AD2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926-5559-441B-A0E3-A0A79605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BC72-88E7-4A1E-86F0-5FC7820D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4D3-BD96-4E90-89C9-C5FD8441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0D5-EF6F-4B57-B205-90390407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7A1-0E1B-4483-9C5B-2AF280D1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876-A2F6-43A9-A7E8-1B448753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68C-D031-46F5-9F4A-16A63EE7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9E3-8691-4A90-A69C-6522AF6A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D3D5-7D64-4693-829C-6F6036E6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F283-72C1-4D00-A2E4-189E60EC4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8000"/>
                </a:solidFill>
                <a:latin typeface="Times New Roman"/>
              </a:rPr>
              <a:t>Шестнадцатеричная </a:t>
            </a:r>
            <a:r>
              <a:rPr b="0" lang="en-US" sz="6000" spc="-1" strike="noStrike">
                <a:solidFill>
                  <a:srgbClr val="808000"/>
                </a:solidFill>
                <a:latin typeface="Times New Roman"/>
              </a:rPr>
              <a:t>система счисления</a:t>
            </a:r>
            <a:endParaRPr b="0" lang="en-US" sz="6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2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исина Л. И. – учитель информатики и ИКТ МОУ «СОШ № 67» , г. Сар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3808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Основ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8380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Узловые числ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8380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, 1, 2, 3, 4, 5, 6, 7, 8, 9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, D, E,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5238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Алгоритмические числ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2133720"/>
          <a:ext cx="9144000" cy="914400"/>
        </p:xfrm>
        <a:graphic>
          <a:graphicData uri="http://schemas.openxmlformats.org/drawingml/2006/table">
            <a:tbl>
              <a:tblPr/>
              <a:tblGrid>
                <a:gridCol w="2286000"/>
                <a:gridCol w="398520"/>
                <a:gridCol w="430200"/>
                <a:gridCol w="430200"/>
                <a:gridCol w="430200"/>
                <a:gridCol w="431640"/>
                <a:gridCol w="430200"/>
                <a:gridCol w="430200"/>
                <a:gridCol w="432000"/>
                <a:gridCol w="430200"/>
                <a:gridCol w="430200"/>
                <a:gridCol w="430200"/>
                <a:gridCol w="430200"/>
                <a:gridCol w="431640"/>
                <a:gridCol w="430560"/>
                <a:gridCol w="430200"/>
                <a:gridCol w="4316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сяти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стнадцатерич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304920" y="34290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Разложение по степеням основа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0384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F,8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038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4038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41148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4038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4038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* 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4038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* 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4038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 *16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40384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4038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/ 16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4197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92 + 15 + 0,5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4419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7,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28800" y="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Арифметические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ействия: с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380880"/>
          <a:ext cx="7867440" cy="6207120"/>
        </p:xfrm>
        <a:graphic>
          <a:graphicData uri="http://schemas.openxmlformats.org/drawingml/2006/table">
            <a:tbl>
              <a:tblPr/>
              <a:tblGrid>
                <a:gridCol w="461880"/>
                <a:gridCol w="465120"/>
                <a:gridCol w="461880"/>
                <a:gridCol w="463680"/>
                <a:gridCol w="463320"/>
                <a:gridCol w="462240"/>
                <a:gridCol w="463320"/>
                <a:gridCol w="462240"/>
                <a:gridCol w="463320"/>
                <a:gridCol w="463680"/>
                <a:gridCol w="461880"/>
                <a:gridCol w="465120"/>
                <a:gridCol w="461880"/>
                <a:gridCol w="462240"/>
                <a:gridCol w="461880"/>
                <a:gridCol w="461880"/>
                <a:gridCol w="461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76212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1066680"/>
            <a:ext cx="457200" cy="55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1143000"/>
            <a:ext cx="69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1447920"/>
            <a:ext cx="457200" cy="51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144792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1828800"/>
            <a:ext cx="53316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82880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2209680"/>
            <a:ext cx="53316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209680"/>
            <a:ext cx="556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514600"/>
            <a:ext cx="533160" cy="40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59092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2895480"/>
            <a:ext cx="533160" cy="37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29718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3276720"/>
            <a:ext cx="53316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3276720"/>
            <a:ext cx="41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657600"/>
            <a:ext cx="53316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36576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4038480"/>
            <a:ext cx="45720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403848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4419720"/>
            <a:ext cx="457200" cy="22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44197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4724280"/>
            <a:ext cx="457200" cy="18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24480" y="48006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5105520"/>
            <a:ext cx="53352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51055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81680" y="5486400"/>
            <a:ext cx="4572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5486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5867280"/>
            <a:ext cx="45720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58672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62485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53280" y="62485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33720" y="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Арифметические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ействия: с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380880"/>
          <a:ext cx="7867440" cy="6207120"/>
        </p:xfrm>
        <a:graphic>
          <a:graphicData uri="http://schemas.openxmlformats.org/drawingml/2006/table">
            <a:tbl>
              <a:tblPr/>
              <a:tblGrid>
                <a:gridCol w="461880"/>
                <a:gridCol w="465120"/>
                <a:gridCol w="461880"/>
                <a:gridCol w="463680"/>
                <a:gridCol w="463320"/>
                <a:gridCol w="462240"/>
                <a:gridCol w="463320"/>
                <a:gridCol w="462240"/>
                <a:gridCol w="463320"/>
                <a:gridCol w="463680"/>
                <a:gridCol w="461880"/>
                <a:gridCol w="465120"/>
                <a:gridCol w="461880"/>
                <a:gridCol w="462240"/>
                <a:gridCol w="461880"/>
                <a:gridCol w="461880"/>
                <a:gridCol w="461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76312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839080" y="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85800" y="380880"/>
          <a:ext cx="8001000" cy="6207120"/>
        </p:xfrm>
        <a:graphic>
          <a:graphicData uri="http://schemas.openxmlformats.org/drawingml/2006/table">
            <a:tbl>
              <a:tblPr/>
              <a:tblGrid>
                <a:gridCol w="461880"/>
                <a:gridCol w="465120"/>
                <a:gridCol w="461880"/>
                <a:gridCol w="463680"/>
                <a:gridCol w="463320"/>
                <a:gridCol w="462240"/>
                <a:gridCol w="463320"/>
                <a:gridCol w="462240"/>
                <a:gridCol w="463320"/>
                <a:gridCol w="463680"/>
                <a:gridCol w="461880"/>
                <a:gridCol w="465120"/>
                <a:gridCol w="461880"/>
                <a:gridCol w="462240"/>
                <a:gridCol w="461880"/>
                <a:gridCol w="461880"/>
                <a:gridCol w="595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533520" y="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Арифметические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ействия: умн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76212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       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3       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5       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7       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9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066680"/>
            <a:ext cx="457200" cy="55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11430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1143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143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1143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1143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11430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1447920"/>
            <a:ext cx="457200" cy="51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523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1447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14479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14479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14479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1447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1447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14479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1447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6080" y="14479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53280" y="15238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1828800"/>
            <a:ext cx="45720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1828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18288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18288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1828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2133720"/>
            <a:ext cx="45720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2209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2209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2209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2209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2209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2209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2209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2209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77320" y="22096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514600"/>
            <a:ext cx="533520" cy="40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25909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2590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2590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90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2590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2590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90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0120" y="2590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77320" y="2590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2895480"/>
            <a:ext cx="533520" cy="37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2971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971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2971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2971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2971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2971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2920" y="2971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77320" y="2971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3276720"/>
            <a:ext cx="45720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32767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3657600"/>
            <a:ext cx="45720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3657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3657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3657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48520" y="3657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05720" y="3657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62920" y="3657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0120" y="3657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77320" y="3657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038480"/>
            <a:ext cx="45720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4120" y="4038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4038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4038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40384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4038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0120" y="4038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7732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4343400"/>
            <a:ext cx="457200" cy="22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4419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4419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05720" y="4419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62920" y="4419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4419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77320" y="44197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4800600"/>
            <a:ext cx="45720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800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48006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920" y="4800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0120" y="4800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77320" y="4800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5105520"/>
            <a:ext cx="45720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5105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62920" y="5105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0120" y="5105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7320" y="5105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5486400"/>
            <a:ext cx="45720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62920" y="5486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5486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77320" y="54864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62920" y="5867280"/>
            <a:ext cx="4572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0120" y="58672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77320" y="5867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0120" y="6248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77320" y="6248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762120" y="457200"/>
          <a:ext cx="8001000" cy="6207120"/>
        </p:xfrm>
        <a:graphic>
          <a:graphicData uri="http://schemas.openxmlformats.org/drawingml/2006/table">
            <a:tbl>
              <a:tblPr/>
              <a:tblGrid>
                <a:gridCol w="461880"/>
                <a:gridCol w="465120"/>
                <a:gridCol w="461880"/>
                <a:gridCol w="463680"/>
                <a:gridCol w="463320"/>
                <a:gridCol w="462240"/>
                <a:gridCol w="463320"/>
                <a:gridCol w="462240"/>
                <a:gridCol w="463320"/>
                <a:gridCol w="463680"/>
                <a:gridCol w="461880"/>
                <a:gridCol w="465120"/>
                <a:gridCol w="461880"/>
                <a:gridCol w="462240"/>
                <a:gridCol w="461880"/>
                <a:gridCol w="461880"/>
                <a:gridCol w="595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533520" y="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Арифметические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ействия: умн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8380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       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3       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5       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7       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9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1066680"/>
            <a:ext cx="457200" cy="55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76520" y="11430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1143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05320" y="1143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143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143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121932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1447920"/>
            <a:ext cx="457200" cy="51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1523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15238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16002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16002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15238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1523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10080" y="1523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7280" y="1523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38880" y="1523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96080" y="15238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53280" y="15238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1828800"/>
            <a:ext cx="45720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1" action="ppaction://hlinksldjump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Примеры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76312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763120" y="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1557360"/>
            <a:ext cx="7775280" cy="50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+ A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C1 – E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 * 6B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C7 : A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9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?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ны два числа в 16-чной системе счислен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18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звести с ними арифметические действ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вести сами числа и результаты вычислений из 16-чной системы в 10-чную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ить аналогичны арифметические действия с 10-чнвми числ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авнить полученные результа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06:47:51Z</dcterms:created>
  <dc:creator>Учитель</dc:creator>
  <dc:description/>
  <dc:language>en-US</dc:language>
  <cp:lastModifiedBy>Ludmila</cp:lastModifiedBy>
  <dcterms:modified xsi:type="dcterms:W3CDTF">2012-12-10T21:05:26Z</dcterms:modified>
  <cp:revision>20</cp:revision>
  <dc:subject/>
  <dc:title>Двенадцатеричная система счисления</dc:title>
</cp:coreProperties>
</file>