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82B7-9E7A-4F60-9CD4-3835D2694F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тнльный л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ожение: постро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ожение для ис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множение: постро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множение для ис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прим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4C2-B8E6-4FC1-AB96-EADD6BA1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0F3-792A-4C78-988A-A726B76D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5E1-7BA9-4201-8A22-1783AFD6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DB1-F6B5-4D8B-B88B-24B8F320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C5B-3A81-4208-832F-6BDE5CDA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131-5618-4DED-A3F6-8F02A2E1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317-E528-47CC-AD13-7FF34F93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FB9-01BC-4AEF-A4C3-DC285621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64E-C224-4A32-988E-586434F6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D70-15E6-4222-BC24-8D218E2A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3B7-DAAB-4027-A411-B1B7A8B1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E0F-5DBE-4378-8D0F-9F5014E4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B9B5-D380-440F-B70D-431B791B0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00"/>
                </a:solidFill>
                <a:latin typeface="Times New Roman"/>
              </a:rPr>
              <a:t>Шестнадцатеричная </a:t>
            </a:r>
            <a:r>
              <a:rPr b="0" lang="en-US" sz="6000" spc="-1" strike="noStrike">
                <a:solidFill>
                  <a:srgbClr val="808000"/>
                </a:solidFill>
                <a:latin typeface="Times New Roman"/>
              </a:rPr>
              <a:t>система счисления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сина Л. И. – учитель информатики и ИКТ МОУ «СОШ № 67» , г. Сар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80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Основ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8380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Узловые чис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838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 1, 2, 3, 4, 5, 6, 7, 8, 9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, D, E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523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лгоритмические чис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133720"/>
          <a:ext cx="9144000" cy="914400"/>
        </p:xfrm>
        <a:graphic>
          <a:graphicData uri="http://schemas.openxmlformats.org/drawingml/2006/table">
            <a:tbl>
              <a:tblPr/>
              <a:tblGrid>
                <a:gridCol w="2286000"/>
                <a:gridCol w="398520"/>
                <a:gridCol w="430200"/>
                <a:gridCol w="430200"/>
                <a:gridCol w="430200"/>
                <a:gridCol w="431640"/>
                <a:gridCol w="430200"/>
                <a:gridCol w="430200"/>
                <a:gridCol w="432000"/>
                <a:gridCol w="430200"/>
                <a:gridCol w="430200"/>
                <a:gridCol w="430200"/>
                <a:gridCol w="430200"/>
                <a:gridCol w="431640"/>
                <a:gridCol w="430560"/>
                <a:gridCol w="430200"/>
                <a:gridCol w="4316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стнадцатерич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04920" y="34290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Разложение по степеням основа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038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,8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038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4038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114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038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*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*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4038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 *16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4038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/ 16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419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92 + 15 + 0,5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419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7,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рифметически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ействия: с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380880"/>
          <a:ext cx="7867440" cy="6207120"/>
        </p:xfrm>
        <a:graphic>
          <a:graphicData uri="http://schemas.openxmlformats.org/drawingml/2006/table">
            <a:tbl>
              <a:tblPr/>
              <a:tblGrid>
                <a:gridCol w="461880"/>
                <a:gridCol w="465120"/>
                <a:gridCol w="461880"/>
                <a:gridCol w="463680"/>
                <a:gridCol w="463320"/>
                <a:gridCol w="462240"/>
                <a:gridCol w="463320"/>
                <a:gridCol w="462240"/>
                <a:gridCol w="463320"/>
                <a:gridCol w="463680"/>
                <a:gridCol w="461880"/>
                <a:gridCol w="465120"/>
                <a:gridCol w="461880"/>
                <a:gridCol w="462240"/>
                <a:gridCol w="461880"/>
                <a:gridCol w="461880"/>
                <a:gridCol w="46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76212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066680"/>
            <a:ext cx="45720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1143000"/>
            <a:ext cx="69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1447920"/>
            <a:ext cx="457200" cy="51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144792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1828800"/>
            <a:ext cx="53316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8288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2209680"/>
            <a:ext cx="5331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209680"/>
            <a:ext cx="55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514600"/>
            <a:ext cx="53316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59092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2895480"/>
            <a:ext cx="53316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9718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276720"/>
            <a:ext cx="53316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327672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657600"/>
            <a:ext cx="5331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3657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4038480"/>
            <a:ext cx="45720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0384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4419720"/>
            <a:ext cx="4572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4419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724280"/>
            <a:ext cx="457200" cy="18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48006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5105520"/>
            <a:ext cx="53352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1055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5486400"/>
            <a:ext cx="4572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5486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5867280"/>
            <a:ext cx="45720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5867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62485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62485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33720" y="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рифметически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ействия: с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80880"/>
          <a:ext cx="7867440" cy="6207120"/>
        </p:xfrm>
        <a:graphic>
          <a:graphicData uri="http://schemas.openxmlformats.org/drawingml/2006/table">
            <a:tbl>
              <a:tblPr/>
              <a:tblGrid>
                <a:gridCol w="461880"/>
                <a:gridCol w="465120"/>
                <a:gridCol w="461880"/>
                <a:gridCol w="463680"/>
                <a:gridCol w="463320"/>
                <a:gridCol w="462240"/>
                <a:gridCol w="463320"/>
                <a:gridCol w="462240"/>
                <a:gridCol w="463320"/>
                <a:gridCol w="463680"/>
                <a:gridCol w="461880"/>
                <a:gridCol w="465120"/>
                <a:gridCol w="461880"/>
                <a:gridCol w="462240"/>
                <a:gridCol w="461880"/>
                <a:gridCol w="461880"/>
                <a:gridCol w="46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39080" y="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5800" y="380880"/>
          <a:ext cx="8001000" cy="6207120"/>
        </p:xfrm>
        <a:graphic>
          <a:graphicData uri="http://schemas.openxmlformats.org/drawingml/2006/table">
            <a:tbl>
              <a:tblPr/>
              <a:tblGrid>
                <a:gridCol w="461880"/>
                <a:gridCol w="465120"/>
                <a:gridCol w="461880"/>
                <a:gridCol w="463680"/>
                <a:gridCol w="463320"/>
                <a:gridCol w="462240"/>
                <a:gridCol w="463320"/>
                <a:gridCol w="462240"/>
                <a:gridCol w="463320"/>
                <a:gridCol w="463680"/>
                <a:gridCol w="461880"/>
                <a:gridCol w="465120"/>
                <a:gridCol w="461880"/>
                <a:gridCol w="462240"/>
                <a:gridCol w="461880"/>
                <a:gridCol w="461880"/>
                <a:gridCol w="59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33520" y="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рифметически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ействия: умн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76212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      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3       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5       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7       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9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066680"/>
            <a:ext cx="45720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11430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143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11430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1447920"/>
            <a:ext cx="457200" cy="51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523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447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4479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14479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14479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1447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14479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53280" y="15238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1828800"/>
            <a:ext cx="4572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1828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828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828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1828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2133720"/>
            <a:ext cx="45720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2209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2209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209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2209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2209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77320" y="2209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514600"/>
            <a:ext cx="53352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25909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590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90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2590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0120" y="2590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2590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895480"/>
            <a:ext cx="53352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2971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2971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2971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3276720"/>
            <a:ext cx="45720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3276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3657600"/>
            <a:ext cx="4572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629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3657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038480"/>
            <a:ext cx="45720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4038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4343400"/>
            <a:ext cx="4572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4419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800600"/>
            <a:ext cx="4572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48006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012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4800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5105520"/>
            <a:ext cx="45720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5105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62920" y="5105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5105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5105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5486400"/>
            <a:ext cx="45720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5486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5486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5486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5867280"/>
            <a:ext cx="4572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8672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5867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6248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77320" y="6248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762120" y="457200"/>
          <a:ext cx="8001000" cy="6207120"/>
        </p:xfrm>
        <a:graphic>
          <a:graphicData uri="http://schemas.openxmlformats.org/drawingml/2006/table">
            <a:tbl>
              <a:tblPr/>
              <a:tblGrid>
                <a:gridCol w="461880"/>
                <a:gridCol w="465120"/>
                <a:gridCol w="461880"/>
                <a:gridCol w="463680"/>
                <a:gridCol w="463320"/>
                <a:gridCol w="462240"/>
                <a:gridCol w="463320"/>
                <a:gridCol w="462240"/>
                <a:gridCol w="463320"/>
                <a:gridCol w="463680"/>
                <a:gridCol w="461880"/>
                <a:gridCol w="465120"/>
                <a:gridCol w="461880"/>
                <a:gridCol w="462240"/>
                <a:gridCol w="461880"/>
                <a:gridCol w="461880"/>
                <a:gridCol w="59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533520" y="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рифметически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ействия: умн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8380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      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3       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5       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7       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9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1066680"/>
            <a:ext cx="45720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11430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143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12193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1447920"/>
            <a:ext cx="457200" cy="51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1523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15238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16002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6002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15238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523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1523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1523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1523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6080" y="15238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15238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1828800"/>
            <a:ext cx="4572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Пример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763120" y="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557360"/>
            <a:ext cx="777528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+ A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C1 – E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 * 6B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C7 : A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?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ы два числа в 16-чной системе счислен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18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ести с ними арифметические действ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вести сами числа и результаты вычислений из 16-чной системы в 10-чную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ть аналогичны арифметические действия с 10-чнвми числ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6:47:51Z</dcterms:created>
  <dc:creator>Учитель</dc:creator>
  <dc:description/>
  <dc:language>en-US</dc:language>
  <cp:lastModifiedBy>Ludmila</cp:lastModifiedBy>
  <dcterms:modified xsi:type="dcterms:W3CDTF">2012-12-10T21:05:26Z</dcterms:modified>
  <cp:revision>20</cp:revision>
  <dc:subject/>
  <dc:title>Двенадцатеричная система счисления</dc:title>
</cp:coreProperties>
</file>