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C02-5FCE-4020-828C-6F48E6E1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E222-2618-4BEA-B30B-1C0382B0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D73-2E81-4F40-BC41-B273AFB3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04D5-4E76-4837-8E51-220D2844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2733-3E49-40E4-A527-ACC58056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1C77-FDF2-4A43-80BC-778F6DBB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DC79-2B72-479C-A270-1026B404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2E6E-468F-43BA-A083-3CCCDC04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12D3-9824-4A4B-BC87-EA3EE673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A079-CA73-4D52-B8EC-AA2A4D4E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813B-59B6-4517-A3E7-09E502CE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245D-1AAF-4F1C-BC51-3463AE39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3834-F095-4C83-B0AC-876BE077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0BAD-A3F5-46CE-A1B7-586B82D3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6F74-0AAE-4968-B5F4-C693C752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D6F1-7ABF-40C7-BE8A-5C04675B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91D6-D63F-46DE-918B-573C9D6E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BD1-87C9-42AE-B715-6CCC34C1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7F45-EC20-4779-A846-5E53A28F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7F35-DD68-448F-9777-3CEC0981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61F-B1EC-412E-82DA-6609DEDB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D44-6E1D-4629-9D1E-2FD2A4C2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552B-22D1-4138-AC4E-A47C8CFF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11D-C350-44D3-9879-8D009001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B1DF-2F9A-4EDA-9473-E2027352660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F795-14A2-4D61-8E77-1F2CC372DC6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5688000" cy="7174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ISE OF THE TEENAGER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1960s saw the birth of the (0)   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life was never the same again. It was the start of a social revolution in Britain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revolution was partly a (1) 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the post war year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ng people woke up to the idea that that they could have an (2) 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lifestyle (3) 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om their parent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enagers started to break free from the traditions and rules of previous generations in fashion, lifestyle and (4) _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ey wanted their own music, clothes and (5)_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o their own thing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Rolling Stones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ere a symbol of teenage (6) _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bbing became popular. The most (7) 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lub w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Go 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Newcastle with Jimi Hendrix*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Animals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Anima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nt on to achieve (8) 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uccess with hits like 'House of the Rising Sun' and 'We've Gotta Get out of this Place'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9) 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ulture had become a (10) 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ce, and the teenager was to dominate popular culture for the next three decades.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43280" y="549000"/>
            <a:ext cx="41943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0) tee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re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identif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 beha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) fre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) r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7) f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8) 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9) young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0)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5148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2880" y="33336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ee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7800" y="9079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48000" y="1700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1916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44920" y="25844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342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rebe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9840" y="299736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7800" y="386064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fam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68200" y="43131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inter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494172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522936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owe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05:57:07Z</dcterms:created>
  <dc:creator>ПК1</dc:creator>
  <dc:description/>
  <dc:language>en-US</dc:language>
  <cp:lastModifiedBy>Admin</cp:lastModifiedBy>
  <dcterms:modified xsi:type="dcterms:W3CDTF">2010-02-23T16:07:27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