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B2F-9E0A-4174-AF40-562F6172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B92-70C0-4E41-A343-6DE71E8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9B5-923E-4D8C-9450-7D149ED7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A55-952D-4357-9A15-C231BA52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ACC9-59DB-4BB2-9245-6ED7CD77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9C5C-3CA4-4B73-A0DE-83440D42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921A-6CDF-40B5-B2B0-C81EB18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A289-7CFD-44C1-8D46-BD289A9D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AFB-60CA-42FA-B88A-37ABA97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3FB1-CE5E-429C-9AAF-BC0443AB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6570-8BA0-40C5-8E28-AC5F00E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D36-6281-4BC9-9F4A-AB834EBD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AA61-EFD8-429C-95E5-8C3E96F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3379-EE26-4F4F-A150-09859AE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F02-3FAD-43B6-9171-E9496EEE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33D9-56E8-430C-931A-06282126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B18A-D1E8-4530-9BE1-4678417C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034-0340-4090-8A3B-7A672AEC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245-3260-4701-AA43-D1259181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C86-3F5C-421D-81C2-0631F653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D36-9CC7-4289-AFAD-4A0DE21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541-A90E-44E9-88BE-0064A466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7DB-2CF9-4A5E-B81F-E527933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B3B-E158-4F41-B5D6-AC10E5B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D888-DCBA-421C-AA78-C2DEF0FB40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31D-DB62-4BAF-A33C-BCCDCCCA76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5688000" cy="717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SE OF THE TEENAGE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960s saw the birth of the (0)  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life was never the same again. It was the start of a social revolution in Britai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volution was partly a (1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post war year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ng people woke up to the idea that that they could have an (2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ifestyle (3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ir par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enagers started to break free from the traditions and rules of previous generations in fashion, lifestyle and (4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y wanted their own music, clothes and (5)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o their own thing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olling Stone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a symbol of teenage (6) _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bbing became popular. The most (7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lub w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Go 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Newcastle with Jimi Hendrix*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Anima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t on to achieve (8) 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ccess with hits like 'House of the Rising Sun' and 'We've Gotta Get out of this Place'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) 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lture had become a (10) _______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ce, and the teenager was to dominate popular culture for the next three decades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43280" y="54900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) tee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re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identif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be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fr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r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7) f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8)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9) young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0)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5148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2880" y="333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e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7800" y="9079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1700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9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44920" y="25844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342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9840" y="29973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7800" y="38606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fa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8200" y="43131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94172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229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5:57:07Z</dcterms:created>
  <dc:creator>ПК1</dc:creator>
  <dc:description/>
  <dc:language>en-US</dc:language>
  <cp:lastModifiedBy>Admin</cp:lastModifiedBy>
  <dcterms:modified xsi:type="dcterms:W3CDTF">2010-02-23T16:07:2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