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BFD-294B-432E-914F-05D22797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708-ABA4-4E67-8165-D031A9B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530-0217-417B-94D4-67691D18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2ED-59CF-460A-B7B2-22998E51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4BA-BA49-4296-828D-ED5DD257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EFF-378B-421F-BCA2-03C8570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17C-B6D4-49C4-8A86-9716D1E6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188D-F167-4CBD-8FE9-B06A12A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F465-12F1-4136-9E5F-B9580A0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4356-F061-4EB3-B6C9-2E709568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18A-DC3F-4B6C-8878-FE3D693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ED0-2BF3-4AFA-BFEB-38F01A10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B0D3-6B84-49BA-8194-34202EB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D533-4BE1-4E3F-8E6A-B0F0213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EB8-979E-4370-A5D6-3EA8918A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528-A189-4D9B-BA12-352FBB57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C482-BD8A-486A-BCFF-83DC42EB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DB2-46FA-46B9-9B56-F80674F6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254-2C08-482E-9DD7-D4E2F33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39E-0972-48F7-ACC7-499D13D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229-015F-4FDC-931F-4129068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315-5F87-47F9-A37A-5F3EA11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407-4170-488B-9EBC-01BE06F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67E-6F37-4417-B3FF-59B09B9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018B-89DF-41CA-8FFF-860F19C724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42EB-665B-430E-832C-CC4825B29B8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Сложение и вычитание дробей с одинаковыми знаменателями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Решение уравн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42920" y="1916280"/>
                <a:ext cx="3313080" cy="21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Как называется данное равенство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то значит решить уравнение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Это значит найти все его корни или установить, что их нет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Что необычного в этом уравнении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c85e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eec85e"/>
                </a:solidFill>
                <a:latin typeface="Arial"/>
              </a:rPr>
              <a:t>Содержит дробные числ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Как решаются такие уравнения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Решается так же , как уравнение с натуральными числа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1854360"/>
                <a:ext cx="3576600" cy="47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χ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χ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χ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11280" y="1844640"/>
                <a:ext cx="352908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Ζ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t xml:space="preserve">Ζ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t xml:space="preserve">Ζ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51:41Z</dcterms:created>
  <dc:creator>Учитель</dc:creator>
  <dc:description/>
  <dc:language>en-US</dc:language>
  <cp:lastModifiedBy>Учитель</cp:lastModifiedBy>
  <dcterms:modified xsi:type="dcterms:W3CDTF">2008-01-22T12:28:34Z</dcterms:modified>
  <cp:revision>5</cp:revision>
  <dc:subject/>
  <dc:title>Сложение и вычитание дробей с одинаковыми знаменателями</dc:title>
</cp:coreProperties>
</file>