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D5E-CF12-481A-B4C3-64E46009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71B-6ABF-4F07-BD92-1E7517C8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93E-1F2B-47FA-885D-DEFB2D06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FC1-E585-4103-BF36-B6366407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0CE3-C629-4DF1-9470-7D7B0FE9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EFA0-32BB-49BD-8F98-7DAAD649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AC73-5593-40E1-9862-7E4898F1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1806-2AAF-4F11-88EA-914B17C4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EBEF-BBBE-4CEA-96B2-7FAF938E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7473-4C7E-451A-B593-BA42EB67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B6ED-3D2B-41D8-A3B5-EEE2AAC5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573-176B-43FD-9D23-9BE2FC2B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F3A7-0E7A-4C1F-AACA-8E64A4C0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BEFE-BCEE-4F52-BBE5-6440EC62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6EA-5411-4DC0-BC98-B91FBEF9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5E81-A54A-4064-BC1B-BFA807DA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893F-E2F0-4A24-8A87-F4F1C55F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4E4-0506-4568-A039-2A7CE76D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566-4C84-4914-80F9-94508083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88C-AEA4-4BD1-BD85-810ACDE5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51A-BBE1-4B4A-BCAB-C1E532C9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14D-2249-4E47-AD9B-3A4C043A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C08-10FA-429F-BD1C-1B8CB01C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472-16BE-43C7-980D-C305AB00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91CE-BE73-48CA-894D-A0DA90A8B4E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C16A-FF9C-4725-8675-7755098F0FA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Сложение и вычитание дробей с одинаковыми знаменателями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Решение уравнени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42920" y="1916280"/>
                <a:ext cx="3313080" cy="21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Как называется данное равенство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Что значит решить уравнение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Это значит найти все его корни или установить, что их нет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Что необычного в этом уравнении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c85e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eec85e"/>
                </a:solidFill>
                <a:latin typeface="Arial"/>
              </a:rPr>
              <a:t>Содержит дробные числ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Как решаются такие уравнения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Решается так же , как уравнение с натуральными числам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ешаем уравн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76720" y="1854360"/>
                <a:ext cx="3576600" cy="47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χ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χ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χ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11280" y="1844640"/>
                <a:ext cx="3529080" cy="43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Ζ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  <m:e>
                        <m:r>
                          <m:t xml:space="preserve">Ζ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  <m:e>
                        <m:r>
                          <m:t xml:space="preserve">Ζ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51:41Z</dcterms:created>
  <dc:creator>Учитель</dc:creator>
  <dc:description/>
  <dc:language>en-US</dc:language>
  <cp:lastModifiedBy>Учитель</cp:lastModifiedBy>
  <dcterms:modified xsi:type="dcterms:W3CDTF">2008-01-22T12:28:34Z</dcterms:modified>
  <cp:revision>5</cp:revision>
  <dc:subject/>
  <dc:title>Сложение и вычитание дробей с одинаковыми знаменателями</dc:title>
</cp:coreProperties>
</file>