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8.jpeg" ContentType="image/jpeg"/>
  <Override PartName="/ppt/media/whoosh.wav" ContentType="audio/x-wav"/>
  <Override PartName="/ppt/media/image7.jpeg" ContentType="image/jpeg"/>
  <Override PartName="/ppt/media/image14.jpeg" ContentType="image/jpeg"/>
  <Override PartName="/ppt/media/image2.png" ContentType="image/png"/>
  <Override PartName="/ppt/media/image13.jpeg" ContentType="image/jpeg"/>
  <Override PartName="/ppt/media/image12.jpeg" ContentType="image/jpeg"/>
  <Override PartName="/ppt/media/image11.jpeg" ContentType="image/jpeg"/>
  <Override PartName="/ppt/media/image1.jpeg" ContentType="image/jpeg"/>
  <Override PartName="/ppt/media/image4.wmf" ContentType="image/x-wmf"/>
  <Override PartName="/ppt/media/jeopardy-wait%20long.wav" ContentType="audio/x-wav"/>
  <Override PartName="/ppt/media/image6.jpeg" ContentType="image/jpeg"/>
  <Override PartName="/ppt/media/image10.png" ContentType="image/png"/>
  <Override PartName="/ppt/media/image3.png" ContentType="image/png"/>
  <Override PartName="/ppt/media/laser.wav" ContentType="audio/x-wav"/>
  <Override PartName="/ppt/media/image5.jpeg" ContentType="image/jpeg"/>
  <Override PartName="/ppt/media/drumroll.wav" ContentType="audio/x-wav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D66C7-C61B-4810-919F-D267CE372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5C671-61CB-475B-B4A0-D49297FB1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992E0-7DEE-4709-BB36-8E153809B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90AE7-F580-4C2B-A15E-236E425EC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4654A8-A185-4573-A564-1F417DE7B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2CF01A-2875-4E56-8495-9844612DE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9B9427-AF9B-4FD1-A841-493E45113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2DC1A7-4F2D-4B74-AE87-62E3214DB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196CD2-3047-4FB8-9BC0-B94608ECC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0C6214-40C6-4B12-93BF-E9A64F15B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07FF05-AF33-492C-AD81-0C7B53A89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DB0EE-5667-437D-A5B9-A0E32DD48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F7408F-F789-4BB9-99D6-2DB52F8C8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0AAF86-7ADF-4C41-838A-BEFC538A9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09933D-EC5A-44CE-BF96-46A39E085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C7DC78-D7EA-4957-8655-0BA4319D4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88AFFF-BA17-4F63-BDFF-05CEE9A8D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0E7789-D9BF-4DF9-A2FD-217014A45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4D2CD4-19E9-40E7-8AB3-9B7D2B88C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FA2E50-583D-4E93-953A-25DEC0B50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6D192F-8DC9-40A0-9A5D-2A870CC79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2FFA95-E3F8-439A-B285-85CF8C5E2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E7DB6-46F9-46C1-84FC-7A8A90B6B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A49C15-CE21-4F68-9557-49E209F29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05BEF1-F17D-4E4F-863F-30D0A6462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1DF98E-8FCE-45EA-A24D-DB7A2C5B5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EFBCDD-3997-4891-8AC0-EF057FE49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0EC513-FEDF-48BA-8F31-FF296CB06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B8D72F-C842-42DC-8385-CB4FDEEE3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85EE61-3323-40A8-8593-0FD6DA458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516D97-0381-453B-9E5E-489FD74E5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C4D686-BE94-48E7-AA39-93821056A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CF73F5-D618-42D0-9DE4-D71D7A2FA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7E07F-EC21-4BC2-8CAD-A8B3CAF17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EFF28A-0823-4E1E-B84B-DB39E6F12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E323E1-AEFE-46F5-96C8-55CC13D09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9347BE-4127-4F50-B6DC-E87FF02F1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235D0D-E849-4E9F-BB20-9FA26E717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7037A3-EABB-4D7F-9184-4251DB9F0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F5E80B-1C81-4E9A-9D69-D2F8C0DC9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DBBA4D-FF82-4EC0-AEE8-F27217B19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EBF3C5-CEA8-48F7-9E9B-7246877F9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412EF0-0281-403D-93D7-8EFA532FC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A5E34-32B1-4676-8F19-284D0A05F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CF82D-232E-4305-A796-A9635AE1A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358A7-1B35-4C25-B18E-BE181FC83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EE7EC-95AB-498A-A4B1-257D83D48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04286-F01C-43A7-A0B4-06324E788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3EC63-B016-4AA2-91E5-40E008FA69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C9115-A221-488C-89EE-02D8D49BB4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6f89f7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8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84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85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6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9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7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10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37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39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140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612B2-F864-4CB8-A8B0-F4108D663C6B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6f89f7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85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86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87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88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9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241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246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A5C86-BE39-4472-9287-72ACEC02878B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audio" Target="../media/jeopardy-wait%20long.wav"/><Relationship Id="rId3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2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2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2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2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2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7.xml"/><Relationship Id="rId3" Type="http://schemas.openxmlformats.org/officeDocument/2006/relationships/slide" Target="slide11.xml"/><Relationship Id="rId4" Type="http://schemas.openxmlformats.org/officeDocument/2006/relationships/slide" Target="slide4.xml"/><Relationship Id="rId5" Type="http://schemas.openxmlformats.org/officeDocument/2006/relationships/slide" Target="slide8.xml"/><Relationship Id="rId6" Type="http://schemas.openxmlformats.org/officeDocument/2006/relationships/slide" Target="slide12.xml"/><Relationship Id="rId7" Type="http://schemas.openxmlformats.org/officeDocument/2006/relationships/slide" Target="slide5.xml"/><Relationship Id="rId8" Type="http://schemas.openxmlformats.org/officeDocument/2006/relationships/slide" Target="slide9.xml"/><Relationship Id="rId9" Type="http://schemas.openxmlformats.org/officeDocument/2006/relationships/slide" Target="slide13.xml"/><Relationship Id="rId10" Type="http://schemas.openxmlformats.org/officeDocument/2006/relationships/slide" Target="slide6.xml"/><Relationship Id="rId11" Type="http://schemas.openxmlformats.org/officeDocument/2006/relationships/slide" Target="slide10.xml"/><Relationship Id="rId12" Type="http://schemas.openxmlformats.org/officeDocument/2006/relationships/slide" Target="slide14.xml"/><Relationship Id="rId13" Type="http://schemas.openxmlformats.org/officeDocument/2006/relationships/slide" Target="slide15.xml"/><Relationship Id="rId14" Type="http://schemas.openxmlformats.org/officeDocument/2006/relationships/slide" Target="slide16.xml"/><Relationship Id="rId15" Type="http://schemas.openxmlformats.org/officeDocument/2006/relationships/audio" Target="../media/whoosh.wav"/><Relationship Id="rId16" Type="http://schemas.openxmlformats.org/officeDocument/2006/relationships/audio" Target="../media/whoosh.wav"/><Relationship Id="rId17" Type="http://schemas.openxmlformats.org/officeDocument/2006/relationships/audio" Target="../media/whoosh.wav"/><Relationship Id="rId18" Type="http://schemas.openxmlformats.org/officeDocument/2006/relationships/audio" Target="../media/whoosh.wav"/><Relationship Id="rId19" Type="http://schemas.openxmlformats.org/officeDocument/2006/relationships/audio" Target="../media/whoosh.wav"/><Relationship Id="rId20" Type="http://schemas.openxmlformats.org/officeDocument/2006/relationships/audio" Target="../media/laser.wav"/><Relationship Id="rId21" Type="http://schemas.openxmlformats.org/officeDocument/2006/relationships/audio" Target="../media/laser.wav"/><Relationship Id="rId22" Type="http://schemas.openxmlformats.org/officeDocument/2006/relationships/audio" Target="../media/laser.wav"/><Relationship Id="rId23" Type="http://schemas.openxmlformats.org/officeDocument/2006/relationships/audio" Target="../media/laser.wav"/><Relationship Id="rId24" Type="http://schemas.openxmlformats.org/officeDocument/2006/relationships/audio" Target="../media/laser.wav"/><Relationship Id="rId25" Type="http://schemas.openxmlformats.org/officeDocument/2006/relationships/audio" Target="../media/laser.wav"/><Relationship Id="rId26" Type="http://schemas.openxmlformats.org/officeDocument/2006/relationships/audio" Target="../media/laser.wav"/><Relationship Id="rId27" Type="http://schemas.openxmlformats.org/officeDocument/2006/relationships/audio" Target="../media/laser.wav"/><Relationship Id="rId28" Type="http://schemas.openxmlformats.org/officeDocument/2006/relationships/audio" Target="../media/laser.wav"/><Relationship Id="rId29" Type="http://schemas.openxmlformats.org/officeDocument/2006/relationships/audio" Target="../media/laser.wav"/><Relationship Id="rId30" Type="http://schemas.openxmlformats.org/officeDocument/2006/relationships/audio" Target="../media/laser.wav"/><Relationship Id="rId31" Type="http://schemas.openxmlformats.org/officeDocument/2006/relationships/audio" Target="../media/laser.wav"/><Relationship Id="rId32" Type="http://schemas.openxmlformats.org/officeDocument/2006/relationships/audio" Target="../media/laser.wav"/><Relationship Id="rId33" Type="http://schemas.openxmlformats.org/officeDocument/2006/relationships/audio" Target="../media/laser.wav"/><Relationship Id="rId34" Type="http://schemas.openxmlformats.org/officeDocument/2006/relationships/audio" Target="../media/laser.wav"/><Relationship Id="rId35" Type="http://schemas.openxmlformats.org/officeDocument/2006/relationships/audio" Target="../media/laser.wav"/><Relationship Id="rId36" Type="http://schemas.openxmlformats.org/officeDocument/2006/relationships/audio" Target="../media/laser.wav"/><Relationship Id="rId37" Type="http://schemas.openxmlformats.org/officeDocument/2006/relationships/audio" Target="../media/laser.wav"/><Relationship Id="rId38" Type="http://schemas.openxmlformats.org/officeDocument/2006/relationships/audio" Target="../media/laser.wav"/><Relationship Id="rId39" Type="http://schemas.openxmlformats.org/officeDocument/2006/relationships/audio" Target="../media/laser.wav"/><Relationship Id="rId40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2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6f89f7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3564000" y="4365720"/>
            <a:ext cx="5219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1835280" y="2276640"/>
            <a:ext cx="5329080" cy="165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воя игра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91" name=""/>
          <p:cNvSpPr/>
          <p:nvPr/>
        </p:nvSpPr>
        <p:spPr>
          <a:xfrm>
            <a:off x="539640" y="0"/>
            <a:ext cx="7848720" cy="228852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40458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ffff"/>
                </a:solidFill>
                <a:latin typeface="Arial"/>
              </a:rPr>
              <a:t>Математический Турнир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2" name="Рисунок 4" descr="32.wmf"/>
          <p:cNvPicPr/>
          <p:nvPr/>
        </p:nvPicPr>
        <p:blipFill>
          <a:blip r:embed="rId1"/>
          <a:stretch/>
        </p:blipFill>
        <p:spPr>
          <a:xfrm>
            <a:off x="5148360" y="3735360"/>
            <a:ext cx="3743280" cy="31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1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jeopardy-wait%20lo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5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7500"/>
                            </p:stCondLst>
                            <p:childTnLst>
                              <p:par>
                                <p:cTn id="15" nodeType="afterEffect" fill="hold" presetClass="emph" presetID="26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" dur="2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" dur="1000" autoRev="1" fill="hold"/>
                                        <p:tgtEl>
                                          <p:spTgt spid="29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21000"/>
                            </p:stCondLst>
                            <p:childTnLst>
                              <p:par>
                                <p:cTn id="19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" dur="2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" dur="1000" autoRev="1" fill="hold"/>
                                        <p:tgtEl>
                                          <p:spTgt spid="29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23000"/>
                            </p:stCondLst>
                            <p:childTnLst>
                              <p:par>
                                <p:cTn id="23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" dur="500" autoRev="1" fill="hold"/>
                                        <p:tgtEl>
                                          <p:spTgt spid="29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4000"/>
                            </p:stCondLst>
                            <p:childTnLst>
                              <p:par>
                                <p:cTn id="27" nodeType="afterEffect" fill="hold" presetClass="entr" presetID="2" presetSubtype="2">
                                  <p:stCondLst>
                                    <p:cond delay="4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6f89f7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843280" y="981000"/>
            <a:ext cx="630072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ahoma"/>
              </a:rPr>
              <a:t>Русский ученый, математик, поэт и</a:t>
            </a:r>
            <a:r>
              <a:rPr b="1" lang="en-US" sz="36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660066"/>
                </a:solidFill>
                <a:latin typeface="Tahoma"/>
              </a:rPr>
              <a:t>художник, которому принадлежит знаменитое высказывание о математике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528840" y="2637000"/>
            <a:ext cx="80200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ahoma"/>
              </a:rPr>
              <a:t>Категория</a:t>
            </a:r>
            <a:r>
              <a:rPr b="1" lang="en-US" sz="48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ahoma"/>
              </a:rPr>
              <a:t>«История математики»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ahoma"/>
              </a:rPr>
              <a:t>за 400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68360" y="5445000"/>
            <a:ext cx="7993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ahoma"/>
              </a:rPr>
              <a:t>М. В. Ломоносов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7524720" y="5589720"/>
            <a:ext cx="934920" cy="834840"/>
          </a:xfrm>
          <a:custGeom>
            <a:avLst/>
            <a:gdLst>
              <a:gd name="textAreaLeft" fmla="*/ 54000 w 934920"/>
              <a:gd name="textAreaRight" fmla="*/ 880920 w 934920"/>
              <a:gd name="textAreaTop" fmla="*/ 54000 h 834840"/>
              <a:gd name="textAreaBottom" fmla="*/ 780840 h 834840"/>
            </a:gdLst>
            <a:ahLst/>
            <a:rect l="textAreaLeft" t="textAreaTop" r="textAreaRight" b="textAreaBottom"/>
            <a:pathLst>
              <a:path w="24188" h="21600">
                <a:moveTo>
                  <a:pt x="0" y="0"/>
                </a:moveTo>
                <a:lnTo>
                  <a:pt x="24188" y="0"/>
                </a:lnTo>
                <a:lnTo>
                  <a:pt x="24188" y="21600"/>
                </a:lnTo>
                <a:lnTo>
                  <a:pt x="0" y="21600"/>
                </a:lnTo>
                <a:close/>
              </a:path>
              <a:path fill="lightenLess" w="24188" h="21600">
                <a:moveTo>
                  <a:pt x="0" y="0"/>
                </a:moveTo>
                <a:lnTo>
                  <a:pt x="24188" y="0"/>
                </a:lnTo>
                <a:lnTo>
                  <a:pt x="22788" y="1400"/>
                </a:lnTo>
                <a:lnTo>
                  <a:pt x="1400" y="1400"/>
                </a:lnTo>
                <a:close/>
              </a:path>
              <a:path fill="darken" w="24188" h="21600">
                <a:moveTo>
                  <a:pt x="24188" y="0"/>
                </a:moveTo>
                <a:lnTo>
                  <a:pt x="24188" y="21600"/>
                </a:lnTo>
                <a:lnTo>
                  <a:pt x="22788" y="20200"/>
                </a:lnTo>
                <a:lnTo>
                  <a:pt x="22788" y="1400"/>
                </a:lnTo>
                <a:close/>
              </a:path>
              <a:path fill="darkenLess" w="24188" h="21600">
                <a:moveTo>
                  <a:pt x="241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88" y="20200"/>
                </a:lnTo>
                <a:close/>
              </a:path>
              <a:path fill="lighten" w="241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88" h="21600">
                <a:moveTo>
                  <a:pt x="5088" y="10800"/>
                </a:moveTo>
                <a:lnTo>
                  <a:pt x="19101" y="3794"/>
                </a:lnTo>
                <a:lnTo>
                  <a:pt x="19101" y="1780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1"/>
          <a:stretch/>
        </p:blipFill>
        <p:spPr>
          <a:xfrm>
            <a:off x="324000" y="0"/>
            <a:ext cx="2190600" cy="23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3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3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6f89f7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24000" y="14126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Tahoma"/>
              </a:rPr>
              <a:t>У отца 6 сыновей, каждый сын имеет сестру. Сколько детей у этого отца?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8" name=""/>
          <p:cNvSpPr/>
          <p:nvPr/>
        </p:nvSpPr>
        <p:spPr>
          <a:xfrm>
            <a:off x="2444040" y="2708280"/>
            <a:ext cx="37346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ahoma"/>
              </a:rPr>
              <a:t>Категория</a:t>
            </a:r>
            <a:r>
              <a:rPr b="1" lang="en-US" sz="48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ahoma"/>
              </a:rPr>
              <a:t>«Загадки»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ahoma"/>
              </a:rPr>
              <a:t>за 100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95280" y="5373720"/>
            <a:ext cx="774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ahoma"/>
              </a:rPr>
              <a:t>Семь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8028000" y="5805360"/>
            <a:ext cx="934920" cy="835200"/>
          </a:xfrm>
          <a:custGeom>
            <a:avLst/>
            <a:gdLst>
              <a:gd name="textAreaLeft" fmla="*/ 54000 w 934920"/>
              <a:gd name="textAreaRight" fmla="*/ 880920 w 934920"/>
              <a:gd name="textAreaTop" fmla="*/ 54000 h 835200"/>
              <a:gd name="textAreaBottom" fmla="*/ 781200 h 835200"/>
            </a:gdLst>
            <a:ahLst/>
            <a:rect l="textAreaLeft" t="textAreaTop" r="textAreaRight" b="textAreaBottom"/>
            <a:pathLst>
              <a:path w="24178" h="21600">
                <a:moveTo>
                  <a:pt x="0" y="0"/>
                </a:moveTo>
                <a:lnTo>
                  <a:pt x="24178" y="0"/>
                </a:lnTo>
                <a:lnTo>
                  <a:pt x="24178" y="21600"/>
                </a:lnTo>
                <a:lnTo>
                  <a:pt x="0" y="21600"/>
                </a:lnTo>
                <a:close/>
              </a:path>
              <a:path fill="lightenLess" w="24178" h="21600">
                <a:moveTo>
                  <a:pt x="0" y="0"/>
                </a:moveTo>
                <a:lnTo>
                  <a:pt x="24178" y="0"/>
                </a:lnTo>
                <a:lnTo>
                  <a:pt x="22778" y="1400"/>
                </a:lnTo>
                <a:lnTo>
                  <a:pt x="1400" y="1400"/>
                </a:lnTo>
                <a:close/>
              </a:path>
              <a:path fill="darken" w="24178" h="21600">
                <a:moveTo>
                  <a:pt x="24178" y="0"/>
                </a:moveTo>
                <a:lnTo>
                  <a:pt x="24178" y="21600"/>
                </a:lnTo>
                <a:lnTo>
                  <a:pt x="22778" y="20200"/>
                </a:lnTo>
                <a:lnTo>
                  <a:pt x="22778" y="1400"/>
                </a:lnTo>
                <a:close/>
              </a:path>
              <a:path fill="darkenLess" w="24178" h="21600">
                <a:moveTo>
                  <a:pt x="241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78" y="20200"/>
                </a:lnTo>
                <a:close/>
              </a:path>
              <a:path fill="lighten" w="241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78" h="21600">
                <a:moveTo>
                  <a:pt x="5082" y="10800"/>
                </a:moveTo>
                <a:lnTo>
                  <a:pt x="19095" y="3794"/>
                </a:lnTo>
                <a:lnTo>
                  <a:pt x="19095" y="1780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3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3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6f89f7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8200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Tahoma"/>
              </a:rPr>
              <a:t>Я села в автобус на начальной станции и пересчитала пассажиров. Их было 17. Автобус тронулся, затем остановился. На первой остановке вошло 6 человек, вышло 2 человека. На следующей остановке вошло 10 человек ,никто не вышел. Потом на остановке вошло 4 человека и вышло 7 . А потом на остановке гражданин один вошел, с целой кучею обновок ... Сколько было остановок?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62" name=""/>
          <p:cNvSpPr/>
          <p:nvPr/>
        </p:nvSpPr>
        <p:spPr>
          <a:xfrm>
            <a:off x="2444040" y="3141720"/>
            <a:ext cx="37346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ahoma"/>
              </a:rPr>
              <a:t>Категория</a:t>
            </a:r>
            <a:r>
              <a:rPr b="1" lang="en-US" sz="48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ahoma"/>
              </a:rPr>
              <a:t>«Загадки»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ahoma"/>
              </a:rPr>
              <a:t>за 200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900000" y="5589720"/>
            <a:ext cx="648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ahoma"/>
              </a:rPr>
              <a:t>Пять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7524720" y="5589720"/>
            <a:ext cx="934920" cy="834840"/>
          </a:xfrm>
          <a:custGeom>
            <a:avLst/>
            <a:gdLst>
              <a:gd name="textAreaLeft" fmla="*/ 54000 w 934920"/>
              <a:gd name="textAreaRight" fmla="*/ 880920 w 934920"/>
              <a:gd name="textAreaTop" fmla="*/ 54000 h 834840"/>
              <a:gd name="textAreaBottom" fmla="*/ 780840 h 834840"/>
            </a:gdLst>
            <a:ahLst/>
            <a:rect l="textAreaLeft" t="textAreaTop" r="textAreaRight" b="textAreaBottom"/>
            <a:pathLst>
              <a:path w="24188" h="21600">
                <a:moveTo>
                  <a:pt x="0" y="0"/>
                </a:moveTo>
                <a:lnTo>
                  <a:pt x="24188" y="0"/>
                </a:lnTo>
                <a:lnTo>
                  <a:pt x="24188" y="21600"/>
                </a:lnTo>
                <a:lnTo>
                  <a:pt x="0" y="21600"/>
                </a:lnTo>
                <a:close/>
              </a:path>
              <a:path fill="lightenLess" w="24188" h="21600">
                <a:moveTo>
                  <a:pt x="0" y="0"/>
                </a:moveTo>
                <a:lnTo>
                  <a:pt x="24188" y="0"/>
                </a:lnTo>
                <a:lnTo>
                  <a:pt x="22788" y="1400"/>
                </a:lnTo>
                <a:lnTo>
                  <a:pt x="1400" y="1400"/>
                </a:lnTo>
                <a:close/>
              </a:path>
              <a:path fill="darken" w="24188" h="21600">
                <a:moveTo>
                  <a:pt x="24188" y="0"/>
                </a:moveTo>
                <a:lnTo>
                  <a:pt x="24188" y="21600"/>
                </a:lnTo>
                <a:lnTo>
                  <a:pt x="22788" y="20200"/>
                </a:lnTo>
                <a:lnTo>
                  <a:pt x="22788" y="1400"/>
                </a:lnTo>
                <a:close/>
              </a:path>
              <a:path fill="darkenLess" w="24188" h="21600">
                <a:moveTo>
                  <a:pt x="241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88" y="20200"/>
                </a:lnTo>
                <a:close/>
              </a:path>
              <a:path fill="lighten" w="241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88" h="21600">
                <a:moveTo>
                  <a:pt x="5088" y="10800"/>
                </a:moveTo>
                <a:lnTo>
                  <a:pt x="19101" y="3794"/>
                </a:lnTo>
                <a:lnTo>
                  <a:pt x="19101" y="1780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3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3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6f89f7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09120" y="2599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Tahoma"/>
              </a:rPr>
              <a:t>Как записать «двойку» тремя «пятерками»?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66" name=""/>
          <p:cNvSpPr/>
          <p:nvPr/>
        </p:nvSpPr>
        <p:spPr>
          <a:xfrm>
            <a:off x="2593440" y="1773360"/>
            <a:ext cx="37346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ahoma"/>
              </a:rPr>
              <a:t>Категория</a:t>
            </a:r>
            <a:r>
              <a:rPr b="1" lang="en-US" sz="48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ahoma"/>
              </a:rPr>
              <a:t>«Загадки»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ahoma"/>
              </a:rPr>
              <a:t>за 300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755640" y="4508640"/>
            <a:ext cx="763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ahoma"/>
              </a:rPr>
              <a:t>(5+5):5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7885080" y="5734080"/>
            <a:ext cx="934920" cy="834840"/>
          </a:xfrm>
          <a:custGeom>
            <a:avLst/>
            <a:gdLst>
              <a:gd name="textAreaLeft" fmla="*/ 54000 w 934920"/>
              <a:gd name="textAreaRight" fmla="*/ 880920 w 934920"/>
              <a:gd name="textAreaTop" fmla="*/ 54000 h 834840"/>
              <a:gd name="textAreaBottom" fmla="*/ 780840 h 834840"/>
            </a:gdLst>
            <a:ahLst/>
            <a:rect l="textAreaLeft" t="textAreaTop" r="textAreaRight" b="textAreaBottom"/>
            <a:pathLst>
              <a:path w="24188" h="21600">
                <a:moveTo>
                  <a:pt x="0" y="0"/>
                </a:moveTo>
                <a:lnTo>
                  <a:pt x="24188" y="0"/>
                </a:lnTo>
                <a:lnTo>
                  <a:pt x="24188" y="21600"/>
                </a:lnTo>
                <a:lnTo>
                  <a:pt x="0" y="21600"/>
                </a:lnTo>
                <a:close/>
              </a:path>
              <a:path fill="lightenLess" w="24188" h="21600">
                <a:moveTo>
                  <a:pt x="0" y="0"/>
                </a:moveTo>
                <a:lnTo>
                  <a:pt x="24188" y="0"/>
                </a:lnTo>
                <a:lnTo>
                  <a:pt x="22788" y="1400"/>
                </a:lnTo>
                <a:lnTo>
                  <a:pt x="1400" y="1400"/>
                </a:lnTo>
                <a:close/>
              </a:path>
              <a:path fill="darken" w="24188" h="21600">
                <a:moveTo>
                  <a:pt x="24188" y="0"/>
                </a:moveTo>
                <a:lnTo>
                  <a:pt x="24188" y="21600"/>
                </a:lnTo>
                <a:lnTo>
                  <a:pt x="22788" y="20200"/>
                </a:lnTo>
                <a:lnTo>
                  <a:pt x="22788" y="1400"/>
                </a:lnTo>
                <a:close/>
              </a:path>
              <a:path fill="darkenLess" w="24188" h="21600">
                <a:moveTo>
                  <a:pt x="241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88" y="20200"/>
                </a:lnTo>
                <a:close/>
              </a:path>
              <a:path fill="lighten" w="241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88" h="21600">
                <a:moveTo>
                  <a:pt x="5088" y="10800"/>
                </a:moveTo>
                <a:lnTo>
                  <a:pt x="19101" y="3794"/>
                </a:lnTo>
                <a:lnTo>
                  <a:pt x="19101" y="1780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3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3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6f89f7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8200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ahoma"/>
              </a:rPr>
              <a:t>Чтобы найти пиратский клад надо пройти от старого дуба 12 шагов на север и 5 шагов на юг, затем 4 на север и 11 на юг. Где зарыт клад?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0" name=""/>
          <p:cNvSpPr/>
          <p:nvPr/>
        </p:nvSpPr>
        <p:spPr>
          <a:xfrm>
            <a:off x="2517120" y="2637000"/>
            <a:ext cx="37346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ahoma"/>
              </a:rPr>
              <a:t>Категория</a:t>
            </a:r>
            <a:r>
              <a:rPr b="1" lang="en-US" sz="48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ahoma"/>
              </a:rPr>
              <a:t>«Загадки»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ahoma"/>
              </a:rPr>
              <a:t>за 400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1619280" y="5373720"/>
            <a:ext cx="5329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ahoma"/>
              </a:rPr>
              <a:t>У старого дуба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7524720" y="5589720"/>
            <a:ext cx="934920" cy="834840"/>
          </a:xfrm>
          <a:custGeom>
            <a:avLst/>
            <a:gdLst>
              <a:gd name="textAreaLeft" fmla="*/ 54000 w 934920"/>
              <a:gd name="textAreaRight" fmla="*/ 880920 w 934920"/>
              <a:gd name="textAreaTop" fmla="*/ 54000 h 834840"/>
              <a:gd name="textAreaBottom" fmla="*/ 780840 h 834840"/>
            </a:gdLst>
            <a:ahLst/>
            <a:rect l="textAreaLeft" t="textAreaTop" r="textAreaRight" b="textAreaBottom"/>
            <a:pathLst>
              <a:path w="24188" h="21600">
                <a:moveTo>
                  <a:pt x="0" y="0"/>
                </a:moveTo>
                <a:lnTo>
                  <a:pt x="24188" y="0"/>
                </a:lnTo>
                <a:lnTo>
                  <a:pt x="24188" y="21600"/>
                </a:lnTo>
                <a:lnTo>
                  <a:pt x="0" y="21600"/>
                </a:lnTo>
                <a:close/>
              </a:path>
              <a:path fill="lightenLess" w="24188" h="21600">
                <a:moveTo>
                  <a:pt x="0" y="0"/>
                </a:moveTo>
                <a:lnTo>
                  <a:pt x="24188" y="0"/>
                </a:lnTo>
                <a:lnTo>
                  <a:pt x="22788" y="1400"/>
                </a:lnTo>
                <a:lnTo>
                  <a:pt x="1400" y="1400"/>
                </a:lnTo>
                <a:close/>
              </a:path>
              <a:path fill="darken" w="24188" h="21600">
                <a:moveTo>
                  <a:pt x="24188" y="0"/>
                </a:moveTo>
                <a:lnTo>
                  <a:pt x="24188" y="21600"/>
                </a:lnTo>
                <a:lnTo>
                  <a:pt x="22788" y="20200"/>
                </a:lnTo>
                <a:lnTo>
                  <a:pt x="22788" y="1400"/>
                </a:lnTo>
                <a:close/>
              </a:path>
              <a:path fill="darkenLess" w="24188" h="21600">
                <a:moveTo>
                  <a:pt x="241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88" y="20200"/>
                </a:lnTo>
                <a:close/>
              </a:path>
              <a:path fill="lighten" w="241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88" h="21600">
                <a:moveTo>
                  <a:pt x="5088" y="10800"/>
                </a:moveTo>
                <a:lnTo>
                  <a:pt x="19101" y="3794"/>
                </a:lnTo>
                <a:lnTo>
                  <a:pt x="19101" y="1780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1"/>
          <a:stretch/>
        </p:blipFill>
        <p:spPr>
          <a:xfrm>
            <a:off x="6203880" y="2565360"/>
            <a:ext cx="2940120" cy="24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3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3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6f89f7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/>
          <p:nvPr/>
        </p:nvSpPr>
        <p:spPr>
          <a:xfrm>
            <a:off x="1576800" y="2852640"/>
            <a:ext cx="60616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ahoma"/>
              </a:rPr>
              <a:t>Категория</a:t>
            </a:r>
            <a:r>
              <a:rPr b="1" lang="en-US" sz="48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ahoma"/>
              </a:rPr>
              <a:t>«Числа и цифры»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ahoma"/>
              </a:rPr>
              <a:t>за 100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2268360" y="5300640"/>
            <a:ext cx="4321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Tahoma"/>
              </a:rPr>
              <a:t>Штрих  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68000" y="404640"/>
            <a:ext cx="835164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Tahoma"/>
              </a:rPr>
              <a:t>Расшифруйте слово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7" name=""/>
          <p:cNvSpPr/>
          <p:nvPr/>
        </p:nvSpPr>
        <p:spPr>
          <a:xfrm>
            <a:off x="7524720" y="5589720"/>
            <a:ext cx="934920" cy="834840"/>
          </a:xfrm>
          <a:custGeom>
            <a:avLst/>
            <a:gdLst>
              <a:gd name="textAreaLeft" fmla="*/ 54000 w 934920"/>
              <a:gd name="textAreaRight" fmla="*/ 880920 w 934920"/>
              <a:gd name="textAreaTop" fmla="*/ 54000 h 834840"/>
              <a:gd name="textAreaBottom" fmla="*/ 780840 h 834840"/>
            </a:gdLst>
            <a:ahLst/>
            <a:rect l="textAreaLeft" t="textAreaTop" r="textAreaRight" b="textAreaBottom"/>
            <a:pathLst>
              <a:path w="24188" h="21600">
                <a:moveTo>
                  <a:pt x="0" y="0"/>
                </a:moveTo>
                <a:lnTo>
                  <a:pt x="24188" y="0"/>
                </a:lnTo>
                <a:lnTo>
                  <a:pt x="24188" y="21600"/>
                </a:lnTo>
                <a:lnTo>
                  <a:pt x="0" y="21600"/>
                </a:lnTo>
                <a:close/>
              </a:path>
              <a:path fill="lightenLess" w="24188" h="21600">
                <a:moveTo>
                  <a:pt x="0" y="0"/>
                </a:moveTo>
                <a:lnTo>
                  <a:pt x="24188" y="0"/>
                </a:lnTo>
                <a:lnTo>
                  <a:pt x="22788" y="1400"/>
                </a:lnTo>
                <a:lnTo>
                  <a:pt x="1400" y="1400"/>
                </a:lnTo>
                <a:close/>
              </a:path>
              <a:path fill="darken" w="24188" h="21600">
                <a:moveTo>
                  <a:pt x="24188" y="0"/>
                </a:moveTo>
                <a:lnTo>
                  <a:pt x="24188" y="21600"/>
                </a:lnTo>
                <a:lnTo>
                  <a:pt x="22788" y="20200"/>
                </a:lnTo>
                <a:lnTo>
                  <a:pt x="22788" y="1400"/>
                </a:lnTo>
                <a:close/>
              </a:path>
              <a:path fill="darkenLess" w="24188" h="21600">
                <a:moveTo>
                  <a:pt x="241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88" y="20200"/>
                </a:lnTo>
                <a:close/>
              </a:path>
              <a:path fill="lighten" w="241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88" h="21600">
                <a:moveTo>
                  <a:pt x="5088" y="10800"/>
                </a:moveTo>
                <a:lnTo>
                  <a:pt x="19101" y="3794"/>
                </a:lnTo>
                <a:lnTo>
                  <a:pt x="19101" y="1780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78" name="" descr=""/>
          <p:cNvPicPr/>
          <p:nvPr/>
        </p:nvPicPr>
        <p:blipFill>
          <a:blip r:embed="rId1"/>
          <a:stretch/>
        </p:blipFill>
        <p:spPr>
          <a:xfrm>
            <a:off x="2340000" y="1052640"/>
            <a:ext cx="4321080" cy="173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3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3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6f89f7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09120" y="260280"/>
            <a:ext cx="85345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Tahoma"/>
              </a:rPr>
              <a:t>Расшифруйте слово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80" name=""/>
          <p:cNvSpPr/>
          <p:nvPr/>
        </p:nvSpPr>
        <p:spPr>
          <a:xfrm>
            <a:off x="1432440" y="3213000"/>
            <a:ext cx="60616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ahoma"/>
              </a:rPr>
              <a:t>Категория</a:t>
            </a:r>
            <a:r>
              <a:rPr b="1" lang="en-US" sz="48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ahoma"/>
              </a:rPr>
              <a:t>«Числа и цифры»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ahoma"/>
              </a:rPr>
              <a:t>за 200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2124000" y="5373720"/>
            <a:ext cx="4321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Tahoma"/>
              </a:rPr>
              <a:t>Заколка 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7524720" y="5589720"/>
            <a:ext cx="934920" cy="834840"/>
          </a:xfrm>
          <a:custGeom>
            <a:avLst/>
            <a:gdLst>
              <a:gd name="textAreaLeft" fmla="*/ 54000 w 934920"/>
              <a:gd name="textAreaRight" fmla="*/ 880920 w 934920"/>
              <a:gd name="textAreaTop" fmla="*/ 54000 h 834840"/>
              <a:gd name="textAreaBottom" fmla="*/ 780840 h 834840"/>
            </a:gdLst>
            <a:ahLst/>
            <a:rect l="textAreaLeft" t="textAreaTop" r="textAreaRight" b="textAreaBottom"/>
            <a:pathLst>
              <a:path w="24188" h="21600">
                <a:moveTo>
                  <a:pt x="0" y="0"/>
                </a:moveTo>
                <a:lnTo>
                  <a:pt x="24188" y="0"/>
                </a:lnTo>
                <a:lnTo>
                  <a:pt x="24188" y="21600"/>
                </a:lnTo>
                <a:lnTo>
                  <a:pt x="0" y="21600"/>
                </a:lnTo>
                <a:close/>
              </a:path>
              <a:path fill="lightenLess" w="24188" h="21600">
                <a:moveTo>
                  <a:pt x="0" y="0"/>
                </a:moveTo>
                <a:lnTo>
                  <a:pt x="24188" y="0"/>
                </a:lnTo>
                <a:lnTo>
                  <a:pt x="22788" y="1400"/>
                </a:lnTo>
                <a:lnTo>
                  <a:pt x="1400" y="1400"/>
                </a:lnTo>
                <a:close/>
              </a:path>
              <a:path fill="darken" w="24188" h="21600">
                <a:moveTo>
                  <a:pt x="24188" y="0"/>
                </a:moveTo>
                <a:lnTo>
                  <a:pt x="24188" y="21600"/>
                </a:lnTo>
                <a:lnTo>
                  <a:pt x="22788" y="20200"/>
                </a:lnTo>
                <a:lnTo>
                  <a:pt x="22788" y="1400"/>
                </a:lnTo>
                <a:close/>
              </a:path>
              <a:path fill="darkenLess" w="24188" h="21600">
                <a:moveTo>
                  <a:pt x="241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88" y="20200"/>
                </a:lnTo>
                <a:close/>
              </a:path>
              <a:path fill="lighten" w="241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88" h="21600">
                <a:moveTo>
                  <a:pt x="5088" y="10800"/>
                </a:moveTo>
                <a:lnTo>
                  <a:pt x="19101" y="3794"/>
                </a:lnTo>
                <a:lnTo>
                  <a:pt x="19101" y="1780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83" name="" descr=""/>
          <p:cNvPicPr/>
          <p:nvPr/>
        </p:nvPicPr>
        <p:blipFill>
          <a:blip r:embed="rId1"/>
          <a:stretch/>
        </p:blipFill>
        <p:spPr>
          <a:xfrm>
            <a:off x="2340000" y="1197000"/>
            <a:ext cx="4535640" cy="18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3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3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6f89f7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09120" y="333360"/>
            <a:ext cx="853452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Tahoma"/>
              </a:rPr>
              <a:t>Сумма и произведение каких трех чисел одинаковы?</a:t>
            </a:r>
            <a:br>
              <a:rPr sz="4000"/>
            </a:b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85" name=""/>
          <p:cNvSpPr/>
          <p:nvPr/>
        </p:nvSpPr>
        <p:spPr>
          <a:xfrm>
            <a:off x="1429200" y="1773360"/>
            <a:ext cx="60616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ahoma"/>
              </a:rPr>
              <a:t>Категория</a:t>
            </a:r>
            <a:r>
              <a:rPr b="1" lang="en-US" sz="48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ahoma"/>
              </a:rPr>
              <a:t>«Числа и цифры»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ahoma"/>
              </a:rPr>
              <a:t>за 300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763640" y="4437000"/>
            <a:ext cx="604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Tahoma"/>
              </a:rPr>
              <a:t>1,2,3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7524720" y="5589720"/>
            <a:ext cx="934920" cy="834840"/>
          </a:xfrm>
          <a:custGeom>
            <a:avLst/>
            <a:gdLst>
              <a:gd name="textAreaLeft" fmla="*/ 54000 w 934920"/>
              <a:gd name="textAreaRight" fmla="*/ 880920 w 934920"/>
              <a:gd name="textAreaTop" fmla="*/ 54000 h 834840"/>
              <a:gd name="textAreaBottom" fmla="*/ 780840 h 834840"/>
            </a:gdLst>
            <a:ahLst/>
            <a:rect l="textAreaLeft" t="textAreaTop" r="textAreaRight" b="textAreaBottom"/>
            <a:pathLst>
              <a:path w="24188" h="21600">
                <a:moveTo>
                  <a:pt x="0" y="0"/>
                </a:moveTo>
                <a:lnTo>
                  <a:pt x="24188" y="0"/>
                </a:lnTo>
                <a:lnTo>
                  <a:pt x="24188" y="21600"/>
                </a:lnTo>
                <a:lnTo>
                  <a:pt x="0" y="21600"/>
                </a:lnTo>
                <a:close/>
              </a:path>
              <a:path fill="lightenLess" w="24188" h="21600">
                <a:moveTo>
                  <a:pt x="0" y="0"/>
                </a:moveTo>
                <a:lnTo>
                  <a:pt x="24188" y="0"/>
                </a:lnTo>
                <a:lnTo>
                  <a:pt x="22788" y="1400"/>
                </a:lnTo>
                <a:lnTo>
                  <a:pt x="1400" y="1400"/>
                </a:lnTo>
                <a:close/>
              </a:path>
              <a:path fill="darken" w="24188" h="21600">
                <a:moveTo>
                  <a:pt x="24188" y="0"/>
                </a:moveTo>
                <a:lnTo>
                  <a:pt x="24188" y="21600"/>
                </a:lnTo>
                <a:lnTo>
                  <a:pt x="22788" y="20200"/>
                </a:lnTo>
                <a:lnTo>
                  <a:pt x="22788" y="1400"/>
                </a:lnTo>
                <a:close/>
              </a:path>
              <a:path fill="darkenLess" w="24188" h="21600">
                <a:moveTo>
                  <a:pt x="241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88" y="20200"/>
                </a:lnTo>
                <a:close/>
              </a:path>
              <a:path fill="lighten" w="241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88" h="21600">
                <a:moveTo>
                  <a:pt x="5088" y="10800"/>
                </a:moveTo>
                <a:lnTo>
                  <a:pt x="19101" y="3794"/>
                </a:lnTo>
                <a:lnTo>
                  <a:pt x="19101" y="1780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3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3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6f89f7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89308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Что больше произведение всех цифр или их сумма?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432440" y="1773360"/>
            <a:ext cx="60616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ahoma"/>
              </a:rPr>
              <a:t>Категория</a:t>
            </a:r>
            <a:r>
              <a:rPr b="1" lang="en-US" sz="48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ahoma"/>
              </a:rPr>
              <a:t>«Числа и цифры»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ahoma"/>
              </a:rPr>
              <a:t>за 400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195640" y="4508640"/>
            <a:ext cx="4321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Tahoma"/>
              </a:rPr>
              <a:t>Сумма 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7524720" y="5589720"/>
            <a:ext cx="934920" cy="834840"/>
          </a:xfrm>
          <a:custGeom>
            <a:avLst/>
            <a:gdLst>
              <a:gd name="textAreaLeft" fmla="*/ 54000 w 934920"/>
              <a:gd name="textAreaRight" fmla="*/ 880920 w 934920"/>
              <a:gd name="textAreaTop" fmla="*/ 54000 h 834840"/>
              <a:gd name="textAreaBottom" fmla="*/ 780840 h 834840"/>
            </a:gdLst>
            <a:ahLst/>
            <a:rect l="textAreaLeft" t="textAreaTop" r="textAreaRight" b="textAreaBottom"/>
            <a:pathLst>
              <a:path w="24188" h="21600">
                <a:moveTo>
                  <a:pt x="0" y="0"/>
                </a:moveTo>
                <a:lnTo>
                  <a:pt x="24188" y="0"/>
                </a:lnTo>
                <a:lnTo>
                  <a:pt x="24188" y="21600"/>
                </a:lnTo>
                <a:lnTo>
                  <a:pt x="0" y="21600"/>
                </a:lnTo>
                <a:close/>
              </a:path>
              <a:path fill="lightenLess" w="24188" h="21600">
                <a:moveTo>
                  <a:pt x="0" y="0"/>
                </a:moveTo>
                <a:lnTo>
                  <a:pt x="24188" y="0"/>
                </a:lnTo>
                <a:lnTo>
                  <a:pt x="22788" y="1400"/>
                </a:lnTo>
                <a:lnTo>
                  <a:pt x="1400" y="1400"/>
                </a:lnTo>
                <a:close/>
              </a:path>
              <a:path fill="darken" w="24188" h="21600">
                <a:moveTo>
                  <a:pt x="24188" y="0"/>
                </a:moveTo>
                <a:lnTo>
                  <a:pt x="24188" y="21600"/>
                </a:lnTo>
                <a:lnTo>
                  <a:pt x="22788" y="20200"/>
                </a:lnTo>
                <a:lnTo>
                  <a:pt x="22788" y="1400"/>
                </a:lnTo>
                <a:close/>
              </a:path>
              <a:path fill="darkenLess" w="24188" h="21600">
                <a:moveTo>
                  <a:pt x="241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88" y="20200"/>
                </a:lnTo>
                <a:close/>
              </a:path>
              <a:path fill="lighten" w="241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88" h="21600">
                <a:moveTo>
                  <a:pt x="5088" y="10800"/>
                </a:moveTo>
                <a:lnTo>
                  <a:pt x="19101" y="3794"/>
                </a:lnTo>
                <a:lnTo>
                  <a:pt x="19101" y="1780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3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3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6f89f7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53452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Tahoma"/>
              </a:rPr>
              <a:t>Крышка стола имеет 4 угла. </a:t>
            </a:r>
            <a:br>
              <a:rPr sz="3600"/>
            </a:br>
            <a:r>
              <a:rPr b="1" lang="en-US" sz="3600" spc="-1" strike="noStrike">
                <a:solidFill>
                  <a:srgbClr val="660066"/>
                </a:solidFill>
                <a:latin typeface="Tahoma"/>
              </a:rPr>
              <a:t>Один отпилили. </a:t>
            </a:r>
            <a:br>
              <a:rPr sz="3600"/>
            </a:br>
            <a:r>
              <a:rPr b="1" lang="en-US" sz="3600" spc="-1" strike="noStrike">
                <a:solidFill>
                  <a:srgbClr val="660066"/>
                </a:solidFill>
                <a:latin typeface="Tahoma"/>
              </a:rPr>
              <a:t>Сколько углов стало у стола?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93" name=""/>
          <p:cNvSpPr/>
          <p:nvPr/>
        </p:nvSpPr>
        <p:spPr>
          <a:xfrm>
            <a:off x="1530000" y="2276640"/>
            <a:ext cx="57157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ahoma"/>
              </a:rPr>
              <a:t>Категория</a:t>
            </a:r>
            <a:r>
              <a:rPr b="1" lang="en-US" sz="48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ahoma"/>
              </a:rPr>
              <a:t>«Задачи шутки»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ahoma"/>
              </a:rPr>
              <a:t>за 100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2411280" y="4869000"/>
            <a:ext cx="4321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Tahoma"/>
              </a:rPr>
              <a:t>5 углов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524720" y="5589720"/>
            <a:ext cx="934920" cy="834840"/>
          </a:xfrm>
          <a:custGeom>
            <a:avLst/>
            <a:gdLst>
              <a:gd name="textAreaLeft" fmla="*/ 54000 w 934920"/>
              <a:gd name="textAreaRight" fmla="*/ 880920 w 934920"/>
              <a:gd name="textAreaTop" fmla="*/ 54000 h 834840"/>
              <a:gd name="textAreaBottom" fmla="*/ 780840 h 834840"/>
            </a:gdLst>
            <a:ahLst/>
            <a:rect l="textAreaLeft" t="textAreaTop" r="textAreaRight" b="textAreaBottom"/>
            <a:pathLst>
              <a:path w="24188" h="21600">
                <a:moveTo>
                  <a:pt x="0" y="0"/>
                </a:moveTo>
                <a:lnTo>
                  <a:pt x="24188" y="0"/>
                </a:lnTo>
                <a:lnTo>
                  <a:pt x="24188" y="21600"/>
                </a:lnTo>
                <a:lnTo>
                  <a:pt x="0" y="21600"/>
                </a:lnTo>
                <a:close/>
              </a:path>
              <a:path fill="lightenLess" w="24188" h="21600">
                <a:moveTo>
                  <a:pt x="0" y="0"/>
                </a:moveTo>
                <a:lnTo>
                  <a:pt x="24188" y="0"/>
                </a:lnTo>
                <a:lnTo>
                  <a:pt x="22788" y="1400"/>
                </a:lnTo>
                <a:lnTo>
                  <a:pt x="1400" y="1400"/>
                </a:lnTo>
                <a:close/>
              </a:path>
              <a:path fill="darken" w="24188" h="21600">
                <a:moveTo>
                  <a:pt x="24188" y="0"/>
                </a:moveTo>
                <a:lnTo>
                  <a:pt x="24188" y="21600"/>
                </a:lnTo>
                <a:lnTo>
                  <a:pt x="22788" y="20200"/>
                </a:lnTo>
                <a:lnTo>
                  <a:pt x="22788" y="1400"/>
                </a:lnTo>
                <a:close/>
              </a:path>
              <a:path fill="darkenLess" w="24188" h="21600">
                <a:moveTo>
                  <a:pt x="241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88" y="20200"/>
                </a:lnTo>
                <a:close/>
              </a:path>
              <a:path fill="lighten" w="241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88" h="21600">
                <a:moveTo>
                  <a:pt x="5088" y="10800"/>
                </a:moveTo>
                <a:lnTo>
                  <a:pt x="19101" y="3794"/>
                </a:lnTo>
                <a:lnTo>
                  <a:pt x="19101" y="1780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3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3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ffcc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>
            <a:hlinkClick r:id="" action="ppaction://hlinkshowjump?jump=nextslide"/>
          </p:cNvPr>
          <p:cNvSpPr/>
          <p:nvPr/>
        </p:nvSpPr>
        <p:spPr>
          <a:xfrm>
            <a:off x="395280" y="549360"/>
            <a:ext cx="1581120" cy="73188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50000">
                <a:srgbClr val="000066"/>
              </a:gs>
              <a:gs pos="100000">
                <a:srgbClr val="3366ff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Ребусы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>
            <a:hlinkClick r:id="" action="ppaction://hlinkshowjump?jump=nextslide"/>
          </p:cNvPr>
          <p:cNvSpPr/>
          <p:nvPr/>
        </p:nvSpPr>
        <p:spPr>
          <a:xfrm>
            <a:off x="2124000" y="549360"/>
            <a:ext cx="1581120" cy="73188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50000">
                <a:srgbClr val="000066"/>
              </a:gs>
              <a:gs pos="100000">
                <a:srgbClr val="3366ff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История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математики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>
            <a:hlinkClick r:id="" action="ppaction://hlinkshowjump?jump=nextslide"/>
          </p:cNvPr>
          <p:cNvSpPr/>
          <p:nvPr/>
        </p:nvSpPr>
        <p:spPr>
          <a:xfrm>
            <a:off x="7236000" y="549360"/>
            <a:ext cx="1581120" cy="73188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50000">
                <a:srgbClr val="000066"/>
              </a:gs>
              <a:gs pos="100000">
                <a:srgbClr val="3366ff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Задачи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шутки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95280" y="1413000"/>
            <a:ext cx="1581120" cy="105228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50000">
                <a:srgbClr val="000066"/>
              </a:gs>
              <a:gs pos="100000">
                <a:srgbClr val="3366ff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00"/>
                </a:solidFill>
                <a:uFillTx/>
                <a:latin typeface="Arial"/>
                <a:hlinkClick r:id="rId1" action="ppaction://hlinksldjump"/>
              </a:rPr>
              <a:t>1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124000" y="1413000"/>
            <a:ext cx="1581120" cy="105228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50000">
                <a:srgbClr val="000066"/>
              </a:gs>
              <a:gs pos="100000">
                <a:srgbClr val="3366ff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1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51280" y="1413000"/>
            <a:ext cx="1581120" cy="105228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50000">
                <a:srgbClr val="000066"/>
              </a:gs>
              <a:gs pos="100000">
                <a:srgbClr val="3366ff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00"/>
                </a:solidFill>
                <a:uFillTx/>
                <a:latin typeface="Arial"/>
                <a:hlinkClick r:id="rId3" action="ppaction://hlinksldjump"/>
              </a:rPr>
              <a:t>1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7236000" y="1413000"/>
            <a:ext cx="1581120" cy="105228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50000">
                <a:srgbClr val="000066"/>
              </a:gs>
              <a:gs pos="100000">
                <a:srgbClr val="3366ff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1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95280" y="2565360"/>
            <a:ext cx="1581120" cy="105264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50000">
                <a:srgbClr val="000066"/>
              </a:gs>
              <a:gs pos="100000">
                <a:srgbClr val="3366ff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00"/>
                </a:solidFill>
                <a:uFillTx/>
                <a:latin typeface="Arial"/>
                <a:hlinkClick r:id="rId4" action="ppaction://hlinksldjump"/>
              </a:rPr>
              <a:t>2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195640" y="2565360"/>
            <a:ext cx="1581120" cy="105264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50000">
                <a:srgbClr val="000066"/>
              </a:gs>
              <a:gs pos="100000">
                <a:srgbClr val="3366ff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00"/>
                </a:solidFill>
                <a:uFillTx/>
                <a:latin typeface="Arial"/>
                <a:hlinkClick r:id="rId5" action="ppaction://hlinksldjump"/>
              </a:rPr>
              <a:t>2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851280" y="2565360"/>
            <a:ext cx="1581120" cy="105264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50000">
                <a:srgbClr val="000066"/>
              </a:gs>
              <a:gs pos="100000">
                <a:srgbClr val="3366ff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00"/>
                </a:solidFill>
                <a:uFillTx/>
                <a:latin typeface="Arial"/>
                <a:hlinkClick r:id="rId6" action="ppaction://hlinksldjump"/>
              </a:rPr>
              <a:t>2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7236000" y="2565360"/>
            <a:ext cx="1581120" cy="105264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50000">
                <a:srgbClr val="000066"/>
              </a:gs>
              <a:gs pos="100000">
                <a:srgbClr val="3366ff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2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95280" y="3716280"/>
            <a:ext cx="1581120" cy="105264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50000">
                <a:srgbClr val="000066"/>
              </a:gs>
              <a:gs pos="100000">
                <a:srgbClr val="3366ff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00"/>
                </a:solidFill>
                <a:uFillTx/>
                <a:latin typeface="Arial"/>
                <a:hlinkClick r:id="rId7" action="ppaction://hlinksldjump"/>
              </a:rPr>
              <a:t>3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195640" y="3716280"/>
            <a:ext cx="1581120" cy="105264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50000">
                <a:srgbClr val="000066"/>
              </a:gs>
              <a:gs pos="100000">
                <a:srgbClr val="3366ff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00"/>
                </a:solidFill>
                <a:uFillTx/>
                <a:latin typeface="Arial"/>
                <a:hlinkClick r:id="rId8" action="ppaction://hlinksldjump"/>
              </a:rPr>
              <a:t>3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924360" y="3716280"/>
            <a:ext cx="1581120" cy="105264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50000">
                <a:srgbClr val="000066"/>
              </a:gs>
              <a:gs pos="100000">
                <a:srgbClr val="3366ff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00"/>
                </a:solidFill>
                <a:uFillTx/>
                <a:latin typeface="Arial"/>
                <a:hlinkClick r:id="rId9" action="ppaction://hlinksldjump"/>
              </a:rPr>
              <a:t>3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7236000" y="3716280"/>
            <a:ext cx="1581120" cy="105264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50000">
                <a:srgbClr val="000066"/>
              </a:gs>
              <a:gs pos="100000">
                <a:srgbClr val="3366ff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3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95280" y="4869000"/>
            <a:ext cx="1581120" cy="105228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50000">
                <a:srgbClr val="000066"/>
              </a:gs>
              <a:gs pos="100000">
                <a:srgbClr val="3366ff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00"/>
                </a:solidFill>
                <a:uFillTx/>
                <a:latin typeface="Arial"/>
                <a:hlinkClick r:id="rId10" action="ppaction://hlinksldjump"/>
              </a:rPr>
              <a:t>4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95640" y="4869000"/>
            <a:ext cx="1581120" cy="105228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50000">
                <a:srgbClr val="000066"/>
              </a:gs>
              <a:gs pos="100000">
                <a:srgbClr val="3366ff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00"/>
                </a:solidFill>
                <a:uFillTx/>
                <a:latin typeface="Arial"/>
                <a:hlinkClick r:id="rId11" action="ppaction://hlinksldjump"/>
              </a:rPr>
              <a:t>4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4869000"/>
            <a:ext cx="1581120" cy="105228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50000">
                <a:srgbClr val="000066"/>
              </a:gs>
              <a:gs pos="100000">
                <a:srgbClr val="3366ff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00"/>
                </a:solidFill>
                <a:uFillTx/>
                <a:latin typeface="Arial"/>
                <a:hlinkClick r:id="rId12" action="ppaction://hlinksldjump"/>
              </a:rPr>
              <a:t>4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7236000" y="4869000"/>
            <a:ext cx="1581120" cy="105228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50000">
                <a:srgbClr val="000066"/>
              </a:gs>
              <a:gs pos="100000">
                <a:srgbClr val="3366ff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4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>
            <a:hlinkClick r:id="" action="ppaction://hlinkshowjump?jump=nextslide"/>
          </p:cNvPr>
          <p:cNvSpPr/>
          <p:nvPr/>
        </p:nvSpPr>
        <p:spPr>
          <a:xfrm>
            <a:off x="5508720" y="549360"/>
            <a:ext cx="1616040" cy="74772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50000">
                <a:srgbClr val="000066"/>
              </a:gs>
              <a:gs pos="100000">
                <a:srgbClr val="3366ff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Числа</a:t>
            </a: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и цифры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>
            <a:hlinkClick r:id="" action="ppaction://hlinkshowjump?jump=nextslide"/>
          </p:cNvPr>
          <p:cNvSpPr/>
          <p:nvPr/>
        </p:nvSpPr>
        <p:spPr>
          <a:xfrm>
            <a:off x="3851280" y="549360"/>
            <a:ext cx="1581120" cy="73188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50000">
                <a:srgbClr val="000066"/>
              </a:gs>
              <a:gs pos="100000">
                <a:srgbClr val="3366ff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Загадки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508720" y="1413000"/>
            <a:ext cx="1581120" cy="105228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50000">
                <a:srgbClr val="000066"/>
              </a:gs>
              <a:gs pos="100000">
                <a:srgbClr val="3366ff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00"/>
                </a:solidFill>
                <a:uFillTx/>
                <a:latin typeface="Arial"/>
                <a:hlinkClick r:id="rId13" action="ppaction://hlinksldjump"/>
              </a:rPr>
              <a:t>1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508720" y="2565360"/>
            <a:ext cx="1581120" cy="105264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50000">
                <a:srgbClr val="000066"/>
              </a:gs>
              <a:gs pos="100000">
                <a:srgbClr val="3366ff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00"/>
                </a:solidFill>
                <a:uFillTx/>
                <a:latin typeface="Arial"/>
                <a:hlinkClick r:id="rId14" action="ppaction://hlinksldjump"/>
              </a:rPr>
              <a:t>2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580000" y="3716280"/>
            <a:ext cx="1581120" cy="105264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50000">
                <a:srgbClr val="000066"/>
              </a:gs>
              <a:gs pos="100000">
                <a:srgbClr val="3366ff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3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580000" y="4869000"/>
            <a:ext cx="1581120" cy="105228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50000">
                <a:srgbClr val="000066"/>
              </a:gs>
              <a:gs pos="100000">
                <a:srgbClr val="3366ff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4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000"/>
                            </p:stCondLst>
                            <p:childTnLst>
                              <p:par>
                                <p:cTn id="4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500"/>
                            </p:stCondLst>
                            <p:childTnLst>
                              <p:par>
                                <p:cTn id="5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2000"/>
                            </p:stCondLst>
                            <p:childTnLst>
                              <p:par>
                                <p:cTn id="5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2500"/>
                            </p:stCondLst>
                            <p:childTnLst>
                              <p:par>
                                <p:cTn id="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3000"/>
                            </p:stCondLst>
                            <p:childTnLst>
                              <p:par>
                                <p:cTn id="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3500"/>
                            </p:stCondLst>
                            <p:childTnLst>
                              <p:par>
                                <p:cTn id="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4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4500"/>
                            </p:stCondLst>
                            <p:childTnLst>
                              <p:par>
                                <p:cTn id="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0"/>
                            </p:stCondLst>
                            <p:childTnLst>
                              <p:par>
                                <p:cTn id="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500"/>
                            </p:stCondLst>
                            <p:childTnLst>
                              <p:par>
                                <p:cTn id="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6000"/>
                            </p:stCondLst>
                            <p:childTnLst>
                              <p:par>
                                <p:cTn id="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6500"/>
                            </p:stCondLst>
                            <p:childTnLst>
                              <p:par>
                                <p:cTn id="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7000"/>
                            </p:stCondLst>
                            <p:childTnLst>
                              <p:par>
                                <p:cTn id="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7500"/>
                            </p:stCondLst>
                            <p:childTnLst>
                              <p:par>
                                <p:cTn id="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8000"/>
                            </p:stCondLst>
                            <p:childTnLst>
                              <p:par>
                                <p:cTn id="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8500"/>
                            </p:stCondLst>
                            <p:childTnLst>
                              <p:par>
                                <p:cTn id="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9000"/>
                            </p:stCondLst>
                            <p:childTnLst>
                              <p:par>
                                <p:cTn id="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9500"/>
                            </p:stCondLst>
                            <p:childTnLst>
                              <p:par>
                                <p:cTn id="1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0000"/>
                            </p:stCondLst>
                            <p:childTnLst>
                              <p:par>
                                <p:cTn id="1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10500"/>
                            </p:stCondLst>
                            <p:childTnLst>
                              <p:par>
                                <p:cTn id="1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1000"/>
                            </p:stCondLst>
                            <p:childTnLst>
                              <p:par>
                                <p:cTn id="1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1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6f89f7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09120" y="404640"/>
            <a:ext cx="8534520" cy="18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Tahoma"/>
              </a:rPr>
              <a:t>60 листов книги имеют толщину </a:t>
            </a:r>
            <a:br>
              <a:rPr sz="3600"/>
            </a:br>
            <a:r>
              <a:rPr b="1" lang="en-US" sz="3600" spc="-1" strike="noStrike">
                <a:solidFill>
                  <a:srgbClr val="660066"/>
                </a:solidFill>
                <a:latin typeface="Tahoma"/>
              </a:rPr>
              <a:t>1 см. Какова толщина всех листов книги, если в ней 240 страниц?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97" name=""/>
          <p:cNvSpPr/>
          <p:nvPr/>
        </p:nvSpPr>
        <p:spPr>
          <a:xfrm>
            <a:off x="1581480" y="2349360"/>
            <a:ext cx="57538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ahoma"/>
              </a:rPr>
              <a:t>Категория</a:t>
            </a:r>
            <a:r>
              <a:rPr b="1" lang="en-US" sz="48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ahoma"/>
              </a:rPr>
              <a:t>«Задачи-шутки»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ahoma"/>
              </a:rPr>
              <a:t>за 200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340000" y="5084640"/>
            <a:ext cx="432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b0601"/>
                </a:solidFill>
                <a:latin typeface="Tahoma"/>
              </a:rPr>
              <a:t> </a:t>
            </a:r>
            <a:r>
              <a:rPr b="1" lang="en-US" sz="5400" spc="-1" strike="noStrike">
                <a:solidFill>
                  <a:srgbClr val="0000ff"/>
                </a:solidFill>
                <a:latin typeface="Tahoma"/>
              </a:rPr>
              <a:t>2 см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7812000" y="5734080"/>
            <a:ext cx="935280" cy="834840"/>
          </a:xfrm>
          <a:custGeom>
            <a:avLst/>
            <a:gdLst>
              <a:gd name="textAreaLeft" fmla="*/ 54000 w 935280"/>
              <a:gd name="textAreaRight" fmla="*/ 881280 w 935280"/>
              <a:gd name="textAreaTop" fmla="*/ 54000 h 834840"/>
              <a:gd name="textAreaBottom" fmla="*/ 780840 h 834840"/>
            </a:gdLst>
            <a:ahLst/>
            <a:rect l="textAreaLeft" t="textAreaTop" r="textAreaRight" b="textAreaBottom"/>
            <a:pathLst>
              <a:path w="24198" h="21600">
                <a:moveTo>
                  <a:pt x="0" y="0"/>
                </a:moveTo>
                <a:lnTo>
                  <a:pt x="24198" y="0"/>
                </a:lnTo>
                <a:lnTo>
                  <a:pt x="24198" y="21600"/>
                </a:lnTo>
                <a:lnTo>
                  <a:pt x="0" y="21600"/>
                </a:lnTo>
                <a:close/>
              </a:path>
              <a:path fill="lightenLess" w="24198" h="21600">
                <a:moveTo>
                  <a:pt x="0" y="0"/>
                </a:moveTo>
                <a:lnTo>
                  <a:pt x="24198" y="0"/>
                </a:lnTo>
                <a:lnTo>
                  <a:pt x="22798" y="1400"/>
                </a:lnTo>
                <a:lnTo>
                  <a:pt x="1400" y="1400"/>
                </a:lnTo>
                <a:close/>
              </a:path>
              <a:path fill="darken" w="24198" h="21600">
                <a:moveTo>
                  <a:pt x="24198" y="0"/>
                </a:moveTo>
                <a:lnTo>
                  <a:pt x="24198" y="21600"/>
                </a:lnTo>
                <a:lnTo>
                  <a:pt x="22798" y="20200"/>
                </a:lnTo>
                <a:lnTo>
                  <a:pt x="22798" y="1400"/>
                </a:lnTo>
                <a:close/>
              </a:path>
              <a:path fill="darkenLess" w="24198" h="21600">
                <a:moveTo>
                  <a:pt x="241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98" y="20200"/>
                </a:lnTo>
                <a:close/>
              </a:path>
              <a:path fill="lighten" w="241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98" h="21600">
                <a:moveTo>
                  <a:pt x="5092" y="10800"/>
                </a:moveTo>
                <a:lnTo>
                  <a:pt x="19105" y="3794"/>
                </a:lnTo>
                <a:lnTo>
                  <a:pt x="19105" y="1780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3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3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6f89f7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11280" y="691920"/>
            <a:ext cx="853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Tahoma"/>
              </a:rPr>
              <a:t>К 7 прибавить 5. Как правильно записать: «</a:t>
            </a:r>
            <a:r>
              <a:rPr b="1" lang="ru-RU" sz="3200" spc="-1" strike="noStrike">
                <a:solidFill>
                  <a:srgbClr val="0000ff"/>
                </a:solidFill>
                <a:latin typeface="Tahoma"/>
              </a:rPr>
              <a:t>одиннадцать</a:t>
            </a:r>
            <a:r>
              <a:rPr b="1" lang="ru-RU" sz="3200" spc="-1" strike="noStrike">
                <a:solidFill>
                  <a:srgbClr val="660066"/>
                </a:solidFill>
                <a:latin typeface="Tahoma"/>
              </a:rPr>
              <a:t>» или «</a:t>
            </a:r>
            <a:r>
              <a:rPr b="1" lang="ru-RU" sz="3200" spc="-1" strike="noStrike">
                <a:solidFill>
                  <a:srgbClr val="0000ff"/>
                </a:solidFill>
                <a:latin typeface="Tahoma"/>
              </a:rPr>
              <a:t>адиннадцать</a:t>
            </a:r>
            <a:r>
              <a:rPr b="1" lang="ru-RU" sz="3200" spc="-1" strike="noStrike">
                <a:solidFill>
                  <a:srgbClr val="660066"/>
                </a:solidFill>
                <a:latin typeface="Tahoma"/>
              </a:rPr>
              <a:t>»?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01" name=""/>
          <p:cNvSpPr/>
          <p:nvPr/>
        </p:nvSpPr>
        <p:spPr>
          <a:xfrm>
            <a:off x="1509840" y="2349360"/>
            <a:ext cx="57538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ahoma"/>
              </a:rPr>
              <a:t>Категория</a:t>
            </a:r>
            <a:r>
              <a:rPr b="1" lang="en-US" sz="48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ahoma"/>
              </a:rPr>
              <a:t>«Задачи-шутки»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ahoma"/>
              </a:rPr>
              <a:t>за 300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195640" y="4941720"/>
            <a:ext cx="460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ahoma"/>
              </a:rPr>
              <a:t>Двенадцать</a:t>
            </a:r>
            <a:r>
              <a:rPr b="0" lang="en-US" sz="48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7812000" y="5734080"/>
            <a:ext cx="935280" cy="834840"/>
          </a:xfrm>
          <a:custGeom>
            <a:avLst/>
            <a:gdLst>
              <a:gd name="textAreaLeft" fmla="*/ 54000 w 935280"/>
              <a:gd name="textAreaRight" fmla="*/ 881280 w 935280"/>
              <a:gd name="textAreaTop" fmla="*/ 54000 h 834840"/>
              <a:gd name="textAreaBottom" fmla="*/ 780840 h 834840"/>
            </a:gdLst>
            <a:ahLst/>
            <a:rect l="textAreaLeft" t="textAreaTop" r="textAreaRight" b="textAreaBottom"/>
            <a:pathLst>
              <a:path w="24198" h="21600">
                <a:moveTo>
                  <a:pt x="0" y="0"/>
                </a:moveTo>
                <a:lnTo>
                  <a:pt x="24198" y="0"/>
                </a:lnTo>
                <a:lnTo>
                  <a:pt x="24198" y="21600"/>
                </a:lnTo>
                <a:lnTo>
                  <a:pt x="0" y="21600"/>
                </a:lnTo>
                <a:close/>
              </a:path>
              <a:path fill="lightenLess" w="24198" h="21600">
                <a:moveTo>
                  <a:pt x="0" y="0"/>
                </a:moveTo>
                <a:lnTo>
                  <a:pt x="24198" y="0"/>
                </a:lnTo>
                <a:lnTo>
                  <a:pt x="22798" y="1400"/>
                </a:lnTo>
                <a:lnTo>
                  <a:pt x="1400" y="1400"/>
                </a:lnTo>
                <a:close/>
              </a:path>
              <a:path fill="darken" w="24198" h="21600">
                <a:moveTo>
                  <a:pt x="24198" y="0"/>
                </a:moveTo>
                <a:lnTo>
                  <a:pt x="24198" y="21600"/>
                </a:lnTo>
                <a:lnTo>
                  <a:pt x="22798" y="20200"/>
                </a:lnTo>
                <a:lnTo>
                  <a:pt x="22798" y="1400"/>
                </a:lnTo>
                <a:close/>
              </a:path>
              <a:path fill="darkenLess" w="24198" h="21600">
                <a:moveTo>
                  <a:pt x="241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98" y="20200"/>
                </a:lnTo>
                <a:close/>
              </a:path>
              <a:path fill="lighten" w="241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98" h="21600">
                <a:moveTo>
                  <a:pt x="5092" y="10800"/>
                </a:moveTo>
                <a:lnTo>
                  <a:pt x="19105" y="3794"/>
                </a:lnTo>
                <a:lnTo>
                  <a:pt x="19105" y="1780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3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3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6f89f7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324000" y="1341360"/>
            <a:ext cx="8534160" cy="17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Tahoma"/>
              </a:rPr>
              <a:t>Кто окажется тяжелее первый людоед, который весил 48 кг и съел на ужин второго, или второй, который весил 52 кг и съел на ужин первого?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05" name=""/>
          <p:cNvSpPr/>
          <p:nvPr/>
        </p:nvSpPr>
        <p:spPr>
          <a:xfrm>
            <a:off x="1458720" y="3213000"/>
            <a:ext cx="57157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ahoma"/>
              </a:rPr>
              <a:t>Категория</a:t>
            </a:r>
            <a:r>
              <a:rPr b="1" lang="en-US" sz="48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ahoma"/>
              </a:rPr>
              <a:t>«Задачи шутки»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ahoma"/>
              </a:rPr>
              <a:t>за 400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2124000" y="5734080"/>
            <a:ext cx="432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ahoma"/>
              </a:rPr>
              <a:t>Одинаково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7812000" y="5734080"/>
            <a:ext cx="935280" cy="834840"/>
          </a:xfrm>
          <a:custGeom>
            <a:avLst/>
            <a:gdLst>
              <a:gd name="textAreaLeft" fmla="*/ 54000 w 935280"/>
              <a:gd name="textAreaRight" fmla="*/ 881280 w 935280"/>
              <a:gd name="textAreaTop" fmla="*/ 54000 h 834840"/>
              <a:gd name="textAreaBottom" fmla="*/ 780840 h 834840"/>
            </a:gdLst>
            <a:ahLst/>
            <a:rect l="textAreaLeft" t="textAreaTop" r="textAreaRight" b="textAreaBottom"/>
            <a:pathLst>
              <a:path w="24198" h="21600">
                <a:moveTo>
                  <a:pt x="0" y="0"/>
                </a:moveTo>
                <a:lnTo>
                  <a:pt x="24198" y="0"/>
                </a:lnTo>
                <a:lnTo>
                  <a:pt x="24198" y="21600"/>
                </a:lnTo>
                <a:lnTo>
                  <a:pt x="0" y="21600"/>
                </a:lnTo>
                <a:close/>
              </a:path>
              <a:path fill="lightenLess" w="24198" h="21600">
                <a:moveTo>
                  <a:pt x="0" y="0"/>
                </a:moveTo>
                <a:lnTo>
                  <a:pt x="24198" y="0"/>
                </a:lnTo>
                <a:lnTo>
                  <a:pt x="22798" y="1400"/>
                </a:lnTo>
                <a:lnTo>
                  <a:pt x="1400" y="1400"/>
                </a:lnTo>
                <a:close/>
              </a:path>
              <a:path fill="darken" w="24198" h="21600">
                <a:moveTo>
                  <a:pt x="24198" y="0"/>
                </a:moveTo>
                <a:lnTo>
                  <a:pt x="24198" y="21600"/>
                </a:lnTo>
                <a:lnTo>
                  <a:pt x="22798" y="20200"/>
                </a:lnTo>
                <a:lnTo>
                  <a:pt x="22798" y="1400"/>
                </a:lnTo>
                <a:close/>
              </a:path>
              <a:path fill="darkenLess" w="24198" h="21600">
                <a:moveTo>
                  <a:pt x="241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98" y="20200"/>
                </a:lnTo>
                <a:close/>
              </a:path>
              <a:path fill="lighten" w="241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98" h="21600">
                <a:moveTo>
                  <a:pt x="5092" y="10800"/>
                </a:moveTo>
                <a:lnTo>
                  <a:pt x="19105" y="3794"/>
                </a:lnTo>
                <a:lnTo>
                  <a:pt x="19105" y="1780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3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3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6f89f7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599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Tahoma"/>
              </a:rPr>
              <a:t>Отгадайте ребус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"/>
          <p:cNvSpPr/>
          <p:nvPr/>
        </p:nvSpPr>
        <p:spPr>
          <a:xfrm>
            <a:off x="7812000" y="5734080"/>
            <a:ext cx="935280" cy="834840"/>
          </a:xfrm>
          <a:custGeom>
            <a:avLst/>
            <a:gdLst>
              <a:gd name="textAreaLeft" fmla="*/ 54000 w 935280"/>
              <a:gd name="textAreaRight" fmla="*/ 881280 w 935280"/>
              <a:gd name="textAreaTop" fmla="*/ 54000 h 834840"/>
              <a:gd name="textAreaBottom" fmla="*/ 780840 h 834840"/>
            </a:gdLst>
            <a:ahLst/>
            <a:rect l="textAreaLeft" t="textAreaTop" r="textAreaRight" b="textAreaBottom"/>
            <a:pathLst>
              <a:path w="24198" h="21600">
                <a:moveTo>
                  <a:pt x="0" y="0"/>
                </a:moveTo>
                <a:lnTo>
                  <a:pt x="24198" y="0"/>
                </a:lnTo>
                <a:lnTo>
                  <a:pt x="24198" y="21600"/>
                </a:lnTo>
                <a:lnTo>
                  <a:pt x="0" y="21600"/>
                </a:lnTo>
                <a:close/>
              </a:path>
              <a:path fill="lightenLess" w="24198" h="21600">
                <a:moveTo>
                  <a:pt x="0" y="0"/>
                </a:moveTo>
                <a:lnTo>
                  <a:pt x="24198" y="0"/>
                </a:lnTo>
                <a:lnTo>
                  <a:pt x="22798" y="1400"/>
                </a:lnTo>
                <a:lnTo>
                  <a:pt x="1400" y="1400"/>
                </a:lnTo>
                <a:close/>
              </a:path>
              <a:path fill="darken" w="24198" h="21600">
                <a:moveTo>
                  <a:pt x="24198" y="0"/>
                </a:moveTo>
                <a:lnTo>
                  <a:pt x="24198" y="21600"/>
                </a:lnTo>
                <a:lnTo>
                  <a:pt x="22798" y="20200"/>
                </a:lnTo>
                <a:lnTo>
                  <a:pt x="22798" y="1400"/>
                </a:lnTo>
                <a:close/>
              </a:path>
              <a:path fill="darkenLess" w="24198" h="21600">
                <a:moveTo>
                  <a:pt x="241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98" y="20200"/>
                </a:lnTo>
                <a:close/>
              </a:path>
              <a:path fill="lighten" w="241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98" h="21600">
                <a:moveTo>
                  <a:pt x="5092" y="10800"/>
                </a:moveTo>
                <a:lnTo>
                  <a:pt x="19105" y="3794"/>
                </a:lnTo>
                <a:lnTo>
                  <a:pt x="19105" y="1780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26560" y="2492280"/>
            <a:ext cx="36691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ahoma"/>
              </a:rPr>
              <a:t>Категория</a:t>
            </a:r>
            <a:r>
              <a:rPr b="1" lang="en-US" sz="48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ahoma"/>
              </a:rPr>
              <a:t>«Ребусы»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ahoma"/>
              </a:rPr>
              <a:t>за 100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124000" y="5084640"/>
            <a:ext cx="5113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ahoma"/>
              </a:rPr>
              <a:t>Восемь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1"/>
          <a:stretch/>
        </p:blipFill>
        <p:spPr>
          <a:xfrm>
            <a:off x="5796000" y="189000"/>
            <a:ext cx="2521080" cy="252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3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3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6f89f7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599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Tahoma"/>
              </a:rPr>
              <a:t>Отгадайте ребус 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4" name=""/>
          <p:cNvSpPr/>
          <p:nvPr/>
        </p:nvSpPr>
        <p:spPr>
          <a:xfrm>
            <a:off x="2626560" y="2276640"/>
            <a:ext cx="36691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ahoma"/>
              </a:rPr>
              <a:t>Категория</a:t>
            </a:r>
            <a:r>
              <a:rPr b="1" lang="en-US" sz="48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ahoma"/>
              </a:rPr>
              <a:t>«Ребусы»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ahoma"/>
              </a:rPr>
              <a:t>за 200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195640" y="5229360"/>
            <a:ext cx="432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ahoma"/>
              </a:rPr>
              <a:t>Задача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7524720" y="5689440"/>
            <a:ext cx="934920" cy="835200"/>
          </a:xfrm>
          <a:custGeom>
            <a:avLst/>
            <a:gdLst>
              <a:gd name="textAreaLeft" fmla="*/ 54000 w 934920"/>
              <a:gd name="textAreaRight" fmla="*/ 880920 w 934920"/>
              <a:gd name="textAreaTop" fmla="*/ 54000 h 835200"/>
              <a:gd name="textAreaBottom" fmla="*/ 781200 h 835200"/>
            </a:gdLst>
            <a:ahLst/>
            <a:rect l="textAreaLeft" t="textAreaTop" r="textAreaRight" b="textAreaBottom"/>
            <a:pathLst>
              <a:path w="24178" h="21600">
                <a:moveTo>
                  <a:pt x="0" y="0"/>
                </a:moveTo>
                <a:lnTo>
                  <a:pt x="24178" y="0"/>
                </a:lnTo>
                <a:lnTo>
                  <a:pt x="24178" y="21600"/>
                </a:lnTo>
                <a:lnTo>
                  <a:pt x="0" y="21600"/>
                </a:lnTo>
                <a:close/>
              </a:path>
              <a:path fill="lightenLess" w="24178" h="21600">
                <a:moveTo>
                  <a:pt x="0" y="0"/>
                </a:moveTo>
                <a:lnTo>
                  <a:pt x="24178" y="0"/>
                </a:lnTo>
                <a:lnTo>
                  <a:pt x="22778" y="1400"/>
                </a:lnTo>
                <a:lnTo>
                  <a:pt x="1400" y="1400"/>
                </a:lnTo>
                <a:close/>
              </a:path>
              <a:path fill="darken" w="24178" h="21600">
                <a:moveTo>
                  <a:pt x="24178" y="0"/>
                </a:moveTo>
                <a:lnTo>
                  <a:pt x="24178" y="21600"/>
                </a:lnTo>
                <a:lnTo>
                  <a:pt x="22778" y="20200"/>
                </a:lnTo>
                <a:lnTo>
                  <a:pt x="22778" y="1400"/>
                </a:lnTo>
                <a:close/>
              </a:path>
              <a:path fill="darkenLess" w="24178" h="21600">
                <a:moveTo>
                  <a:pt x="241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78" y="20200"/>
                </a:lnTo>
                <a:close/>
              </a:path>
              <a:path fill="lighten" w="241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78" h="21600">
                <a:moveTo>
                  <a:pt x="5082" y="10800"/>
                </a:moveTo>
                <a:lnTo>
                  <a:pt x="19095" y="3794"/>
                </a:lnTo>
                <a:lnTo>
                  <a:pt x="19095" y="1780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27" name="" descr=""/>
          <p:cNvPicPr/>
          <p:nvPr/>
        </p:nvPicPr>
        <p:blipFill>
          <a:blip r:embed="rId1"/>
          <a:stretch/>
        </p:blipFill>
        <p:spPr>
          <a:xfrm>
            <a:off x="5724360" y="260280"/>
            <a:ext cx="2940120" cy="20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3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3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6f89f7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120" y="6919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Tahoma"/>
              </a:rPr>
              <a:t>Отгадайте ребус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2554920" y="2708280"/>
            <a:ext cx="36691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ahoma"/>
              </a:rPr>
              <a:t>Категория</a:t>
            </a:r>
            <a:r>
              <a:rPr b="1" lang="en-US" sz="48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ahoma"/>
              </a:rPr>
              <a:t>«Ребусы»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ahoma"/>
              </a:rPr>
              <a:t>за 300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763640" y="5084640"/>
            <a:ext cx="5329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ahoma"/>
              </a:rPr>
              <a:t>Угол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7524720" y="5618160"/>
            <a:ext cx="934920" cy="835200"/>
          </a:xfrm>
          <a:custGeom>
            <a:avLst/>
            <a:gdLst>
              <a:gd name="textAreaLeft" fmla="*/ 54000 w 934920"/>
              <a:gd name="textAreaRight" fmla="*/ 880920 w 934920"/>
              <a:gd name="textAreaTop" fmla="*/ 54000 h 835200"/>
              <a:gd name="textAreaBottom" fmla="*/ 781200 h 835200"/>
            </a:gdLst>
            <a:ahLst/>
            <a:rect l="textAreaLeft" t="textAreaTop" r="textAreaRight" b="textAreaBottom"/>
            <a:pathLst>
              <a:path w="24178" h="21600">
                <a:moveTo>
                  <a:pt x="0" y="0"/>
                </a:moveTo>
                <a:lnTo>
                  <a:pt x="24178" y="0"/>
                </a:lnTo>
                <a:lnTo>
                  <a:pt x="24178" y="21600"/>
                </a:lnTo>
                <a:lnTo>
                  <a:pt x="0" y="21600"/>
                </a:lnTo>
                <a:close/>
              </a:path>
              <a:path fill="lightenLess" w="24178" h="21600">
                <a:moveTo>
                  <a:pt x="0" y="0"/>
                </a:moveTo>
                <a:lnTo>
                  <a:pt x="24178" y="0"/>
                </a:lnTo>
                <a:lnTo>
                  <a:pt x="22778" y="1400"/>
                </a:lnTo>
                <a:lnTo>
                  <a:pt x="1400" y="1400"/>
                </a:lnTo>
                <a:close/>
              </a:path>
              <a:path fill="darken" w="24178" h="21600">
                <a:moveTo>
                  <a:pt x="24178" y="0"/>
                </a:moveTo>
                <a:lnTo>
                  <a:pt x="24178" y="21600"/>
                </a:lnTo>
                <a:lnTo>
                  <a:pt x="22778" y="20200"/>
                </a:lnTo>
                <a:lnTo>
                  <a:pt x="22778" y="1400"/>
                </a:lnTo>
                <a:close/>
              </a:path>
              <a:path fill="darkenLess" w="24178" h="21600">
                <a:moveTo>
                  <a:pt x="241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78" y="20200"/>
                </a:lnTo>
                <a:close/>
              </a:path>
              <a:path fill="lighten" w="241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78" h="21600">
                <a:moveTo>
                  <a:pt x="5082" y="10800"/>
                </a:moveTo>
                <a:lnTo>
                  <a:pt x="19095" y="3794"/>
                </a:lnTo>
                <a:lnTo>
                  <a:pt x="19095" y="1780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5508720" y="333360"/>
            <a:ext cx="3276360" cy="23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3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3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6f89f7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09120" y="2599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Tahoma"/>
              </a:rPr>
              <a:t>Отгадайте ребус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4" name=""/>
          <p:cNvSpPr/>
          <p:nvPr/>
        </p:nvSpPr>
        <p:spPr>
          <a:xfrm>
            <a:off x="2699280" y="2492280"/>
            <a:ext cx="36691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ahoma"/>
              </a:rPr>
              <a:t>Категория</a:t>
            </a:r>
            <a:r>
              <a:rPr b="1" lang="en-US" sz="48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ahoma"/>
              </a:rPr>
              <a:t>«Ребусы»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ahoma"/>
              </a:rPr>
              <a:t>за 400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771640" y="5013360"/>
            <a:ext cx="3745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ahoma"/>
              </a:rPr>
              <a:t>Квадрат</a:t>
            </a: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7524720" y="5589720"/>
            <a:ext cx="934920" cy="834840"/>
          </a:xfrm>
          <a:custGeom>
            <a:avLst/>
            <a:gdLst>
              <a:gd name="textAreaLeft" fmla="*/ 54000 w 934920"/>
              <a:gd name="textAreaRight" fmla="*/ 880920 w 934920"/>
              <a:gd name="textAreaTop" fmla="*/ 54000 h 834840"/>
              <a:gd name="textAreaBottom" fmla="*/ 780840 h 834840"/>
            </a:gdLst>
            <a:ahLst/>
            <a:rect l="textAreaLeft" t="textAreaTop" r="textAreaRight" b="textAreaBottom"/>
            <a:pathLst>
              <a:path w="24188" h="21600">
                <a:moveTo>
                  <a:pt x="0" y="0"/>
                </a:moveTo>
                <a:lnTo>
                  <a:pt x="24188" y="0"/>
                </a:lnTo>
                <a:lnTo>
                  <a:pt x="24188" y="21600"/>
                </a:lnTo>
                <a:lnTo>
                  <a:pt x="0" y="21600"/>
                </a:lnTo>
                <a:close/>
              </a:path>
              <a:path fill="lightenLess" w="24188" h="21600">
                <a:moveTo>
                  <a:pt x="0" y="0"/>
                </a:moveTo>
                <a:lnTo>
                  <a:pt x="24188" y="0"/>
                </a:lnTo>
                <a:lnTo>
                  <a:pt x="22788" y="1400"/>
                </a:lnTo>
                <a:lnTo>
                  <a:pt x="1400" y="1400"/>
                </a:lnTo>
                <a:close/>
              </a:path>
              <a:path fill="darken" w="24188" h="21600">
                <a:moveTo>
                  <a:pt x="24188" y="0"/>
                </a:moveTo>
                <a:lnTo>
                  <a:pt x="24188" y="21600"/>
                </a:lnTo>
                <a:lnTo>
                  <a:pt x="22788" y="20200"/>
                </a:lnTo>
                <a:lnTo>
                  <a:pt x="22788" y="1400"/>
                </a:lnTo>
                <a:close/>
              </a:path>
              <a:path fill="darkenLess" w="24188" h="21600">
                <a:moveTo>
                  <a:pt x="241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88" y="20200"/>
                </a:lnTo>
                <a:close/>
              </a:path>
              <a:path fill="lighten" w="241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88" h="21600">
                <a:moveTo>
                  <a:pt x="5088" y="10800"/>
                </a:moveTo>
                <a:lnTo>
                  <a:pt x="19101" y="3794"/>
                </a:lnTo>
                <a:lnTo>
                  <a:pt x="19101" y="1780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4716360" y="260280"/>
            <a:ext cx="4138560" cy="201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6f89f7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599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Tahoma"/>
              </a:rPr>
              <a:t>Вам крупно повезло!!!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"/>
          <p:cNvSpPr/>
          <p:nvPr/>
        </p:nvSpPr>
        <p:spPr>
          <a:xfrm>
            <a:off x="452520" y="1773360"/>
            <a:ext cx="80200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ahoma"/>
              </a:rPr>
              <a:t>Категория</a:t>
            </a:r>
            <a:r>
              <a:rPr b="1" lang="en-US" sz="48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ahoma"/>
              </a:rPr>
              <a:t>«История математики»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ahoma"/>
              </a:rPr>
              <a:t>за 100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50920" y="4581360"/>
            <a:ext cx="8642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ahoma"/>
              </a:rPr>
              <a:t>Вы получаете 100 баллов!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7524720" y="5618160"/>
            <a:ext cx="934920" cy="835200"/>
          </a:xfrm>
          <a:custGeom>
            <a:avLst/>
            <a:gdLst>
              <a:gd name="textAreaLeft" fmla="*/ 54000 w 934920"/>
              <a:gd name="textAreaRight" fmla="*/ 880920 w 934920"/>
              <a:gd name="textAreaTop" fmla="*/ 54000 h 835200"/>
              <a:gd name="textAreaBottom" fmla="*/ 781200 h 835200"/>
            </a:gdLst>
            <a:ahLst/>
            <a:rect l="textAreaLeft" t="textAreaTop" r="textAreaRight" b="textAreaBottom"/>
            <a:pathLst>
              <a:path w="24178" h="21600">
                <a:moveTo>
                  <a:pt x="0" y="0"/>
                </a:moveTo>
                <a:lnTo>
                  <a:pt x="24178" y="0"/>
                </a:lnTo>
                <a:lnTo>
                  <a:pt x="24178" y="21600"/>
                </a:lnTo>
                <a:lnTo>
                  <a:pt x="0" y="21600"/>
                </a:lnTo>
                <a:close/>
              </a:path>
              <a:path fill="lightenLess" w="24178" h="21600">
                <a:moveTo>
                  <a:pt x="0" y="0"/>
                </a:moveTo>
                <a:lnTo>
                  <a:pt x="24178" y="0"/>
                </a:lnTo>
                <a:lnTo>
                  <a:pt x="22778" y="1400"/>
                </a:lnTo>
                <a:lnTo>
                  <a:pt x="1400" y="1400"/>
                </a:lnTo>
                <a:close/>
              </a:path>
              <a:path fill="darken" w="24178" h="21600">
                <a:moveTo>
                  <a:pt x="24178" y="0"/>
                </a:moveTo>
                <a:lnTo>
                  <a:pt x="24178" y="21600"/>
                </a:lnTo>
                <a:lnTo>
                  <a:pt x="22778" y="20200"/>
                </a:lnTo>
                <a:lnTo>
                  <a:pt x="22778" y="1400"/>
                </a:lnTo>
                <a:close/>
              </a:path>
              <a:path fill="darkenLess" w="24178" h="21600">
                <a:moveTo>
                  <a:pt x="241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78" y="20200"/>
                </a:lnTo>
                <a:close/>
              </a:path>
              <a:path fill="lighten" w="241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78" h="21600">
                <a:moveTo>
                  <a:pt x="5082" y="10800"/>
                </a:moveTo>
                <a:lnTo>
                  <a:pt x="19095" y="3794"/>
                </a:lnTo>
                <a:lnTo>
                  <a:pt x="19095" y="1780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3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3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6f89f7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324000" y="304920"/>
            <a:ext cx="84960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Tahoma"/>
              </a:rPr>
              <a:t>Какая мера массы применялась на Руси для взвешивания мелких, но дорогих товаров?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"/>
          <p:cNvSpPr/>
          <p:nvPr/>
        </p:nvSpPr>
        <p:spPr>
          <a:xfrm>
            <a:off x="528840" y="2276640"/>
            <a:ext cx="80200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ahoma"/>
              </a:rPr>
              <a:t>Категория</a:t>
            </a:r>
            <a:r>
              <a:rPr b="1" lang="en-US" sz="48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ahoma"/>
              </a:rPr>
              <a:t>«История математики»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ahoma"/>
              </a:rPr>
              <a:t>за 200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2484360" y="5300640"/>
            <a:ext cx="432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ahoma"/>
              </a:rPr>
              <a:t>Золотник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7524720" y="5589720"/>
            <a:ext cx="934920" cy="834840"/>
          </a:xfrm>
          <a:custGeom>
            <a:avLst/>
            <a:gdLst>
              <a:gd name="textAreaLeft" fmla="*/ 54000 w 934920"/>
              <a:gd name="textAreaRight" fmla="*/ 880920 w 934920"/>
              <a:gd name="textAreaTop" fmla="*/ 54000 h 834840"/>
              <a:gd name="textAreaBottom" fmla="*/ 780840 h 834840"/>
            </a:gdLst>
            <a:ahLst/>
            <a:rect l="textAreaLeft" t="textAreaTop" r="textAreaRight" b="textAreaBottom"/>
            <a:pathLst>
              <a:path w="24188" h="21600">
                <a:moveTo>
                  <a:pt x="0" y="0"/>
                </a:moveTo>
                <a:lnTo>
                  <a:pt x="24188" y="0"/>
                </a:lnTo>
                <a:lnTo>
                  <a:pt x="24188" y="21600"/>
                </a:lnTo>
                <a:lnTo>
                  <a:pt x="0" y="21600"/>
                </a:lnTo>
                <a:close/>
              </a:path>
              <a:path fill="lightenLess" w="24188" h="21600">
                <a:moveTo>
                  <a:pt x="0" y="0"/>
                </a:moveTo>
                <a:lnTo>
                  <a:pt x="24188" y="0"/>
                </a:lnTo>
                <a:lnTo>
                  <a:pt x="22788" y="1400"/>
                </a:lnTo>
                <a:lnTo>
                  <a:pt x="1400" y="1400"/>
                </a:lnTo>
                <a:close/>
              </a:path>
              <a:path fill="darken" w="24188" h="21600">
                <a:moveTo>
                  <a:pt x="24188" y="0"/>
                </a:moveTo>
                <a:lnTo>
                  <a:pt x="24188" y="21600"/>
                </a:lnTo>
                <a:lnTo>
                  <a:pt x="22788" y="20200"/>
                </a:lnTo>
                <a:lnTo>
                  <a:pt x="22788" y="1400"/>
                </a:lnTo>
                <a:close/>
              </a:path>
              <a:path fill="darkenLess" w="24188" h="21600">
                <a:moveTo>
                  <a:pt x="241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88" y="20200"/>
                </a:lnTo>
                <a:close/>
              </a:path>
              <a:path fill="lighten" w="241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88" h="21600">
                <a:moveTo>
                  <a:pt x="5088" y="10800"/>
                </a:moveTo>
                <a:lnTo>
                  <a:pt x="19101" y="3794"/>
                </a:lnTo>
                <a:lnTo>
                  <a:pt x="19101" y="1780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46" name="" descr=""/>
          <p:cNvPicPr/>
          <p:nvPr/>
        </p:nvPicPr>
        <p:blipFill>
          <a:blip r:embed="rId1"/>
          <a:stretch/>
        </p:blipFill>
        <p:spPr>
          <a:xfrm>
            <a:off x="755640" y="249228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3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3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6f89f7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700000" y="404640"/>
            <a:ext cx="6443640" cy="25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Tahoma"/>
              </a:rPr>
              <a:t>Как называется древнерусская мера длины, которую вы видите на картинке?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8" name=""/>
          <p:cNvSpPr/>
          <p:nvPr/>
        </p:nvSpPr>
        <p:spPr>
          <a:xfrm>
            <a:off x="528840" y="3068640"/>
            <a:ext cx="80200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ahoma"/>
              </a:rPr>
              <a:t>Категория</a:t>
            </a:r>
            <a:r>
              <a:rPr b="1" lang="en-US" sz="48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ahoma"/>
              </a:rPr>
              <a:t>«История математики»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ahoma"/>
              </a:rPr>
              <a:t>за 300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547640" y="5661000"/>
            <a:ext cx="5618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ahoma"/>
              </a:rPr>
              <a:t>Косая сажень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885080" y="5661000"/>
            <a:ext cx="934920" cy="835200"/>
          </a:xfrm>
          <a:custGeom>
            <a:avLst/>
            <a:gdLst>
              <a:gd name="textAreaLeft" fmla="*/ 54000 w 934920"/>
              <a:gd name="textAreaRight" fmla="*/ 880920 w 934920"/>
              <a:gd name="textAreaTop" fmla="*/ 54000 h 835200"/>
              <a:gd name="textAreaBottom" fmla="*/ 781200 h 835200"/>
            </a:gdLst>
            <a:ahLst/>
            <a:rect l="textAreaLeft" t="textAreaTop" r="textAreaRight" b="textAreaBottom"/>
            <a:pathLst>
              <a:path w="24178" h="21600">
                <a:moveTo>
                  <a:pt x="0" y="0"/>
                </a:moveTo>
                <a:lnTo>
                  <a:pt x="24178" y="0"/>
                </a:lnTo>
                <a:lnTo>
                  <a:pt x="24178" y="21600"/>
                </a:lnTo>
                <a:lnTo>
                  <a:pt x="0" y="21600"/>
                </a:lnTo>
                <a:close/>
              </a:path>
              <a:path fill="lightenLess" w="24178" h="21600">
                <a:moveTo>
                  <a:pt x="0" y="0"/>
                </a:moveTo>
                <a:lnTo>
                  <a:pt x="24178" y="0"/>
                </a:lnTo>
                <a:lnTo>
                  <a:pt x="22778" y="1400"/>
                </a:lnTo>
                <a:lnTo>
                  <a:pt x="1400" y="1400"/>
                </a:lnTo>
                <a:close/>
              </a:path>
              <a:path fill="darken" w="24178" h="21600">
                <a:moveTo>
                  <a:pt x="24178" y="0"/>
                </a:moveTo>
                <a:lnTo>
                  <a:pt x="24178" y="21600"/>
                </a:lnTo>
                <a:lnTo>
                  <a:pt x="22778" y="20200"/>
                </a:lnTo>
                <a:lnTo>
                  <a:pt x="22778" y="1400"/>
                </a:lnTo>
                <a:close/>
              </a:path>
              <a:path fill="darkenLess" w="24178" h="21600">
                <a:moveTo>
                  <a:pt x="241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78" y="20200"/>
                </a:lnTo>
                <a:close/>
              </a:path>
              <a:path fill="lighten" w="241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78" h="21600">
                <a:moveTo>
                  <a:pt x="5082" y="10800"/>
                </a:moveTo>
                <a:lnTo>
                  <a:pt x="19095" y="3794"/>
                </a:lnTo>
                <a:lnTo>
                  <a:pt x="19095" y="1780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51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237960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3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3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1T11:30:49Z</dcterms:created>
  <dc:creator>ученик</dc:creator>
  <dc:description/>
  <dc:language>en-US</dc:language>
  <cp:lastModifiedBy>1</cp:lastModifiedBy>
  <dcterms:modified xsi:type="dcterms:W3CDTF">2011-12-20T17:28:24Z</dcterms:modified>
  <cp:revision>36</cp:revision>
  <dc:subject/>
  <dc:title>Презентация PowerPoint</dc:title>
</cp:coreProperties>
</file>