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whoosh.wav" ContentType="audio/x-wav"/>
  <Override PartName="/ppt/media/image7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12.jpeg" ContentType="image/jpeg"/>
  <Override PartName="/ppt/media/image11.jpeg" ContentType="image/jpeg"/>
  <Override PartName="/ppt/media/image1.jpeg" ContentType="image/jpeg"/>
  <Override PartName="/ppt/media/image4.wmf" ContentType="image/x-wmf"/>
  <Override PartName="/ppt/media/jeopardy-wait%20long.wav" ContentType="audio/x-wav"/>
  <Override PartName="/ppt/media/image6.jpeg" ContentType="image/jpeg"/>
  <Override PartName="/ppt/media/image10.png" ContentType="image/png"/>
  <Override PartName="/ppt/media/image3.png" ContentType="image/png"/>
  <Override PartName="/ppt/media/laser.wav" ContentType="audio/x-wav"/>
  <Override PartName="/ppt/media/image5.jpeg" ContentType="image/jpeg"/>
  <Override PartName="/ppt/media/drumroll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028-0643-46A3-BA7C-43C044A0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3DC-3053-44C4-A489-92547AC0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247-78EA-40A9-B454-6197B2C1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F07-4B0E-4453-9A77-A5BE1651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B3FAC-162D-4F72-AE4D-633570B9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7921B-5EBB-4D8C-B799-ECFC8A10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F89E5-D9A8-4DB1-A1A8-4086773E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C7590-BD38-42FD-A753-23121432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9CD74-AB0C-4EB2-B57B-2BEE550A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7908E-0EC9-42C6-952F-9C3F6342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18DC6-00BB-4BF3-AF00-1E7C4C1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2AB-8151-4118-BA0D-2C451BB9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726D7-12A7-41F9-BD4E-B952F3E2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FD564-2805-4010-8E31-62B7FF94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2B0A6-2527-4CBD-A236-255CEDD2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9EC63-4404-459A-8474-F46DAF05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8013E-04B3-46FB-81BC-5D4D797B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440E-D758-4F43-85A9-D2BD8525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A97B-4151-425D-8FCD-43A5137E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20F5-30ED-4899-B7EF-1F7CF451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1E84-3E1E-4EA3-91D6-9D3ABC51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1FF75-4082-4255-8D5A-175C56CF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029-06D5-4E3A-8E03-A34DEB56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DBD95-DE1F-44AE-9695-6749724F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AE13-7B30-4175-A439-BE58AB98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764D-4C7B-4CDC-9563-95BB722D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B7FC-363F-4172-8230-FD1F1C60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FF65-2A52-4E6E-9083-1C13E687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A153-C1FC-4F14-A67A-5B5BE8C7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A5AD-B704-422A-9A11-80A70926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DA0C-590B-4536-9475-9A2DABAA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220A8-9379-44AA-849C-0DFD08BA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8D6D-A4BD-4509-8017-3A96DF58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571-B94D-425F-98F2-8DDC208F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F697-CC4F-4894-B8A8-0FC8B7E6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88F8-FDE9-4930-9B60-6A09A0F0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5C66-6361-47C7-B30F-7CBE2870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D6EA-15BA-40C1-B524-A068CC0D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21A2-E9D8-41BF-A9B9-CE6F2579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8EEF-0711-4A0F-87BF-6040D4A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F244-B3E5-4D34-B241-CA040A3F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C57B-519E-4FFF-87B3-3E1F6D57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3C7F-988D-4494-BF39-FDB60625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2BA-2BF3-4454-8C6B-40673423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9C6-DEF6-4411-BB03-38B61804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25B-50DE-4E02-BD8E-4FD1E8D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C18-4229-4390-BA33-E11D9273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272-D885-4BD2-AE6D-E3125E3A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2D0B-BDA7-4681-A876-FB736EF8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C536-CB02-4B2E-90DC-39A5B68A2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58AB-6DF3-46E2-9B84-5F904A7BDF7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4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24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0C27-FDB3-47BC-8549-D0C04E3A88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jeopardy-wait%20long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5.xml"/><Relationship Id="rId8" Type="http://schemas.openxmlformats.org/officeDocument/2006/relationships/slide" Target="slide9.xml"/><Relationship Id="rId9" Type="http://schemas.openxmlformats.org/officeDocument/2006/relationships/slide" Target="slide13.xml"/><Relationship Id="rId10" Type="http://schemas.openxmlformats.org/officeDocument/2006/relationships/slide" Target="slide6.xml"/><Relationship Id="rId11" Type="http://schemas.openxmlformats.org/officeDocument/2006/relationships/slide" Target="slide10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564000" y="4365720"/>
            <a:ext cx="52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835280" y="2276640"/>
            <a:ext cx="532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я игр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0"/>
            <a:ext cx="7848720" cy="22885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0458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Математический Турни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Рисунок 4" descr="32.wmf"/>
          <p:cNvPicPr/>
          <p:nvPr/>
        </p:nvPicPr>
        <p:blipFill>
          <a:blip r:embed="rId1"/>
          <a:stretch/>
        </p:blipFill>
        <p:spPr>
          <a:xfrm>
            <a:off x="5148360" y="3735360"/>
            <a:ext cx="37432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-wait%20l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00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43280" y="981000"/>
            <a:ext cx="6300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Русский ученый, математик, поэт и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художник, которому принадлежит знаменитое высказывание о математик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528840" y="2637000"/>
            <a:ext cx="8020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История математи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5445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М. В. Ломонос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1906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У отца 6 сыновей, каждый сын имеет сестру. Сколько детей у этого отца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2444040" y="2708280"/>
            <a:ext cx="373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гад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53737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Семь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Я села в автобус на начальной станции и пересчитала пассажиров. Их было 17. Автобус тронулся, затем остановился. На первой остановке вошло 6 человек, вышло 2 человека. На следующей остановке вошло 10 человек ,никто не вышел. Потом на остановке вошло 4 человека и вышло 7 . А потом на остановке гражданин один вошел, с целой кучею обновок ... Сколько было остановок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444040" y="3141720"/>
            <a:ext cx="373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гад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0000" y="558972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Пять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ак записать «двойку» тремя «пятерками»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593440" y="1773360"/>
            <a:ext cx="373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гад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5640" y="45086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(5+5):5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Чтобы найти пиратский клад надо пройти от старого дуба 12 шагов на север и 5 шагов на юг, затем 4 на север и 11 на юг. Где зарыт клад?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2517120" y="2637000"/>
            <a:ext cx="373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гад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5373720"/>
            <a:ext cx="53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У старого дуб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203880" y="2565360"/>
            <a:ext cx="29401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576800" y="2852640"/>
            <a:ext cx="606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Числа и цифр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68360" y="530064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Штрих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асшифруйте сло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32108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534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асшифруйте слово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432440" y="3213000"/>
            <a:ext cx="606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Числа и цифр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24000" y="537372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Заколка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5356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53452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Сумма и произведение каких трех чисел одинаковы?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429200" y="1773360"/>
            <a:ext cx="606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Числа и цифр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443700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1,2,3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Что больше произведение всех цифр или их сумм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432440" y="1773360"/>
            <a:ext cx="606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Числа и цифр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95640" y="450864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Сумма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534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рышка стола имеет 4 угла.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Один отпилили.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колько углов стало у стола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530000" y="2276640"/>
            <a:ext cx="571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дачи шут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11280" y="486900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ahoma"/>
              </a:rPr>
              <a:t>5 углов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39528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Ребу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212400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Истор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матема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723600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шут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24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5128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3600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9564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5128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3600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564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36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528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9564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6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5508720" y="549360"/>
            <a:ext cx="1616040" cy="747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Числа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и цифр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3851280" y="549360"/>
            <a:ext cx="1581120" cy="731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гадк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08720" y="1413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3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256536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4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80000" y="3716280"/>
            <a:ext cx="1581120" cy="1052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4869000"/>
            <a:ext cx="1581120" cy="10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404640"/>
            <a:ext cx="85345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60 листов книги имеют толщину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1 см. Какова толщина всех листов книги, если в ней 240 страниц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581480" y="2349360"/>
            <a:ext cx="575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дачи-шут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40000" y="5084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ahoma"/>
              </a:rPr>
              <a:t>2 см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 7 прибавить 5. Как правильно записать: «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одиннадцать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» или «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адиннадцать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»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1509840" y="2349360"/>
            <a:ext cx="575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дачи-шут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95640" y="494172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Двенадцать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534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то окажется тяжелее первый людоед, который весил 48 кг и съел на ужин второго, или второй, который весил 52 кг и съел на ужин первого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458720" y="3213000"/>
            <a:ext cx="571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Задачи шут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24000" y="573408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Одинаково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Отгадайте ребус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6560" y="249228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24000" y="508464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Восем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796000" y="18900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Отгадайте ребус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2626560" y="227664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5229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Задача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940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9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Отгадайте ребус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554920" y="270828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63640" y="508464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Уго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3276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Отгадайте ребус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2699280" y="249228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Ребусы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71640" y="50133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Квадрат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1385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ам крупно повезло!!!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52520" y="1773360"/>
            <a:ext cx="8020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История математи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58136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Вы получаете 100 баллов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акая мера массы применялась на Руси для взвешивания мелких, но дорогих товаров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528840" y="2276640"/>
            <a:ext cx="8020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История математи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84360" y="5300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Золотни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f89f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644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ак называется древнерусская мера длины, которую вы видите на картинке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528840" y="3068640"/>
            <a:ext cx="8020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История математики»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47640" y="5661000"/>
            <a:ext cx="56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Косая сажен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79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1</cp:lastModifiedBy>
  <dcterms:modified xsi:type="dcterms:W3CDTF">2011-12-20T17:28:24Z</dcterms:modified>
  <cp:revision>36</cp:revision>
  <dc:subject/>
  <dc:title>Презентация PowerPoint</dc:title>
</cp:coreProperties>
</file>