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1D8-C021-4B7E-BEFD-490F633F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E89-3823-4B51-B9BB-BFAAE040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C3C-A109-4ED1-B7F5-CA13FA80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CC4-6A8E-4E7E-A305-64570C19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F380-5A42-4A3F-9229-E1D5FC81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07B1-F409-4ED0-9750-92A0705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FDDC-7F81-45B3-A024-32D537D6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FDD0-5280-4DEC-9424-BFB589D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16C6-E125-431D-90C0-0C76A91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8FA-E0A8-4998-B139-C78481C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79CB-3B33-4210-9BE3-7940231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430-5AD1-4D47-980D-59AA9E1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A17B-2C5C-470E-A854-69E103F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E666-092F-4400-8FE7-50BDA3B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EE0-FFDB-4783-9767-A491062A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E61-95C8-447A-B515-8DC2AC43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12E7-0FEB-4ED1-ACD2-540D8DB7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BC1-8B74-42AB-A1A5-D695E51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ADC-1820-4BC6-824D-DF1C9EFE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D19-FCCD-4513-8FBA-57B49575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4FD-FCD7-48A6-B34C-39EAEB7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79C-E130-4745-8F68-2EA17D0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BD6-8967-453B-BDDA-09537A0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65F-C778-45DC-8D19-1CE2108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510-E584-4B74-AB66-4F41267C8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721-D6DB-4DFB-80CB-F098300436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ема урока: </a:t>
            </a:r>
            <a:br>
              <a:rPr sz="32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«Обобщение знаний о предложении»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99280" y="2709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частливого пути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2371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1036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544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124000" y="2421000"/>
            <a:ext cx="549288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52563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936880" cy="431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492360" y="5373720"/>
            <a:ext cx="1009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1038240" cy="140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460960" y="814680"/>
            <a:ext cx="837360" cy="6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43280" y="2276640"/>
            <a:ext cx="3460680" cy="45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476360" y="3141720"/>
            <a:ext cx="142884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067280" y="549360"/>
            <a:ext cx="1047600" cy="141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867280" y="981000"/>
            <a:ext cx="106704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156360" y="3284640"/>
            <a:ext cx="1400040" cy="104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5148360" y="5445000"/>
            <a:ext cx="1065240" cy="141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0" y="404640"/>
            <a:ext cx="93672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1125360"/>
            <a:ext cx="93672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997360"/>
            <a:ext cx="93672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3141720"/>
            <a:ext cx="936360" cy="782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Я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86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61360" y="2681640"/>
            <a:ext cx="6242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1390680" cy="1038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263700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428840" cy="58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135252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16360" y="371628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364500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619280" y="4797360"/>
            <a:ext cx="1019160" cy="13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635280" y="4941720"/>
            <a:ext cx="142884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16360" y="537372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522936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16360" y="263700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263700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 птиц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278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1440" y="270828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чай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537372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37372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 звер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4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Жираф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6720" y="544500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ё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149720"/>
            <a:ext cx="714240" cy="779400"/>
          </a:xfrm>
          <a:custGeom>
            <a:avLst/>
            <a:gdLst>
              <a:gd name="textAreaLeft" fmla="*/ 45000 w 714240"/>
              <a:gd name="textAreaRight" fmla="*/ 669240 w 714240"/>
              <a:gd name="textAreaTop" fmla="*/ 45000 h 779400"/>
              <a:gd name="textAreaBottom" fmla="*/ 734400 h 779400"/>
            </a:gdLst>
            <a:ahLst/>
            <a:rect l="textAreaLeft" t="textAreaTop" r="textAreaRight" b="textAreaBottom"/>
            <a:pathLst>
              <a:path w="21600" h="23570">
                <a:moveTo>
                  <a:pt x="4680" y="0"/>
                </a:moveTo>
                <a:arcTo wR="4680" hR="4680" stAng="16200000" swAng="-5400000"/>
                <a:lnTo>
                  <a:pt x="0" y="18890"/>
                </a:lnTo>
                <a:arcTo wR="4680" hR="4680" stAng="10800000" swAng="-5400000"/>
                <a:lnTo>
                  <a:pt x="16920" y="23570"/>
                </a:lnTo>
                <a:arcTo wR="4680" hR="4680" stAng="5400000" swAng="-5400000"/>
                <a:lnTo>
                  <a:pt x="21600" y="4680"/>
                </a:lnTo>
                <a:arcTo wR="4680" hR="46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149720"/>
            <a:ext cx="3095640" cy="779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это рыб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5840" y="4221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Ёр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000" y="4221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щу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115280" y="5787000"/>
            <a:ext cx="6192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Сороки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Снегири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Воробьи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Ворон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537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0:43:37Z</dcterms:created>
  <dc:creator>User</dc:creator>
  <dc:description/>
  <dc:language>en-US</dc:language>
  <cp:lastModifiedBy>1</cp:lastModifiedBy>
  <dcterms:modified xsi:type="dcterms:W3CDTF">2008-04-21T23:36:40Z</dcterms:modified>
  <cp:revision>5</cp:revision>
  <dc:subject/>
  <dc:title>Тема урока:  «Обобщение знаний о предложении»</dc:title>
</cp:coreProperties>
</file>