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50F9-89E9-4934-8B25-608FCB117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3C2D-E9B3-4DF6-AE82-B617F76B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D4E0-3B26-45A6-B5B1-29F3F2CB1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65BD-351F-4751-8843-D06F4C66A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13D2-7CE4-455E-B7E1-8A2B7313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DFCF-6468-4131-8279-861AD400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62CC-F4D4-482E-9570-6813F078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5AF5-5708-4149-8EC6-6D440B7A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C2E0-BCCF-4622-AA6D-C707E25B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93D9-F896-4B2A-9420-34144F72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BE23-577F-4E9B-9DDA-9C3DE59B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F676-D89D-4323-9EBB-6633F008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7F3A-BD29-48DB-862D-D92880EC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CE1F-6AA2-482F-95AB-E89EE741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2869-E18D-46DF-AB4A-32DA3708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FD07-847D-48CA-B66D-40155E991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887B-D945-43FF-A085-B048CB478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C87B-0F84-4AE4-95C7-649FA197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8B77-F43C-46B6-A4DD-F0F2797C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E574-51C5-4DA1-95BD-47FEAF56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09B5-B472-4D5A-A1B6-7FCFB37C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DE4E-2FB8-4A12-9D0C-F20A4332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E7ED-19FA-4870-994D-689E0CC6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54B8-5066-4082-B8E3-094BD539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7F4E-4400-4748-A3B8-515F3278049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AA66-939B-4D9A-8CE1-93F400D26A4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.pn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Тема урока: </a:t>
            </a:r>
            <a:br>
              <a:rPr sz="3200"/>
            </a:b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«Обобщение знаний о предложении»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99280" y="27090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частливого пути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364000" y="2924280"/>
            <a:ext cx="323712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Бел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916360" y="2781360"/>
            <a:ext cx="410364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5444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124000" y="2421000"/>
            <a:ext cx="5492880" cy="15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о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68360" y="2349360"/>
            <a:ext cx="525636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419640" y="2349360"/>
            <a:ext cx="2936880" cy="4319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492360" y="5373720"/>
            <a:ext cx="10098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484360" y="1052640"/>
            <a:ext cx="1038240" cy="1400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2460960" y="814680"/>
            <a:ext cx="837360" cy="6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843280" y="2276640"/>
            <a:ext cx="3460680" cy="4581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476360" y="3141720"/>
            <a:ext cx="1428840" cy="1257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067280" y="549360"/>
            <a:ext cx="1047600" cy="1419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5867280" y="981000"/>
            <a:ext cx="1067040" cy="1428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6156360" y="3284640"/>
            <a:ext cx="1400040" cy="1047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5148360" y="5445000"/>
            <a:ext cx="1065240" cy="1413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572000" y="404640"/>
            <a:ext cx="936720" cy="78264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16720" y="1125360"/>
            <a:ext cx="936720" cy="78264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2997360"/>
            <a:ext cx="936720" cy="78264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72360" y="3141720"/>
            <a:ext cx="936360" cy="78264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ЯЦ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59280" y="2349360"/>
            <a:ext cx="3286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961360" y="2681640"/>
            <a:ext cx="624240" cy="6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1428840" cy="1067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708360" y="2349360"/>
            <a:ext cx="1390680" cy="1038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292720" y="2637000"/>
            <a:ext cx="3095640" cy="779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- это…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708360" y="3789360"/>
            <a:ext cx="1428840" cy="581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332000" y="3789360"/>
            <a:ext cx="135252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916360" y="3716280"/>
            <a:ext cx="714240" cy="779400"/>
          </a:xfrm>
          <a:custGeom>
            <a:avLst/>
            <a:gdLst>
              <a:gd name="textAreaLeft" fmla="*/ 45000 w 714240"/>
              <a:gd name="textAreaRight" fmla="*/ 669240 w 714240"/>
              <a:gd name="textAreaTop" fmla="*/ 45000 h 779400"/>
              <a:gd name="textAreaBottom" fmla="*/ 734400 h 779400"/>
            </a:gdLst>
            <a:ahLst/>
            <a:rect l="textAreaLeft" t="textAreaTop" r="textAreaRight" b="textAreaBottom"/>
            <a:pathLst>
              <a:path w="21600" h="23570">
                <a:moveTo>
                  <a:pt x="4680" y="0"/>
                </a:moveTo>
                <a:arcTo wR="4680" hR="4680" stAng="16200000" swAng="-5400000"/>
                <a:lnTo>
                  <a:pt x="0" y="18890"/>
                </a:lnTo>
                <a:arcTo wR="4680" hR="4680" stAng="10800000" swAng="-5400000"/>
                <a:lnTo>
                  <a:pt x="16920" y="23570"/>
                </a:lnTo>
                <a:arcTo wR="4680" hR="4680" stAng="5400000" swAng="-5400000"/>
                <a:lnTo>
                  <a:pt x="21600" y="4680"/>
                </a:lnTo>
                <a:arcTo wR="4680" hR="468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92720" y="3645000"/>
            <a:ext cx="3095640" cy="779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- это…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619280" y="4797360"/>
            <a:ext cx="1019160" cy="1324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3635280" y="4941720"/>
            <a:ext cx="1428840" cy="1095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916360" y="5373720"/>
            <a:ext cx="714240" cy="779400"/>
          </a:xfrm>
          <a:custGeom>
            <a:avLst/>
            <a:gdLst>
              <a:gd name="textAreaLeft" fmla="*/ 45000 w 714240"/>
              <a:gd name="textAreaRight" fmla="*/ 669240 w 714240"/>
              <a:gd name="textAreaTop" fmla="*/ 45000 h 779400"/>
              <a:gd name="textAreaBottom" fmla="*/ 734400 h 779400"/>
            </a:gdLst>
            <a:ahLst/>
            <a:rect l="textAreaLeft" t="textAreaTop" r="textAreaRight" b="textAreaBottom"/>
            <a:pathLst>
              <a:path w="21600" h="23570">
                <a:moveTo>
                  <a:pt x="4680" y="0"/>
                </a:moveTo>
                <a:arcTo wR="4680" hR="4680" stAng="16200000" swAng="-5400000"/>
                <a:lnTo>
                  <a:pt x="0" y="18890"/>
                </a:lnTo>
                <a:arcTo wR="4680" hR="4680" stAng="10800000" swAng="-5400000"/>
                <a:lnTo>
                  <a:pt x="16920" y="23570"/>
                </a:lnTo>
                <a:arcTo wR="4680" hR="4680" stAng="5400000" swAng="-5400000"/>
                <a:lnTo>
                  <a:pt x="21600" y="4680"/>
                </a:lnTo>
                <a:arcTo wR="4680" hR="468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19640" y="5229360"/>
            <a:ext cx="3095640" cy="779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- это…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916360" y="2637000"/>
            <a:ext cx="714240" cy="779400"/>
          </a:xfrm>
          <a:custGeom>
            <a:avLst/>
            <a:gdLst>
              <a:gd name="textAreaLeft" fmla="*/ 45000 w 714240"/>
              <a:gd name="textAreaRight" fmla="*/ 669240 w 714240"/>
              <a:gd name="textAreaTop" fmla="*/ 45000 h 779400"/>
              <a:gd name="textAreaBottom" fmla="*/ 734400 h 779400"/>
            </a:gdLst>
            <a:ahLst/>
            <a:rect l="textAreaLeft" t="textAreaTop" r="textAreaRight" b="textAreaBottom"/>
            <a:pathLst>
              <a:path w="21600" h="23570">
                <a:moveTo>
                  <a:pt x="4680" y="0"/>
                </a:moveTo>
                <a:arcTo wR="4680" hR="4680" stAng="16200000" swAng="-5400000"/>
                <a:lnTo>
                  <a:pt x="0" y="18890"/>
                </a:lnTo>
                <a:arcTo wR="4680" hR="4680" stAng="10800000" swAng="-5400000"/>
                <a:lnTo>
                  <a:pt x="16920" y="23570"/>
                </a:lnTo>
                <a:arcTo wR="4680" hR="4680" stAng="5400000" swAng="-5400000"/>
                <a:lnTo>
                  <a:pt x="21600" y="4680"/>
                </a:lnTo>
                <a:arcTo wR="4680" hR="468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92720" y="2637000"/>
            <a:ext cx="3095640" cy="779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- это птицы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58920" y="278136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Чиж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1440" y="270828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чайк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16360" y="5373720"/>
            <a:ext cx="714240" cy="779400"/>
          </a:xfrm>
          <a:custGeom>
            <a:avLst/>
            <a:gdLst>
              <a:gd name="textAreaLeft" fmla="*/ 45000 w 714240"/>
              <a:gd name="textAreaRight" fmla="*/ 669240 w 714240"/>
              <a:gd name="textAreaTop" fmla="*/ 45000 h 779400"/>
              <a:gd name="textAreaBottom" fmla="*/ 734400 h 779400"/>
            </a:gdLst>
            <a:ahLst/>
            <a:rect l="textAreaLeft" t="textAreaTop" r="textAreaRight" b="textAreaBottom"/>
            <a:pathLst>
              <a:path w="21600" h="23570">
                <a:moveTo>
                  <a:pt x="4680" y="0"/>
                </a:moveTo>
                <a:arcTo wR="4680" hR="4680" stAng="16200000" swAng="-5400000"/>
                <a:lnTo>
                  <a:pt x="0" y="18890"/>
                </a:lnTo>
                <a:arcTo wR="4680" hR="4680" stAng="10800000" swAng="-5400000"/>
                <a:lnTo>
                  <a:pt x="16920" y="23570"/>
                </a:lnTo>
                <a:arcTo wR="4680" hR="4680" stAng="5400000" swAng="-5400000"/>
                <a:lnTo>
                  <a:pt x="21600" y="4680"/>
                </a:lnTo>
                <a:arcTo wR="4680" hR="468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08720" y="5373720"/>
            <a:ext cx="3095640" cy="779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- это звер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5445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Жираф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96720" y="5445000"/>
            <a:ext cx="75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ёж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43280" y="4149720"/>
            <a:ext cx="714240" cy="779400"/>
          </a:xfrm>
          <a:custGeom>
            <a:avLst/>
            <a:gdLst>
              <a:gd name="textAreaLeft" fmla="*/ 45000 w 714240"/>
              <a:gd name="textAreaRight" fmla="*/ 669240 w 714240"/>
              <a:gd name="textAreaTop" fmla="*/ 45000 h 779400"/>
              <a:gd name="textAreaBottom" fmla="*/ 734400 h 779400"/>
            </a:gdLst>
            <a:ahLst/>
            <a:rect l="textAreaLeft" t="textAreaTop" r="textAreaRight" b="textAreaBottom"/>
            <a:pathLst>
              <a:path w="21600" h="23570">
                <a:moveTo>
                  <a:pt x="4680" y="0"/>
                </a:moveTo>
                <a:arcTo wR="4680" hR="4680" stAng="16200000" swAng="-5400000"/>
                <a:lnTo>
                  <a:pt x="0" y="18890"/>
                </a:lnTo>
                <a:arcTo wR="4680" hR="4680" stAng="10800000" swAng="-5400000"/>
                <a:lnTo>
                  <a:pt x="16920" y="23570"/>
                </a:lnTo>
                <a:arcTo wR="4680" hR="4680" stAng="5400000" swAng="-5400000"/>
                <a:lnTo>
                  <a:pt x="21600" y="4680"/>
                </a:lnTo>
                <a:arcTo wR="4680" hR="468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149720"/>
            <a:ext cx="3095640" cy="779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- это рыбы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5840" y="422100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Ёрш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000" y="4221000"/>
            <a:ext cx="130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щук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115280" y="5787000"/>
            <a:ext cx="61927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Сороки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Снегири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Воробьи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Ворона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Лис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453708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9T00:43:37Z</dcterms:created>
  <dc:creator>User</dc:creator>
  <dc:description/>
  <dc:language>en-US</dc:language>
  <cp:lastModifiedBy>1</cp:lastModifiedBy>
  <dcterms:modified xsi:type="dcterms:W3CDTF">2008-04-21T23:36:40Z</dcterms:modified>
  <cp:revision>5</cp:revision>
  <dc:subject/>
  <dc:title>Тема урока:  «Обобщение знаний о предложении»</dc:title>
</cp:coreProperties>
</file>