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EC4B5-F06A-4681-BA08-20A47447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FDC05-309C-4682-977A-9D949F49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856B-9F78-47E1-B93E-0D7E470F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7C29E-7642-4C44-A9C4-505FA46E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8E6F-E874-4AA0-9EB1-A2CF603D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623D-CE8F-47E1-96E7-A8F82D21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57E0-F5B9-4370-A621-0C4601B1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4590-5729-4B82-8509-780F2281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F3CB-B560-4EAA-9DE0-3C9E3EA5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E560-315E-436E-88B3-824BEBB5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93FC-FAC5-44AB-AA59-0FCC2252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D2868-A8D3-42EA-9430-161B9F55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7525-B5F4-41B2-9A29-098D143D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B80D-A888-4FA1-8340-D49A21E5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9DFE-429F-4DAE-A8C1-B3A74BA7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2BF9-A812-43F1-B4E2-8CABB2DF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647B-2F25-46C4-A84B-0A1125FB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EDC0F-9E13-4878-A71D-927DA2EB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0DE9E-3464-4D3F-85C9-3FDD3BDC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65B62-91DA-4AF1-B916-905723D2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CBC61-71F9-41FA-941E-D4606134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6F86D-59BF-41CD-A291-26EC9110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6B4F1-30FE-484A-995B-B53211FA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87D5C-7430-4BCE-8B3D-5AD9FE44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A075-BC34-4E24-9E10-32A39D16CC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7CC4-C1D7-4F7B-BEB3-6AEDA8F491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eep4u.ru/imgs/b/080726/53/537984098d1fb8a99f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ezepty.ru/files/u2/seldi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webdive.ru/images/gallary/1/1916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tvplaneta.ru/forum/uploads/1211376811/gallery_826_373_298874.jpg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online.fotoschool.ru/photos/big/photo-3951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upload.wikimedia.org/wikipedia/commons/thumb/7/70/White_Pelican.jpg/275px-White_Pelican.jpg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368/2322368/f_1389968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enividi.ru/files/img/7511/1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osmoforum.ucoz.ru/_fr/0/3776578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ntent.foto.mail.ru/mail/drozzin/241/i-255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ировой Океан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4868640"/>
            <a:ext cx="822960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ировой океан обнимает Землю неразделимыми водами и является по своей природе единой стихией, которая приобретает разные свойства с изменением широт. У берегов Гренландии и Антарктиды, в ревущих ветрами сороковых широтах круглый год бушуют штормы. У тропиков немилосердно печет солнце, дуют пассаты и лишь иногда проносятся разрушительные ураганы. Но ведь огромный Мировой океан разделен еще и материками на отдельные океаны, каждый из которых имеет свои особые природные черты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10" descr="Картинка 18 из 3516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1628640"/>
            <a:ext cx="482436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Картинка 30 из 22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508640"/>
            <a:ext cx="356400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Картинка 22 из 25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0"/>
            <a:ext cx="2917800" cy="218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Картинка 5 из 64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56000" y="2637000"/>
            <a:ext cx="3265200" cy="2187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Картинка 2 из 597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867280" y="2205000"/>
            <a:ext cx="2859120" cy="3573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2" descr="Картинка 1 из 3454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9280" y="0"/>
            <a:ext cx="2400480" cy="38098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3"/>
          <p:cNvSpPr/>
          <p:nvPr/>
        </p:nvSpPr>
        <p:spPr>
          <a:xfrm>
            <a:off x="4387320" y="6400800"/>
            <a:ext cx="51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Животный мир Тихого океа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никальные животны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океане обитают киты, морские котики, морские бобры (эти ластоногие живут только в Тихом океане). Много и беспозвоночных животных - кораллы, морские ежи, моллюски (осьминоги, кальмары). Здесь обитает самый крупный моллюск - тридакна, весом до 250 к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Картинка 1 из 168112"/>
          <p:cNvPicPr/>
          <p:nvPr/>
        </p:nvPicPr>
        <p:blipFill>
          <a:blip r:embed="rId1"/>
          <a:stretch/>
        </p:blipFill>
        <p:spPr>
          <a:xfrm>
            <a:off x="324000" y="0"/>
            <a:ext cx="4356000" cy="2901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Картинка 6 из 6993"/>
          <p:cNvPicPr/>
          <p:nvPr/>
        </p:nvPicPr>
        <p:blipFill>
          <a:blip r:embed="rId2"/>
          <a:stretch/>
        </p:blipFill>
        <p:spPr>
          <a:xfrm>
            <a:off x="4067280" y="4390920"/>
            <a:ext cx="5076720" cy="2467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Картинка 3 из 435"/>
          <p:cNvPicPr/>
          <p:nvPr/>
        </p:nvPicPr>
        <p:blipFill>
          <a:blip r:embed="rId3"/>
          <a:stretch/>
        </p:blipFill>
        <p:spPr>
          <a:xfrm>
            <a:off x="5003640" y="0"/>
            <a:ext cx="3333960" cy="2552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Картинка 2 из 56143"/>
          <p:cNvPicPr/>
          <p:nvPr/>
        </p:nvPicPr>
        <p:blipFill>
          <a:blip r:embed="rId4"/>
          <a:stretch/>
        </p:blipFill>
        <p:spPr>
          <a:xfrm>
            <a:off x="0" y="4357800"/>
            <a:ext cx="3851280" cy="25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Картинка 2 из 191"/>
          <p:cNvPicPr/>
          <p:nvPr/>
        </p:nvPicPr>
        <p:blipFill>
          <a:blip r:embed="rId5"/>
          <a:stretch/>
        </p:blipFill>
        <p:spPr>
          <a:xfrm>
            <a:off x="3276720" y="2604960"/>
            <a:ext cx="266364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ред, нанесенный человеком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Хозяйственная деятельность человека в Тихом океане привела к загрязнению его вод, к истощению некоторых видов биологических ресурсов. Так, к концу XVIII в. были истреблены млекопитающие - морские коровы (вид ластоногих), открытые одним из участников экспедиции В. Беринга. На грани истребления в начале ХХ в. находились котики, уменьшилась численность китов. В настоящее время их промысел ограничен. Большую опасность в океане представляет загрязнение вод нефтью, некоторыми тяжелыми металлами и отходами атомной промышленности. Вредные вещества разносятся течениями по всему океану. Даже у берегов Антарктиды в составе морских организмов обнаружены эти веществ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ихий океан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4669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ихий океан - самый большой по площади, самый глубокий и самый древний из океанов. Главные его особенности - большие глубины, частые движения земной коры, множество вулканов на дне, огромный запас тепла в его водах, исключительное разнообразие органического ми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7" descr="Картинка 1 из 178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05264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ерега и дно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4669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востоке океана береговая линия расчленена слабо, выделяется несколько полуостровов и заливов. На западе берега сильно изрезаны. Здесь много морей. Среди них есть шельфовые, расположенные на материковой отмели, с глубинами не более 100 м. Некоторые моря лежат в зоне взаимодействия литосферных плит. Они глубокие и отделены от океана островными дуга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Картинка 8 из 21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907920"/>
            <a:ext cx="554544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юди и океан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ногие народы, населяющие тихоокеанские берега и острова, с давних времен совершали плавания по океану, осваивали его богатства. Начало проникновения европейцев в Тихий океан совпало с эпохой Великих географических открытий. Корабли Ф. Магеллана за несколько месяцев плавания пересекли огромное водное пространство с востока на запад. Все это время море было удивительно спокойным, что дало основание Магеллану назвать его Тихим океан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льеф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ельеф дна океана сложен. Материковая отмель (шельф) хорошо развита только у берегов Азии и Австралии. Материковые склоны крутые, часто ступенчатые. Большие поднятия и хребты разделяют ложе океана на котловины. Близ Америки расположено Восточно-Тихоокеанское поднятие, которое входит в систему срединно-океанических хребтов. На дне океана расположено более 10 тыс. отдельных подводных гор, в основном вулканического происхождения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10" descr="6-1"/>
          <p:cNvPicPr/>
          <p:nvPr/>
        </p:nvPicPr>
        <p:blipFill>
          <a:blip r:embed="rId1"/>
          <a:stretch/>
        </p:blipFill>
        <p:spPr>
          <a:xfrm>
            <a:off x="4643280" y="2133720"/>
            <a:ext cx="450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лит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итосферная плита, на которой лежит Тихий океан, на своих границах взаимодействует с другими плитами. Края Тихоокеанской плиты погружаются в тесное пространство желобов, которые кольцом окружают океан. Эти движения порождают землетрясения и извержения вулканов. Здесь лежит знаменитое «Огненное кольцо» планеты и самая глубокая впадина - Марианская (11022 м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7" descr="Картинка 8 из 3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484280"/>
            <a:ext cx="3476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лимат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лимат океана разнообразен. Тихий океан расположен во всех климатических поясах, кроме северного полярного. Над его огромными пространствами воздух насыщен влагой. В области экватора выпадает до 2000 мм осадков. От холодного Ледовитого океана Тихий защищен сушей и подводными хребтами, поэтому северная часть его теплее южно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етр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4669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ихий океан - самый неспокойный и грозный среди океанов планеты. В центральных частях его дуют пассаты. В западной - развиты муссоны. Зимой с материка приходит холодный и сухой муссон, оказывающий существенное влияние на климат океана; часть морей покрывается льдом. Нередко над западной частью океана проносятся опустошительные тропические ураганы - тайфуны «тайфун» означает «сильный ветер»). В умеренных широтах всю холодную половину года бушуют штормы. Здесь преобладает западный перенос воздуха. Самые высокие волны высотой до 30 м отмечены на севере и юге Тихого океана. Ураганы поднимают в нем целые водяные горы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7" descr="Картинка 1 из 8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268280"/>
            <a:ext cx="50403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Животный ми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рганический мир Тихого океана отличается необыкновенным богатством и разнообразием видов растений и животных. В нем обитает половина всей массы живых организмов Мирового океана. Объясняют эту особенность океана его размерами, разнообразием природных условий и возрастом. Особенно богата жизнь в тропических и экваториальных широтах у коралловых рифов. В северной' части океана много лососевых рыб. На юго-востоке океана близ берегов Южной Америки образуются огромные скопления рыбы. Водные массы здесь очень плодородны, в них развивается много растительного и животного планктона, которым питаются анчоусы (сельдеобразные рыбы длиной до 16 см), ставриды, масляные, скумбрии и другие виды рыб. Много рыбы поедают здесь птицы: бакланы, пеликаны, пингви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3:25:35Z</dcterms:created>
  <dc:creator>qw</dc:creator>
  <dc:description/>
  <dc:language>en-US</dc:language>
  <cp:lastModifiedBy>Светлана</cp:lastModifiedBy>
  <dcterms:modified xsi:type="dcterms:W3CDTF">2012-12-11T08:53:24Z</dcterms:modified>
  <cp:revision>6</cp:revision>
  <dc:subject/>
  <dc:title>Слайд 1</dc:title>
</cp:coreProperties>
</file>