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9830-49B7-4516-9DB2-4D1DBF6A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D12E-A0F4-414E-90EF-67035100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F943-0D7A-4F8F-BEC8-224E4F92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2696-9601-43E5-BE5E-BE166758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F8DC-88D8-42A0-8FA5-37CA9D4F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FB26-CD5C-437C-A089-7B72B068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909-E91A-4254-9A6D-C2DA3521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BDB4-6E9C-41F8-B644-2C178602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61F3-7157-4557-AEED-D0EA2FBD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4B07-6966-42BC-8D86-32C39920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F061-6F0D-4983-9A42-6CBCCB9B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33F6-C817-4FF2-AF1B-795B45F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FDD-AAB5-4963-8E55-7F2CC3C2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E19C-3187-4C87-AE26-2C1EB02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BB79-5B3A-4D72-B4AF-5F64D239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23EE-F602-4730-862E-922BC77E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8363-EBD1-4CFF-BFBE-65E0FF4D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9E98-4C62-4A46-8425-A2966317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E3B01-7302-42BD-85F2-50F5D9CF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9589-829C-4D52-AAF3-DBBFABBA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3B0B-05A6-431C-B644-CA9A3E57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C119-785F-425B-8991-452D0BE5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C97C-AB1C-4A57-AF93-8D404E74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2FE6-994E-4B51-9145-A51FC32D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BD89-010A-4F64-91AD-0E2A59EE5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8C22-B618-49A3-B9E9-D307DF5335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eep4u.ru/imgs/b/080726/53/537984098d1fb8a99f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ezepty.ru/files/u2/seldi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webdive.ru/images/gallary/1/1916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tvplaneta.ru/forum/uploads/1211376811/gallery_826_373_298874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online.fotoschool.ru/photos/big/photo-3951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upload.wikimedia.org/wikipedia/commons/thumb/7/70/White_Pelican.jpg/275px-White_Pelican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368/2322368/f_1389968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enividi.ru/files/img/7511/1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smoforum.ucoz.ru/_fr/0/3776578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drozzin/241/i-25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ровой Океан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ировой океан обнимает Землю неразделимыми водами и является по своей природе единой стихией, которая приобретает разные свойства с изменением широт. У берегов Гренландии и Антарктиды, в ревущих ветрами сороковых широтах круглый год бушуют штормы. У тропиков немилосердно печет солнце, дуют пассаты и лишь иногда проносятся разрушительные ураганы. Но ведь огромный Мировой океан разделен еще и материками на отдельные океаны, каждый из которых имеет свои особые природные черты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10" descr="Картинка 18 из 3516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628640"/>
            <a:ext cx="48243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Картинка 30 из 22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508640"/>
            <a:ext cx="356400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Картинка 22 из 25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Картинка 5 из 64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637000"/>
            <a:ext cx="3265200" cy="218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2 из 597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2205000"/>
            <a:ext cx="2859120" cy="3573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Картинка 1 из 3454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0"/>
            <a:ext cx="240048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4387320" y="6400800"/>
            <a:ext cx="51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Животный мир Тихого океа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никальные животны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кеане обитают киты, морские котики, морские бобры (эти ластоногие живут только в Тихом океане). Много и беспозвоночных животных - кораллы, морские ежи, моллюски (осьминоги, кальмары). Здесь обитает самый крупный моллюск - тридакна, весом до 250 к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Картинка 1 из 168112"/>
          <p:cNvPicPr/>
          <p:nvPr/>
        </p:nvPicPr>
        <p:blipFill>
          <a:blip r:embed="rId1"/>
          <a:stretch/>
        </p:blipFill>
        <p:spPr>
          <a:xfrm>
            <a:off x="324000" y="0"/>
            <a:ext cx="4356000" cy="2901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Картинка 6 из 6993"/>
          <p:cNvPicPr/>
          <p:nvPr/>
        </p:nvPicPr>
        <p:blipFill>
          <a:blip r:embed="rId2"/>
          <a:stretch/>
        </p:blipFill>
        <p:spPr>
          <a:xfrm>
            <a:off x="4067280" y="4390920"/>
            <a:ext cx="5076720" cy="246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Картинка 3 из 435"/>
          <p:cNvPicPr/>
          <p:nvPr/>
        </p:nvPicPr>
        <p:blipFill>
          <a:blip r:embed="rId3"/>
          <a:stretch/>
        </p:blipFill>
        <p:spPr>
          <a:xfrm>
            <a:off x="5003640" y="0"/>
            <a:ext cx="3333960" cy="2552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Картинка 2 из 56143"/>
          <p:cNvPicPr/>
          <p:nvPr/>
        </p:nvPicPr>
        <p:blipFill>
          <a:blip r:embed="rId4"/>
          <a:stretch/>
        </p:blipFill>
        <p:spPr>
          <a:xfrm>
            <a:off x="0" y="4357800"/>
            <a:ext cx="3851280" cy="25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Картинка 2 из 191"/>
          <p:cNvPicPr/>
          <p:nvPr/>
        </p:nvPicPr>
        <p:blipFill>
          <a:blip r:embed="rId5"/>
          <a:stretch/>
        </p:blipFill>
        <p:spPr>
          <a:xfrm>
            <a:off x="3276720" y="2604960"/>
            <a:ext cx="26636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ред, нанесенный человеком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озяйственная деятельность человека в Тихом океане привела к загрязнению его вод, к истощению некоторых видов биологических ресурсов. Так, к концу XVIII в. были истреблены млекопитающие - морские коровы (вид ластоногих), открытые одним из участников экспедиции В. Беринга. На грани истребления в начале ХХ в. находились котики, уменьшилась численность китов. В настоящее время их промысел ограничен. Большую опасность в океане представляет загрязнение вод нефтью, некоторыми тяжелыми металлами и отходами атомной промышленности. Вредные вещества разносятся течениями по всему океану. Даже у берегов Антарктиды в составе морских организмов обнаружены эти веществ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ихий океан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хий океан - самый большой по площади, самый глубокий и самый древний из океанов. Главные его особенности - большие глубины, частые движения земной коры, множество вулканов на дне, огромный запас тепла в его водах, исключительное разнообразие органического ми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7" descr="Картинка 1 из 178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05264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ерега и дно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востоке океана береговая линия расчленена слабо, выделяется несколько полуостровов и заливов. На западе берега сильно изрезаны. Здесь много морей. Среди них есть шельфовые, расположенные на материковой отмели, с глубинами не более 100 м. Некоторые моря лежат в зоне взаимодействия литосферных плит. Они глубокие и отделены от океана островными дуг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Картинка 8 из 2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907920"/>
            <a:ext cx="55454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юди и океан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ногие народы, населяющие тихоокеанские берега и острова, с давних времен совершали плавания по океану, осваивали его богатства. Начало проникновения европейцев в Тихий океан совпало с эпохой Великих географических открытий. Корабли Ф. Магеллана за несколько месяцев плавания пересекли огромное водное пространство с востока на запад. Все это время море было удивительно спокойным, что дало основание Магеллану назвать его Тихим океа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льеф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льеф дна океана сложен. Материковая отмель (шельф) хорошо развита только у берегов Азии и Австралии. Материковые склоны крутые, часто ступенчатые. Большие поднятия и хребты разделяют ложе океана на котловины. Близ Америки расположено Восточно-Тихоокеанское поднятие, которое входит в систему срединно-океанических хребтов. На дне океана расположено более 10 тыс. отдельных подводных гор, в основном вулканического происхожден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10" descr="6-1"/>
          <p:cNvPicPr/>
          <p:nvPr/>
        </p:nvPicPr>
        <p:blipFill>
          <a:blip r:embed="rId1"/>
          <a:stretch/>
        </p:blipFill>
        <p:spPr>
          <a:xfrm>
            <a:off x="4643280" y="2133720"/>
            <a:ext cx="45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лит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тосферная плита, на которой лежит Тихий океан, на своих границах взаимодействует с другими плитами. Края Тихоокеанской плиты погружаются в тесное пространство желобов, которые кольцом окружают океан. Эти движения порождают землетрясения и извержения вулканов. Здесь лежит знаменитое «Огненное кольцо» планеты и самая глубокая впадина - Марианская (11022 м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7" descr="Картинка 8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484280"/>
            <a:ext cx="347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има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имат океана разнообразен. Тихий океан расположен во всех климатических поясах, кроме северного полярного. Над его огромными пространствами воздух насыщен влагой. В области экватора выпадает до 2000 мм осадков. От холодного Ледовитого океана Тихий защищен сушей и подводными хребтами, поэтому северная часть его теплее южно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ет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ихий океан - самый неспокойный и грозный среди океанов планеты. В центральных частях его дуют пассаты. В западной - развиты муссоны. Зимой с материка приходит холодный и сухой муссон, оказывающий существенное влияние на климат океана; часть морей покрывается льдом. Нередко над западной частью океана проносятся опустошительные тропические ураганы - тайфуны «тайфун» означает «сильный ветер»). В умеренных широтах всю холодную половину года бушуют штормы. Здесь преобладает западный перенос воздуха. Самые высокие волны высотой до 30 м отмечены на севере и юге Тихого океана. Ураганы поднимают в нем целые водяные горы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7" descr="Картинка 1 из 8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268280"/>
            <a:ext cx="50403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Животный ми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ганический мир Тихого океана отличается необыкновенным богатством и разнообразием видов растений и животных. В нем обитает половина всей массы живых организмов Мирового океана. Объясняют эту особенность океана его размерами, разнообразием природных условий и возрастом. Особенно богата жизнь в тропических и экваториальных широтах у коралловых рифов. В северной' части океана много лососевых рыб. На юго-востоке океана близ берегов Южной Америки образуются огромные скопления рыбы. Водные массы здесь очень плодородны, в них развивается много растительного и животного планктона, которым питаются анчоусы (сельдеобразные рыбы длиной до 16 см), ставриды, масляные, скумбрии и другие виды рыб. Много рыбы поедают здесь птицы: бакланы, пеликаны, пингви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3:25:35Z</dcterms:created>
  <dc:creator>qw</dc:creator>
  <dc:description/>
  <dc:language>en-US</dc:language>
  <cp:lastModifiedBy>Светлана</cp:lastModifiedBy>
  <dcterms:modified xsi:type="dcterms:W3CDTF">2012-12-11T08:53:24Z</dcterms:modified>
  <cp:revision>6</cp:revision>
  <dc:subject/>
  <dc:title>Слайд 1</dc:title>
</cp:coreProperties>
</file>