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C23-0E7F-4952-AC12-CBD4AB60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D04-5A5B-4870-8F22-315167B3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C82-48E2-4DD7-B615-1D1A0AAE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F81-1D69-438B-93A4-AD86FEAC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8761-8CAF-447E-A361-59DEE97C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1270-A7EE-47BA-8C5A-939C8107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6D8F-57DB-4F38-A2EB-F7C967D7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71F7-35F5-464B-ADAE-ED242A60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4712-354E-498A-89E3-5F27B2F3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CAA8-BBD7-41C6-BB13-72A49D4F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8C00-F3CF-46BD-A878-42A85D62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125-9367-401B-9B18-6EC265BA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F2F8-17F4-4878-9309-779DFFAB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F44F-1772-47B2-A06F-1FBF8131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E9ED-F873-48F5-8F8C-9ADE2740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FD5F-8044-48D8-9FDF-74E4F394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E22A-6D84-4031-98EF-2CB73F75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558-006C-48CF-9D50-03625FDA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745-33CB-45C8-9D1B-2ABACFD4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82B-5FF1-4D51-813F-79C33F6D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50C-D481-49DF-BE2F-3DE3B0A2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3CD-9677-44F0-B53A-5816E346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628-0D79-499D-A5F5-E9B27492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270-8674-446C-B6F2-1FC327C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BE1C-209C-4F43-8CFA-90CE72CF75E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A299-DECD-4977-8539-2371E7BAA89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04920" y="388620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ногоугольники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971800"/>
            <a:ext cx="4038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математическая сказ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571500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"Ыныргинская СОШ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елёва И.Г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68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6396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" y="68580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Баба-Яга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отдай братц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90512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Отдам мальчонку, если покажешь, что научилась различать многоугольни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 rot="19551600">
            <a:off x="138240" y="1176120"/>
            <a:ext cx="4792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cc0066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урок!</a:t>
            </a:r>
            <a:endParaRPr b="0" lang="en-US" sz="1800" spc="1" strike="noStrike">
              <a:ln w="12600">
                <a:solidFill>
                  <a:srgbClr val="cc0066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1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65720" y="5715000"/>
            <a:ext cx="40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791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Жили-были мужик да баба, и была у них дочка да сынок маленьк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62320" y="5410080"/>
            <a:ext cx="6324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Побежала сестра догонять брат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280" y="5715000"/>
            <a:ext cx="883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Выполнишь моё задание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скажу куда Гуси-Лебеди полетел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1600200"/>
            <a:ext cx="1752480" cy="1066680"/>
          </a:xfrm>
          <a:prstGeom prst="rect">
            <a:avLst/>
          </a:pr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276720"/>
            <a:ext cx="1371600" cy="1066680"/>
          </a:xfrm>
          <a:custGeom>
            <a:avLst/>
            <a:gdLst>
              <a:gd name="textAreaLeft" fmla="*/ 301680 w 1371600"/>
              <a:gd name="textAreaRight" fmla="*/ 1069920 w 137160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828800"/>
            <a:ext cx="1676520" cy="1523880"/>
          </a:xfrm>
          <a:prstGeom prst="rtTriangle">
            <a:avLst/>
          </a:prstGeom>
          <a:solidFill>
            <a:srgbClr val="0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724280"/>
            <a:ext cx="1295280" cy="990720"/>
          </a:xfrm>
          <a:prstGeom prst="triangle">
            <a:avLst>
              <a:gd name="adj" fmla="val 84069"/>
            </a:avLst>
          </a:prstGeom>
          <a:solidFill>
            <a:srgbClr val="0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5181480"/>
            <a:ext cx="1523880" cy="1371600"/>
          </a:xfrm>
          <a:prstGeom prst="parallelogram">
            <a:avLst>
              <a:gd name="adj" fmla="val 27776"/>
            </a:avLst>
          </a:pr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248520" y="4114800"/>
            <a:ext cx="1600200" cy="914400"/>
          </a:xfrm>
          <a:prstGeom prst="triangle">
            <a:avLst>
              <a:gd name="adj" fmla="val 53306"/>
            </a:avLst>
          </a:prstGeom>
          <a:solidFill>
            <a:srgbClr val="0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733920"/>
            <a:ext cx="1143000" cy="1066680"/>
          </a:xfrm>
          <a:prstGeom prst="rect">
            <a:avLst/>
          </a:pr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4572000"/>
            <a:ext cx="1600200" cy="15238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 rot="19878000">
            <a:off x="7797240" y="1905120"/>
            <a:ext cx="1346400" cy="858600"/>
          </a:xfrm>
          <a:prstGeom prst="rtTriangle">
            <a:avLst/>
          </a:prstGeom>
          <a:solidFill>
            <a:srgbClr val="0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ranklin Gothic Medium"/>
              </a:rPr>
              <a:t>Многоугольник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838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Четырёхугольн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838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Треугольн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057400"/>
            <a:ext cx="1905120" cy="1752480"/>
          </a:xfrm>
          <a:prstGeom prst="hexagon">
            <a:avLst>
              <a:gd name="adj" fmla="val 27177"/>
              <a:gd name="vf" fmla="val 115470"/>
            </a:avLst>
          </a:prstGeom>
          <a:solidFill>
            <a:srgbClr val="ff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Тема урока: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Научимся различать многоугольни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Будем аккуратно писа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Внимательно слушать и отвечать на вопрос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371600"/>
            <a:ext cx="7467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НОГОУГОЛЬНИК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2895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Цел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943360"/>
            <a:ext cx="9144000" cy="3381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3520" y="4572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Нужно пойте по дорожке-  ломаной состоящей из трёх звеньев, выбер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4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8600" y="457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Физминут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295280"/>
            <a:ext cx="32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тер дует нам в лицо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Закачалось деревцо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терок всё тише, тише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Яблонька всё выше, выш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6019920"/>
            <a:ext cx="92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Беги по дорожке до леса, там  избушка Бабы-Я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 </cp:lastModifiedBy>
  <dcterms:modified xsi:type="dcterms:W3CDTF">2012-10-08T10:18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