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222-A5F7-41A0-9359-92F0B5E5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F73-89E2-44DF-8900-FFF3B10D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BE8-44ED-401E-8F86-858BC407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F62-D3B6-4394-A3CC-6C85F143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5E90-2670-4B1A-B721-3E20EA50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0EA4-699A-4F25-AB15-6046191F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F6C7-945F-4F67-9FBB-FA4DCDBA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26FC-1DCF-45C5-A5A2-15DF16DF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AA07-6110-4CEB-A401-8913959E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5A62-0722-44CB-A029-603768DA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6C90-4095-457A-A93E-DCF14B89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428-3980-4B94-8AE9-6F644D5B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D502-53BC-4403-AE8E-3F4719B5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7E12-61F1-4FA6-B1E9-6E1BDDE1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C93A-290C-42C3-96A0-7F02AB64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01E4-F8F1-4377-AAF4-6E4CF709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5CDA-6ECC-4883-A4B7-39E99753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84A-A370-4166-B7C5-C4F030D4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152-4610-43D4-8555-145B59B2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8B6-24C9-4FEE-B3E0-97F442AD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F86-CC06-44DD-A686-48C38987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D90-82F5-4248-BD04-B6764ABE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4AA-7050-4D32-839B-F531DD71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93E-1208-403C-A47D-6C221CA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FBB0-1965-4612-A61A-43540591E9D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FDE6-8B39-4D21-8F9A-E471C8D6E8E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04920" y="3886200"/>
            <a:ext cx="4572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ногоугольники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971800"/>
            <a:ext cx="4038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-математическая сказ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571500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"Ыныргинская СОШ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елёва И.Г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68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6396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600" y="68580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Баба-Яга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отдай братц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90512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Отдам мальчонку, если покажешь, что научилась различать многоугольни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 rot="19551600">
            <a:off x="138240" y="1176120"/>
            <a:ext cx="47926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66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2600">
                <a:solidFill>
                  <a:srgbClr val="cc0066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66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урок!</a:t>
            </a:r>
            <a:endParaRPr b="0" lang="en-US" sz="1800" spc="1" strike="noStrike">
              <a:ln w="12600">
                <a:solidFill>
                  <a:srgbClr val="cc0066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51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65720" y="5715000"/>
            <a:ext cx="40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791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Жили-были мужик да баба, и была у них дочка да сынок маленьк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62320" y="5410080"/>
            <a:ext cx="63244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Побежала сестра догонять брат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280" y="5715000"/>
            <a:ext cx="883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Выполнишь моё задание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скажу куда Гуси-Лебеди полетел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1600200"/>
            <a:ext cx="1752480" cy="1066680"/>
          </a:xfrm>
          <a:prstGeom prst="rect">
            <a:avLst/>
          </a:prstGeom>
          <a:solidFill>
            <a:srgbClr val="9933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276720"/>
            <a:ext cx="1371600" cy="1066680"/>
          </a:xfrm>
          <a:custGeom>
            <a:avLst/>
            <a:gdLst>
              <a:gd name="textAreaLeft" fmla="*/ 301680 w 1371600"/>
              <a:gd name="textAreaRight" fmla="*/ 1069920 w 1371600"/>
              <a:gd name="textAreaTop" fmla="*/ 234360 h 1066680"/>
              <a:gd name="textAreaBottom" fmla="*/ 832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828800"/>
            <a:ext cx="1676520" cy="1523880"/>
          </a:xfrm>
          <a:prstGeom prst="rtTriangle">
            <a:avLst/>
          </a:prstGeom>
          <a:solidFill>
            <a:srgbClr val="0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724280"/>
            <a:ext cx="1295280" cy="990720"/>
          </a:xfrm>
          <a:prstGeom prst="triangle">
            <a:avLst>
              <a:gd name="adj" fmla="val 84069"/>
            </a:avLst>
          </a:prstGeom>
          <a:solidFill>
            <a:srgbClr val="0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5181480"/>
            <a:ext cx="1523880" cy="1371600"/>
          </a:xfrm>
          <a:prstGeom prst="parallelogram">
            <a:avLst>
              <a:gd name="adj" fmla="val 27776"/>
            </a:avLst>
          </a:prstGeom>
          <a:solidFill>
            <a:srgbClr val="9933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248520" y="4114800"/>
            <a:ext cx="1600200" cy="914400"/>
          </a:xfrm>
          <a:prstGeom prst="triangle">
            <a:avLst>
              <a:gd name="adj" fmla="val 53306"/>
            </a:avLst>
          </a:prstGeom>
          <a:solidFill>
            <a:srgbClr val="0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733920"/>
            <a:ext cx="1143000" cy="1066680"/>
          </a:xfrm>
          <a:prstGeom prst="rect">
            <a:avLst/>
          </a:prstGeom>
          <a:solidFill>
            <a:srgbClr val="9933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4572000"/>
            <a:ext cx="1600200" cy="152388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 rot="19878000">
            <a:off x="7797240" y="1905120"/>
            <a:ext cx="1346400" cy="858600"/>
          </a:xfrm>
          <a:prstGeom prst="rtTriangle">
            <a:avLst/>
          </a:prstGeom>
          <a:solidFill>
            <a:srgbClr val="0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ranklin Gothic Medium"/>
              </a:rPr>
              <a:t>Многоугольник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838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Четырёхугольн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838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Треугольн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057400"/>
            <a:ext cx="1905120" cy="1752480"/>
          </a:xfrm>
          <a:prstGeom prst="hexagon">
            <a:avLst>
              <a:gd name="adj" fmla="val 27177"/>
              <a:gd name="vf" fmla="val 115470"/>
            </a:avLst>
          </a:prstGeom>
          <a:solidFill>
            <a:srgbClr val="ff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Тема урока: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Научимся различать многоугольни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Будем аккуратно писат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Внимательно слушать и отвечать на вопрос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371600"/>
            <a:ext cx="7467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НОГОУГОЛЬНИК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2895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Цел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943360"/>
            <a:ext cx="9144000" cy="3381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3520" y="4572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Нужно пойте по дорожке-  ломаной состоящей из трёх звеньев, выбер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4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28600" y="457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Физминут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295280"/>
            <a:ext cx="3276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тер дует нам в лицо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Закачалось деревцо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терок всё тише, тише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Яблонька всё выше, выш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6019920"/>
            <a:ext cx="92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Беги по дорожке до леса, там  избушка Бабы-Я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 </cp:lastModifiedBy>
  <dcterms:modified xsi:type="dcterms:W3CDTF">2012-10-08T10:18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