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75B-AA27-472D-A11F-D98D1870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6F1-6DBD-4DFB-92D9-9F60CA2E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24F-9E74-43E2-8D0E-F83AC099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C5B-E1D9-4712-A591-E0A59EDB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1FD-C7ED-4097-AE88-4D969650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A1C-185F-4069-B009-E2E72A72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F37-F646-48C2-8CC3-0AE40A0C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4BE-4EED-4A54-BFBB-B60B6144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095-5706-4D4C-91EC-C5570725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75F-2426-4A01-9446-52263434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A33-E615-4679-99D3-0732BA87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40E-08D0-4F92-9B2A-F4A2D18A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CCA3-D555-4273-B97E-BE440DA27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80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часа?             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3 года?                  м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4 суток?            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6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часа?               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284720" y="1989000"/>
            <a:ext cx="1511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284720" y="2781360"/>
            <a:ext cx="1511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643280" y="2924280"/>
            <a:ext cx="6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4716360" y="357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7"/>
          <p:cNvSpPr/>
          <p:nvPr/>
        </p:nvSpPr>
        <p:spPr>
          <a:xfrm>
            <a:off x="4643280" y="198900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2"/>
          <p:cNvSpPr/>
          <p:nvPr/>
        </p:nvSpPr>
        <p:spPr>
          <a:xfrm>
            <a:off x="4911840" y="27813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3"/>
          <p:cNvSpPr/>
          <p:nvPr/>
        </p:nvSpPr>
        <p:spPr>
          <a:xfrm>
            <a:off x="4284720" y="4292640"/>
            <a:ext cx="1511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4626000" y="4282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5"/>
          <p:cNvSpPr txBox="1"/>
          <p:nvPr/>
        </p:nvSpPr>
        <p:spPr>
          <a:xfrm>
            <a:off x="1752480" y="609480"/>
            <a:ext cx="5545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колько составляют: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Как называются водяные ча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4038480" cy="2210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rot="879000">
            <a:off x="5790960" y="4191120"/>
            <a:ext cx="2438280" cy="21733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3200400" cy="236196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20613600">
            <a:off x="609480" y="2971440"/>
            <a:ext cx="3407040" cy="324000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1279200">
            <a:off x="5149800" y="3411360"/>
            <a:ext cx="3419640" cy="26751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8458200" cy="2590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ремя в течение су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Вырази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2 сут.=         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2 ч=            су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3 г.=              м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96 мес.=         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600200"/>
            <a:ext cx="990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438280"/>
            <a:ext cx="990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200400"/>
            <a:ext cx="990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886200"/>
            <a:ext cx="990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362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124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886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нуку с дедушкой вместе 96 лет. Внук моложе деда в 5 раз. Сколько лет дедушке? Сколько лет вну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Спортсмен стартовал в 10 ч 23 мин, а финишировал в 11 ч 15 ми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За сколько времени он прошел дистанц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534520" cy="289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853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От 12 ч дня понедельника до 13 ч дня сре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От 9 ч воскресенья до 9 ч утра следующего воскрес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От 10 ч утра вторника до 10 ч утра четверга следующей нед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826920" y="62064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Сколько суток пройдё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p:transition spd="med">
    <p:randomBa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58:47Z</dcterms:created>
  <dc:creator>МОСШ №2 Многопрофиль</dc:creator>
  <dc:description/>
  <dc:language>en-US</dc:language>
  <cp:lastModifiedBy>МОСШ №2 Многопрофиль</cp:lastModifiedBy>
  <dcterms:modified xsi:type="dcterms:W3CDTF">2008-10-29T19:51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