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81D8-CFEA-465D-808F-C021B177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25D4-1CEA-4B2E-AB63-14F9ABBF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5253-6939-4BF4-ADEB-EE7BFE84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685F-C6EF-4E89-A465-36BE895CF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859E-4220-49ED-B7AD-333102DF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F56E-648B-4B31-972B-441A6ECC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6CA2-C0C2-4C71-8DB4-89052723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0C08-77E1-4843-AC97-8ADB50AD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388E-BC94-44EF-BEBB-AC2C6486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BC47-C680-467E-86F9-735DFBE1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2CDD-254C-4BD6-B806-56367F9F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05A0-7F23-4DAA-AEA1-47857951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370A-10E6-45EE-A895-F3020B4FD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8064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часа?              мину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3 года?                  ме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4 суток?             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/6 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часа?                мину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284720" y="1989000"/>
            <a:ext cx="15112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284720" y="2781360"/>
            <a:ext cx="1511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4643280" y="2924280"/>
            <a:ext cx="64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6"/>
          <p:cNvSpPr/>
          <p:nvPr/>
        </p:nvSpPr>
        <p:spPr>
          <a:xfrm>
            <a:off x="4716360" y="3573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7"/>
          <p:cNvSpPr/>
          <p:nvPr/>
        </p:nvSpPr>
        <p:spPr>
          <a:xfrm>
            <a:off x="4643280" y="198900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2"/>
          <p:cNvSpPr/>
          <p:nvPr/>
        </p:nvSpPr>
        <p:spPr>
          <a:xfrm>
            <a:off x="4911840" y="278136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3"/>
          <p:cNvSpPr/>
          <p:nvPr/>
        </p:nvSpPr>
        <p:spPr>
          <a:xfrm>
            <a:off x="4284720" y="4292640"/>
            <a:ext cx="1511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4"/>
          <p:cNvSpPr/>
          <p:nvPr/>
        </p:nvSpPr>
        <p:spPr>
          <a:xfrm>
            <a:off x="4626000" y="42829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5"/>
          <p:cNvSpPr txBox="1"/>
          <p:nvPr/>
        </p:nvSpPr>
        <p:spPr>
          <a:xfrm>
            <a:off x="1752480" y="609480"/>
            <a:ext cx="5545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Сколько составляют:</a:t>
            </a:r>
            <a:endParaRPr b="0" lang="en-US" sz="1800" spc="1" strike="noStrike">
              <a:ln w="9360">
                <a:solidFill>
                  <a:srgbClr val="33cccc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Как называются водяные час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3520" y="4038480"/>
            <a:ext cx="4038480" cy="2210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2209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 rot="879000">
            <a:off x="5790960" y="4191120"/>
            <a:ext cx="2438280" cy="217332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352680" y="304920"/>
            <a:ext cx="3200400" cy="2361960"/>
          </a:xfrm>
          <a:prstGeom prst="rect">
            <a:avLst/>
          </a:prstGeom>
          <a:ln w="57240">
            <a:solidFill>
              <a:srgbClr val="ff33cc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20613600">
            <a:off x="609480" y="2971440"/>
            <a:ext cx="3407040" cy="3240000"/>
          </a:xfrm>
          <a:prstGeom prst="rect">
            <a:avLst/>
          </a:prstGeom>
          <a:ln w="57240">
            <a:solidFill>
              <a:srgbClr val="cc00ff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 rot="1279200">
            <a:off x="5149800" y="3411360"/>
            <a:ext cx="3419640" cy="26751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8458200" cy="2590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Время в течение су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Вырази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2 сут.=          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72 ч=            су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3 г.=              ме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96 мес.=         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1600200"/>
            <a:ext cx="9903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2438280"/>
            <a:ext cx="9907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3200400"/>
            <a:ext cx="9907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3886200"/>
            <a:ext cx="9907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600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23623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1240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38862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нуку с дедушкой вместе 96 лет. Внук моложе деда в 5 раз. Сколько лет дедушке? Сколько лет внук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Спортсмен стартовал в 10 ч 23 мин, а финишировал в 11 ч 15 ми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За сколько времени он прошел дистанци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8534520" cy="289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8534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От 12 ч дня понедельника до 13 ч дня сре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От 9 ч воскресенья до 9 ч утра следующего воскресен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От 10 ч утра вторника до 10 ч утра четверга следующей неде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826920" y="620640"/>
            <a:ext cx="770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Сколько суток пройдё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</p:spTree>
  </p:cSld>
  <p:transition spd="med">
    <p:randomBar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6:58:47Z</dcterms:created>
  <dc:creator>МОСШ №2 Многопрофиль</dc:creator>
  <dc:description/>
  <dc:language>en-US</dc:language>
  <cp:lastModifiedBy>МОСШ №2 Многопрофиль</cp:lastModifiedBy>
  <dcterms:modified xsi:type="dcterms:W3CDTF">2008-10-29T19:51:3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